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AE2-A6B3-4B94-BA19-3A8EC32E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D73-6CD3-48B6-BCE8-16E792DE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22F-E2CC-485C-9231-E078DFA4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86D-E378-44C4-AA9A-F8B2B9BA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016C-380E-43A5-926C-87EE3690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2F68-81C2-4D55-9AE0-B7652A1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E2F9-15FC-40A0-BCE6-5D66D94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E7E1-D0EA-4F5F-858E-8E3EFFAB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8B85-B40E-45E6-A67D-F2755C5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5B75-1992-4796-99D7-CFD9709F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DD40-B984-4217-8346-A2D35F55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026-1294-4E23-977D-B1A1857E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25E9-80A4-4473-A088-1172AEDB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89D2-08E0-4786-A0CC-3C48A53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783-A75E-4334-89E0-3DE6DF04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4746-11F7-4B63-BDAD-931CA81E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B976-7B0A-4ABF-A1B9-2A6A55DD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F197-1977-43AF-9096-9CACC247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F8EE-6F62-4CA7-957B-4E8485B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A35C-6840-4751-B5AB-60A668AF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2ECB8-4569-44B5-816F-2D6D9EF4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BA30-95FF-4CC5-86EF-9DEDBE13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114-438A-49E8-937B-BA717BFC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2EA1-8112-4DD7-A7A9-42D0A06C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42F8-1DBA-4E41-95CB-53AD51CC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168C-456F-47AD-AE05-888C43C3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17644-CCF4-4F42-8983-305FFD3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3C1D-9517-453C-BCF3-D116A69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DDC7-FB1A-4052-B4EF-3EA37FCC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4D4A-2A0A-4FEF-80FD-9A0C220F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46A37-E5F5-4077-82CD-52F0A83E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60E02-2224-4ECB-8A4C-865C3471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B6A2C-DF04-4C17-AF00-71CF5217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458-06B5-45A8-8C66-FD399DDA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DF80D1-49DD-4EB0-B3D1-9CF29F9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0F7CA-DE35-4492-BC34-6CDB5E04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C6713-7C8B-46BF-9816-17CF42A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8C74F-7841-410A-82C2-38833FE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22FA0-3EC0-41CA-B15D-36A318D6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8B9CF-6677-4371-A4E4-30A1276E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806E0-8ED9-4C24-A0BD-5B1EBD10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2F83C-55CF-44EA-B1FB-F7EE41A5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A1C08-1FEE-4392-BB72-5970FB0E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F33-8F5F-4B1E-8F75-DC3BFE9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80F-25DE-4EE9-BBC1-7791A921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719-3C57-4B2D-A8B5-81D3764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4C6-ABB5-466A-AD63-39F7009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C00-79D6-4E0E-A188-B5F21A4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46D1-F7B2-43B0-84A7-7C24B69E5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06DC-9563-4178-BBD0-FD2CC6F2D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63E3-4DD6-449E-B361-897F18A46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5D85-C4F3-4C60-B6AB-E3EB75DAF3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50752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Почему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Солнце светит днём,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а звёзды -  ночью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816360" cy="468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51200" y="836640"/>
            <a:ext cx="41911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Астроном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Почему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Солнце светит днём,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а звёзды -  ночью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31:26Z</dcterms:created>
  <dc:creator>Катерина</dc:creator>
  <dc:description/>
  <dc:language>en-US</dc:language>
  <cp:lastModifiedBy>Катерина</cp:lastModifiedBy>
  <dcterms:modified xsi:type="dcterms:W3CDTF">2012-02-29T18:57:26Z</dcterms:modified>
  <cp:revision>2</cp:revision>
  <dc:subject/>
  <dc:title>Почему  Солнце светит днём,  а звёзды -  ночью?</dc:title>
</cp:coreProperties>
</file>