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F15-86BC-44EB-9474-641CCCD5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72F-67A8-4E19-8E93-98C0C21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1F7-BBD4-48E4-B857-B04B2069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608-872C-4B3D-9FA0-FB8DD5CF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4FB0-5C54-4AE3-B56D-DD1A4271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38F-CD71-445D-AFB6-B07687C7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EEC6-D8C0-4AA6-8B45-3FBD0E2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F80-E04C-4EA2-B43B-BA09A37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9D09-6D7E-4EEB-97DE-86D7D4F3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D903-C0DD-47EC-97B9-29ECA751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C60C-41D6-4F65-8566-DA87CBC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D43-392E-40A9-88E8-97C2B7BE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20E-3D78-4B80-89AC-B40BC1AE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B9D6-F42F-44AC-A658-0EFB911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719-158A-4AFB-A78C-059733D2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18D6-69A1-4CDF-BF9D-02FC6E58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A4B-35BB-4483-9515-A5732F10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BE9F-6C65-4D61-9977-3EABA963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0429-C63C-45C8-A7B9-04B741EF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38F8-C1ED-4067-9206-09BB280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1A71-0E4B-4F6B-A198-4F9E1118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AF6B-4919-4138-B78C-FF902F5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3D9-58B2-404C-8B3D-B8D4D9B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03A1-58D9-46C1-9AA1-7BF6B173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7436-5603-4BD1-AB69-ECEB527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CC24-FED9-41F8-B266-8794467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89A2-D539-4A20-B26E-21C474D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5BCC-54D3-4145-AA84-D913EA1C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6810-494E-436A-9798-3AAD9DFA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15DE-2E2D-4882-B13B-A13E3C5B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F1A87-13E0-4ACA-9C8B-19DEB660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F6432-9EF8-4967-B774-B31DAC25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B21DD-A8D7-4EA4-BB53-10FEA873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E6C-9BEC-45C2-AC2A-C8A9314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91D7C-6A26-4E2D-9C05-5BE0CA2B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0EF4D-74A3-4C9E-A2D2-399132C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54D24-74E0-4D7E-888D-D65C7796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505EA-1811-4763-B708-73CB2D5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B6F20-FCBA-4B82-B97E-0C13061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A0931-C8BE-4AFE-9BA5-B98D178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1DFBA-F5D5-4C3D-B26E-1BCE60A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EF22A-766C-418C-A21F-2FFF008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32C37-D6AB-4436-A7D6-807783A0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CB2-FF76-4983-BB58-51468034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590-5966-482E-A3DA-5B99F4C8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AA0-A171-4654-B169-53D3B56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97D-2B79-4FDC-B268-2BD5E55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F96-27F2-42F9-A290-04713B5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6175-67EC-4F4A-814B-851ACB06D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004-137C-46FF-8D22-B6F45FCC8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111-39B7-4E36-9438-2FACB9C3E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2175-088E-40DE-9A10-D226B2E7B6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50752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Почему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Солнце светит днём,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а звёзды -  ночью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816360" cy="468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51200" y="836640"/>
            <a:ext cx="4191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Астроном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Почему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Солнце светит днём,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а звёзды -  ночью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31:26Z</dcterms:created>
  <dc:creator>Катерина</dc:creator>
  <dc:description/>
  <dc:language>en-US</dc:language>
  <cp:lastModifiedBy>Катерина</cp:lastModifiedBy>
  <dcterms:modified xsi:type="dcterms:W3CDTF">2012-02-29T18:57:26Z</dcterms:modified>
  <cp:revision>2</cp:revision>
  <dc:subject/>
  <dc:title>Почему  Солнце светит днём,  а звёзды -  ночью?</dc:title>
</cp:coreProperties>
</file>