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290-1A23-4BF3-8BA2-2410E8A1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0EE-E939-4144-A624-C9EDD4F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E44-F942-4627-A2D6-2CBCB8C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56D-6A60-47AE-B8BB-712EE19D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9B3D2-F6BC-4CF9-A06A-6FEB6688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4D0A-0969-445A-A830-D69B95A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35689-08DE-4627-AD48-1076D72F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7C501-5F5A-4FD7-BA51-452239E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75C2A-C956-4453-8D9E-2665BEC4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345C-A44F-4918-9C25-139D32B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2FCC-A7AE-4EC5-8D7C-033B664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D2D-0C58-4FDA-AE99-CB115EC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80052-ECD6-4225-88D8-2EECC70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2DD1F-6D63-44CA-A3C6-0FC3A4C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E7061-FE36-4E49-A568-D899F43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AD7D6-576E-449F-87A2-1B295623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12D0A-7533-4A20-A517-3551FEDD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2B6-D091-4DD0-BCCE-FC4D404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9D2-D9D2-4F29-8DCD-8784DB8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D72-FE15-43CC-89D5-EED89FA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7CC-41B9-4513-BFD5-3120641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DAD-6EDD-4180-9F54-9A65991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9AE-59E4-42F8-9CE6-C5759BBA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5AC-7AF6-4F8E-A1D3-3BA6A63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E990-8A4B-447C-A8A7-305879248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47F-7846-40BA-B320-78AAEB879B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414360"/>
            <a:ext cx="9124920" cy="234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3352680" y="2747880"/>
            <a:ext cx="5257800" cy="3500640"/>
          </a:xfrm>
          <a:prstGeom prst="rect">
            <a:avLst/>
          </a:prstGeom>
          <a:ln w="0">
            <a:noFill/>
          </a:ln>
        </p:spPr>
      </p:pic>
      <p:pic>
        <p:nvPicPr>
          <p:cNvPr id="85" name="Kroshka Enot -  (2).mp3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3886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Хочу  я,  чтоб  добро  к  тебе пришл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 свет  весенний,  как  тепло  кос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усть  для  тебя  источником  доб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 станет  то,  что  для  другого  зло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rKf3QAHYysRZ9KY_nHFnB67aeN_N4Ef22GrsSNb2NE9NZFHSyta9E98_Be5FT221344543236"/>
          <p:cNvPicPr/>
          <p:nvPr/>
        </p:nvPicPr>
        <p:blipFill>
          <a:blip r:embed="rId1"/>
          <a:stretch/>
        </p:blipFill>
        <p:spPr>
          <a:xfrm>
            <a:off x="304920" y="457200"/>
            <a:ext cx="480060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Музыка (без слов) - Приятная музыка (mp3ostrov.com).mp3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929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61960" y="29714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поклоняться  добро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с  душой  жить  о  добро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я  в  голубой  и  звездной  крас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я  добра.  Она  дарит  нас  хлеб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й  водой  и  деревом  в  цв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  этим  вечно  неспокойным  не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вайте  воевать  за  доброт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. Чепур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143000" y="914400"/>
            <a:ext cx="693432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брот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5181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cc3399"/>
                </a:solidFill>
                <a:latin typeface="Copperplate Gothic Bold"/>
              </a:rPr>
              <a:t>Доброта</a:t>
            </a:r>
            <a:r>
              <a:rPr b="0" lang="ru-RU" sz="2800" spc="-1" strike="noStrike">
                <a:solidFill>
                  <a:srgbClr val="cc3399"/>
                </a:solidFill>
                <a:latin typeface="Arial Rounded MT Bol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это  чутк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зывчивость, делика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 отношению  к  друго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2904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65040" y="4245120"/>
            <a:ext cx="83217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ота,  милосердие,  радость,  переживание  за  других,  создают  основу  человеческого  счастья.  Человек,  который  делает  добро  другим, чувствует  себя  счастли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Знаете  ли  вы  приветливые  слова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ает  даже  ледяная  глы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  слова  теплого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зеленеет  старый  пе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 услышит 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 больше  есть  не  в  сил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ажем  маме  мы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альчик  вежливый  и  разви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ит,  встречаясь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 нас  бранят  за  шал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им  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 во  Франции  и  в  Д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 прощание  говорят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ff57"/>
                </a:solidFill>
                <a:latin typeface="Tahoma"/>
              </a:rPr>
              <a:t>Пёс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предал  пса.  Что  был  ко  мне  привяза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к  добрый  человек  и  друг  больш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подарил  его,  как  дарят 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быв,  что  он  с  понятьем  и  душ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воей  судьбе  он  покорился  молч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 глянул  мне  в  глаза  с  такой  тоск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 у  чужих  всю  ночь  он  выл  по  волчь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  звал  меня.  И  я  его  услыша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  тоже  был  с  разлукою  зна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вот  он  у  меня  под  боком  дыш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руку  лижет  язы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1291991745_lady_and_the_tramp_800x600"/>
          <p:cNvPicPr/>
          <p:nvPr/>
        </p:nvPicPr>
        <p:blipFill>
          <a:blip r:embed="rId1"/>
          <a:stretch/>
        </p:blipFill>
        <p:spPr>
          <a:xfrm>
            <a:off x="5181480" y="1523880"/>
            <a:ext cx="3733920" cy="3810240"/>
          </a:xfrm>
          <a:prstGeom prst="rect">
            <a:avLst/>
          </a:prstGeom>
          <a:ln w="0">
            <a:noFill/>
          </a:ln>
        </p:spPr>
      </p:pic>
      <p:pic>
        <p:nvPicPr>
          <p:cNvPr id="97" name="Nifled_-_Просто_медленная_музыка_без_слов_-_(mp3poisk.net).mp3" descr=""/>
          <p:cNvPicPr/>
          <p:nvPr/>
        </p:nvPicPr>
        <p:blipFill>
          <a:blip r:embed="rId2"/>
          <a:stretch/>
        </p:blipFill>
        <p:spPr>
          <a:xfrm>
            <a:off x="7010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82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Игра «Торопись обрадовать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C:\Users\User\Desktop\ольга евгеньевна\16007153697.jpg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Притч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«Эта  история  произошла  давным   давно  в  старинном  городе,  в  котором  жил  велики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Мудрец.  Слава  о  его  мудрости  разнеслась  далеко  вокруг  его  родного  города.  Но  бы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в  городе  человек,  который  завидовал  его  славе.  И  вот  решил  он  придумать  тако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вопрос,  чтобы  мудрец  не  смог  на  него  ответить.  И  он  пошел  на  луг,  поймал  бабочку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Посадил  ее  между  сомкнутых  ладоней  и  подумал: «Спрошу – ка  я  у  мудреца:  скажи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О,  мудрейший,  какая  бабочка  у  меня  в  руках – живая  или  мертвая?  Если  он  скаже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живая,  я  сомкну  ладони,  и  бабочка  умрет,  а  если  он  скажет  мертвая,  я  раскрою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ладони  и  бабочка  улетит.  Вот  тогда  все  поймут,  кто  из  нас  умнее.  Так  все  и  случилось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9900"/>
                </a:solidFill>
                <a:latin typeface="Tahoma"/>
              </a:rPr>
              <a:t>Завистник  поймал  бабочку,  посадил  ее  между  ладонями  и  отправился  к  мудрецу.  И  он спросил  у  того: «Какая  бабочка  у  меня  в  руках, о, мудрейший:  живая  или  мертвая?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77b6722eb23a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красивая музыка без слов - слушай и отдыхай  (audiopoisk.com)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903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  <a:ea typeface="DokChampa"/>
              </a:rPr>
              <a:t>Всегда  защищайте  доброе  в  себе,  в  других,  решительно  давайте отпор  злу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09T11:12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