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3FB-C1C0-4587-AF95-59097D1D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0C9-A182-4493-A65F-2798BF5B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C6E-C09C-4B3A-991C-9A478982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758-69B3-4DE4-85BE-D02F5D75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19965-7A11-45BF-9DFD-2A3FE92D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3D147-1857-4A6E-8DA5-8C14EEA3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31F26-5592-41A8-AFEA-218F9EAA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8E5F6-1FC0-4E17-BCB1-981A046A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8DF3A-9861-4E13-B4E8-532756D5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0AE82-8274-4ABE-ADBF-9A3113A1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20936-109F-400C-BA07-977C4132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43B-C0F2-401C-80DC-ADA439C8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A9FE4-A9FE-4E30-9B3C-E865076F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AC28A-EA7D-40EA-B533-70116A8E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1B5BC-E428-4699-BAA9-2AEB402F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7C0DF-95D0-4955-944A-D64F4BB4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7421F-0338-49F2-9D68-B5AF0C04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233-E561-4224-BFCD-7389A1DB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F1C-06D6-49A4-B167-E642AF78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9A8-6993-4B06-B29E-5F0911E2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5CF-B70A-4618-8065-49014418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05B-772C-4300-8DE9-EB25E0D0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D0D-43AA-4232-9834-8AA16B55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C7A-6B53-4DEE-990D-9744C320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AB68-9650-417D-963F-067779603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BC1F-FDAA-4313-A823-5E98867426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1" descr=""/>
          <p:cNvPicPr/>
          <p:nvPr/>
        </p:nvPicPr>
        <p:blipFill>
          <a:blip r:embed="rId1"/>
          <a:stretch/>
        </p:blipFill>
        <p:spPr>
          <a:xfrm>
            <a:off x="-30240" y="414360"/>
            <a:ext cx="9124920" cy="234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Program Files\Microsoft Office\MEDIA\CAGCAT10\j0284916.jpg"/>
          <p:cNvPicPr/>
          <p:nvPr/>
        </p:nvPicPr>
        <p:blipFill>
          <a:blip r:embed="rId2"/>
          <a:stretch/>
        </p:blipFill>
        <p:spPr>
          <a:xfrm>
            <a:off x="3352680" y="2747880"/>
            <a:ext cx="5257800" cy="3500640"/>
          </a:xfrm>
          <a:prstGeom prst="rect">
            <a:avLst/>
          </a:prstGeom>
          <a:ln w="0">
            <a:noFill/>
          </a:ln>
        </p:spPr>
      </p:pic>
      <p:pic>
        <p:nvPicPr>
          <p:cNvPr id="85" name="Kroshka Enot -  (2).mp3" descr=""/>
          <p:cNvPicPr/>
          <p:nvPr/>
        </p:nvPicPr>
        <p:blipFill>
          <a:blip r:embed="rId3"/>
          <a:stretch/>
        </p:blipFill>
        <p:spPr>
          <a:xfrm>
            <a:off x="7621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3886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«Хочу  я,  чтоб  добро  к  тебе пришл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  свет  весенний,  как  тепло  кост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усть  для  тебя  источником  доб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 станет  то,  что  для  другого  зло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SrKf3QAHYysRZ9KY_nHFnB67aeN_N4Ef22GrsSNb2NE9NZFHSyta9E98_Be5FT221344543236"/>
          <p:cNvPicPr/>
          <p:nvPr/>
        </p:nvPicPr>
        <p:blipFill>
          <a:blip r:embed="rId1"/>
          <a:stretch/>
        </p:blipFill>
        <p:spPr>
          <a:xfrm>
            <a:off x="304920" y="457200"/>
            <a:ext cx="4800600" cy="3143160"/>
          </a:xfrm>
          <a:prstGeom prst="rect">
            <a:avLst/>
          </a:prstGeom>
          <a:ln w="0">
            <a:noFill/>
          </a:ln>
        </p:spPr>
      </p:pic>
      <p:pic>
        <p:nvPicPr>
          <p:cNvPr id="107" name="Музыка (без слов) - Приятная музыка (mp3ostrov.com).mp3" descr=""/>
          <p:cNvPicPr/>
          <p:nvPr/>
        </p:nvPicPr>
        <p:blipFill>
          <a:blip r:embed="rId2"/>
          <a:stretch/>
        </p:blipFill>
        <p:spPr>
          <a:xfrm>
            <a:off x="76201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5929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361960" y="297144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авайте  поклоняться  доброт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авайте  с  душой  жить  о  доброт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ся  в  голубой  и  звездной  крас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емля  добра.  Она  дарит  нас  хлеб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Живой  водой  и  деревом  в  цв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  этим  вечно  неспокойным  неб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авайте  воевать  за  доброт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. Чепуров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143000" y="914400"/>
            <a:ext cx="693432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Доброта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Program Files\Microsoft Office\MEDIA\CAGCAT10\j02849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581280" y="1218960"/>
            <a:ext cx="51818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cc3399"/>
                </a:solidFill>
                <a:latin typeface="Copperplate Gothic Bold"/>
              </a:rPr>
              <a:t>Доброта</a:t>
            </a:r>
            <a:r>
              <a:rPr b="0" lang="ru-RU" sz="2800" spc="-1" strike="noStrike">
                <a:solidFill>
                  <a:srgbClr val="cc3399"/>
                </a:solidFill>
                <a:latin typeface="Arial Rounded MT Bol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 это  чутк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зывчивость, деликат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 отношению  к  друго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029040" cy="3429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65040" y="4245120"/>
            <a:ext cx="832176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рота,  милосердие,  радость,  переживание  за  других,  создают  основу  человеческого  счастья.  Человек,  который  делает  добро  другим, чувствует  себя  счастлив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Знаете  ли  вы  приветливые  слова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тает  даже  ледяная  глы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  слова  теплого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зеленеет  старый  пен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гда  услышит 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сли  больше  есть  не  в  сил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кажем  маме  мы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альчик  вежливый  и  развит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оворит,  встречаясь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гда  нас  бранят  за  шал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оворим  .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 во  Франции  и  в  Д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 прощание  говорят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ff57"/>
                </a:solidFill>
                <a:latin typeface="Tahoma"/>
              </a:rPr>
              <a:t>Пёс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8240" y="1066680"/>
            <a:ext cx="4876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Я  предал  пса.  Что  был  ко  мне  привяза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к  добрый  человек  и  друг  больш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Я  подарил  его,  как  дарят  в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быв,  что  он  с  понятьем  и  душ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воей  судьбе  он  покорился  молч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  глянул  мне  в  глаза  с  такой  тоской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 у  чужих  всю  ночь  он  выл  по  волчь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н  звал  меня.  И  я  его  услыша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Я  тоже  был  с  разлукою  знак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 вот  он  у  меня  под  боком  дыши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 руку  лижет  язык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1291991745_lady_and_the_tramp_800x600"/>
          <p:cNvPicPr/>
          <p:nvPr/>
        </p:nvPicPr>
        <p:blipFill>
          <a:blip r:embed="rId1"/>
          <a:stretch/>
        </p:blipFill>
        <p:spPr>
          <a:xfrm>
            <a:off x="5181480" y="1523880"/>
            <a:ext cx="3733920" cy="3810240"/>
          </a:xfrm>
          <a:prstGeom prst="rect">
            <a:avLst/>
          </a:prstGeom>
          <a:ln w="0">
            <a:noFill/>
          </a:ln>
        </p:spPr>
      </p:pic>
      <p:pic>
        <p:nvPicPr>
          <p:cNvPr id="97" name="Nifled_-_Просто_медленная_музыка_без_слов_-_(mp3poisk.net).mp3" descr=""/>
          <p:cNvPicPr/>
          <p:nvPr/>
        </p:nvPicPr>
        <p:blipFill>
          <a:blip r:embed="rId2"/>
          <a:stretch/>
        </p:blipFill>
        <p:spPr>
          <a:xfrm>
            <a:off x="70102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82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ahoma"/>
              </a:rPr>
              <a:t>Игра «Торопись обрадовать!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C:\Users\User\Desktop\ольга евгеньевна\16007153697.jpg"/>
          <p:cNvPicPr/>
          <p:nvPr/>
        </p:nvPicPr>
        <p:blipFill>
          <a:blip r:embed="rId1"/>
          <a:stretch/>
        </p:blipFill>
        <p:spPr>
          <a:xfrm>
            <a:off x="1828800" y="19051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Притча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920" y="7621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«Эта  история  произошла  давным   давно  в  старинном  городе,  в  котором  жил  великий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Мудрец.  Слава  о  его  мудрости  разнеслась  далеко  вокруг  его  родного  города.  Но  был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в  городе  человек,  который  завидовал  его  славе.  И  вот  решил  он  придумать  такой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вопрос,  чтобы  мудрец  не  смог  на  него  ответить.  И  он  пошел  на  луг,  поймал  бабочку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Посадил  ее  между  сомкнутых  ладоней  и  подумал: «Спрошу – ка  я  у  мудреца:  скажи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О,  мудрейший,  какая  бабочка  у  меня  в  руках – живая  или  мертвая?  Если  он  скажет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живая,  я  сомкну  ладони,  и  бабочка  умрет,  а  если  он  скажет  мертвая,  я  раскрою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ладони  и  бабочка  улетит.  Вот  тогда  все  поймут,  кто  из  нас  умнее.  Так  все  и  случилось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Завистник  поймал  бабочку,  посадил  ее  между  ладонями  и  отправился  к  мудрецу.  И  он спросил  у  того: «Какая  бабочка  у  меня  в  руках, о, мудрейший:  живая  или  мертвая?»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77b6722eb23a"/>
          <p:cNvPicPr/>
          <p:nvPr/>
        </p:nvPicPr>
        <p:blipFill>
          <a:blip r:embed="rId1"/>
          <a:stretch/>
        </p:blipFill>
        <p:spPr>
          <a:xfrm>
            <a:off x="6477120" y="228600"/>
            <a:ext cx="2438280" cy="3352680"/>
          </a:xfrm>
          <a:prstGeom prst="rect">
            <a:avLst/>
          </a:prstGeom>
          <a:ln w="0">
            <a:noFill/>
          </a:ln>
        </p:spPr>
      </p:pic>
      <p:pic>
        <p:nvPicPr>
          <p:cNvPr id="103" name="красивая музыка без слов - слушай и отдыхай  (audiopoisk.com).mp3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903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088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  <a:ea typeface="DokChampa"/>
              </a:rPr>
              <a:t>Всегда  защищайте  доброе  в  себе,  в  других,  решительно  давайте отпор  злу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1-09T11:12:1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