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672-90AF-423E-82C8-B7CB4AFB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607-9AB9-47EE-9795-74C4C8C3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B91-A745-4457-85D2-7F730AD1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2F0-D462-4DB8-A0C7-6F13C7E6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A0E4-BD12-4F9C-882A-9928654F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A450-B5B5-4AA6-B787-B8DB08D1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06B8-EFE3-436A-A120-B83045DE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3FC9-E6A0-4B84-B58B-61136048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BE14-0881-49B8-AC7C-1BAC9579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863A-111A-4C39-8D97-09361EDC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8952-5581-40C8-BF98-8DB2F705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2CC-9B6B-461F-8A8D-61977057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A5C4-15EC-4CEA-9E4F-33CD62CB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AAA9-DFD5-4A65-BBC7-D406A7E1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25B6-2632-4F9F-83D5-C9642EDF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2D25-C038-4564-926E-C4E571B8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6ED0-B7A1-497E-8691-C73C2816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803C-F686-40A4-ABF0-2BA33FD7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20826-ACD6-4F70-8897-65261350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53D96-8704-4A6B-9E7E-7DAED2C7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2C4C-1135-483C-988B-070A886A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77FE-B1A2-4959-BB78-A514BBF7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06E-1406-4150-9BB1-BBF97DFD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C705-4A47-4633-A4D2-FC8AB7DA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CCFD-76F0-4183-B9CB-7ED8BD33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980C-5CCC-4473-8E5D-4A3AC660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01F8-C76B-4B2D-BB0E-B9B05A74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46C0-C867-408E-9DD9-0405AABE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39EA-4390-4EFC-A3D1-6347413E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5967-F622-4FFF-9EF7-EC33B1AF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830C4-B7FF-4393-894C-7C0AC68C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550A6-969E-4350-9875-E3BF83A4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FAEB-1DBF-48A4-B906-D26D48B0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745-967B-4A32-A9A3-0F88BD7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40F0-6FF5-4CFB-9CC9-1E9AFA52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6E7E8-2CE4-4DD6-A9C8-05FD0811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D899-F08A-48F4-9360-EC98DFF9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07314-EC87-45C5-AF0D-8F428164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B02E-E805-4835-AD11-5C0BC76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86F5-4833-404F-B522-99FB650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F1277-DE52-4496-9738-32AC767E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EC9E1-1D69-446A-AD7E-11D5467F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3446E-8260-48FF-989D-C02E8DCC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5E46C-28C6-42CC-B1C4-4CBB715E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1F0-4B4A-492E-B643-A1FA2E4F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6C2DF-80F9-41F7-B66C-F40205DA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15CCB-F95C-4467-AC84-5A8C307E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1B5DA-BD76-4BAE-B1A1-B2F9DB1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4DEA9-9F78-4D15-A04C-684AB3E9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BAA63-EEDC-4D0C-BB18-750E6CD6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361A2-A2A4-4133-91AA-24423AED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22ABC-886F-4BA6-B42E-F7D22DEE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73B6A-9A08-4A7F-976C-EEC7769E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1DCA-E265-4CFE-B628-06B742E4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1DD91-4C73-4E3E-B429-1BB95544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AA0-A56A-457B-884F-D01EE1D5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5CF8-13DA-4F41-A657-EDFAE8A5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DBEC2-D982-426F-B847-95663B04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65ABC-415A-4C78-B387-25ED8390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F2683-358D-4E20-AD98-CA5A6A50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57C7D-84EA-4FDA-8145-8ECD15A0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744EE-F3FE-4D90-9A99-4AF15048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6DAAF-85D6-4851-A50F-B57C7EA0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3D30A-2AEC-40F4-9A54-DCD84BC9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D493-6085-4709-9BFB-E8608F49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A5BAC-2119-402A-BB85-A09C6B8D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148-4F77-401F-B32E-BFF14B74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F84C1-DE04-46A4-8C95-1EE468D7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D3562-51B2-4DEF-9859-64EDF765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9F6BC-8659-4D49-8A20-AD4E81B5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0AEC2-9410-4BDB-917D-6E63AAF7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4587F-5F72-4C8F-AD60-2B147D59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94853-2D93-41BE-A90A-A4DC5091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8DA3E-01C2-4AB8-9DDA-87899864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A7AA9-368A-4DD7-8443-E74914C4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CF2F8-8D17-449B-B686-D2A64600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CA847-1118-4CA3-B4B4-28C3286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4FB-F2FD-4CE9-B493-1448B659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966EC-FEB5-4AE2-9C47-7A2B759B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75DE-7F5F-4BCD-A957-3DFF0503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855A2-4B32-4661-AEC5-E13C6BB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6CDCE-9F5F-4196-9225-DB60009D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0D16A-DB10-4330-9AE8-E53CEA3D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7D2-516A-4A58-B9FE-7AC61EA9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32E3F7-B397-4269-9F0B-24D23D4E54B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A7D45B-2340-4463-8566-AF39FD2F075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6D99BD-7ED2-45B0-BC52-A03A290020E3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983519-944F-45FB-B0B4-3E338D57CEE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1CA525-6030-4438-9DE8-A4ED8DCB256D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2D2284-698C-45E5-8CE4-F3AC513DA57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BC22AC-0901-44F1-87FF-36F128A18E81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351E7B-2A62-4A26-B5EC-B1B233D26E7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297D1C-9AF5-4E33-A12D-E6C7FE1C4BCE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C9545F-EDB1-4B32-857F-AEC63320D6C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E38179-E919-4438-8F2E-58ACE234C68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B046D2-261D-439B-8F74-D999D44BD89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E9CB21-E004-4841-8EC3-479B2317213D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AF1BEC-F541-4DF1-8B9F-1434AACE503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1619280" y="3863880"/>
            <a:ext cx="6040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862aa"/>
                </a:solidFill>
                <a:latin typeface="Tahoma"/>
              </a:rPr>
              <a:t>Проект для школьников 7 кла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862aa"/>
                </a:solidFill>
                <a:latin typeface="Tahoma"/>
              </a:rPr>
              <a:t>Руководитель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862aa"/>
                </a:solidFill>
                <a:latin typeface="Tahoma"/>
              </a:rPr>
              <a:t>Лобикова М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Проект по теме «Удивительное явление-трение»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4437000"/>
            <a:ext cx="2411280" cy="1849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174080" y="4437000"/>
            <a:ext cx="1861920" cy="18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86BF50-C064-4987-874A-7166AF0802CA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"/>
          <p:cNvSpPr/>
          <p:nvPr/>
        </p:nvSpPr>
        <p:spPr>
          <a:xfrm>
            <a:off x="539640" y="160020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сновополагающий вопрос: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Возможна ли жизнь без силы трения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2"/>
          <a:stretch/>
        </p:blipFill>
        <p:spPr>
          <a:xfrm>
            <a:off x="6892920" y="5137200"/>
            <a:ext cx="2038320" cy="142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4654440" y="366228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4"/>
          <a:stretch/>
        </p:blipFill>
        <p:spPr>
          <a:xfrm>
            <a:off x="324000" y="5143680"/>
            <a:ext cx="1981080" cy="1428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"/>
          <p:cNvPicPr/>
          <p:nvPr/>
        </p:nvPicPr>
        <p:blipFill>
          <a:blip r:embed="rId5"/>
          <a:stretch/>
        </p:blipFill>
        <p:spPr>
          <a:xfrm>
            <a:off x="2556000" y="3654360"/>
            <a:ext cx="19098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B3D1DD-9950-4534-B9B0-B503C6A01BE9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457200" y="-11124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вестно ли вам , что трение принимает участие там ,где мы о нем даже не подозревае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539640" y="1628640"/>
            <a:ext cx="815832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огда шьем. Без трения все нити выскользнули бы из тка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огда завязываем пояс, галстук. Без трения</a:t>
            </a:r>
            <a:r>
              <a:rPr b="0" lang="en-US" sz="3200" spc="-1" strike="noStrike">
                <a:solidFill>
                  <a:srgbClr val="2862aa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узлы бы развязали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огда бегаем, ходим или берем в руки. Без трения все бы выскользнуло из ру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огда многие растения благодаря трению обвивают опоры. Без трения этого было бы не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7531200" y="1863720"/>
            <a:ext cx="1393560" cy="682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7556400" y="3284640"/>
            <a:ext cx="1368360" cy="647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4"/>
          <a:stretch/>
        </p:blipFill>
        <p:spPr>
          <a:xfrm>
            <a:off x="7507440" y="4869000"/>
            <a:ext cx="139356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"/>
          <p:cNvPicPr/>
          <p:nvPr/>
        </p:nvPicPr>
        <p:blipFill>
          <a:blip r:embed="rId5"/>
          <a:stretch/>
        </p:blipFill>
        <p:spPr>
          <a:xfrm>
            <a:off x="7556400" y="5954760"/>
            <a:ext cx="136836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141D2C-398B-4A0F-A9C3-5604D21F61A1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468360" y="-314280"/>
            <a:ext cx="82184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вестно ли вам поговорки и почему так говорят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826920" y="2133720"/>
            <a:ext cx="79423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Что кругло легко кати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Ржавый плуг только на пахоте очищ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Пошло дело как по мас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Угря в руке не удержи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2"/>
          <a:stretch/>
        </p:blipFill>
        <p:spPr>
          <a:xfrm>
            <a:off x="6516720" y="3429000"/>
            <a:ext cx="244800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C1D93F-3C6C-47F4-B5A1-AD26A223256C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324000" y="189000"/>
            <a:ext cx="83628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бы правильно ответить на многие вопросы необходимо: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95280" y="23274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Собрать и проанализировать информацию по силам т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Провести исследования в груп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Составить буклет(группа биологов)  ,презентацию(группа физиков) и публикацию(группа литераторов).</a:t>
            </a:r>
            <a:br>
              <a:rPr sz="3200"/>
            </a:b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007EDE-1824-4DD6-812C-6595AB4E95CC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Группа «Биологи»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 есть  ли трение  в природ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395280" y="2133720"/>
            <a:ext cx="5329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акую роль играет трение в прир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акие примеры вы можете привести в доказательство существования трения в прир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290016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76258E-4DCD-46E1-88BB-5E1194FAB823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755640" y="-81000"/>
            <a:ext cx="793116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Группа «Литераторы»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 каких литературных произведениях встречается трени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24000" y="3284640"/>
            <a:ext cx="822960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Исследовать и определить явление трения в литературных произведения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Как часто встречается явление трения в литератур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5435640" y="5084640"/>
            <a:ext cx="25923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3D7178-C469-4354-B90A-F674AAF4D1C8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755640" y="0"/>
            <a:ext cx="82184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Группа «Физики»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Можно ли остановить тело приведенное в движени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611280" y="2349360"/>
            <a:ext cx="807552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Вследствие чего возникает трение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Исследовать причины их возникнов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62aa"/>
                </a:solidFill>
                <a:latin typeface="Tahoma"/>
              </a:rPr>
              <a:t>Виды силы т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5651640" y="4419720"/>
            <a:ext cx="27367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Номер слайда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2C9257-1619-4FDD-BBA5-2F56CA72E7B0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dbbd71"/>
                </a:solidFill>
                <a:latin typeface="Arial"/>
              </a:rPr>
              <a:t>Желаю  удачи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21333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2:30:23Z</dcterms:created>
  <dc:creator>k16-04-2</dc:creator>
  <dc:description/>
  <dc:language>en-US</dc:language>
  <cp:lastModifiedBy>k16-04-2</cp:lastModifiedBy>
  <dcterms:modified xsi:type="dcterms:W3CDTF">2012-09-26T13:24:41Z</dcterms:modified>
  <cp:revision>58</cp:revision>
  <dc:subject/>
  <dc:title>Слайд 1</dc:title>
</cp:coreProperties>
</file>