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5EE-D809-49EA-B9CE-3CCECB3E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FA01-89DB-45C7-A161-94ADF5DA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A2C3-4512-4BBC-B3C0-FF78C40C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3F7F-A686-4688-B854-0647BCF2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7F9D-1E20-4F85-994C-F9BC1F85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8A25-3185-4F2E-8774-C654CB7A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DD33-3C44-4C9A-8BB7-DAFC8CE7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13FB-BD6C-461F-9CF1-E96BC49E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1D96-6BBD-43EA-B56D-F4DBA225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A368-4A45-41AF-8C20-98EB7754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E066-6ED9-4577-9CBD-CFAC5FC7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7E2-4091-4D6C-B42E-D0E49DD7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ED71-4F42-4E07-9D82-6EA35562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C8BB-6057-4FF3-AA9B-DEC7245E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395C-9305-40BD-987D-366192DA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5C86-0DF6-401C-A8C0-B6220EB6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C79F-0FCD-4385-AD6D-4EC5EFEC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8E1EE-5239-483C-9932-75AF7149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6FAAA-A970-4481-8345-B0FAE24B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FCF45-E660-44F4-8652-769564BF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C7C54-45A0-4C30-9022-222C4CEF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0E616-C847-4379-AFB5-7BCC6EB7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574-44BC-490F-918E-1076D2FB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64E40-C17F-4F68-A2C9-41321176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E3D50-F58E-4E73-8615-285E0C5A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7BAF0-93C8-4D13-84B2-714A7E22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08DCE-6DC2-4B90-9230-8C727688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C7A02-85AC-440D-8603-421B3CBD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A6401-5A67-4195-BF8E-61BA12A7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BF4E8-82B2-4156-9B4C-5BB10AA2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1C351-AFFA-4FE1-8F8D-9DB9E7F6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89617-32F7-4FB3-B394-DC70C309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D6458-933E-4C90-B9F5-BADE545E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914-D9BD-406C-B17E-F92E3628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15101-89B5-4467-9683-118C49BB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AA05C-2DF0-49B9-9CD5-75AEA6BD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234D7-897B-4B0B-B2C1-D101E2E2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D1084-77E4-4FD3-A800-7C07B6BC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D39BF-6332-4001-A9FF-F7262A0F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43FC1-9707-4078-8085-F0185882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9C73D-7409-43C6-9F67-4A08545E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2888F-CDEB-437E-AAE9-F7D90614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5D6E1-0F03-46EC-B37F-4856DBBC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01AD3-4611-403F-88A3-DA4F2F9C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DF65-E6C2-459B-8C94-E640EF52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9D52E-0985-43EB-83FC-B92C08D1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191ED-BEC1-471B-9572-4F8D74E0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55087-806E-4BEF-BEC1-3CF2C1F2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56E74-83B0-46E7-8713-25E189FC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E5DF9-B313-4D1A-A876-24E62B3D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8384D-2923-44C6-9165-9B8B3AA9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D8257-A4B3-4D32-BB48-0896C185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A6FBE-6F30-4B8D-9599-576E9F73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527FA-F727-4193-8847-5997F2BC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8130C-68FD-48AC-8197-EBCB0762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B42-2579-47A7-93BC-465E44C1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E516A-1A2C-47FF-9CB6-C32EC910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BF451-979A-4FF1-91A4-B4387638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40345-5E3B-4A65-85CA-D1F623D5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3B28E-518A-409C-AB48-7BFF7371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8E2CA-9747-4800-A550-AD0685D1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9D78F-3926-4B5A-A356-83121BA2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EEC14-0815-49A1-BAD3-2157E936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AB795-500F-4EB3-9C59-18C0F873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85228-C730-4C8A-BF27-4B5BFE79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101B1-10CD-498D-80E1-42AF8CEA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15F5-407D-4C2B-A66D-FE9639D5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8A629-4FFC-4F41-BBBB-89B772F6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B727A-4F1D-49CA-9061-A01F94A0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55FC4-418F-4411-BF38-E1ACF047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57848-D80F-461D-81E6-4685DB88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4FDBD-F5F4-4E77-B3D6-8C03A3E7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04FE4-D5A6-459B-BBB1-B4AFAE87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13EFA-34B5-43B1-A714-E0640B72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865B8-1352-406F-9E15-BF902ED5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9A7A9-E0E0-4640-84D1-4F8D734B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AD664-7153-41EF-826B-581B8B95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3E3A-DCDC-46D5-97AC-9C20F31F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325F1-996D-4145-ADE3-034B7638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43BBB-889B-46F4-922E-FF717E7A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02E46-6F77-408A-B1B3-24FF80CF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282EF-FA87-4BC3-9100-3623DFF5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78E03-9A20-4F48-817F-503456EA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766-A6C6-48F5-8B59-FD930A3F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ECED88-BD51-416A-8EBA-99F5E8F434AF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4405A0-DCA5-4494-9603-544CF66BA33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3AE070-A888-49F8-8580-63CD771B4647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AEF636-BFA0-470F-A866-7AF40AD9AB2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8BAE37-F27D-43E4-AD8D-016BCDB2162C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1FA730-5C3D-451C-922D-1EED916E82F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4CFCD4-1647-4BAF-84B5-96AED3299341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F2E49C-FD4E-4F43-AF30-24B8C06BDD5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52EC3A-94E1-43E6-B157-0BAD76FA2817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D8E64D-7CC1-4D1F-8C94-7DE883EAD83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D13FBF-AEDC-465D-A926-1F043917B50C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8C5A47-5913-4586-A83E-72C3E178302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770F60-37EE-418D-B05C-26E9576E410B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864BD3-4C60-408F-9D80-64091183E8A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1619280" y="3863880"/>
            <a:ext cx="6040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862aa"/>
                </a:solidFill>
                <a:latin typeface="Tahoma"/>
              </a:rPr>
              <a:t>Проект для школьников 7 клас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862aa"/>
                </a:solidFill>
                <a:latin typeface="Tahoma"/>
              </a:rPr>
              <a:t>Руководитель проект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862aa"/>
                </a:solidFill>
                <a:latin typeface="Tahoma"/>
              </a:rPr>
              <a:t>Лобикова М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Проект по теме «Удивительное явление-трение»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2"/>
          <a:stretch/>
        </p:blipFill>
        <p:spPr>
          <a:xfrm>
            <a:off x="0" y="4437000"/>
            <a:ext cx="2411280" cy="18496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3"/>
          <a:stretch/>
        </p:blipFill>
        <p:spPr>
          <a:xfrm>
            <a:off x="7174080" y="4437000"/>
            <a:ext cx="1861920" cy="18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омер слайда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0E1BE4-4100-4289-9A1E-278870F198F5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Text Box 1"/>
          <p:cNvSpPr/>
          <p:nvPr/>
        </p:nvSpPr>
        <p:spPr>
          <a:xfrm>
            <a:off x="539640" y="1600200"/>
            <a:ext cx="8229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Основополагающий вопрос: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«Возможна ли жизнь без силы трения?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2"/>
          <a:stretch/>
        </p:blipFill>
        <p:spPr>
          <a:xfrm>
            <a:off x="6892920" y="5137200"/>
            <a:ext cx="2038320" cy="1428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4654440" y="3662280"/>
            <a:ext cx="1790640" cy="1428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"/>
          <p:cNvPicPr/>
          <p:nvPr/>
        </p:nvPicPr>
        <p:blipFill>
          <a:blip r:embed="rId4"/>
          <a:stretch/>
        </p:blipFill>
        <p:spPr>
          <a:xfrm>
            <a:off x="324000" y="5143680"/>
            <a:ext cx="1981080" cy="1428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"/>
          <p:cNvPicPr/>
          <p:nvPr/>
        </p:nvPicPr>
        <p:blipFill>
          <a:blip r:embed="rId5"/>
          <a:stretch/>
        </p:blipFill>
        <p:spPr>
          <a:xfrm>
            <a:off x="2556000" y="3654360"/>
            <a:ext cx="190980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Номер слайда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C86118-5A86-47CB-A34E-C6E0EC0E208D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457200" y="-111240"/>
            <a:ext cx="8229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Известно ли вам , что трение принимает участие там ,где мы о нем даже не подозревае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539640" y="1628640"/>
            <a:ext cx="815832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Когда шьем. Без трения все нити выскользнули бы из тка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Когда завязываем пояс, галстук. Без трения</a:t>
            </a:r>
            <a:r>
              <a:rPr b="0" lang="en-US" sz="3200" spc="-1" strike="noStrike">
                <a:solidFill>
                  <a:srgbClr val="2862aa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узлы бы развязали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Когда бегаем, ходим или берем в руки. Без трения все бы выскользнуло из ру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Когда многие растения благодаря трению обвивают опоры. Без трения этого было бы невозмож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7531200" y="1863720"/>
            <a:ext cx="1393560" cy="6825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"/>
          <p:cNvPicPr/>
          <p:nvPr/>
        </p:nvPicPr>
        <p:blipFill>
          <a:blip r:embed="rId3"/>
          <a:stretch/>
        </p:blipFill>
        <p:spPr>
          <a:xfrm>
            <a:off x="7556400" y="3284640"/>
            <a:ext cx="1368360" cy="647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"/>
          <p:cNvPicPr/>
          <p:nvPr/>
        </p:nvPicPr>
        <p:blipFill>
          <a:blip r:embed="rId4"/>
          <a:stretch/>
        </p:blipFill>
        <p:spPr>
          <a:xfrm>
            <a:off x="7507440" y="4869000"/>
            <a:ext cx="1393560" cy="647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"/>
          <p:cNvPicPr/>
          <p:nvPr/>
        </p:nvPicPr>
        <p:blipFill>
          <a:blip r:embed="rId5"/>
          <a:stretch/>
        </p:blipFill>
        <p:spPr>
          <a:xfrm>
            <a:off x="7556400" y="5954760"/>
            <a:ext cx="1368360" cy="7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Номер слайда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B2F67F-4448-4136-A7C4-0643961B5053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Text Box 1"/>
          <p:cNvSpPr/>
          <p:nvPr/>
        </p:nvSpPr>
        <p:spPr>
          <a:xfrm>
            <a:off x="468360" y="-314280"/>
            <a:ext cx="821844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звестно ли вам поговорки и почему так говорят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826920" y="2133720"/>
            <a:ext cx="79423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Что кругло легко кати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Ржавый плуг только на пахоте очища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Пошло дело как по масл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Угря в руке не удержиш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2"/>
          <a:stretch/>
        </p:blipFill>
        <p:spPr>
          <a:xfrm>
            <a:off x="6516720" y="3429000"/>
            <a:ext cx="2448000" cy="24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Номер слайда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02779C-5806-4C5E-8F1E-978BDFAE680C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Text Box 1"/>
          <p:cNvSpPr/>
          <p:nvPr/>
        </p:nvSpPr>
        <p:spPr>
          <a:xfrm>
            <a:off x="324000" y="189000"/>
            <a:ext cx="836280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Чтобы правильно ответить на многие вопросы необходимо: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395280" y="23274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Собрать и проанализировать информацию по силам тр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Провести исследования в групп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Составить буклет(группа биологов)  ,презентацию(группа физиков) и публикацию(группа литераторов).</a:t>
            </a:r>
            <a:br>
              <a:rPr sz="3200"/>
            </a:b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Номер слайда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B4AD54-C0BD-4F8C-A5CA-FCBFDB25849D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Text Box 1"/>
          <p:cNvSpPr/>
          <p:nvPr/>
        </p:nvSpPr>
        <p:spPr>
          <a:xfrm>
            <a:off x="457200" y="133200"/>
            <a:ext cx="8229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Группа «Биологи»</a:t>
            </a:r>
            <a:br>
              <a:rPr sz="44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 есть  ли трение  в природ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395280" y="2133720"/>
            <a:ext cx="5329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Какую роль играет трение в природ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Какие примеры вы можете привести в доказательство существования трения в природ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2"/>
          <a:stretch/>
        </p:blipFill>
        <p:spPr>
          <a:xfrm>
            <a:off x="5796000" y="2276640"/>
            <a:ext cx="290016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Номер слайда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26B3D4-60D2-4A52-A3F7-C4D32839B63F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755640" y="-81000"/>
            <a:ext cx="793116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Группа «Литераторы»</a:t>
            </a:r>
            <a:br>
              <a:rPr sz="44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 каких литературных произведениях встречается трени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324000" y="3284640"/>
            <a:ext cx="822960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Исследовать и определить явление трения в литературных произведения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Как часто встречается явление трения в литератур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5435640" y="5084640"/>
            <a:ext cx="25923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B0A229-D3C5-42FA-B6A0-E8D6239C96F5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755640" y="0"/>
            <a:ext cx="821844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Группа «Физики»</a:t>
            </a:r>
            <a:br>
              <a:rPr sz="44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Можно ли остановить тело приведенное в движени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611280" y="2349360"/>
            <a:ext cx="807552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Вследствие чего возникает трение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Исследовать причины их возникнове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Виды силы тр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2"/>
          <a:stretch/>
        </p:blipFill>
        <p:spPr>
          <a:xfrm>
            <a:off x="5651640" y="4419720"/>
            <a:ext cx="2736720" cy="21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Номер слайда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68C7EE-B070-4250-A4E1-9A6F3AA14866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dbbd71"/>
                </a:solidFill>
                <a:latin typeface="Arial"/>
              </a:rPr>
              <a:t>Желаю  удачи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2"/>
          <a:stretch/>
        </p:blipFill>
        <p:spPr>
          <a:xfrm>
            <a:off x="3505320" y="1523880"/>
            <a:ext cx="21333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2:30:23Z</dcterms:created>
  <dc:creator>k16-04-2</dc:creator>
  <dc:description/>
  <dc:language>en-US</dc:language>
  <cp:lastModifiedBy>k16-04-2</cp:lastModifiedBy>
  <dcterms:modified xsi:type="dcterms:W3CDTF">2012-09-26T13:24:41Z</dcterms:modified>
  <cp:revision>58</cp:revision>
  <dc:subject/>
  <dc:title>Слайд 1</dc:title>
</cp:coreProperties>
</file>