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03D1-CFE0-41A7-933F-2D4479E42E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7FD4-8669-4FC8-B03D-7D993B2A0B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125A-DD81-4E2D-AB51-71262C0A39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46E-E414-44F2-858B-12A8E13F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061-7E6B-4795-BF1F-52CF2951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DA786-F119-438E-AABE-B135E5F5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E7AFF-77CF-480B-ADD3-77CB6662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E5F6C-2FA1-4F93-B523-FAC6B7F8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D0B83-D193-497F-AE74-5AD86C2C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E84E8-6A29-4054-891A-C845CDD6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CB9A3-05D0-425B-9B27-6A3CAB07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394C2-AA1C-4D1E-A312-C6A8C20A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959A7-CE82-43BC-BBC9-2537C7CC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29193-68A7-4F05-AF5F-11CBD43A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01386-40E0-4ADE-B130-CF6BEF3E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CDF-47E1-4F6F-B7F0-6665E41F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ED123-0818-4D5D-8AC7-7029E41F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F6DC4-2395-4B5B-8EF4-C247D865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4846B-7D3E-46EC-8C2A-BAB35FAB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DD463-0FB6-4955-A89F-6B82C4C1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B246B-59E7-46F8-9475-7048EAD0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CC583-4335-4F8C-8730-A6506A1F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063DC-CD9E-4326-8C28-D169F8C3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461B2-5250-4F2A-9A9D-BB6ED4F8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5113E-1939-41AA-8C2E-B62B8798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40F94-6BDF-40CE-AD7D-04C0F0C1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FE73-80F3-43CD-9A97-4C713484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01A97-FBF6-4167-83E2-10FB9913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A52BD-D41E-49C9-B90F-ED9DA92C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1AC34-F0A6-4E1F-8CFF-5129693D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33CEC-5AC4-4006-86CE-C039A8BE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A412E-C36F-4A2C-B9B2-098C9CA8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0C6B8-7EE6-4862-92AB-F3FA359B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75C37-19D4-4AE0-AD4B-2165D880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172B2-EF32-4CFD-A240-B8F39E8D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7D302-322F-4419-BA94-F9D3B1FA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FA862-943B-48B2-BFE0-F01DF499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0C1A-1CE1-47C7-9E71-4545EE8D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051CA-3509-4A5B-B12C-082D342F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B1B73-CE2A-42AE-8464-B25049CB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6A35B-D784-475C-94E8-F6A7D9CE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A965D-35BA-4400-9C18-0C59B663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BC583-03BC-489A-8FF5-059B5F67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3405D-F9FA-4DB6-9C23-21E30B48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DA9BB-63CA-4113-B30C-ED2645DC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0BEC2-9B98-46F6-B592-FBD29F91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4A5A8-7F66-4DDB-B2D1-4ABA4D77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70A22-2FE8-48AD-A073-9B93AE54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C46A-BCEC-46DD-84F6-8EF44803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54988-7EE8-4C3D-8115-6B559BA5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21A4F-A5EA-4CD9-8E1F-FE3C399A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D87B0-B869-4B1E-A40F-A0F1721F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74BC5-CB1C-470C-B306-4732350D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2878D-2CC9-4446-998B-4FD1F3F1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34A5C-1E86-4161-AA62-3546665C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E14AC-C075-4AEF-9622-E7DA7BB2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80B81A-618D-4127-90D5-73353455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855FB-37C1-4360-B399-5F2C36D3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A36C4E-87EC-4E7B-82C4-83D21F95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FB5D-F2D0-461D-BCA8-7AD4F0BD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D6A94-EDE5-4C20-97F5-3930CE6A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21D53-07FF-4565-9D71-CAC00769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02095B-9116-4D35-B95B-4255F3B4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D0D768-A236-4E5F-AA38-FC687BF6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C73BA-B623-4A94-8E68-73A492DB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75DC7-1007-4FB5-9CA5-F1E5B959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2A461-F401-4E14-9DB0-D22B1FDD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BA1D5D-9510-401E-BAB5-9BFCE475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7386F4-D422-4058-8E11-FF1363C8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68033A-A5AB-4DBF-AD5A-91EA88C7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836C-29D0-481D-806D-AB805803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0A45A3-CAF0-4D79-8D70-2878B1D9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70743A-8899-4D5D-947F-17EAF63C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DFBAE-BE44-4387-9C24-2AC32AF5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B6500-E8F8-467E-9521-840B7C1B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C45E25-DFFD-4703-B01E-F27D0112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0B043A-45F4-42A2-9BD9-0A796964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FF6991-DE90-4FCA-BE12-62474364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6CE64C-B615-4845-BCD1-966A64EF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2ABBC3-3A44-4EB4-A50F-9C0C042E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0A915A-D995-4CB6-972C-0937D0F3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820C-3387-4A3F-B5FE-D913493C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A1F960-9AE1-48C9-B1DB-0E475584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719ED1-1A64-4097-8E51-45FAE886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B7D5E2-4DD6-4578-A899-03FCC2F3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8F8F39-A334-4824-B8D1-79C31F28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7D2B8B-D5E0-4475-80F1-5F481773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05023E-4686-4AD4-8355-806A9F70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295DCD-840F-4B85-8B69-63E98041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5988BE-10B8-46EC-A43D-C31BA4EE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DB7D25-16E9-4B8B-BC75-42714917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BF777D-CE0B-4BE5-A7F0-5BBEA7F8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82E7-B456-49E4-8562-E376BE52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BCDAF1-71CD-4450-B6A6-106722BF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58C2F2-1EBC-48FD-B44F-6A1DB13B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5CBB6A-E190-474C-8EAD-F43F234D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82BA5A-D15D-4112-AA5E-44682254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D6EEF2-6822-4BD5-AEC7-AA9C07CC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86C2E3-0B22-4632-B5CB-AD5B2EB4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B568B2-0492-4407-A63A-57AC3504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276CC8-0814-46CB-BE5C-D4D41171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CE3DF4-213F-4EB4-9A4D-D34C2062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BAB3C4-E2C5-4CBD-92D7-15263BD0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3C07-A16A-436A-8769-96A8B6DA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3A004F-E63D-469A-ADDD-C5261FBB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634DA5-70CB-4F23-8DB1-72E02AD3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A1FE37-827D-4AAD-B387-B90276FF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4116-2B74-408C-85E2-39A3F74A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255D-EA75-476C-B9E7-74F028CC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CFDF-308F-49B5-836E-B0646D43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9B6D-0221-49AE-84AB-15C8F640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BF7A-8FFE-4C0F-9F06-DE719B99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41B3-4A62-41E0-9BC9-3EB1F000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AA4BC-9F26-4347-8D28-78C31750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DA42-1AAC-45E5-9FFC-CED777FD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15349-59D4-4AB0-B7C4-995B53D1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2D122-D8D6-4153-B313-52DAC618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5C477-3190-4A9F-933D-AD8A7039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C791-236E-4D35-B3EF-67E4A7D5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669C3-4DEF-4697-AB40-44A4735C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AE37C-82A2-4808-A4DE-CAFACB06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B8A48-32AC-42CD-A7A9-C4CF2B7A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72B2E-A67A-4321-8A14-481E6839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B568C-37A6-4371-9226-18EE7AA4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F2387-166D-479B-A719-3FE4AC38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0B7FB-5BA8-4072-B8A1-7DF667EA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075B7-72DC-43BE-AC51-23177202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EC0C6-56E7-4613-A4EB-1DF9FE22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7386D-4542-4F5E-A6B3-7397CCF8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FE48-3D64-4BFA-88C5-F90B3A27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D6BC3-21E9-4A45-A120-29B1D693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8D79A-65B0-4A47-8619-389BAE67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EF6BE-A8C4-4808-8444-9A94C0D8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AAE3B-2D47-4280-A15B-F79B48D7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FAE04-00D0-44C9-BBBF-CB1B7E7F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7A5F5-1997-4ABE-9D0A-3895EBDD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991DD-5623-4225-A7A2-B6CC9A8C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167B8-60ED-459B-B098-7920DB00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191E0-CE03-4FD7-A391-5277952A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671AE-98AA-447B-AADA-7D11765F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55F2-24C8-42DE-9C2E-3955B4E4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331E0-AFC4-478C-9EA7-DBA38F3C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F5A4B-D846-4861-AB36-79456444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9EA6A-0B2B-4881-80A8-AD8F3C5E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30980-6782-4D52-9645-AB3138A4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A19D9-8485-422D-9F6A-54AFFDE4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AA287-0A19-46A9-B00A-83EDC37D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BF6DD-2A2C-41C8-BE3D-415CE6A0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E6BEC-2DA1-4302-B11B-7CB1CA29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AD992-6310-461B-B32F-6051D687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1005A-A1D8-438D-86F6-5068180C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DEF-F765-4CBF-B89A-EA0BAE84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806F6-3398-45CD-ACFA-83D7E7D9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BBC0C-79C6-44AF-8E36-85EB0D64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DF310-696D-4D04-B666-58FD1716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68971-CA10-4D2B-81A5-6F0335FC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A5CB4-03A7-4D2C-82D9-38B6B37B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92258-0C41-43A7-BC49-7FAE1267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D6B7B-8474-4307-AB26-AAAA1563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0045F-E703-4613-BAE7-2F9EE906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D55A2-2576-4702-81B4-120D1D34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CA653-B69F-44D9-A8BA-E1CC0C44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7BEF-7491-4A9C-A5A9-73D85501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222CD-C7F5-412B-8283-FBA51F2C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14BF0-7769-4CA9-8271-261B61B0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5D2B8-4311-4AA2-8F72-89B1D2C8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01317-8DC6-4E73-9C2A-DB002D5A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BB942-10FE-4A8C-9DE9-DECA2764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3B73B-162C-42CE-A017-FFA445B3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137B1-476E-49E7-91B8-2E9BB965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4EC87-8A4E-4776-AEB9-069CFE0A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BAC0E-55DE-4DEB-9E82-02A23C03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1D849-65B5-4A79-BAC4-102A4494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34D1-C736-44E5-81A0-5300A9E5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CBACA-3B62-4450-B02A-500076CC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73B15-65E1-4C88-90FC-DA4EF5C5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519C0-087D-4D8A-A1C9-A49BCF6B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1EC07-9543-467F-B53B-9CAFB822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D9B94-4B6F-4C96-8F17-498E4DB5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0B77C-D612-4F6F-95DA-E4489EE9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A6261-C0D2-4F3E-88B5-A85568BA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FDA42-0DD1-4B6D-B4E3-1ECF4B0B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21943-A88D-42C5-828B-F3A02C03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563F9-5788-4FA9-BB61-B704E79D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2BD-BC7F-4C67-AB0A-7D3C773B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1B039-3640-497B-BA54-A4A3D52E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AEC88-74C6-4407-B6C3-698B6170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254AA-E35A-46CA-8284-4E896CFE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959B2-4643-4104-AEF5-93FEA3CE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1F528-0E81-436F-89D8-F8413E02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BCA6B-93E3-4E0A-876D-A5C99623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E3B6E-B0A6-4D46-86B6-889F1607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C879F-350C-48D0-9A15-7D70F20F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E2DD2-EBA1-4784-92EC-3B954F48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5CCB1-927B-4587-AEBC-C2A23F77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AC8E-C796-4CA1-B02A-E09071AA2F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025B-5FF0-4BB3-8674-BC78CE86DC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BD56-7B84-4BF7-85C4-02B1674F0B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5366-28A5-4B38-953A-D7E687FC42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213E-C723-4C67-8113-5DA97985C5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2526-647B-4B9A-ADC7-4FF14C628B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29F1-1F29-4924-8E10-76F2502C20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1CC8-24DC-4A65-A621-9FDB7F697A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E5E7-FAAB-4B86-B5EA-44210EAA73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34FF-8D67-4206-960C-8A56D26914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1229-1E7B-475F-B4BA-992A5F3CC7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19C8-1EE7-455D-9606-76FEC34054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8706-1B0E-41B8-8744-359A54FD06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31D6-4FDF-4919-99C0-AC5D73C45F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6B7B-36CA-4790-BABE-DC30C21D90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7111-C068-4CE0-A587-A837C87989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2"/>
          <p:cNvSpPr/>
          <p:nvPr/>
        </p:nvSpPr>
        <p:spPr>
          <a:xfrm>
            <a:off x="755640" y="1357200"/>
            <a:ext cx="7561440" cy="642600"/>
          </a:xfrm>
          <a:prstGeom prst="rect">
            <a:avLst/>
          </a:prstGeom>
          <a:solidFill>
            <a:srgbClr val="ffff99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щита проект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665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Rectangle 6"/>
            <p:cNvSpPr/>
            <p:nvPr/>
          </p:nvSpPr>
          <p:spPr>
            <a:xfrm>
              <a:off x="285480" y="2858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8" name="Прямоугольник 16" descr=""/>
          <p:cNvPicPr/>
          <p:nvPr/>
        </p:nvPicPr>
        <p:blipFill>
          <a:blip r:embed="rId1"/>
          <a:stretch/>
        </p:blipFill>
        <p:spPr>
          <a:xfrm>
            <a:off x="695160" y="3760920"/>
            <a:ext cx="7540920" cy="701640"/>
          </a:xfrm>
          <a:prstGeom prst="rect">
            <a:avLst/>
          </a:prstGeom>
          <a:ln w="0">
            <a:noFill/>
          </a:ln>
        </p:spPr>
      </p:pic>
      <p:pic>
        <p:nvPicPr>
          <p:cNvPr id="669" name="Прямоугольник 7" descr=""/>
          <p:cNvPicPr/>
          <p:nvPr/>
        </p:nvPicPr>
        <p:blipFill>
          <a:blip r:embed="rId2"/>
          <a:stretch/>
        </p:blipFill>
        <p:spPr>
          <a:xfrm>
            <a:off x="731880" y="2408400"/>
            <a:ext cx="7540560" cy="1116000"/>
          </a:xfrm>
          <a:prstGeom prst="rect">
            <a:avLst/>
          </a:prstGeom>
          <a:ln w="0">
            <a:noFill/>
          </a:ln>
        </p:spPr>
      </p:pic>
      <p:pic>
        <p:nvPicPr>
          <p:cNvPr id="670" name="Прямоугольник 8" descr=""/>
          <p:cNvPicPr/>
          <p:nvPr/>
        </p:nvPicPr>
        <p:blipFill>
          <a:blip r:embed="rId3"/>
          <a:stretch/>
        </p:blipFill>
        <p:spPr>
          <a:xfrm>
            <a:off x="768240" y="407880"/>
            <a:ext cx="7534440" cy="6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Box 1"/>
          <p:cNvSpPr/>
          <p:nvPr/>
        </p:nvSpPr>
        <p:spPr>
          <a:xfrm>
            <a:off x="7000920" y="57862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кова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Box 7"/>
          <p:cNvSpPr/>
          <p:nvPr/>
        </p:nvSpPr>
        <p:spPr>
          <a:xfrm>
            <a:off x="357120" y="30718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истый белый налё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Box 13"/>
          <p:cNvSpPr/>
          <p:nvPr/>
        </p:nvSpPr>
        <p:spPr>
          <a:xfrm>
            <a:off x="500040" y="564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ки, ветвящиеся нити без перегород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57120" y="8571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шаг.  ФИКСАЦИЯ (ЭТАЛОН)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0" y="214200"/>
            <a:ext cx="9075600" cy="6861240"/>
            <a:chOff x="0" y="214200"/>
            <a:chExt cx="9075600" cy="6861240"/>
          </a:xfrm>
        </p:grpSpPr>
        <p:sp>
          <p:nvSpPr>
            <p:cNvPr id="731" name="Rectangle 5"/>
            <p:cNvSpPr/>
            <p:nvPr/>
          </p:nvSpPr>
          <p:spPr>
            <a:xfrm>
              <a:off x="0" y="21420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Rectangle 6"/>
            <p:cNvSpPr/>
            <p:nvPr/>
          </p:nvSpPr>
          <p:spPr>
            <a:xfrm>
              <a:off x="271440" y="5018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Rectangle 6"/>
            <p:cNvSpPr/>
            <p:nvPr/>
          </p:nvSpPr>
          <p:spPr>
            <a:xfrm>
              <a:off x="285480" y="5000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4" name="Содержимое 15" descr="&quot;Пчеловодство&quot;: темы"/>
          <p:cNvPicPr/>
          <p:nvPr/>
        </p:nvPicPr>
        <p:blipFill>
          <a:blip r:embed="rId1"/>
          <a:stretch/>
        </p:blipFill>
        <p:spPr>
          <a:xfrm>
            <a:off x="357120" y="1285920"/>
            <a:ext cx="2786040" cy="1785960"/>
          </a:xfrm>
          <a:prstGeom prst="rect">
            <a:avLst/>
          </a:prstGeom>
          <a:ln w="0">
            <a:noFill/>
          </a:ln>
        </p:spPr>
      </p:pic>
      <p:pic>
        <p:nvPicPr>
          <p:cNvPr id="735" name="Рисунок 16" descr="http://im0-tub-ru.yandex.net/i?id=16cd5ebead4256411ed124a1f1e1fb5f-22-144&amp;n=21"/>
          <p:cNvPicPr/>
          <p:nvPr/>
        </p:nvPicPr>
        <p:blipFill>
          <a:blip r:embed="rId2"/>
          <a:stretch/>
        </p:blipFill>
        <p:spPr>
          <a:xfrm>
            <a:off x="5072040" y="1357200"/>
            <a:ext cx="2857680" cy="1643040"/>
          </a:xfrm>
          <a:prstGeom prst="rect">
            <a:avLst/>
          </a:prstGeom>
          <a:ln w="0">
            <a:noFill/>
          </a:ln>
        </p:spPr>
      </p:pic>
      <p:pic>
        <p:nvPicPr>
          <p:cNvPr id="736" name="Рисунок 17" descr="Строение плесневого гриба мукора: - Картинка 5498/21"/>
          <p:cNvPicPr/>
          <p:nvPr/>
        </p:nvPicPr>
        <p:blipFill>
          <a:blip r:embed="rId3"/>
          <a:stretch/>
        </p:blipFill>
        <p:spPr>
          <a:xfrm>
            <a:off x="571680" y="3643200"/>
            <a:ext cx="2428560" cy="2000520"/>
          </a:xfrm>
          <a:prstGeom prst="rect">
            <a:avLst/>
          </a:prstGeom>
          <a:ln w="0">
            <a:noFill/>
          </a:ln>
        </p:spPr>
      </p:pic>
      <p:pic>
        <p:nvPicPr>
          <p:cNvPr id="737" name="Рисунок 18" descr="Характеристика плесневых грибов (часть 1). Микробиология и биохимия вина."/>
          <p:cNvPicPr/>
          <p:nvPr/>
        </p:nvPicPr>
        <p:blipFill>
          <a:blip r:embed="rId4"/>
          <a:stretch/>
        </p:blipFill>
        <p:spPr>
          <a:xfrm>
            <a:off x="3857760" y="3500280"/>
            <a:ext cx="2071440" cy="2167200"/>
          </a:xfrm>
          <a:prstGeom prst="rect">
            <a:avLst/>
          </a:prstGeom>
          <a:ln w="0">
            <a:noFill/>
          </a:ln>
        </p:spPr>
      </p:pic>
      <p:sp>
        <p:nvSpPr>
          <p:cNvPr id="738" name="Прямоугольник 20"/>
          <p:cNvSpPr/>
          <p:nvPr/>
        </p:nvSpPr>
        <p:spPr>
          <a:xfrm>
            <a:off x="3720240" y="5643720"/>
            <a:ext cx="24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точки, ветвящие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и с перегородка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Рисунок 14" descr="Дрожжи (почкование)"/>
          <p:cNvPicPr/>
          <p:nvPr/>
        </p:nvPicPr>
        <p:blipFill>
          <a:blip r:embed="rId5"/>
          <a:stretch/>
        </p:blipFill>
        <p:spPr>
          <a:xfrm>
            <a:off x="6715080" y="3571920"/>
            <a:ext cx="1857600" cy="2000160"/>
          </a:xfrm>
          <a:prstGeom prst="rect">
            <a:avLst/>
          </a:prstGeom>
          <a:ln w="0">
            <a:noFill/>
          </a:ln>
        </p:spPr>
      </p:pic>
      <p:sp>
        <p:nvSpPr>
          <p:cNvPr id="740" name="Прямоугольник 15"/>
          <p:cNvSpPr/>
          <p:nvPr/>
        </p:nvSpPr>
        <p:spPr>
          <a:xfrm>
            <a:off x="5080680" y="3000240"/>
            <a:ext cx="28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или голубой на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2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742" name="Rectangle 3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Rectangle 4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4" name="Прямоугольник 1"/>
          <p:cNvSpPr/>
          <p:nvPr/>
        </p:nvSpPr>
        <p:spPr>
          <a:xfrm>
            <a:off x="395280" y="692280"/>
            <a:ext cx="8408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КА ОТКРЫТИЯ НОВОГО ЗНАНИЯ</a:t>
            </a: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ля учителя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2"/>
          <p:cNvSpPr/>
          <p:nvPr/>
        </p:nvSpPr>
        <p:spPr>
          <a:xfrm>
            <a:off x="1258920" y="2286000"/>
            <a:ext cx="64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отнести рисунки со словами-помощни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делать выв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открытия (на групп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смотри картинку № 1 и ответь на вопрос: «Что происходит с хлебом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ыбери из слов-помощников соответствующие слова и соотнеси к этой картин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пиши соответствующие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втори действия 1 – 3 для картино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5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8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749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Rectangle 6"/>
            <p:cNvSpPr/>
            <p:nvPr/>
          </p:nvSpPr>
          <p:spPr>
            <a:xfrm>
              <a:off x="285480" y="2858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Box 7"/>
          <p:cNvSpPr/>
          <p:nvPr/>
        </p:nvSpPr>
        <p:spPr>
          <a:xfrm>
            <a:off x="3714840" y="1285920"/>
            <a:ext cx="273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а для работы в групп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11"/>
          <p:cNvSpPr/>
          <p:nvPr/>
        </p:nvSpPr>
        <p:spPr>
          <a:xfrm>
            <a:off x="3643200" y="2214720"/>
            <a:ext cx="273528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12"/>
          <p:cNvSpPr/>
          <p:nvPr/>
        </p:nvSpPr>
        <p:spPr>
          <a:xfrm>
            <a:off x="3714840" y="3357720"/>
            <a:ext cx="273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15"/>
          <p:cNvSpPr/>
          <p:nvPr/>
        </p:nvSpPr>
        <p:spPr>
          <a:xfrm>
            <a:off x="3714840" y="4357800"/>
            <a:ext cx="27367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Group 4"/>
          <p:cNvGrpSpPr/>
          <p:nvPr/>
        </p:nvGrpSpPr>
        <p:grpSpPr>
          <a:xfrm>
            <a:off x="-22320" y="0"/>
            <a:ext cx="9075960" cy="6861240"/>
            <a:chOff x="-22320" y="0"/>
            <a:chExt cx="9075960" cy="6861240"/>
          </a:xfrm>
        </p:grpSpPr>
        <p:sp>
          <p:nvSpPr>
            <p:cNvPr id="758" name="Rectangle 5"/>
            <p:cNvSpPr/>
            <p:nvPr/>
          </p:nvSpPr>
          <p:spPr>
            <a:xfrm>
              <a:off x="-22320" y="0"/>
              <a:ext cx="907596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Rectangle 6"/>
            <p:cNvSpPr/>
            <p:nvPr/>
          </p:nvSpPr>
          <p:spPr>
            <a:xfrm>
              <a:off x="249480" y="287640"/>
              <a:ext cx="853272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Rectangle 6"/>
            <p:cNvSpPr/>
            <p:nvPr/>
          </p:nvSpPr>
          <p:spPr>
            <a:xfrm>
              <a:off x="263520" y="285840"/>
              <a:ext cx="853272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1" name="Рисунок 14" descr="Характеристика плесневых грибов (часть 1). Микробиология и биохимия вина."/>
          <p:cNvPicPr/>
          <p:nvPr/>
        </p:nvPicPr>
        <p:blipFill>
          <a:blip r:embed="rId1"/>
          <a:stretch/>
        </p:blipFill>
        <p:spPr>
          <a:xfrm>
            <a:off x="714240" y="4357800"/>
            <a:ext cx="1071720" cy="785880"/>
          </a:xfrm>
          <a:prstGeom prst="rect">
            <a:avLst/>
          </a:prstGeom>
          <a:ln w="0">
            <a:noFill/>
          </a:ln>
        </p:spPr>
      </p:pic>
      <p:pic>
        <p:nvPicPr>
          <p:cNvPr id="762" name="Рисунок 15" descr="&quot;Пчеловодство&quot;: темы"/>
          <p:cNvPicPr/>
          <p:nvPr/>
        </p:nvPicPr>
        <p:blipFill>
          <a:blip r:embed="rId2"/>
          <a:stretch/>
        </p:blipFill>
        <p:spPr>
          <a:xfrm>
            <a:off x="357120" y="1143000"/>
            <a:ext cx="1571760" cy="857160"/>
          </a:xfrm>
          <a:prstGeom prst="rect">
            <a:avLst/>
          </a:prstGeom>
          <a:ln w="0">
            <a:noFill/>
          </a:ln>
        </p:spPr>
      </p:pic>
      <p:pic>
        <p:nvPicPr>
          <p:cNvPr id="763" name="Рисунок 17" descr="http://im0-tub-ru.yandex.net/i?id=16cd5ebead4256411ed124a1f1e1fb5f-22-144&amp;n=21"/>
          <p:cNvPicPr/>
          <p:nvPr/>
        </p:nvPicPr>
        <p:blipFill>
          <a:blip r:embed="rId3"/>
          <a:stretch/>
        </p:blipFill>
        <p:spPr>
          <a:xfrm>
            <a:off x="500040" y="2286000"/>
            <a:ext cx="1500120" cy="928800"/>
          </a:xfrm>
          <a:prstGeom prst="rect">
            <a:avLst/>
          </a:prstGeom>
          <a:ln w="0">
            <a:noFill/>
          </a:ln>
        </p:spPr>
      </p:pic>
      <p:pic>
        <p:nvPicPr>
          <p:cNvPr id="764" name="Рисунок 19" descr="Строение плесневого гриба мукора: - Картинка 5498/21"/>
          <p:cNvPicPr/>
          <p:nvPr/>
        </p:nvPicPr>
        <p:blipFill>
          <a:blip r:embed="rId4"/>
          <a:stretch/>
        </p:blipFill>
        <p:spPr>
          <a:xfrm>
            <a:off x="642960" y="3429000"/>
            <a:ext cx="1214280" cy="78588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 txBox="1"/>
          <p:nvPr/>
        </p:nvSpPr>
        <p:spPr>
          <a:xfrm>
            <a:off x="6500880" y="4286160"/>
            <a:ext cx="2371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6" name="Рисунок 15" descr="Дрожжи (почкование)"/>
          <p:cNvPicPr/>
          <p:nvPr/>
        </p:nvPicPr>
        <p:blipFill>
          <a:blip r:embed="rId5"/>
          <a:stretch/>
        </p:blipFill>
        <p:spPr>
          <a:xfrm>
            <a:off x="714240" y="5286240"/>
            <a:ext cx="1143000" cy="1071720"/>
          </a:xfrm>
          <a:prstGeom prst="rect">
            <a:avLst/>
          </a:prstGeom>
          <a:ln w="0">
            <a:noFill/>
          </a:ln>
        </p:spPr>
      </p:pic>
      <p:sp>
        <p:nvSpPr>
          <p:cNvPr id="767" name="TextBox 15"/>
          <p:cNvSpPr/>
          <p:nvPr/>
        </p:nvSpPr>
        <p:spPr>
          <a:xfrm>
            <a:off x="3714840" y="5500800"/>
            <a:ext cx="27367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Box 1"/>
          <p:cNvSpPr/>
          <p:nvPr/>
        </p:nvSpPr>
        <p:spPr>
          <a:xfrm>
            <a:off x="611280" y="620640"/>
            <a:ext cx="7848360" cy="61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в систему знан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равильные утвержд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укор, пеницилл и дрожжи одноклеточные гриб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Грибница пеницилла, в отличие от грибницы мукора, состоит из ветвящихся нитей с перегород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рожжи размножаются почкованием и питаются саха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поры мукора расположены в кисточках, которые образуются на концах некоторых ни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 хлебе мукор появляется в виде белого пушистого налёта, который постепенно черне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9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770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285480" y="2858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Box 1"/>
          <p:cNvSpPr/>
          <p:nvPr/>
        </p:nvSpPr>
        <p:spPr>
          <a:xfrm>
            <a:off x="928800" y="642960"/>
            <a:ext cx="75009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цель вы ставили перед собо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ими затруднениями вы встретилис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каких свойствах мукора, пеницилла и дрожжей вы сегодня узнал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нять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годы любят день, грибы — ночь и тен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достигнут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6" descr="http://im3-tub-ru.yandex.net/i?id=7413cc359bb42a4b59dfe664f45351d9-116-144&amp;n=21"/>
          <p:cNvPicPr/>
          <p:nvPr/>
        </p:nvPicPr>
        <p:blipFill>
          <a:blip r:embed="rId1"/>
          <a:stretch/>
        </p:blipFill>
        <p:spPr>
          <a:xfrm>
            <a:off x="6215040" y="29289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8" descr="http://im3-tub-ru.yandex.net/i?id=ee8f9a0af046987d21e3c03a3421c52e-46-144&amp;n=21"/>
          <p:cNvPicPr/>
          <p:nvPr/>
        </p:nvPicPr>
        <p:blipFill>
          <a:blip r:embed="rId2"/>
          <a:stretch/>
        </p:blipFill>
        <p:spPr>
          <a:xfrm>
            <a:off x="500040" y="3000240"/>
            <a:ext cx="2762280" cy="2000520"/>
          </a:xfrm>
          <a:prstGeom prst="rect">
            <a:avLst/>
          </a:prstGeom>
          <a:ln w="0">
            <a:noFill/>
          </a:ln>
        </p:spPr>
      </p:pic>
      <p:sp>
        <p:nvSpPr>
          <p:cNvPr id="776" name="Прямоугольник 5"/>
          <p:cNvSpPr/>
          <p:nvPr/>
        </p:nvSpPr>
        <p:spPr>
          <a:xfrm>
            <a:off x="1500120" y="428760"/>
            <a:ext cx="7143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Применение плесневых грибов и дрожже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в пищевой промышленности для приготовления йогуртов, сыров, кефира, сметаны, творога, вина, пива, колбас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7" name="Picture 10" descr="http://im2-tub-ru.yandex.net/i?id=09679b01318c15a47516a5d7ec2fb910-113-144&amp;n=21"/>
          <p:cNvPicPr/>
          <p:nvPr/>
        </p:nvPicPr>
        <p:blipFill>
          <a:blip r:embed="rId3"/>
          <a:stretch/>
        </p:blipFill>
        <p:spPr>
          <a:xfrm>
            <a:off x="3357720" y="448308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12" descr="http://im1-tub-ru.yandex.net/i?id=7e32471e2c3d6089c201ec738f76b2ca-126-144&amp;n=21"/>
          <p:cNvPicPr/>
          <p:nvPr/>
        </p:nvPicPr>
        <p:blipFill>
          <a:blip r:embed="rId4"/>
          <a:stretch/>
        </p:blipFill>
        <p:spPr>
          <a:xfrm>
            <a:off x="285840" y="500040"/>
            <a:ext cx="12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Picture 6" descr="nm-pirogki"/>
          <p:cNvPicPr/>
          <p:nvPr/>
        </p:nvPicPr>
        <p:blipFill>
          <a:blip r:embed="rId1"/>
          <a:stretch/>
        </p:blipFill>
        <p:spPr>
          <a:xfrm>
            <a:off x="214200" y="1143000"/>
            <a:ext cx="3525840" cy="23544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7" descr="1-web"/>
          <p:cNvPicPr/>
          <p:nvPr/>
        </p:nvPicPr>
        <p:blipFill>
          <a:blip r:embed="rId2"/>
          <a:stretch/>
        </p:blipFill>
        <p:spPr>
          <a:xfrm>
            <a:off x="3419640" y="4724280"/>
            <a:ext cx="2304720" cy="182736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8" descr="5154"/>
          <p:cNvPicPr/>
          <p:nvPr/>
        </p:nvPicPr>
        <p:blipFill>
          <a:blip r:embed="rId3"/>
          <a:stretch/>
        </p:blipFill>
        <p:spPr>
          <a:xfrm>
            <a:off x="6072120" y="1357200"/>
            <a:ext cx="2833920" cy="2833920"/>
          </a:xfrm>
          <a:prstGeom prst="rect">
            <a:avLst/>
          </a:prstGeom>
          <a:ln w="0">
            <a:noFill/>
          </a:ln>
        </p:spPr>
      </p:pic>
      <p:sp>
        <p:nvSpPr>
          <p:cNvPr id="782" name="Text Box 9"/>
          <p:cNvSpPr/>
          <p:nvPr/>
        </p:nvSpPr>
        <p:spPr>
          <a:xfrm>
            <a:off x="397440" y="642960"/>
            <a:ext cx="26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в хлебопеч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 Box 10"/>
          <p:cNvSpPr/>
          <p:nvPr/>
        </p:nvSpPr>
        <p:spPr>
          <a:xfrm>
            <a:off x="3132000" y="371628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при производстве пива и спи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 Box 11"/>
          <p:cNvSpPr/>
          <p:nvPr/>
        </p:nvSpPr>
        <p:spPr>
          <a:xfrm>
            <a:off x="6296760" y="78588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как лекар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12"/>
          <p:cNvSpPr/>
          <p:nvPr/>
        </p:nvSpPr>
        <p:spPr>
          <a:xfrm>
            <a:off x="541440" y="1450440"/>
            <a:ext cx="799308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отивация к учебной деятельност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ть условия для возникновения потребности изучить грибы мукор, пеницилл и дрожж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Ягоды любят день, грибы — ночь и тень»;  Показа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ументальный фильм «Плесе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туализировать требования к ученику со стороны учебной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тановить тематические рамки урока с помощью демонстрационного матери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673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Rectangle 6"/>
            <p:cNvSpPr/>
            <p:nvPr/>
          </p:nvSpPr>
          <p:spPr>
            <a:xfrm>
              <a:off x="285480" y="2858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шаг. Новое зн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что общего и чем отличаются мукор, пеницилл и дрожж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8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679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Rectangle 6"/>
            <p:cNvSpPr/>
            <p:nvPr/>
          </p:nvSpPr>
          <p:spPr>
            <a:xfrm>
              <a:off x="285480" y="2858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шаг. Пробное действие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найти разницу между мукором, пенициллом и дрожжами используя рисунки и следующие слова-помощни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истый  белый налё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точ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вящиеся нити с перегород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вящиеся нити без перегород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или голубой на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ко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4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685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Rectangle 6"/>
            <p:cNvSpPr/>
            <p:nvPr/>
          </p:nvSpPr>
          <p:spPr>
            <a:xfrm>
              <a:off x="285480" y="2858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689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Rectangle 6"/>
            <p:cNvSpPr/>
            <p:nvPr/>
          </p:nvSpPr>
          <p:spPr>
            <a:xfrm>
              <a:off x="285480" y="2858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92" name="Содержимое 10" descr="&quot;Пчеловодство&quot;: темы"/>
          <p:cNvPicPr/>
          <p:nvPr/>
        </p:nvPicPr>
        <p:blipFill>
          <a:blip r:embed="rId1"/>
          <a:stretch/>
        </p:blipFill>
        <p:spPr>
          <a:xfrm>
            <a:off x="428760" y="357120"/>
            <a:ext cx="3786120" cy="2714760"/>
          </a:xfrm>
          <a:prstGeom prst="rect">
            <a:avLst/>
          </a:prstGeom>
          <a:ln w="0">
            <a:noFill/>
          </a:ln>
        </p:spPr>
      </p:pic>
      <p:pic>
        <p:nvPicPr>
          <p:cNvPr id="693" name="Рисунок 11" descr="http://im0-tub-ru.yandex.net/i?id=16cd5ebead4256411ed124a1f1e1fb5f-22-144&amp;n=21"/>
          <p:cNvPicPr/>
          <p:nvPr/>
        </p:nvPicPr>
        <p:blipFill>
          <a:blip r:embed="rId2"/>
          <a:stretch/>
        </p:blipFill>
        <p:spPr>
          <a:xfrm>
            <a:off x="4500720" y="428760"/>
            <a:ext cx="4143240" cy="2643120"/>
          </a:xfrm>
          <a:prstGeom prst="rect">
            <a:avLst/>
          </a:prstGeom>
          <a:ln w="0">
            <a:noFill/>
          </a:ln>
        </p:spPr>
      </p:pic>
      <p:pic>
        <p:nvPicPr>
          <p:cNvPr id="694" name="Рисунок 12" descr="Строение плесневого гриба мукора: - Картинка 5498/21"/>
          <p:cNvPicPr/>
          <p:nvPr/>
        </p:nvPicPr>
        <p:blipFill>
          <a:blip r:embed="rId3"/>
          <a:stretch/>
        </p:blipFill>
        <p:spPr>
          <a:xfrm>
            <a:off x="357120" y="3357720"/>
            <a:ext cx="3071880" cy="2857320"/>
          </a:xfrm>
          <a:prstGeom prst="rect">
            <a:avLst/>
          </a:prstGeom>
          <a:ln w="0">
            <a:noFill/>
          </a:ln>
        </p:spPr>
      </p:pic>
      <p:pic>
        <p:nvPicPr>
          <p:cNvPr id="695" name="Рисунок 13" descr="Характеристика плесневых грибов (часть 1). Микробиология и биохимия вина."/>
          <p:cNvPicPr/>
          <p:nvPr/>
        </p:nvPicPr>
        <p:blipFill>
          <a:blip r:embed="rId4"/>
          <a:stretch/>
        </p:blipFill>
        <p:spPr>
          <a:xfrm>
            <a:off x="3643200" y="3429000"/>
            <a:ext cx="2643480" cy="2714760"/>
          </a:xfrm>
          <a:prstGeom prst="rect">
            <a:avLst/>
          </a:prstGeom>
          <a:ln w="0">
            <a:noFill/>
          </a:ln>
        </p:spPr>
      </p:pic>
      <p:pic>
        <p:nvPicPr>
          <p:cNvPr id="696" name="Рисунок 9" descr="Дрожжи (почкование)"/>
          <p:cNvPicPr/>
          <p:nvPr/>
        </p:nvPicPr>
        <p:blipFill>
          <a:blip r:embed="rId5"/>
          <a:stretch/>
        </p:blipFill>
        <p:spPr>
          <a:xfrm>
            <a:off x="6429240" y="3500280"/>
            <a:ext cx="235764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Прямоугольник 1"/>
          <p:cNvSpPr/>
          <p:nvPr/>
        </p:nvSpPr>
        <p:spPr>
          <a:xfrm>
            <a:off x="3071880" y="1214280"/>
            <a:ext cx="55720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истый белый налё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точ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вящиеся нити без перегород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вящиеся нити с перегород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или голубой на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к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2"/>
          <p:cNvSpPr/>
          <p:nvPr/>
        </p:nvSpPr>
        <p:spPr>
          <a:xfrm>
            <a:off x="2789280" y="34128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соединить стрелками картинки и слова-помощ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9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700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Rectangle 6"/>
            <p:cNvSpPr/>
            <p:nvPr/>
          </p:nvSpPr>
          <p:spPr>
            <a:xfrm>
              <a:off x="285480" y="2858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03" name="Рисунок 11" descr="&quot;Пчеловодство&quot;: темы"/>
          <p:cNvPicPr/>
          <p:nvPr/>
        </p:nvPicPr>
        <p:blipFill>
          <a:blip r:embed="rId1"/>
          <a:stretch/>
        </p:blipFill>
        <p:spPr>
          <a:xfrm>
            <a:off x="357120" y="285840"/>
            <a:ext cx="1643040" cy="1133280"/>
          </a:xfrm>
          <a:prstGeom prst="rect">
            <a:avLst/>
          </a:prstGeom>
          <a:ln w="0">
            <a:noFill/>
          </a:ln>
        </p:spPr>
      </p:pic>
      <p:pic>
        <p:nvPicPr>
          <p:cNvPr id="704" name="Рисунок 12" descr="http://im0-tub-ru.yandex.net/i?id=16cd5ebead4256411ed124a1f1e1fb5f-22-144&amp;n=21"/>
          <p:cNvPicPr/>
          <p:nvPr/>
        </p:nvPicPr>
        <p:blipFill>
          <a:blip r:embed="rId2"/>
          <a:stretch/>
        </p:blipFill>
        <p:spPr>
          <a:xfrm>
            <a:off x="357120" y="1500120"/>
            <a:ext cx="1478160" cy="1143000"/>
          </a:xfrm>
          <a:prstGeom prst="rect">
            <a:avLst/>
          </a:prstGeom>
          <a:ln w="0">
            <a:noFill/>
          </a:ln>
        </p:spPr>
      </p:pic>
      <p:pic>
        <p:nvPicPr>
          <p:cNvPr id="705" name="Рисунок 13" descr="Строение плесневого гриба мукора: - Картинка 5498/21"/>
          <p:cNvPicPr/>
          <p:nvPr/>
        </p:nvPicPr>
        <p:blipFill>
          <a:blip r:embed="rId3"/>
          <a:stretch/>
        </p:blipFill>
        <p:spPr>
          <a:xfrm>
            <a:off x="357120" y="2714760"/>
            <a:ext cx="1467000" cy="1000080"/>
          </a:xfrm>
          <a:prstGeom prst="rect">
            <a:avLst/>
          </a:prstGeom>
          <a:ln w="0">
            <a:noFill/>
          </a:ln>
        </p:spPr>
      </p:pic>
      <p:pic>
        <p:nvPicPr>
          <p:cNvPr id="706" name="Рисунок 14" descr="Характеристика плесневых грибов (часть 1). Микробиология и биохимия вина."/>
          <p:cNvPicPr/>
          <p:nvPr/>
        </p:nvPicPr>
        <p:blipFill>
          <a:blip r:embed="rId4"/>
          <a:stretch/>
        </p:blipFill>
        <p:spPr>
          <a:xfrm>
            <a:off x="357120" y="3786120"/>
            <a:ext cx="1500120" cy="1000080"/>
          </a:xfrm>
          <a:prstGeom prst="rect">
            <a:avLst/>
          </a:prstGeom>
          <a:ln w="0">
            <a:noFill/>
          </a:ln>
        </p:spPr>
      </p:pic>
      <p:pic>
        <p:nvPicPr>
          <p:cNvPr id="707" name="Рисунок 11" descr="Дрожжи (почкование)"/>
          <p:cNvPicPr/>
          <p:nvPr/>
        </p:nvPicPr>
        <p:blipFill>
          <a:blip r:embed="rId5"/>
          <a:stretch/>
        </p:blipFill>
        <p:spPr>
          <a:xfrm>
            <a:off x="357120" y="4857840"/>
            <a:ext cx="15001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шаг. Фиксация затруд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не знаю все свойства мукора, пеницилла и дрожжей и поэтому пока не могу распределить слова-помощники по рисункам и определить что общего и чем отличаются данные грибы друг от дру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пока не могу доказать, что правильно распределил все слова-помощники  по рисункам и по этому пока не могу определить что общего и чем отличаются мукор, пеницилл и дрожжи друг от друга.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711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Rectangle 6"/>
            <p:cNvSpPr/>
            <p:nvPr/>
          </p:nvSpPr>
          <p:spPr>
            <a:xfrm>
              <a:off x="285480" y="2858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шаг. Причина затруд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знаю что общего и чем отличаются мукор, пеницилл и дрожж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6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717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Rectangle 6"/>
            <p:cNvSpPr/>
            <p:nvPr/>
          </p:nvSpPr>
          <p:spPr>
            <a:xfrm>
              <a:off x="285480" y="2858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шаг. Формулировка цел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903240" y="1413000"/>
            <a:ext cx="748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что общего и чем отличаются мукор, пеницилл и дрожжи друг от дру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2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723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Rectangle 6"/>
            <p:cNvSpPr/>
            <p:nvPr/>
          </p:nvSpPr>
          <p:spPr>
            <a:xfrm>
              <a:off x="285480" y="2858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05:05:55Z</dcterms:created>
  <dc:creator>Pospolita</dc:creator>
  <dc:description/>
  <dc:language>en-US</dc:language>
  <cp:lastModifiedBy>Нана&amp;Ника</cp:lastModifiedBy>
  <dcterms:modified xsi:type="dcterms:W3CDTF">2015-02-11T17:00:57Z</dcterms:modified>
  <cp:revision>107</cp:revision>
  <dc:subject/>
  <dc:title>Презентация PowerPoint</dc:title>
</cp:coreProperties>
</file>