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8F51-04B6-4F18-BA38-80DC753681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593B-7124-4352-A2AF-8E3A61BE23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19B6-791E-4782-8758-59F28DF185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0953-4887-4B0A-8D95-1045E9AD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59B3-F274-4EF7-A61A-79C218D7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CC510-4A57-42A3-9E3B-85A6BF00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E2D20-503B-448C-AF9F-0E4B41E3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5383F-F95A-4F23-8E8D-97798B1F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32C5D-7F8B-40A9-A6E9-223FACD6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14B37-D8AB-47BC-9C1F-D7B958AF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5D551-2E49-4296-8A46-C29748EB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AB2DE-2788-4DC8-BDCE-9B053A2A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129C1-2716-4A8A-98B9-808C4A980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1FA06-1596-4C30-BA74-D411C1B1F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0B121D-ED92-4B2D-A7B9-48FDF352C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8FAA-0262-4E03-AA22-A03D757F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B32E3-0BA9-4961-8838-291BC8D4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94488-8281-4A92-8A2D-69FB1FC9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A2682E-B25F-4859-9A9D-73571B5B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D0B964-FA71-432D-A315-2719EE51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F9CC7-2145-4A31-904A-35B0A232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6B426-C503-405D-826C-F4D3E207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360D4-2D1A-4CEE-AA00-7F0BE66B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25C1C-DA23-4CFD-9BD6-69F7E2C9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73A76-9A5E-47B6-9D27-F429D04F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A5ECF-F204-406F-8A75-0780ECCEF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98DB-974D-40D6-B1B3-1AEE29D7A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A045B-4ABE-4BBF-96D3-7323DAA8E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5945B-2062-4F3A-AF7B-A284EF995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9EEB4-EE48-4683-BE10-B156C3A1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D07A9-A760-4168-BD17-D69BC3C0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66592-C429-4909-BE5D-1304812C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B4556-DBCB-4E0F-92AF-02F02E02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BD693-CD32-46DD-96DD-14B44585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2B7F8-47AF-435B-8DDA-EA18EA75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E829B-195E-4019-9A18-76F00439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6284C-2292-4E3A-A2D3-91B31224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8319-53CE-4921-A6A6-9A61A0E0C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9FBFF-94E3-4797-8252-A17D76D5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EFA06-AE98-4F78-8D2A-FA228C712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47542-817F-46C8-91A6-2C6F190BF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49E76-8EE4-40AF-888B-AFCB0E04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CB8112-98C9-4D20-969E-940B511E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D58E9C-BEFB-474E-B185-96DDE1D3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795839-6010-4F74-9002-AB8222B1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89368B-5FE1-4B94-848D-1133800D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6B283-F467-4CC2-848B-5A904125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FC8672-7D8A-42B5-8E8F-FBB20280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97F3-860C-4F63-AD2F-393B8CED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BD9D8E-A5B6-4CFF-9C9D-9077DA56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F3838-A4EE-4852-8103-1D7C41CB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E3BF88-E42F-4A98-9BBF-D52544EA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C8262-651D-4CC4-BFEA-FF6FFA6B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EB9B63-3885-4423-B2B9-05A87A642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FFE044-A7FD-43F3-A964-BA989509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939245-3BCA-4B04-9C64-69311992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8B9DEB-A23C-4729-9EF4-3D5DBF8B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E92662-780C-4C9B-AA7B-26A2569E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31DE3C-2D90-43D8-8F10-1552BB19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9751-C5D1-4D09-A3DB-1302ADC3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F6FC8E-07B2-4D3C-9977-EB8C6A1A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E2E2A2-07CF-49D2-AFE2-82455368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9C0F0E-A577-42C9-8F0B-D50FF4CE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AA9469-1D9B-4719-ABE7-FC7EEB6A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70DF8C-4DBE-4A2C-8C37-EC272F42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DD3794-48DB-4D02-814C-D16C35C7A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7D69DB-5AD0-45B0-ABD1-C6736B41F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6A647D-4C88-46A4-985D-31911469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5885A6-F38F-463B-A4FF-3E933967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6A200B-7E38-43DE-8C69-398707C5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7A55-DD7F-4DAC-ACED-295270E8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6120FC-4B6D-469D-B3AE-A7244826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0E1823-4EC5-4295-93D0-83D1D016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4D008E-14C4-43E4-84C1-9864AEA8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AE07A1-241F-4D86-9AE3-D1ADE7D2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584182-375D-4993-9F39-6A85C65C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43CD10-2376-4D34-85C6-A522DF46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379044-1BEE-48F9-B27F-75802213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25B60C-E4D9-483E-8F40-16ACA7641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708673-7E96-4A37-A276-C21977D09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1B6625-C493-4C93-BF02-816E08B7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4A00-615D-4955-A083-A56237A2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B957A7-BE70-41F5-B6BC-BB75F53F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A1956E-585A-4BD1-AECE-800EAB8F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042E56-20E1-43CD-A9DC-91B038BB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0E2514-0BE5-49E3-8BCE-269836E3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435AE3-314D-496D-8174-73DD3366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8D24A3-DD2D-4186-B085-979D23DF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28EE12-CBF0-4513-AA34-57B95699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4F07F3-CAD9-46BF-88F5-FCCE8C41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2DB6B2-A30B-4677-8F4B-FF8BB122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577163-63D7-406B-B749-58FD037F5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7902-4F26-46D9-A3F7-251277FB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4B62DC-2A15-41A5-95C2-2391C8FC2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49A9F5-1C5E-4226-B18D-DAA76BC6F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5C5857-15F1-42BA-BFE4-A4FB34FE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804440-A9D9-41F8-8E73-8216E93D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B16ED4-D2DC-44F4-A1D7-1A2BCF7C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576A9F-AA23-4C86-9C17-1FE0141B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AF5892-4F5E-4371-9F74-C2050EE7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D49573-6029-4E5F-A8B7-1ACB6F07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FAC967-5263-47C3-9453-0C875EEE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A7149A-F385-4723-8742-A585DD55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6F4B-D706-4AB8-80DB-F48F05AF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B36397-E920-4911-A278-34B05D6C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DA5CE6-6150-4F5F-9E51-52567C607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F111E6-5651-4F47-839F-98B669A5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319D-9A7E-4306-87C1-AD65EEF1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3428-19F5-45A0-9E3A-46958F43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4F84-4D7A-4D55-B59E-B7354416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EE8E-F5E4-4657-B224-614C221D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0362-4B80-47A9-B22E-F6659AB88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3424-E808-436A-BA6A-18DD747FA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D4E42-C456-481B-AA18-71A0CA4D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46473-3DDC-48F6-82E1-13B0E1C3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70082-6D38-49D9-83EC-F0ED2855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D19CB-8453-486A-A229-A62B4634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21279-FFAB-4B80-92A6-DEB4B596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083A-D44E-4CF0-9DF2-705BEA81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2354B-947D-4836-8E99-EC500280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F86EC-CDEE-4A34-95AF-9D5FC765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3736E-F14F-4E36-A129-6602D680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40A4C-D1DC-48D1-9F5E-4C4D1A7B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024CA-CF62-4B6C-8284-BD7B6F8C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C5E9C-E88E-4330-93F8-E73BA15C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67554-094B-4654-A3D6-8D891875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029F9-F7D8-4215-B8DE-D400F103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F0EF0-C9F3-4872-B720-E0CDDB5E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37CA0-0AC3-4605-9AED-331C694E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F36E-2617-4DBF-813C-8C5CE5A2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84639-5E7B-4B3A-A797-9F9E6D09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AA7C2-7098-4D01-8F0C-46522544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1A74E-3B89-49E8-ACB5-7B0A0C3E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C81A0-F8E9-49E8-9010-C561D716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88967-527B-43FE-8CD7-009018F3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AB12E-6C59-4638-B9D2-E63A1FDE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11DB7-AFE8-4EDB-B254-048741F1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46177-07B7-4D24-919A-1732B689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834DF-82FF-4F96-A1DD-054C5C57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CDC41-CE8D-4227-BAAE-E16568FB0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69E1-0E9E-4190-9F1D-AFA0AA03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317D8-4D59-4119-8304-1DA68557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5C17A-D5A5-4B14-95A6-7436C15B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2F1B8-6556-4F04-AFE7-1561832A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1C31D-B4D3-4BBE-A998-6BB4564E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1DE4A-3094-49D8-9E35-95331525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5BE8C-A6D0-44BF-A8F6-B554B7A6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36D7F-B837-4983-A4F5-3C878B9C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17CA8-8B5C-48A0-BD01-6DE029EF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462CF-7AEB-405B-93E1-2C906976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AC773-2FDC-4B0D-B580-DCF67A44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C132-00C8-48B9-B696-C4C26157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D24F8-5B61-45C5-A694-8E6CBFCEB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7E601-484C-44D0-85D1-3F95CE5F4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225B6-5069-40EC-9A8E-66B3736F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6DC5D-9080-4BA2-AF45-DBAC95E2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73A7C-7457-4CBC-9CA0-EB92A1BD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8E5D8-FC68-46E0-A6E9-C86C7C93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4CC09-EC78-487F-B980-98BD5762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FE58B-6815-4B01-980C-D4E99672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A92D5-C8D8-4BC9-99C7-A65E3406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24BF0-31A7-4A1C-B177-03235E0F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B52A-14DC-48B2-943B-C8184489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F4F21-5E94-4206-A7BD-B1FF86D6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D4557-39F9-4208-BE26-47D04914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E2987-732B-42FD-9C36-28A8DB8E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A72F3-A8CC-4DBB-8C08-87A3296D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2FC3D-751B-4F35-B6FA-A9A11EAB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8D767-6A42-4CE0-9A39-1E659078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30C7A-2D6B-4E94-91DE-4D614A3D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F101B-D800-447D-9703-C311EED1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DF92D-30D8-4BC8-8E65-4CB5B7B4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D4BE3-E983-4671-96D0-4BD90F61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8152-1147-4168-A6E7-B39930B1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7EB3E-1B2C-4E74-9137-3A052948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068F8-A688-4493-8D04-AF9CCDB8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D1043-E211-43F3-8EB2-4514AEA3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1EDC0-C6AE-4C08-827D-BE4571032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E308C-9F8F-44EC-AC41-496CA2F16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192A9-44CB-4E9A-9462-4DFE3A79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2D6E9-C471-448A-B801-160FF538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4E24A-BD86-4A7F-9A78-2FC03A7E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C3516-6632-4B5D-88AA-8F46BB55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46049-7753-483A-BA09-C732685F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32BC-B71E-4BA6-B81D-5A13C303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93123-B860-43B1-BFAB-249E6FEC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D3938-D223-47B6-AFC8-43C91683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DE76E-FC02-49D8-8FD0-78563949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3DFF3-CCC9-42A7-9552-925F0D4B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EC59F-81EA-45FB-AED8-743C935D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27D2D-88A2-402C-ADA7-5326FE6B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F0344-CBB7-42EF-B0D3-C4E2BD6D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AE7C6-9D4F-4556-BAD9-AAA930995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08823-50D8-4689-96E9-DD884601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A7220-32B2-4358-B3A5-B068B355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F2BF-EEAA-4BF2-A04C-C4958FC57D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FCB0-F8B5-47BD-9577-1E66372B4B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0563-6DC3-462C-8D77-0A792514C8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019D-26DD-4723-940B-54EA1176C1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CCC8-D67D-4CC9-9049-CB21A29DA5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7946-D747-47FC-B9CA-776246C355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A761-DD10-404E-9C25-2F4844E792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8AA9-D570-46E3-825E-F2293CC97D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6776-C875-48AF-9449-3596C345D3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D866-8E49-40A6-9806-DF7C04FB76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6CA0-6CA3-4EBF-9DCA-5828E150DA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67D5-3F9D-4920-8AE0-DD02CB698A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CB07-0F4C-41C1-8CC8-FC656EA7E7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8A35-0ADC-4AB5-8EF7-3811DDAAF0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3E8F-D31E-46DF-A203-FAF7E92198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A987-0EF4-4E2B-8CC7-488C5D50E3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image" Target="../media/image5.jpeg"/><Relationship Id="rId4" Type="http://schemas.openxmlformats.org/officeDocument/2006/relationships/image" Target="../media/image11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2"/>
          <p:cNvSpPr/>
          <p:nvPr/>
        </p:nvSpPr>
        <p:spPr>
          <a:xfrm>
            <a:off x="755640" y="1357200"/>
            <a:ext cx="7561440" cy="642600"/>
          </a:xfrm>
          <a:prstGeom prst="rect">
            <a:avLst/>
          </a:prstGeom>
          <a:solidFill>
            <a:srgbClr val="ffff99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щита проект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4" name="Group 4"/>
          <p:cNvGrpSpPr/>
          <p:nvPr/>
        </p:nvGrpSpPr>
        <p:grpSpPr>
          <a:xfrm>
            <a:off x="0" y="0"/>
            <a:ext cx="9075600" cy="6861240"/>
            <a:chOff x="0" y="0"/>
            <a:chExt cx="9075600" cy="6861240"/>
          </a:xfrm>
        </p:grpSpPr>
        <p:sp>
          <p:nvSpPr>
            <p:cNvPr id="665" name="Rectangle 5"/>
            <p:cNvSpPr/>
            <p:nvPr/>
          </p:nvSpPr>
          <p:spPr>
            <a:xfrm>
              <a:off x="0" y="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Rectangle 6"/>
            <p:cNvSpPr/>
            <p:nvPr/>
          </p:nvSpPr>
          <p:spPr>
            <a:xfrm>
              <a:off x="271440" y="28764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Rectangle 6"/>
            <p:cNvSpPr/>
            <p:nvPr/>
          </p:nvSpPr>
          <p:spPr>
            <a:xfrm>
              <a:off x="285480" y="285840"/>
              <a:ext cx="8532360" cy="628668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68" name="Прямоугольник 16" descr=""/>
          <p:cNvPicPr/>
          <p:nvPr/>
        </p:nvPicPr>
        <p:blipFill>
          <a:blip r:embed="rId1"/>
          <a:stretch/>
        </p:blipFill>
        <p:spPr>
          <a:xfrm>
            <a:off x="695160" y="3760920"/>
            <a:ext cx="7540920" cy="701640"/>
          </a:xfrm>
          <a:prstGeom prst="rect">
            <a:avLst/>
          </a:prstGeom>
          <a:ln w="0">
            <a:noFill/>
          </a:ln>
        </p:spPr>
      </p:pic>
      <p:pic>
        <p:nvPicPr>
          <p:cNvPr id="669" name="Прямоугольник 7" descr=""/>
          <p:cNvPicPr/>
          <p:nvPr/>
        </p:nvPicPr>
        <p:blipFill>
          <a:blip r:embed="rId2"/>
          <a:stretch/>
        </p:blipFill>
        <p:spPr>
          <a:xfrm>
            <a:off x="731880" y="2408400"/>
            <a:ext cx="7540560" cy="1116000"/>
          </a:xfrm>
          <a:prstGeom prst="rect">
            <a:avLst/>
          </a:prstGeom>
          <a:ln w="0">
            <a:noFill/>
          </a:ln>
        </p:spPr>
      </p:pic>
      <p:pic>
        <p:nvPicPr>
          <p:cNvPr id="670" name="Прямоугольник 8" descr=""/>
          <p:cNvPicPr/>
          <p:nvPr/>
        </p:nvPicPr>
        <p:blipFill>
          <a:blip r:embed="rId3"/>
          <a:stretch/>
        </p:blipFill>
        <p:spPr>
          <a:xfrm>
            <a:off x="768240" y="407880"/>
            <a:ext cx="7534440" cy="6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Box 1"/>
          <p:cNvSpPr/>
          <p:nvPr/>
        </p:nvSpPr>
        <p:spPr>
          <a:xfrm>
            <a:off x="7000920" y="578628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кова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extBox 7"/>
          <p:cNvSpPr/>
          <p:nvPr/>
        </p:nvSpPr>
        <p:spPr>
          <a:xfrm>
            <a:off x="357120" y="307188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истый белый налё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TextBox 13"/>
          <p:cNvSpPr/>
          <p:nvPr/>
        </p:nvSpPr>
        <p:spPr>
          <a:xfrm>
            <a:off x="500040" y="5643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ки, ветвящиеся нити без перегородо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57120" y="85716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шаг.  ФИКСАЦИЯ (ЭТАЛОН)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0" name="Group 4"/>
          <p:cNvGrpSpPr/>
          <p:nvPr/>
        </p:nvGrpSpPr>
        <p:grpSpPr>
          <a:xfrm>
            <a:off x="0" y="214200"/>
            <a:ext cx="9075600" cy="6861240"/>
            <a:chOff x="0" y="214200"/>
            <a:chExt cx="9075600" cy="6861240"/>
          </a:xfrm>
        </p:grpSpPr>
        <p:sp>
          <p:nvSpPr>
            <p:cNvPr id="731" name="Rectangle 5"/>
            <p:cNvSpPr/>
            <p:nvPr/>
          </p:nvSpPr>
          <p:spPr>
            <a:xfrm>
              <a:off x="0" y="21420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Rectangle 6"/>
            <p:cNvSpPr/>
            <p:nvPr/>
          </p:nvSpPr>
          <p:spPr>
            <a:xfrm>
              <a:off x="271440" y="50184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Rectangle 6"/>
            <p:cNvSpPr/>
            <p:nvPr/>
          </p:nvSpPr>
          <p:spPr>
            <a:xfrm>
              <a:off x="285480" y="500040"/>
              <a:ext cx="8532360" cy="628668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34" name="Содержимое 15" descr="&quot;Пчеловодство&quot;: темы"/>
          <p:cNvPicPr/>
          <p:nvPr/>
        </p:nvPicPr>
        <p:blipFill>
          <a:blip r:embed="rId1"/>
          <a:stretch/>
        </p:blipFill>
        <p:spPr>
          <a:xfrm>
            <a:off x="357120" y="1285920"/>
            <a:ext cx="2786040" cy="1785960"/>
          </a:xfrm>
          <a:prstGeom prst="rect">
            <a:avLst/>
          </a:prstGeom>
          <a:ln w="0">
            <a:noFill/>
          </a:ln>
        </p:spPr>
      </p:pic>
      <p:pic>
        <p:nvPicPr>
          <p:cNvPr id="735" name="Рисунок 16" descr="http://im0-tub-ru.yandex.net/i?id=16cd5ebead4256411ed124a1f1e1fb5f-22-144&amp;n=21"/>
          <p:cNvPicPr/>
          <p:nvPr/>
        </p:nvPicPr>
        <p:blipFill>
          <a:blip r:embed="rId2"/>
          <a:stretch/>
        </p:blipFill>
        <p:spPr>
          <a:xfrm>
            <a:off x="5072040" y="1357200"/>
            <a:ext cx="2857680" cy="1643040"/>
          </a:xfrm>
          <a:prstGeom prst="rect">
            <a:avLst/>
          </a:prstGeom>
          <a:ln w="0">
            <a:noFill/>
          </a:ln>
        </p:spPr>
      </p:pic>
      <p:pic>
        <p:nvPicPr>
          <p:cNvPr id="736" name="Рисунок 17" descr="Строение плесневого гриба мукора: - Картинка 5498/21"/>
          <p:cNvPicPr/>
          <p:nvPr/>
        </p:nvPicPr>
        <p:blipFill>
          <a:blip r:embed="rId3"/>
          <a:stretch/>
        </p:blipFill>
        <p:spPr>
          <a:xfrm>
            <a:off x="571680" y="3643200"/>
            <a:ext cx="2428560" cy="2000520"/>
          </a:xfrm>
          <a:prstGeom prst="rect">
            <a:avLst/>
          </a:prstGeom>
          <a:ln w="0">
            <a:noFill/>
          </a:ln>
        </p:spPr>
      </p:pic>
      <p:pic>
        <p:nvPicPr>
          <p:cNvPr id="737" name="Рисунок 18" descr="Характеристика плесневых грибов (часть 1). Микробиология и биохимия вина."/>
          <p:cNvPicPr/>
          <p:nvPr/>
        </p:nvPicPr>
        <p:blipFill>
          <a:blip r:embed="rId4"/>
          <a:stretch/>
        </p:blipFill>
        <p:spPr>
          <a:xfrm>
            <a:off x="3857760" y="3500280"/>
            <a:ext cx="2071440" cy="2167200"/>
          </a:xfrm>
          <a:prstGeom prst="rect">
            <a:avLst/>
          </a:prstGeom>
          <a:ln w="0">
            <a:noFill/>
          </a:ln>
        </p:spPr>
      </p:pic>
      <p:sp>
        <p:nvSpPr>
          <p:cNvPr id="738" name="Прямоугольник 20"/>
          <p:cNvSpPr/>
          <p:nvPr/>
        </p:nvSpPr>
        <p:spPr>
          <a:xfrm>
            <a:off x="3720240" y="5643720"/>
            <a:ext cx="24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точки, ветвящиес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и с перегородкам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9" name="Рисунок 14" descr="Дрожжи (почкование)"/>
          <p:cNvPicPr/>
          <p:nvPr/>
        </p:nvPicPr>
        <p:blipFill>
          <a:blip r:embed="rId5"/>
          <a:stretch/>
        </p:blipFill>
        <p:spPr>
          <a:xfrm>
            <a:off x="6715080" y="3571920"/>
            <a:ext cx="1857600" cy="2000160"/>
          </a:xfrm>
          <a:prstGeom prst="rect">
            <a:avLst/>
          </a:prstGeom>
          <a:ln w="0">
            <a:noFill/>
          </a:ln>
        </p:spPr>
      </p:pic>
      <p:sp>
        <p:nvSpPr>
          <p:cNvPr id="740" name="Прямоугольник 15"/>
          <p:cNvSpPr/>
          <p:nvPr/>
        </p:nvSpPr>
        <p:spPr>
          <a:xfrm>
            <a:off x="5080680" y="3000240"/>
            <a:ext cx="287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ый или голубой на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Group 2"/>
          <p:cNvGrpSpPr/>
          <p:nvPr/>
        </p:nvGrpSpPr>
        <p:grpSpPr>
          <a:xfrm>
            <a:off x="0" y="0"/>
            <a:ext cx="9075600" cy="6861240"/>
            <a:chOff x="0" y="0"/>
            <a:chExt cx="9075600" cy="6861240"/>
          </a:xfrm>
        </p:grpSpPr>
        <p:sp>
          <p:nvSpPr>
            <p:cNvPr id="742" name="Rectangle 3"/>
            <p:cNvSpPr/>
            <p:nvPr/>
          </p:nvSpPr>
          <p:spPr>
            <a:xfrm>
              <a:off x="0" y="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Rectangle 4"/>
            <p:cNvSpPr/>
            <p:nvPr/>
          </p:nvSpPr>
          <p:spPr>
            <a:xfrm>
              <a:off x="271440" y="28764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4" name="Прямоугольник 1"/>
          <p:cNvSpPr/>
          <p:nvPr/>
        </p:nvSpPr>
        <p:spPr>
          <a:xfrm>
            <a:off x="395280" y="692280"/>
            <a:ext cx="84088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КА ОТКРЫТИЯ НОВОГО ЗНАНИЯ</a:t>
            </a: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ля учителя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2"/>
          <p:cNvSpPr/>
          <p:nvPr/>
        </p:nvSpPr>
        <p:spPr>
          <a:xfrm>
            <a:off x="1258920" y="2286000"/>
            <a:ext cx="648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оотнести рисунки со словами-помощни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делать выв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открытия (на группу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ссмотри картинку № 1 и ответь на вопрос: «Что происходит с хлебом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ыбери из слов-помощников соответствующие слова и соотнеси к этой картин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пиши соответствующие сл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втори действия 1 – 3 для картино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5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8" name="Group 4"/>
          <p:cNvGrpSpPr/>
          <p:nvPr/>
        </p:nvGrpSpPr>
        <p:grpSpPr>
          <a:xfrm>
            <a:off x="0" y="0"/>
            <a:ext cx="9075600" cy="6861240"/>
            <a:chOff x="0" y="0"/>
            <a:chExt cx="9075600" cy="6861240"/>
          </a:xfrm>
        </p:grpSpPr>
        <p:sp>
          <p:nvSpPr>
            <p:cNvPr id="749" name="Rectangle 5"/>
            <p:cNvSpPr/>
            <p:nvPr/>
          </p:nvSpPr>
          <p:spPr>
            <a:xfrm>
              <a:off x="0" y="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Rectangle 6"/>
            <p:cNvSpPr/>
            <p:nvPr/>
          </p:nvSpPr>
          <p:spPr>
            <a:xfrm>
              <a:off x="271440" y="28764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Rectangle 6"/>
            <p:cNvSpPr/>
            <p:nvPr/>
          </p:nvSpPr>
          <p:spPr>
            <a:xfrm>
              <a:off x="285480" y="285840"/>
              <a:ext cx="8532360" cy="628668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TextBox 7"/>
          <p:cNvSpPr/>
          <p:nvPr/>
        </p:nvSpPr>
        <p:spPr>
          <a:xfrm>
            <a:off x="3714840" y="1285920"/>
            <a:ext cx="273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чка для работы в групп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Box 11"/>
          <p:cNvSpPr/>
          <p:nvPr/>
        </p:nvSpPr>
        <p:spPr>
          <a:xfrm>
            <a:off x="3643200" y="2214720"/>
            <a:ext cx="273528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Box 12"/>
          <p:cNvSpPr/>
          <p:nvPr/>
        </p:nvSpPr>
        <p:spPr>
          <a:xfrm>
            <a:off x="3714840" y="3357720"/>
            <a:ext cx="273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15"/>
          <p:cNvSpPr/>
          <p:nvPr/>
        </p:nvSpPr>
        <p:spPr>
          <a:xfrm>
            <a:off x="3714840" y="4357800"/>
            <a:ext cx="273672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7" name="Group 4"/>
          <p:cNvGrpSpPr/>
          <p:nvPr/>
        </p:nvGrpSpPr>
        <p:grpSpPr>
          <a:xfrm>
            <a:off x="-22320" y="0"/>
            <a:ext cx="9075960" cy="6861240"/>
            <a:chOff x="-22320" y="0"/>
            <a:chExt cx="9075960" cy="6861240"/>
          </a:xfrm>
        </p:grpSpPr>
        <p:sp>
          <p:nvSpPr>
            <p:cNvPr id="758" name="Rectangle 5"/>
            <p:cNvSpPr/>
            <p:nvPr/>
          </p:nvSpPr>
          <p:spPr>
            <a:xfrm>
              <a:off x="-22320" y="0"/>
              <a:ext cx="907596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Rectangle 6"/>
            <p:cNvSpPr/>
            <p:nvPr/>
          </p:nvSpPr>
          <p:spPr>
            <a:xfrm>
              <a:off x="249480" y="287640"/>
              <a:ext cx="853272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Rectangle 6"/>
            <p:cNvSpPr/>
            <p:nvPr/>
          </p:nvSpPr>
          <p:spPr>
            <a:xfrm>
              <a:off x="263520" y="285840"/>
              <a:ext cx="8532720" cy="628668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61" name="Рисунок 14" descr="Характеристика плесневых грибов (часть 1). Микробиология и биохимия вина."/>
          <p:cNvPicPr/>
          <p:nvPr/>
        </p:nvPicPr>
        <p:blipFill>
          <a:blip r:embed="rId1"/>
          <a:stretch/>
        </p:blipFill>
        <p:spPr>
          <a:xfrm>
            <a:off x="714240" y="4357800"/>
            <a:ext cx="1071720" cy="785880"/>
          </a:xfrm>
          <a:prstGeom prst="rect">
            <a:avLst/>
          </a:prstGeom>
          <a:ln w="0">
            <a:noFill/>
          </a:ln>
        </p:spPr>
      </p:pic>
      <p:pic>
        <p:nvPicPr>
          <p:cNvPr id="762" name="Рисунок 15" descr="&quot;Пчеловодство&quot;: темы"/>
          <p:cNvPicPr/>
          <p:nvPr/>
        </p:nvPicPr>
        <p:blipFill>
          <a:blip r:embed="rId2"/>
          <a:stretch/>
        </p:blipFill>
        <p:spPr>
          <a:xfrm>
            <a:off x="357120" y="1143000"/>
            <a:ext cx="1571760" cy="857160"/>
          </a:xfrm>
          <a:prstGeom prst="rect">
            <a:avLst/>
          </a:prstGeom>
          <a:ln w="0">
            <a:noFill/>
          </a:ln>
        </p:spPr>
      </p:pic>
      <p:pic>
        <p:nvPicPr>
          <p:cNvPr id="763" name="Рисунок 17" descr="http://im0-tub-ru.yandex.net/i?id=16cd5ebead4256411ed124a1f1e1fb5f-22-144&amp;n=21"/>
          <p:cNvPicPr/>
          <p:nvPr/>
        </p:nvPicPr>
        <p:blipFill>
          <a:blip r:embed="rId3"/>
          <a:stretch/>
        </p:blipFill>
        <p:spPr>
          <a:xfrm>
            <a:off x="500040" y="2286000"/>
            <a:ext cx="1500120" cy="928800"/>
          </a:xfrm>
          <a:prstGeom prst="rect">
            <a:avLst/>
          </a:prstGeom>
          <a:ln w="0">
            <a:noFill/>
          </a:ln>
        </p:spPr>
      </p:pic>
      <p:pic>
        <p:nvPicPr>
          <p:cNvPr id="764" name="Рисунок 19" descr="Строение плесневого гриба мукора: - Картинка 5498/21"/>
          <p:cNvPicPr/>
          <p:nvPr/>
        </p:nvPicPr>
        <p:blipFill>
          <a:blip r:embed="rId4"/>
          <a:stretch/>
        </p:blipFill>
        <p:spPr>
          <a:xfrm>
            <a:off x="642960" y="3429000"/>
            <a:ext cx="1214280" cy="78588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 txBox="1"/>
          <p:nvPr/>
        </p:nvSpPr>
        <p:spPr>
          <a:xfrm>
            <a:off x="6500880" y="4286160"/>
            <a:ext cx="23716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6" name="Рисунок 15" descr="Дрожжи (почкование)"/>
          <p:cNvPicPr/>
          <p:nvPr/>
        </p:nvPicPr>
        <p:blipFill>
          <a:blip r:embed="rId5"/>
          <a:stretch/>
        </p:blipFill>
        <p:spPr>
          <a:xfrm>
            <a:off x="714240" y="5286240"/>
            <a:ext cx="1143000" cy="1071720"/>
          </a:xfrm>
          <a:prstGeom prst="rect">
            <a:avLst/>
          </a:prstGeom>
          <a:ln w="0">
            <a:noFill/>
          </a:ln>
        </p:spPr>
      </p:pic>
      <p:sp>
        <p:nvSpPr>
          <p:cNvPr id="767" name="TextBox 15"/>
          <p:cNvSpPr/>
          <p:nvPr/>
        </p:nvSpPr>
        <p:spPr>
          <a:xfrm>
            <a:off x="3714840" y="5500800"/>
            <a:ext cx="273672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TextBox 1"/>
          <p:cNvSpPr/>
          <p:nvPr/>
        </p:nvSpPr>
        <p:spPr>
          <a:xfrm>
            <a:off x="611280" y="620640"/>
            <a:ext cx="7848360" cy="61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ие в систему знани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правильные утвержде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Мукор, пеницилл и дрожжи одноклеточные гриб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Грибница пеницилла, в отличие от грибницы мукора, состоит из ветвящихся нитей с перегород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рожжи размножаются почкованием и питаются сахар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поры мукора расположены в кисточках, которые образуются на концах некоторых ни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а хлебе мукор появляется в виде белого пушистого налёта, который постепенно черне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9" name="Group 4"/>
          <p:cNvGrpSpPr/>
          <p:nvPr/>
        </p:nvGrpSpPr>
        <p:grpSpPr>
          <a:xfrm>
            <a:off x="0" y="0"/>
            <a:ext cx="9075600" cy="6861240"/>
            <a:chOff x="0" y="0"/>
            <a:chExt cx="9075600" cy="6861240"/>
          </a:xfrm>
        </p:grpSpPr>
        <p:sp>
          <p:nvSpPr>
            <p:cNvPr id="770" name="Rectangle 5"/>
            <p:cNvSpPr/>
            <p:nvPr/>
          </p:nvSpPr>
          <p:spPr>
            <a:xfrm>
              <a:off x="0" y="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Rectangle 6"/>
            <p:cNvSpPr/>
            <p:nvPr/>
          </p:nvSpPr>
          <p:spPr>
            <a:xfrm>
              <a:off x="271440" y="28764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Rectangle 6"/>
            <p:cNvSpPr/>
            <p:nvPr/>
          </p:nvSpPr>
          <p:spPr>
            <a:xfrm>
              <a:off x="285480" y="285840"/>
              <a:ext cx="8532360" cy="628668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Box 1"/>
          <p:cNvSpPr/>
          <p:nvPr/>
        </p:nvSpPr>
        <p:spPr>
          <a:xfrm>
            <a:off x="928800" y="642960"/>
            <a:ext cx="750096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цель вы ставили перед собой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акими затруднениями вы встретилис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каких свойствах мукора, пеницилла и дрожжей вы сегодня узнали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онять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годы любят день, грибы — ночь и тен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»;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достигнута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Picture 6" descr="http://im3-tub-ru.yandex.net/i?id=7413cc359bb42a4b59dfe664f45351d9-116-144&amp;n=21"/>
          <p:cNvPicPr/>
          <p:nvPr/>
        </p:nvPicPr>
        <p:blipFill>
          <a:blip r:embed="rId1"/>
          <a:stretch/>
        </p:blipFill>
        <p:spPr>
          <a:xfrm>
            <a:off x="6215040" y="292896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8" descr="http://im3-tub-ru.yandex.net/i?id=ee8f9a0af046987d21e3c03a3421c52e-46-144&amp;n=21"/>
          <p:cNvPicPr/>
          <p:nvPr/>
        </p:nvPicPr>
        <p:blipFill>
          <a:blip r:embed="rId2"/>
          <a:stretch/>
        </p:blipFill>
        <p:spPr>
          <a:xfrm>
            <a:off x="500040" y="3000240"/>
            <a:ext cx="2762280" cy="2000520"/>
          </a:xfrm>
          <a:prstGeom prst="rect">
            <a:avLst/>
          </a:prstGeom>
          <a:ln w="0">
            <a:noFill/>
          </a:ln>
        </p:spPr>
      </p:pic>
      <p:sp>
        <p:nvSpPr>
          <p:cNvPr id="776" name="Прямоугольник 5"/>
          <p:cNvSpPr/>
          <p:nvPr/>
        </p:nvSpPr>
        <p:spPr>
          <a:xfrm>
            <a:off x="1500120" y="428760"/>
            <a:ext cx="7143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Применение плесневых грибов и дрожже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в пищевой промышленности для приготовления йогуртов, сыров, кефира, сметаны, творога, вина, пива, колбас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7" name="Picture 10" descr="http://im2-tub-ru.yandex.net/i?id=09679b01318c15a47516a5d7ec2fb910-113-144&amp;n=21"/>
          <p:cNvPicPr/>
          <p:nvPr/>
        </p:nvPicPr>
        <p:blipFill>
          <a:blip r:embed="rId3"/>
          <a:stretch/>
        </p:blipFill>
        <p:spPr>
          <a:xfrm>
            <a:off x="3357720" y="4483080"/>
            <a:ext cx="2786040" cy="208908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12" descr="http://im1-tub-ru.yandex.net/i?id=7e32471e2c3d6089c201ec738f76b2ca-126-144&amp;n=21"/>
          <p:cNvPicPr/>
          <p:nvPr/>
        </p:nvPicPr>
        <p:blipFill>
          <a:blip r:embed="rId4"/>
          <a:stretch/>
        </p:blipFill>
        <p:spPr>
          <a:xfrm>
            <a:off x="285840" y="500040"/>
            <a:ext cx="12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9" name="Picture 6" descr="nm-pirogki"/>
          <p:cNvPicPr/>
          <p:nvPr/>
        </p:nvPicPr>
        <p:blipFill>
          <a:blip r:embed="rId1"/>
          <a:stretch/>
        </p:blipFill>
        <p:spPr>
          <a:xfrm>
            <a:off x="214200" y="1143000"/>
            <a:ext cx="3525840" cy="23544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7" descr="1-web"/>
          <p:cNvPicPr/>
          <p:nvPr/>
        </p:nvPicPr>
        <p:blipFill>
          <a:blip r:embed="rId2"/>
          <a:stretch/>
        </p:blipFill>
        <p:spPr>
          <a:xfrm>
            <a:off x="3419640" y="4724280"/>
            <a:ext cx="2304720" cy="182736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8" descr="5154"/>
          <p:cNvPicPr/>
          <p:nvPr/>
        </p:nvPicPr>
        <p:blipFill>
          <a:blip r:embed="rId3"/>
          <a:stretch/>
        </p:blipFill>
        <p:spPr>
          <a:xfrm>
            <a:off x="6072120" y="1357200"/>
            <a:ext cx="2833920" cy="2833920"/>
          </a:xfrm>
          <a:prstGeom prst="rect">
            <a:avLst/>
          </a:prstGeom>
          <a:ln w="0">
            <a:noFill/>
          </a:ln>
        </p:spPr>
      </p:pic>
      <p:sp>
        <p:nvSpPr>
          <p:cNvPr id="782" name="Text Box 9"/>
          <p:cNvSpPr/>
          <p:nvPr/>
        </p:nvSpPr>
        <p:spPr>
          <a:xfrm>
            <a:off x="397440" y="642960"/>
            <a:ext cx="26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в хлебопече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Text Box 10"/>
          <p:cNvSpPr/>
          <p:nvPr/>
        </p:nvSpPr>
        <p:spPr>
          <a:xfrm>
            <a:off x="3132000" y="371628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при производстве пива и спир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Text Box 11"/>
          <p:cNvSpPr/>
          <p:nvPr/>
        </p:nvSpPr>
        <p:spPr>
          <a:xfrm>
            <a:off x="6296760" y="78588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как лекар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12"/>
          <p:cNvSpPr/>
          <p:nvPr/>
        </p:nvSpPr>
        <p:spPr>
          <a:xfrm>
            <a:off x="541440" y="1450440"/>
            <a:ext cx="7993080" cy="38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отивация к учебной деятельност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Цель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здать условия для возникновения потребности изучить грибы мукор, пеницилл и дрожж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Ягоды любят день, грибы — ночь и тень»;  Показат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кументальный фильм «Плесень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ктуализировать требования к ученику со стороны учебной деятель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становить тематические рамки урока с помощью демонстрационного материа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2" name="Group 4"/>
          <p:cNvGrpSpPr/>
          <p:nvPr/>
        </p:nvGrpSpPr>
        <p:grpSpPr>
          <a:xfrm>
            <a:off x="0" y="0"/>
            <a:ext cx="9075600" cy="6861240"/>
            <a:chOff x="0" y="0"/>
            <a:chExt cx="9075600" cy="6861240"/>
          </a:xfrm>
        </p:grpSpPr>
        <p:sp>
          <p:nvSpPr>
            <p:cNvPr id="673" name="Rectangle 5"/>
            <p:cNvSpPr/>
            <p:nvPr/>
          </p:nvSpPr>
          <p:spPr>
            <a:xfrm>
              <a:off x="0" y="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Rectangle 6"/>
            <p:cNvSpPr/>
            <p:nvPr/>
          </p:nvSpPr>
          <p:spPr>
            <a:xfrm>
              <a:off x="271440" y="28764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Rectangle 6"/>
            <p:cNvSpPr/>
            <p:nvPr/>
          </p:nvSpPr>
          <p:spPr>
            <a:xfrm>
              <a:off x="285480" y="285840"/>
              <a:ext cx="8532360" cy="628668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шаг. Новое зн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что общего и чем отличаются мукор, пеницилл и дрожж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8" name="Group 4"/>
          <p:cNvGrpSpPr/>
          <p:nvPr/>
        </p:nvGrpSpPr>
        <p:grpSpPr>
          <a:xfrm>
            <a:off x="0" y="0"/>
            <a:ext cx="9075600" cy="6861240"/>
            <a:chOff x="0" y="0"/>
            <a:chExt cx="9075600" cy="6861240"/>
          </a:xfrm>
        </p:grpSpPr>
        <p:sp>
          <p:nvSpPr>
            <p:cNvPr id="679" name="Rectangle 5"/>
            <p:cNvSpPr/>
            <p:nvPr/>
          </p:nvSpPr>
          <p:spPr>
            <a:xfrm>
              <a:off x="0" y="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Rectangle 6"/>
            <p:cNvSpPr/>
            <p:nvPr/>
          </p:nvSpPr>
          <p:spPr>
            <a:xfrm>
              <a:off x="271440" y="28764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Rectangle 6"/>
            <p:cNvSpPr/>
            <p:nvPr/>
          </p:nvSpPr>
          <p:spPr>
            <a:xfrm>
              <a:off x="285480" y="285840"/>
              <a:ext cx="8532360" cy="628668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шаг. Пробное действие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буйте найти разницу между мукором, пенициллом и дрожжами используя рисунки и следующие слова-помощник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истый  белый налё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точк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вящиеся нити с перегородк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вящиеся нити без перегород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ый или голубой на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кова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4" name="Group 4"/>
          <p:cNvGrpSpPr/>
          <p:nvPr/>
        </p:nvGrpSpPr>
        <p:grpSpPr>
          <a:xfrm>
            <a:off x="0" y="0"/>
            <a:ext cx="9075600" cy="6861240"/>
            <a:chOff x="0" y="0"/>
            <a:chExt cx="9075600" cy="6861240"/>
          </a:xfrm>
        </p:grpSpPr>
        <p:sp>
          <p:nvSpPr>
            <p:cNvPr id="685" name="Rectangle 5"/>
            <p:cNvSpPr/>
            <p:nvPr/>
          </p:nvSpPr>
          <p:spPr>
            <a:xfrm>
              <a:off x="0" y="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Rectangle 6"/>
            <p:cNvSpPr/>
            <p:nvPr/>
          </p:nvSpPr>
          <p:spPr>
            <a:xfrm>
              <a:off x="271440" y="28764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Rectangle 6"/>
            <p:cNvSpPr/>
            <p:nvPr/>
          </p:nvSpPr>
          <p:spPr>
            <a:xfrm>
              <a:off x="285480" y="285840"/>
              <a:ext cx="8532360" cy="628668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8" name="Group 4"/>
          <p:cNvGrpSpPr/>
          <p:nvPr/>
        </p:nvGrpSpPr>
        <p:grpSpPr>
          <a:xfrm>
            <a:off x="0" y="0"/>
            <a:ext cx="9075600" cy="6861240"/>
            <a:chOff x="0" y="0"/>
            <a:chExt cx="9075600" cy="6861240"/>
          </a:xfrm>
        </p:grpSpPr>
        <p:sp>
          <p:nvSpPr>
            <p:cNvPr id="689" name="Rectangle 5"/>
            <p:cNvSpPr/>
            <p:nvPr/>
          </p:nvSpPr>
          <p:spPr>
            <a:xfrm>
              <a:off x="0" y="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Rectangle 6"/>
            <p:cNvSpPr/>
            <p:nvPr/>
          </p:nvSpPr>
          <p:spPr>
            <a:xfrm>
              <a:off x="271440" y="28764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Rectangle 6"/>
            <p:cNvSpPr/>
            <p:nvPr/>
          </p:nvSpPr>
          <p:spPr>
            <a:xfrm>
              <a:off x="285480" y="285840"/>
              <a:ext cx="8532360" cy="628668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92" name="Содержимое 10" descr="&quot;Пчеловодство&quot;: темы"/>
          <p:cNvPicPr/>
          <p:nvPr/>
        </p:nvPicPr>
        <p:blipFill>
          <a:blip r:embed="rId1"/>
          <a:stretch/>
        </p:blipFill>
        <p:spPr>
          <a:xfrm>
            <a:off x="428760" y="357120"/>
            <a:ext cx="3786120" cy="2714760"/>
          </a:xfrm>
          <a:prstGeom prst="rect">
            <a:avLst/>
          </a:prstGeom>
          <a:ln w="0">
            <a:noFill/>
          </a:ln>
        </p:spPr>
      </p:pic>
      <p:pic>
        <p:nvPicPr>
          <p:cNvPr id="693" name="Рисунок 11" descr="http://im0-tub-ru.yandex.net/i?id=16cd5ebead4256411ed124a1f1e1fb5f-22-144&amp;n=21"/>
          <p:cNvPicPr/>
          <p:nvPr/>
        </p:nvPicPr>
        <p:blipFill>
          <a:blip r:embed="rId2"/>
          <a:stretch/>
        </p:blipFill>
        <p:spPr>
          <a:xfrm>
            <a:off x="4500720" y="428760"/>
            <a:ext cx="4143240" cy="2643120"/>
          </a:xfrm>
          <a:prstGeom prst="rect">
            <a:avLst/>
          </a:prstGeom>
          <a:ln w="0">
            <a:noFill/>
          </a:ln>
        </p:spPr>
      </p:pic>
      <p:pic>
        <p:nvPicPr>
          <p:cNvPr id="694" name="Рисунок 12" descr="Строение плесневого гриба мукора: - Картинка 5498/21"/>
          <p:cNvPicPr/>
          <p:nvPr/>
        </p:nvPicPr>
        <p:blipFill>
          <a:blip r:embed="rId3"/>
          <a:stretch/>
        </p:blipFill>
        <p:spPr>
          <a:xfrm>
            <a:off x="357120" y="3357720"/>
            <a:ext cx="3071880" cy="2857320"/>
          </a:xfrm>
          <a:prstGeom prst="rect">
            <a:avLst/>
          </a:prstGeom>
          <a:ln w="0">
            <a:noFill/>
          </a:ln>
        </p:spPr>
      </p:pic>
      <p:pic>
        <p:nvPicPr>
          <p:cNvPr id="695" name="Рисунок 13" descr="Характеристика плесневых грибов (часть 1). Микробиология и биохимия вина."/>
          <p:cNvPicPr/>
          <p:nvPr/>
        </p:nvPicPr>
        <p:blipFill>
          <a:blip r:embed="rId4"/>
          <a:stretch/>
        </p:blipFill>
        <p:spPr>
          <a:xfrm>
            <a:off x="3643200" y="3429000"/>
            <a:ext cx="2643480" cy="2714760"/>
          </a:xfrm>
          <a:prstGeom prst="rect">
            <a:avLst/>
          </a:prstGeom>
          <a:ln w="0">
            <a:noFill/>
          </a:ln>
        </p:spPr>
      </p:pic>
      <p:pic>
        <p:nvPicPr>
          <p:cNvPr id="696" name="Рисунок 9" descr="Дрожжи (почкование)"/>
          <p:cNvPicPr/>
          <p:nvPr/>
        </p:nvPicPr>
        <p:blipFill>
          <a:blip r:embed="rId5"/>
          <a:stretch/>
        </p:blipFill>
        <p:spPr>
          <a:xfrm>
            <a:off x="6429240" y="3500280"/>
            <a:ext cx="235764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Прямоугольник 1"/>
          <p:cNvSpPr/>
          <p:nvPr/>
        </p:nvSpPr>
        <p:spPr>
          <a:xfrm>
            <a:off x="3071880" y="1214280"/>
            <a:ext cx="557208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истый белый налё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к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точк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вящиеся нити без перегород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вящиеся нити с перегородк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ый или голубой на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к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Box 2"/>
          <p:cNvSpPr/>
          <p:nvPr/>
        </p:nvSpPr>
        <p:spPr>
          <a:xfrm>
            <a:off x="2789280" y="34128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буйте соединить стрелками картинки и слова-помощн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9" name="Group 4"/>
          <p:cNvGrpSpPr/>
          <p:nvPr/>
        </p:nvGrpSpPr>
        <p:grpSpPr>
          <a:xfrm>
            <a:off x="0" y="0"/>
            <a:ext cx="9075600" cy="6861240"/>
            <a:chOff x="0" y="0"/>
            <a:chExt cx="9075600" cy="6861240"/>
          </a:xfrm>
        </p:grpSpPr>
        <p:sp>
          <p:nvSpPr>
            <p:cNvPr id="700" name="Rectangle 5"/>
            <p:cNvSpPr/>
            <p:nvPr/>
          </p:nvSpPr>
          <p:spPr>
            <a:xfrm>
              <a:off x="0" y="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Rectangle 6"/>
            <p:cNvSpPr/>
            <p:nvPr/>
          </p:nvSpPr>
          <p:spPr>
            <a:xfrm>
              <a:off x="271440" y="28764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Rectangle 6"/>
            <p:cNvSpPr/>
            <p:nvPr/>
          </p:nvSpPr>
          <p:spPr>
            <a:xfrm>
              <a:off x="285480" y="285840"/>
              <a:ext cx="8532360" cy="628668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03" name="Рисунок 11" descr="&quot;Пчеловодство&quot;: темы"/>
          <p:cNvPicPr/>
          <p:nvPr/>
        </p:nvPicPr>
        <p:blipFill>
          <a:blip r:embed="rId1"/>
          <a:stretch/>
        </p:blipFill>
        <p:spPr>
          <a:xfrm>
            <a:off x="357120" y="285840"/>
            <a:ext cx="1643040" cy="1133280"/>
          </a:xfrm>
          <a:prstGeom prst="rect">
            <a:avLst/>
          </a:prstGeom>
          <a:ln w="0">
            <a:noFill/>
          </a:ln>
        </p:spPr>
      </p:pic>
      <p:pic>
        <p:nvPicPr>
          <p:cNvPr id="704" name="Рисунок 12" descr="http://im0-tub-ru.yandex.net/i?id=16cd5ebead4256411ed124a1f1e1fb5f-22-144&amp;n=21"/>
          <p:cNvPicPr/>
          <p:nvPr/>
        </p:nvPicPr>
        <p:blipFill>
          <a:blip r:embed="rId2"/>
          <a:stretch/>
        </p:blipFill>
        <p:spPr>
          <a:xfrm>
            <a:off x="357120" y="1500120"/>
            <a:ext cx="1478160" cy="1143000"/>
          </a:xfrm>
          <a:prstGeom prst="rect">
            <a:avLst/>
          </a:prstGeom>
          <a:ln w="0">
            <a:noFill/>
          </a:ln>
        </p:spPr>
      </p:pic>
      <p:pic>
        <p:nvPicPr>
          <p:cNvPr id="705" name="Рисунок 13" descr="Строение плесневого гриба мукора: - Картинка 5498/21"/>
          <p:cNvPicPr/>
          <p:nvPr/>
        </p:nvPicPr>
        <p:blipFill>
          <a:blip r:embed="rId3"/>
          <a:stretch/>
        </p:blipFill>
        <p:spPr>
          <a:xfrm>
            <a:off x="357120" y="2714760"/>
            <a:ext cx="1467000" cy="1000080"/>
          </a:xfrm>
          <a:prstGeom prst="rect">
            <a:avLst/>
          </a:prstGeom>
          <a:ln w="0">
            <a:noFill/>
          </a:ln>
        </p:spPr>
      </p:pic>
      <p:pic>
        <p:nvPicPr>
          <p:cNvPr id="706" name="Рисунок 14" descr="Характеристика плесневых грибов (часть 1). Микробиология и биохимия вина."/>
          <p:cNvPicPr/>
          <p:nvPr/>
        </p:nvPicPr>
        <p:blipFill>
          <a:blip r:embed="rId4"/>
          <a:stretch/>
        </p:blipFill>
        <p:spPr>
          <a:xfrm>
            <a:off x="357120" y="3786120"/>
            <a:ext cx="1500120" cy="1000080"/>
          </a:xfrm>
          <a:prstGeom prst="rect">
            <a:avLst/>
          </a:prstGeom>
          <a:ln w="0">
            <a:noFill/>
          </a:ln>
        </p:spPr>
      </p:pic>
      <p:pic>
        <p:nvPicPr>
          <p:cNvPr id="707" name="Рисунок 11" descr="Дрожжи (почкование)"/>
          <p:cNvPicPr/>
          <p:nvPr/>
        </p:nvPicPr>
        <p:blipFill>
          <a:blip r:embed="rId5"/>
          <a:stretch/>
        </p:blipFill>
        <p:spPr>
          <a:xfrm>
            <a:off x="357120" y="4857840"/>
            <a:ext cx="15001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шаг. Фиксация затруд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 не знаю все свойства мукора, пеницилла и дрожжей и поэтому пока не могу распределить слова-помощники по рисункам и определить что общего и чем отличаются данные грибы друг от дру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 пока не могу доказать, что правильно распределил все слова-помощники  по рисункам и по этому пока не могу определить что общего и чем отличаются мукор, пеницилл и дрожжи друг от друга.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0" name="Group 4"/>
          <p:cNvGrpSpPr/>
          <p:nvPr/>
        </p:nvGrpSpPr>
        <p:grpSpPr>
          <a:xfrm>
            <a:off x="0" y="0"/>
            <a:ext cx="9075600" cy="6861240"/>
            <a:chOff x="0" y="0"/>
            <a:chExt cx="9075600" cy="6861240"/>
          </a:xfrm>
        </p:grpSpPr>
        <p:sp>
          <p:nvSpPr>
            <p:cNvPr id="711" name="Rectangle 5"/>
            <p:cNvSpPr/>
            <p:nvPr/>
          </p:nvSpPr>
          <p:spPr>
            <a:xfrm>
              <a:off x="0" y="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Rectangle 6"/>
            <p:cNvSpPr/>
            <p:nvPr/>
          </p:nvSpPr>
          <p:spPr>
            <a:xfrm>
              <a:off x="271440" y="28764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Rectangle 6"/>
            <p:cNvSpPr/>
            <p:nvPr/>
          </p:nvSpPr>
          <p:spPr>
            <a:xfrm>
              <a:off x="285480" y="285840"/>
              <a:ext cx="8532360" cy="628668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шаг. Причина затруд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е знаю что общего и чем отличаются мукор, пеницилл и дрожж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6" name="Group 4"/>
          <p:cNvGrpSpPr/>
          <p:nvPr/>
        </p:nvGrpSpPr>
        <p:grpSpPr>
          <a:xfrm>
            <a:off x="0" y="0"/>
            <a:ext cx="9075600" cy="6861240"/>
            <a:chOff x="0" y="0"/>
            <a:chExt cx="9075600" cy="6861240"/>
          </a:xfrm>
        </p:grpSpPr>
        <p:sp>
          <p:nvSpPr>
            <p:cNvPr id="717" name="Rectangle 5"/>
            <p:cNvSpPr/>
            <p:nvPr/>
          </p:nvSpPr>
          <p:spPr>
            <a:xfrm>
              <a:off x="0" y="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Rectangle 6"/>
            <p:cNvSpPr/>
            <p:nvPr/>
          </p:nvSpPr>
          <p:spPr>
            <a:xfrm>
              <a:off x="271440" y="28764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Rectangle 6"/>
            <p:cNvSpPr/>
            <p:nvPr/>
          </p:nvSpPr>
          <p:spPr>
            <a:xfrm>
              <a:off x="285480" y="285840"/>
              <a:ext cx="8532360" cy="628668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шаг. Формулировка цел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ятель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903240" y="1413000"/>
            <a:ext cx="7485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 что общего и чем отличаются мукор, пеницилл и дрожжи друг от дру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2" name="Group 4"/>
          <p:cNvGrpSpPr/>
          <p:nvPr/>
        </p:nvGrpSpPr>
        <p:grpSpPr>
          <a:xfrm>
            <a:off x="0" y="0"/>
            <a:ext cx="9075600" cy="6861240"/>
            <a:chOff x="0" y="0"/>
            <a:chExt cx="9075600" cy="6861240"/>
          </a:xfrm>
        </p:grpSpPr>
        <p:sp>
          <p:nvSpPr>
            <p:cNvPr id="723" name="Rectangle 5"/>
            <p:cNvSpPr/>
            <p:nvPr/>
          </p:nvSpPr>
          <p:spPr>
            <a:xfrm>
              <a:off x="0" y="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Rectangle 6"/>
            <p:cNvSpPr/>
            <p:nvPr/>
          </p:nvSpPr>
          <p:spPr>
            <a:xfrm>
              <a:off x="271440" y="28764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Rectangle 6"/>
            <p:cNvSpPr/>
            <p:nvPr/>
          </p:nvSpPr>
          <p:spPr>
            <a:xfrm>
              <a:off x="285480" y="285840"/>
              <a:ext cx="8532360" cy="628668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05:05:55Z</dcterms:created>
  <dc:creator>Pospolita</dc:creator>
  <dc:description/>
  <dc:language>en-US</dc:language>
  <cp:lastModifiedBy>Нана&amp;Ника</cp:lastModifiedBy>
  <dcterms:modified xsi:type="dcterms:W3CDTF">2015-02-11T17:00:57Z</dcterms:modified>
  <cp:revision>107</cp:revision>
  <dc:subject/>
  <dc:title>Презентация PowerPoint</dc:title>
</cp:coreProperties>
</file>