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move the slide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C6D-CD58-41AC-9114-C34E2074A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4035-9A8D-4FBE-827A-1CC7ECDDAE10}" type="slidenum">
              <a:rPr b="0" lang="ru-RU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2EB-7C53-4AF8-8D0B-4723604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3A2-BBA6-4B23-A237-CECF863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A21-6A71-4D6B-9771-C227CCC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6BE-0151-47FD-A604-69178B2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6C5D-2ABB-4475-A3F4-C7B4A419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D0D1-739E-4BD5-B195-5856142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C19-BC1F-47FD-98C0-EF0ACFD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FBB1-C0C0-49E3-9BBE-CD9BD23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940-2587-41C5-9823-2E426BB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B0A-49E9-4AC9-B8B4-E83D7C51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8F5-FF94-4C99-9922-73E772E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4FF-4BB9-476A-95C8-D011FCEF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467-6E69-43BB-865E-2E82FA9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698-BE4D-4686-9785-F46DD29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39F1-972D-4360-9DFE-5CB90EE7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BE59-B2DC-4AC0-B03A-B724828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ABE-2A9A-47CB-A44C-1D39FD44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74B-BEB7-4C44-AC07-6ABF81D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198-BE0A-4512-A59D-0FFD8FBC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9AD-234F-4F47-9786-3868B698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500-35DF-4E5C-853E-23EB1EA1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60D-B17B-4B36-9893-243EFDE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436-8D96-415A-8E5E-929F5CE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073-793C-4B76-BB64-CBC8FF26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2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68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28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3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>
                      <a:gd name="textAreaLeft" fmla="*/ 0 w 209520"/>
                      <a:gd name="textAreaRight" fmla="*/ 209880 w 209520"/>
                      <a:gd name="textAreaTop" fmla="*/ 0 h 379440"/>
                      <a:gd name="textAreaBottom" fmla="*/ 379800 h 379440"/>
                    </a:gdLst>
                    <a:ahLst/>
                    <a:rect l="textAreaLeft" t="textAreaTop" r="textAreaRight" b="textAreaBottom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4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927000"/>
                      <a:gd name="textAreaBottom" fmla="*/ 927360 h 927000"/>
                    </a:gdLst>
                    <a:ahLst/>
                    <a:rect l="textAreaLeft" t="textAreaTop" r="textAreaRight" b="textAreaBottom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8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6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420840"/>
                      <a:gd name="textAreaBottom" fmla="*/ 421200 h 420840"/>
                    </a:gdLst>
                    <a:ahLst/>
                    <a:rect l="textAreaLeft" t="textAreaTop" r="textAreaRight" b="textAreaBottom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7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997200"/>
                      <a:gd name="textAreaBottom" fmla="*/ 997560 h 997200"/>
                    </a:gdLst>
                    <a:ahLst/>
                    <a:rect l="textAreaLeft" t="textAreaTop" r="textAreaRight" b="textAreaBottom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9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416160"/>
                    <a:gd name="textAreaBottom" fmla="*/ 416520 h 416160"/>
                  </a:gdLst>
                  <a:ahLst/>
                  <a:rect l="textAreaLeft" t="textAreaTop" r="textAreaRight" b="textAreaBottom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015920"/>
                    <a:gd name="textAreaBottom" fmla="*/ 1016280 h 1015920"/>
                  </a:gdLst>
                  <a:ahLst/>
                  <a:rect l="textAreaLeft" t="textAreaTop" r="textAreaRight" b="textAreaBottom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741680"/>
                    <a:gd name="textAreaBottom" fmla="*/ 1742040 h 1741680"/>
                  </a:gdLst>
                  <a:ahLst/>
                  <a:rect l="textAreaLeft" t="textAreaTop" r="textAreaRight" b="textAreaBottom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6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2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612720"/>
                      <a:gd name="textAreaBottom" fmla="*/ 612720 h 612720"/>
                    </a:gdLst>
                    <a:ahLst/>
                    <a:rect l="textAreaLeft" t="textAreaTop" r="textAreaRight" b="textAreaBottom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3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2243160"/>
                      <a:gd name="textAreaBottom" fmla="*/ 2243520 h 2243160"/>
                    </a:gdLst>
                    <a:ahLst/>
                    <a:rect l="textAreaLeft" t="textAreaTop" r="textAreaRight" b="textAreaBottom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4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>
                      <a:gd name="textAreaLeft" fmla="*/ 0 w 168480"/>
                      <a:gd name="textAreaRight" fmla="*/ 168840 w 168480"/>
                      <a:gd name="textAreaTop" fmla="*/ 0 h 828720"/>
                      <a:gd name="textAreaBottom" fmla="*/ 829080 h 828720"/>
                    </a:gdLst>
                    <a:ahLst/>
                    <a:rect l="textAreaLeft" t="textAreaTop" r="textAreaRight" b="textAreaBottom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5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17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760320"/>
                    <a:gd name="textAreaBottom" fmla="*/ 760680 h 760320"/>
                  </a:gdLst>
                  <a:ahLst/>
                  <a:rect l="textAreaLeft" t="textAreaTop" r="textAreaRight" b="textAreaBottom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277640"/>
                    <a:gd name="textAreaBottom" fmla="*/ 1277640 h 1277640"/>
                  </a:gdLst>
                  <a:ahLst/>
                  <a:rect l="textAreaLeft" t="textAreaTop" r="textAreaRight" b="textAreaBottom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3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0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326880"/>
                    <a:gd name="textAreaBottom" fmla="*/ 326880 h 326880"/>
                  </a:gdLst>
                  <a:ahLst/>
                  <a:rect l="textAreaLeft" t="textAreaTop" r="textAreaRight" b="textAreaBottom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1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325440"/>
                    <a:gd name="textAreaBottom" fmla="*/ 325800 h 325440"/>
                  </a:gdLst>
                  <a:ahLst/>
                  <a:rect l="textAreaLeft" t="textAreaTop" r="textAreaRight" b="textAreaBottom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2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85720"/>
                    <a:gd name="textAreaBottom" fmla="*/ 585720 h 585720"/>
                  </a:gdLst>
                  <a:ahLst/>
                  <a:rect l="textAreaLeft" t="textAreaTop" r="textAreaRight" b="textAreaBottom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4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641520"/>
                  <a:gd name="textAreaBottom" fmla="*/ 641520 h 641520"/>
                </a:gdLst>
                <a:ahLst/>
                <a:rect l="textAreaLeft" t="textAreaTop" r="textAreaRight" b="textAreaBottom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6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405000"/>
                    <a:gd name="textAreaBottom" fmla="*/ 405360 h 405000"/>
                  </a:gdLst>
                  <a:ahLst/>
                  <a:rect l="textAreaLeft" t="textAreaTop" r="textAreaRight" b="textAreaBottom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37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517320"/>
                    <a:gd name="textAreaBottom" fmla="*/ 517680 h 517320"/>
                  </a:gdLst>
                  <a:ahLst/>
                  <a:rect l="textAreaLeft" t="textAreaTop" r="textAreaRight" b="textAreaBottom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39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7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0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1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714240"/>
                    <a:gd name="textAreaBottom" fmla="*/ 714600 h 714240"/>
                  </a:gdLst>
                  <a:ahLst/>
                  <a:rect l="textAreaLeft" t="textAreaTop" r="textAreaRight" b="textAreaBottom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4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2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3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5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6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48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49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0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1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0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>
                    <a:gd name="textAreaLeft" fmla="*/ 0 w 336240"/>
                    <a:gd name="textAreaRight" fmla="*/ 336240 w 3362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1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3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916200"/>
                  <a:gd name="textAreaBottom" fmla="*/ 916560 h 916200"/>
                </a:gdLst>
                <a:ahLst/>
                <a:rect l="textAreaLeft" t="textAreaTop" r="textAreaRight" b="textAreaBottom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511200"/>
                  <a:gd name="textAreaBottom" fmla="*/ 511200 h 511200"/>
                </a:gdLst>
                <a:ahLst/>
                <a:rect l="textAreaLeft" t="textAreaTop" r="textAreaRight" b="textAreaBottom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11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84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69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0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1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568160"/>
                    <a:gd name="textAreaBottom" fmla="*/ 1568520 h 1568160"/>
                  </a:gdLst>
                  <a:ahLst/>
                  <a:rect l="textAreaLeft" t="textAreaTop" r="textAreaRight" b="textAreaBottom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2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3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4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5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380960"/>
                    <a:gd name="textAreaBottom" fmla="*/ 1381320 h 1380960"/>
                  </a:gdLst>
                  <a:ahLst/>
                  <a:rect l="textAreaLeft" t="textAreaTop" r="textAreaRight" b="textAreaBottom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6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77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78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1160"/>
                    <a:gd name="textAreaBottom" fmla="*/ 911520 h 911160"/>
                  </a:gdLst>
                  <a:ahLst/>
                  <a:rect l="textAreaLeft" t="textAreaTop" r="textAreaRight" b="textAreaBottom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79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55600"/>
                    <a:gd name="textAreaBottom" fmla="*/ 255600 h 255600"/>
                  </a:gdLst>
                  <a:ahLst/>
                  <a:rect l="textAreaLeft" t="textAreaTop" r="textAreaRight" b="textAreaBottom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0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635040"/>
                    <a:gd name="textAreaBottom" fmla="*/ 635040 h 635040"/>
                  </a:gdLst>
                  <a:ahLst/>
                  <a:rect l="textAreaLeft" t="textAreaTop" r="textAreaRight" b="textAreaBottom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1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>
                    <a:gd name="textAreaLeft" fmla="*/ 0 w 482760"/>
                    <a:gd name="textAreaRight" fmla="*/ 483120 w 482760"/>
                    <a:gd name="textAreaTop" fmla="*/ 0 h 833400"/>
                    <a:gd name="textAreaBottom" fmla="*/ 833760 h 833400"/>
                  </a:gdLst>
                  <a:ahLst/>
                  <a:rect l="textAreaLeft" t="textAreaTop" r="textAreaRight" b="textAreaBottom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3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5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6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7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88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89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0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1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2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3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4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5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6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7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98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99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0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1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2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3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4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5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6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7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08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09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0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683-91EB-4C22-9EBD-5558D8A46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1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2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68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28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5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3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>
                      <a:gd name="textAreaLeft" fmla="*/ 0 w 327240"/>
                      <a:gd name="textAreaRight" fmla="*/ 327600 w 327240"/>
                      <a:gd name="textAreaTop" fmla="*/ 0 h 641160"/>
                      <a:gd name="textAreaBottom" fmla="*/ 641520 h 641160"/>
                    </a:gdLst>
                    <a:ahLst/>
                    <a:rect l="textAreaLeft" t="textAreaTop" r="textAreaRight" b="textAreaBottom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>
                      <a:gd name="textAreaLeft" fmla="*/ 0 w 222480"/>
                      <a:gd name="textAreaRight" fmla="*/ 222840 w 222480"/>
                      <a:gd name="textAreaTop" fmla="*/ 0 h 1569960"/>
                      <a:gd name="textAreaBottom" fmla="*/ 1570320 h 1569960"/>
                    </a:gdLst>
                    <a:ahLst/>
                    <a:rect l="textAreaLeft" t="textAreaTop" r="textAreaRight" b="textAreaBottom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8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6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>
                      <a:gd name="textAreaLeft" fmla="*/ 0 w 408240"/>
                      <a:gd name="textAreaRight" fmla="*/ 408600 w 40824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7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1684440"/>
                      <a:gd name="textAreaBottom" fmla="*/ 1684800 h 1684440"/>
                    </a:gdLst>
                    <a:ahLst/>
                    <a:rect l="textAreaLeft" t="textAreaTop" r="textAreaRight" b="textAreaBottom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9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706320"/>
                    <a:gd name="textAreaBottom" fmla="*/ 706320 h 706320"/>
                  </a:gdLst>
                  <a:ahLst/>
                  <a:rect l="textAreaLeft" t="textAreaTop" r="textAreaRight" b="textAreaBottom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0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19360"/>
                    <a:gd name="textAreaBottom" fmla="*/ 1719720 h 1719360"/>
                  </a:gdLst>
                  <a:ahLst/>
                  <a:rect l="textAreaLeft" t="textAreaTop" r="textAreaRight" b="textAreaBottom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1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2946600"/>
                    <a:gd name="textAreaBottom" fmla="*/ 2946960 h 2946600"/>
                  </a:gdLst>
                  <a:ahLst/>
                  <a:rect l="textAreaLeft" t="textAreaTop" r="textAreaRight" b="textAreaBottom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6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2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>
                      <a:gd name="textAreaLeft" fmla="*/ 0 w 228600"/>
                      <a:gd name="textAreaRight" fmla="*/ 228960 w 228600"/>
                      <a:gd name="textAreaTop" fmla="*/ 0 h 1038240"/>
                      <a:gd name="textAreaBottom" fmla="*/ 1038600 h 1038240"/>
                    </a:gdLst>
                    <a:ahLst/>
                    <a:rect l="textAreaLeft" t="textAreaTop" r="textAreaRight" b="textAreaBottom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3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>
                      <a:gd name="textAreaLeft" fmla="*/ 0 w 322200"/>
                      <a:gd name="textAreaRight" fmla="*/ 322560 w 322200"/>
                      <a:gd name="textAreaTop" fmla="*/ 0 h 3795840"/>
                      <a:gd name="textAreaBottom" fmla="*/ 3795840 h 3795840"/>
                    </a:gdLst>
                    <a:ahLst/>
                    <a:rect l="textAreaLeft" t="textAreaTop" r="textAreaRight" b="textAreaBottom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4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>
                      <a:gd name="textAreaLeft" fmla="*/ 0 w 255600"/>
                      <a:gd name="textAreaRight" fmla="*/ 255600 w 255600"/>
                      <a:gd name="textAreaTop" fmla="*/ 0 h 1400040"/>
                      <a:gd name="textAreaBottom" fmla="*/ 1400400 h 1400040"/>
                    </a:gdLst>
                    <a:ahLst/>
                    <a:rect l="textAreaLeft" t="textAreaTop" r="textAreaRight" b="textAreaBottom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5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>
                      <a:gd name="textAreaLeft" fmla="*/ 0 w 117360"/>
                      <a:gd name="textAreaRight" fmla="*/ 117720 w 117360"/>
                      <a:gd name="textAreaTop" fmla="*/ 0 h 680760"/>
                      <a:gd name="textAreaBottom" fmla="*/ 681120 h 680760"/>
                    </a:gdLst>
                    <a:ahLst/>
                    <a:rect l="textAreaLeft" t="textAreaTop" r="textAreaRight" b="textAreaBottom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7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8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>
                    <a:gd name="textAreaLeft" fmla="*/ 0 w 539640"/>
                    <a:gd name="textAreaRight" fmla="*/ 540000 w 53964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9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925560"/>
                    <a:gd name="textAreaBottom" fmla="*/ 925920 h 925560"/>
                  </a:gdLst>
                  <a:ahLst/>
                  <a:rect l="textAreaLeft" t="textAreaTop" r="textAreaRight" b="textAreaBottom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0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1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2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476280"/>
                    <a:gd name="textAreaBottom" fmla="*/ 476640 h 476280"/>
                  </a:gdLst>
                  <a:ahLst/>
                  <a:rect l="textAreaLeft" t="textAreaTop" r="textAreaRight" b="textAreaBottom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3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4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2600280"/>
                    <a:gd name="textAreaBottom" fmla="*/ 2600640 h 2600280"/>
                  </a:gdLst>
                  <a:ahLst/>
                  <a:rect l="textAreaLeft" t="textAreaTop" r="textAreaRight" b="textAreaBottom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5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>
                    <a:gd name="textAreaLeft" fmla="*/ 0 w 441360"/>
                    <a:gd name="textAreaRight" fmla="*/ 441720 w 441360"/>
                    <a:gd name="textAreaTop" fmla="*/ 0 h 968400"/>
                    <a:gd name="textAreaBottom" fmla="*/ 968760 h 968400"/>
                  </a:gdLst>
                  <a:ahLst/>
                  <a:rect l="textAreaLeft" t="textAreaTop" r="textAreaRight" b="textAreaBottom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6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463680"/>
                    <a:gd name="textAreaBottom" fmla="*/ 464040 h 463680"/>
                  </a:gdLst>
                  <a:ahLst/>
                  <a:rect l="textAreaLeft" t="textAreaTop" r="textAreaRight" b="textAreaBottom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7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2166840"/>
                    <a:gd name="textAreaBottom" fmla="*/ 2167200 h 2166840"/>
                  </a:gdLst>
                  <a:ahLst/>
                  <a:rect l="textAreaLeft" t="textAreaTop" r="textAreaRight" b="textAreaBottom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9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3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0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54040"/>
                    <a:gd name="textAreaBottom" fmla="*/ 554400 h 554040"/>
                  </a:gdLst>
                  <a:ahLst/>
                  <a:rect l="textAreaLeft" t="textAreaTop" r="textAreaRight" b="textAreaBottom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1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2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988920"/>
                    <a:gd name="textAreaBottom" fmla="*/ 988920 h 988920"/>
                  </a:gdLst>
                  <a:ahLst/>
                  <a:rect l="textAreaLeft" t="textAreaTop" r="textAreaRight" b="textAreaBottom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4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1920"/>
                  <a:gd name="textAreaBottom" fmla="*/ 602280 h 601920"/>
                </a:gdLst>
                <a:ahLst/>
                <a:rect l="textAreaLeft" t="textAreaTop" r="textAreaRight" b="textAreaBottom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5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082520"/>
                  <a:gd name="textAreaBottom" fmla="*/ 1082520 h 1082520"/>
                </a:gdLst>
                <a:ahLst/>
                <a:rect l="textAreaLeft" t="textAreaTop" r="textAreaRight" b="textAreaBottom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6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687240"/>
                    <a:gd name="textAreaBottom" fmla="*/ 687600 h 687240"/>
                  </a:gdLst>
                  <a:ahLst/>
                  <a:rect l="textAreaLeft" t="textAreaTop" r="textAreaRight" b="textAreaBottom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7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874440"/>
                    <a:gd name="textAreaBottom" fmla="*/ 874800 h 874440"/>
                  </a:gdLst>
                  <a:ahLst/>
                  <a:rect l="textAreaLeft" t="textAreaTop" r="textAreaRight" b="textAreaBottom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39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7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0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998280"/>
                    <a:gd name="textAreaBottom" fmla="*/ 998640 h 998280"/>
                  </a:gdLst>
                  <a:ahLst/>
                  <a:rect l="textAreaLeft" t="textAreaTop" r="textAreaRight" b="textAreaBottom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1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1211400"/>
                    <a:gd name="textAreaBottom" fmla="*/ 1211760 h 1211400"/>
                  </a:gdLst>
                  <a:ahLst/>
                  <a:rect l="textAreaLeft" t="textAreaTop" r="textAreaRight" b="textAreaBottom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4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2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>
                      <a:gd name="textAreaLeft" fmla="*/ 0 w 300240"/>
                      <a:gd name="textAreaRight" fmla="*/ 300600 w 300240"/>
                      <a:gd name="textAreaTop" fmla="*/ 0 h 1720800"/>
                      <a:gd name="textAreaBottom" fmla="*/ 1721160 h 1720800"/>
                    </a:gdLst>
                    <a:ahLst/>
                    <a:rect l="textAreaLeft" t="textAreaTop" r="textAreaRight" b="textAreaBottom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3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>
                      <a:gd name="textAreaLeft" fmla="*/ 0 w 285840"/>
                      <a:gd name="textAreaRight" fmla="*/ 286200 w 285840"/>
                      <a:gd name="textAreaTop" fmla="*/ 0 h 1722240"/>
                      <a:gd name="textAreaBottom" fmla="*/ 1722600 h 1722240"/>
                    </a:gdLst>
                    <a:ahLst/>
                    <a:rect l="textAreaLeft" t="textAreaTop" r="textAreaRight" b="textAreaBottom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5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4720"/>
                    <a:gd name="textAreaBottom" fmla="*/ 1315080 h 1314720"/>
                  </a:gdLst>
                  <a:ahLst/>
                  <a:rect l="textAreaLeft" t="textAreaTop" r="textAreaRight" b="textAreaBottom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6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>
                    <a:gd name="textAreaLeft" fmla="*/ 0 w 223560"/>
                    <a:gd name="textAreaRight" fmla="*/ 223920 w 223560"/>
                    <a:gd name="textAreaTop" fmla="*/ 0 h 1177920"/>
                    <a:gd name="textAreaBottom" fmla="*/ 1178280 h 1177920"/>
                  </a:gdLst>
                  <a:ahLst/>
                  <a:rect l="textAreaLeft" t="textAreaTop" r="textAreaRight" b="textAreaBottom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48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49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0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1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2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3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4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5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6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7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58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59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0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1174680"/>
                    <a:gd name="textAreaBottom" fmla="*/ 1175040 h 1174680"/>
                  </a:gdLst>
                  <a:ahLst/>
                  <a:rect l="textAreaLeft" t="textAreaTop" r="textAreaRight" b="textAreaBottom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1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181160"/>
                    <a:gd name="textAreaBottom" fmla="*/ 1181520 h 1181160"/>
                  </a:gdLst>
                  <a:ahLst/>
                  <a:rect l="textAreaLeft" t="textAreaTop" r="textAreaRight" b="textAreaBottom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3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01800"/>
                  <a:gd name="textAreaBottom" fmla="*/ 901800 h 901800"/>
                </a:gdLst>
                <a:ahLst/>
                <a:rect l="textAreaLeft" t="textAreaTop" r="textAreaRight" b="textAreaBottom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7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84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69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0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1081080"/>
                    <a:gd name="textAreaBottom" fmla="*/ 1081080 h 1081080"/>
                  </a:gdLst>
                  <a:ahLst/>
                  <a:rect l="textAreaLeft" t="textAreaTop" r="textAreaRight" b="textAreaBottom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1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2736720"/>
                    <a:gd name="textAreaBottom" fmla="*/ 2736720 h 2736720"/>
                  </a:gdLst>
                  <a:ahLst/>
                  <a:rect l="textAreaLeft" t="textAreaTop" r="textAreaRight" b="textAreaBottom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2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3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58680"/>
                    <a:gd name="textAreaBottom" fmla="*/ 959040 h 958680"/>
                  </a:gdLst>
                  <a:ahLst/>
                  <a:rect l="textAreaLeft" t="textAreaTop" r="textAreaRight" b="textAreaBottom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4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>
                    <a:gd name="textAreaLeft" fmla="*/ 0 w 582480"/>
                    <a:gd name="textAreaRight" fmla="*/ 582840 w 58248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5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>
                    <a:gd name="textAreaLeft" fmla="*/ 0 w 577800"/>
                    <a:gd name="textAreaRight" fmla="*/ 578160 w 577800"/>
                    <a:gd name="textAreaTop" fmla="*/ 0 h 2411280"/>
                    <a:gd name="textAreaBottom" fmla="*/ 2411640 h 2411280"/>
                  </a:gdLst>
                  <a:ahLst/>
                  <a:rect l="textAreaLeft" t="textAreaTop" r="textAreaRight" b="textAreaBottom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6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>
                    <a:gd name="textAreaLeft" fmla="*/ 0 w 426960"/>
                    <a:gd name="textAreaRight" fmla="*/ 427320 w 426960"/>
                    <a:gd name="textAreaTop" fmla="*/ 0 h 825480"/>
                    <a:gd name="textAreaBottom" fmla="*/ 825840 h 825480"/>
                  </a:gdLst>
                  <a:ahLst/>
                  <a:rect l="textAreaLeft" t="textAreaTop" r="textAreaRight" b="textAreaBottom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77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78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589040"/>
                    <a:gd name="textAreaBottom" fmla="*/ 1589400 h 1589040"/>
                  </a:gdLst>
                  <a:ahLst/>
                  <a:rect l="textAreaLeft" t="textAreaTop" r="textAreaRight" b="textAreaBottom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79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0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1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2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>
                    <a:gd name="textAreaLeft" fmla="*/ 0 w 522360"/>
                    <a:gd name="textAreaRight" fmla="*/ 522720 w 52236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3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197000"/>
                    <a:gd name="textAreaBottom" fmla="*/ 1197360 h 1197000"/>
                  </a:gdLst>
                  <a:ahLst/>
                  <a:rect l="textAreaLeft" t="textAreaTop" r="textAreaRight" b="textAreaBottom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5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6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7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88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97040"/>
                  <a:gd name="textAreaBottom" fmla="*/ 797400 h 797040"/>
                </a:gdLst>
                <a:ahLst/>
                <a:rect l="textAreaLeft" t="textAreaTop" r="textAreaRight" b="textAreaBottom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89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633320"/>
                  <a:gd name="textAreaBottom" fmla="*/ 1633680 h 1633320"/>
                </a:gdLst>
                <a:ahLst/>
                <a:rect l="textAreaLeft" t="textAreaTop" r="textAreaRight" b="textAreaBottom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0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1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2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3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4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009440"/>
                  <a:gd name="textAreaBottom" fmla="*/ 1009440 h 1009440"/>
                </a:gdLst>
                <a:ahLst/>
                <a:rect l="textAreaLeft" t="textAreaTop" r="textAreaRight" b="textAreaBottom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5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6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7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98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99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0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1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2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3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4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5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6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7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08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09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0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D9A-FB9C-4377-83CF-FC783B88B7A4}" type="slidenum">
              <a:rPr b="0" lang="ru-RU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2e"/>
                </a:solidFill>
                <a:latin typeface="Verdana"/>
              </a:rPr>
              <a:t>Решение проектных задач</a:t>
            </a:r>
            <a:endParaRPr b="0" i="1" lang="en-US" sz="5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834920" y="5229360"/>
            <a:ext cx="6049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2e"/>
                </a:solidFill>
                <a:latin typeface="Verdana"/>
              </a:rPr>
              <a:t>учитель:</a:t>
            </a:r>
            <a:r>
              <a:rPr b="0" lang="ru-RU" sz="2400" spc="-1" strike="noStrike">
                <a:solidFill>
                  <a:srgbClr val="00002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e"/>
                </a:solidFill>
                <a:latin typeface="Verdana"/>
              </a:rPr>
              <a:t>Шахмаева Сафура Исламовна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92436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68400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Я отлично работал на уроке и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получил от него удовольствие!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-Я хорошо поработал, но в следующий раз буду еще активнее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2e"/>
                </a:solidFill>
                <a:latin typeface="Verdana"/>
              </a:rPr>
              <a:t>-Я недоволен своей работой на этом уроке, но в следующий раз я обязательно добьюсь успеха!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41" name="Улыбающееся лицо 3"/>
          <p:cNvSpPr/>
          <p:nvPr/>
        </p:nvSpPr>
        <p:spPr>
          <a:xfrm>
            <a:off x="108000" y="404640"/>
            <a:ext cx="755640" cy="7207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2" name="Улыбающееся лицо 4"/>
          <p:cNvSpPr/>
          <p:nvPr/>
        </p:nvSpPr>
        <p:spPr>
          <a:xfrm>
            <a:off x="108000" y="2205000"/>
            <a:ext cx="755640" cy="719280"/>
          </a:xfrm>
          <a:prstGeom prst="smileyFace">
            <a:avLst>
              <a:gd name="adj" fmla="val 116"/>
            </a:avLst>
          </a:prstGeom>
          <a:solidFill>
            <a:srgbClr val="ffff47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3" name="Улыбающееся лицо 5"/>
          <p:cNvSpPr/>
          <p:nvPr/>
        </p:nvSpPr>
        <p:spPr>
          <a:xfrm>
            <a:off x="179280" y="4221000"/>
            <a:ext cx="755640" cy="72072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Verdana"/>
              </a:rPr>
              <a:t>Что объединяет следующие фотографии?</a:t>
            </a:r>
            <a:endParaRPr b="0" i="1" lang="en-US" sz="4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C:\Documents and Settings\Intelx\Рабочий стол\пр.задачи КТО СТРОИТ ДОМА НА ВОДЕ\дома на воде\гнездо крачки.jpg"/>
          <p:cNvPicPr/>
          <p:nvPr/>
        </p:nvPicPr>
        <p:blipFill>
          <a:blip r:embed="rId1"/>
          <a:stretch/>
        </p:blipFill>
        <p:spPr>
          <a:xfrm>
            <a:off x="0" y="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Documents and Settings\Intelx\Рабочий стол\пр.задачи КТО СТРОИТ ДОМА НА ВОДЕ\дома на воде\гнездо лысухи.jpg"/>
          <p:cNvPicPr/>
          <p:nvPr/>
        </p:nvPicPr>
        <p:blipFill>
          <a:blip r:embed="rId2"/>
          <a:stretch/>
        </p:blipFill>
        <p:spPr>
          <a:xfrm>
            <a:off x="5945040" y="4581360"/>
            <a:ext cx="3198960" cy="2276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C:\Documents and Settings\Intelx\Рабочий стол\пр.задачи КТО СТРОИТ ДОМА НА ВОДЕ\дома на воде\гнездо чомги.jpg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241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Documents and Settings\Intelx\Рабочий стол\пр.задачи КТО СТРОИТ ДОМА НА ВОДЕ\дома на воде\дом.jpg"/>
          <p:cNvPicPr/>
          <p:nvPr/>
        </p:nvPicPr>
        <p:blipFill>
          <a:blip r:embed="rId4"/>
          <a:stretch/>
        </p:blipFill>
        <p:spPr>
          <a:xfrm>
            <a:off x="2987640" y="0"/>
            <a:ext cx="3024360" cy="244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C:\Documents and Settings\Intelx\Рабочий стол\пр.задачи КТО СТРОИТ ДОМА НА ВОДЕ\дома на воде\дом у воды.jpg"/>
          <p:cNvPicPr/>
          <p:nvPr/>
        </p:nvPicPr>
        <p:blipFill>
          <a:blip r:embed="rId5"/>
          <a:stretch/>
        </p:blipFill>
        <p:spPr>
          <a:xfrm>
            <a:off x="2916360" y="4581360"/>
            <a:ext cx="3058920" cy="227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Documents and Settings\Intelx\Рабочий стол\пр.задачи КТО СТРОИТ ДОМА НА ВОДЕ\дома на воде\лебедь.jpg"/>
          <p:cNvPicPr/>
          <p:nvPr/>
        </p:nvPicPr>
        <p:blipFill>
          <a:blip r:embed="rId6"/>
          <a:stretch/>
        </p:blipFill>
        <p:spPr>
          <a:xfrm>
            <a:off x="0" y="4581360"/>
            <a:ext cx="2940120" cy="227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C:\Documents and Settings\Intelx\Рабочий стол\пр.задачи КТО СТРОИТ ДОМА НА ВОДЕ\дома на воде\домик на воде.jpg"/>
          <p:cNvPicPr/>
          <p:nvPr/>
        </p:nvPicPr>
        <p:blipFill>
          <a:blip r:embed="rId7"/>
          <a:stretch/>
        </p:blipFill>
        <p:spPr>
          <a:xfrm>
            <a:off x="2987640" y="2205000"/>
            <a:ext cx="3048120" cy="23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Documents and Settings\Intelx\Рабочий стол\пр.задачи КТО СТРОИТ ДОМА НА ВОДЕ\дома на воде\дом ондатры.jpg"/>
          <p:cNvPicPr/>
          <p:nvPr/>
        </p:nvPicPr>
        <p:blipFill>
          <a:blip r:embed="rId8"/>
          <a:stretch/>
        </p:blipFill>
        <p:spPr>
          <a:xfrm>
            <a:off x="0" y="2205000"/>
            <a:ext cx="2987640" cy="23986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2" descr=""/>
          <p:cNvPicPr/>
          <p:nvPr/>
        </p:nvPicPr>
        <p:blipFill>
          <a:blip r:embed="rId9"/>
          <a:stretch/>
        </p:blipFill>
        <p:spPr>
          <a:xfrm>
            <a:off x="6012000" y="2205000"/>
            <a:ext cx="3132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4797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строит дома на воде?</a:t>
            </a:r>
            <a:endParaRPr b="0" lang="en-US" sz="54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Кт_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стр _т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д_м_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          н_ 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                в_д_?</a:t>
            </a:r>
            <a:endParaRPr b="0" i="1" lang="en-US" sz="4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4067280" y="18900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Тема занятия: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5640" y="0"/>
            <a:ext cx="7812000" cy="26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Есть на речках лесорубы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В серебристо-бурых шубах.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Из деревьев, веток, глины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Строят прочные плотины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328" name="Picture 6" descr="C:\Documents and Settings\Лариса\Рабочий стол\36.jpg"/>
          <p:cNvPicPr/>
          <p:nvPr/>
        </p:nvPicPr>
        <p:blipFill>
          <a:blip r:embed="rId1"/>
          <a:stretch/>
        </p:blipFill>
        <p:spPr>
          <a:xfrm>
            <a:off x="2700360" y="2738520"/>
            <a:ext cx="39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        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Дорогие ребята!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У нас на реке Татьянка посели-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лись бобры. Несколько лет назад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бобры практически исчезли из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наших лесов. Но ученые забили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тревогу и эти удивительные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животные были спасены.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Пожалуйста, помогите моей 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внучке Маше побольше узнать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Verdana"/>
              </a:rPr>
              <a:t>об этих животных.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1476360" y="1125360"/>
            <a:ext cx="66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Чтобы всё успеть,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Всё сделать правильно,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Вспомним правила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Работы в группах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Запомни и соблюдай 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простые правила:</a:t>
            </a:r>
            <a:endParaRPr b="0" i="1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419760" y="314172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2. Умей выслушать каждого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474480" y="400536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3. Не согласен – предлагай!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1056240" y="2349360"/>
            <a:ext cx="67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3366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 Black"/>
              </a:rPr>
              <a:t>Уважай своего товарища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imes New Roman"/>
                <a:ea typeface="Times New Roman"/>
              </a:rPr>
              <a:t>Используя свои знания, помочь Маше узнать о бобрах</a:t>
            </a:r>
            <a:endParaRPr b="0" i="1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55640" y="3141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ые задачи:</a:t>
            </a:r>
            <a:endParaRPr b="0" lang="en-US" sz="36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Узнать новое о бобрах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Выполнить практические задания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2e"/>
                </a:solidFill>
                <a:latin typeface="Verdana"/>
              </a:rPr>
              <a:t>Провести самооценку работы</a:t>
            </a:r>
            <a:endParaRPr b="0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2843280" y="2286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00002e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20:48:56Z</dcterms:created>
  <dc:creator>Сафура</dc:creator>
  <dc:description/>
  <cp:keywords/>
  <dc:language>en-US</dc:language>
  <cp:lastModifiedBy>Intel</cp:lastModifiedBy>
  <dcterms:modified xsi:type="dcterms:W3CDTF">2019-03-03T20:36:48Z</dcterms:modified>
  <cp:revision>19</cp:revision>
  <dc:subject/>
  <dc:title>Кто строит дома на воде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