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383-1B5A-41AA-A1EB-03843695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2CA6-EF82-4880-86F1-80B8EE7E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FC3-814C-419F-849D-1885B01B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0231-681A-4DDF-8DD8-F2A33CDE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6F6-C7FD-4288-BFC6-A678C8E5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DD40-9622-4CEA-8F73-FCC79D17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8A7-6AE8-4C6A-B923-7D9F0367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CAB-A3D2-4C29-B03B-4B102D00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00A-3632-4071-941D-06D04D6A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265-276D-4554-BA5E-EFCB0A82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1C6-C9A0-4023-ACCA-2A5BC557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A53-20ED-4540-A323-A86014A5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057A-35A2-48A0-8346-4247B0AB36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532720" y="63086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Рисунок 4" descr=""/>
          <p:cNvPicPr/>
          <p:nvPr/>
        </p:nvPicPr>
        <p:blipFill>
          <a:blip r:embed="rId1"/>
          <a:stretch/>
        </p:blipFill>
        <p:spPr>
          <a:xfrm>
            <a:off x="-28440" y="2473200"/>
            <a:ext cx="4255920" cy="42562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12" descr=""/>
          <p:cNvPicPr/>
          <p:nvPr/>
        </p:nvPicPr>
        <p:blipFill>
          <a:blip r:embed="rId2"/>
          <a:stretch/>
        </p:blipFill>
        <p:spPr>
          <a:xfrm>
            <a:off x="1908000" y="1133640"/>
            <a:ext cx="7955280" cy="8604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16" descr=""/>
          <p:cNvPicPr/>
          <p:nvPr/>
        </p:nvPicPr>
        <p:blipFill>
          <a:blip r:embed="rId3"/>
          <a:stretch/>
        </p:blipFill>
        <p:spPr>
          <a:xfrm>
            <a:off x="-212760" y="0"/>
            <a:ext cx="935028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17" descr=""/>
          <p:cNvPicPr/>
          <p:nvPr/>
        </p:nvPicPr>
        <p:blipFill>
          <a:blip r:embed="rId4"/>
          <a:stretch/>
        </p:blipFill>
        <p:spPr>
          <a:xfrm>
            <a:off x="4175280" y="4932360"/>
            <a:ext cx="4968720" cy="14079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18" descr=""/>
          <p:cNvPicPr/>
          <p:nvPr/>
        </p:nvPicPr>
        <p:blipFill>
          <a:blip r:embed="rId5"/>
          <a:stretch/>
        </p:blipFill>
        <p:spPr>
          <a:xfrm>
            <a:off x="3413160" y="1994040"/>
            <a:ext cx="4981680" cy="2577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52"/>
          <p:cNvSpPr txBox="1"/>
          <p:nvPr/>
        </p:nvSpPr>
        <p:spPr>
          <a:xfrm>
            <a:off x="3203640" y="220500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WordArt 53"/>
          <p:cNvSpPr txBox="1"/>
          <p:nvPr/>
        </p:nvSpPr>
        <p:spPr>
          <a:xfrm>
            <a:off x="4500720" y="213372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WordArt 55"/>
          <p:cNvSpPr txBox="1"/>
          <p:nvPr/>
        </p:nvSpPr>
        <p:spPr>
          <a:xfrm>
            <a:off x="4500720" y="587700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WordArt 56"/>
          <p:cNvSpPr txBox="1"/>
          <p:nvPr/>
        </p:nvSpPr>
        <p:spPr>
          <a:xfrm>
            <a:off x="4500720" y="364500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WordArt 67"/>
          <p:cNvSpPr txBox="1"/>
          <p:nvPr/>
        </p:nvSpPr>
        <p:spPr>
          <a:xfrm>
            <a:off x="4500720" y="436572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WordArt 68"/>
          <p:cNvSpPr txBox="1"/>
          <p:nvPr/>
        </p:nvSpPr>
        <p:spPr>
          <a:xfrm>
            <a:off x="4500720" y="5157720"/>
            <a:ext cx="190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WordArt 69"/>
          <p:cNvSpPr txBox="1"/>
          <p:nvPr/>
        </p:nvSpPr>
        <p:spPr>
          <a:xfrm>
            <a:off x="4500720" y="292428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WordArt 70"/>
          <p:cNvSpPr txBox="1"/>
          <p:nvPr/>
        </p:nvSpPr>
        <p:spPr>
          <a:xfrm>
            <a:off x="3276720" y="443700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WordArt 72"/>
          <p:cNvSpPr txBox="1"/>
          <p:nvPr/>
        </p:nvSpPr>
        <p:spPr>
          <a:xfrm>
            <a:off x="3276720" y="587700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WordArt 73"/>
          <p:cNvSpPr txBox="1"/>
          <p:nvPr/>
        </p:nvSpPr>
        <p:spPr>
          <a:xfrm>
            <a:off x="3276720" y="292428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WordArt 74"/>
          <p:cNvSpPr txBox="1"/>
          <p:nvPr/>
        </p:nvSpPr>
        <p:spPr>
          <a:xfrm>
            <a:off x="3276720" y="364500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Рисунок 2" descr=""/>
          <p:cNvPicPr/>
          <p:nvPr/>
        </p:nvPicPr>
        <p:blipFill>
          <a:blip r:embed="rId1"/>
          <a:stretch/>
        </p:blipFill>
        <p:spPr>
          <a:xfrm>
            <a:off x="1049400" y="2784600"/>
            <a:ext cx="7092720" cy="341460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24" descr=""/>
          <p:cNvPicPr/>
          <p:nvPr/>
        </p:nvPicPr>
        <p:blipFill>
          <a:blip r:embed="rId2"/>
          <a:stretch/>
        </p:blipFill>
        <p:spPr>
          <a:xfrm>
            <a:off x="901800" y="596880"/>
            <a:ext cx="7956360" cy="2378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395280" y="1125360"/>
            <a:ext cx="83343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чим русский язык с увлечением: Формирование орфографической грамотности 1-4 клас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ставители: Жиренко О.Е., Гайдина Л.И., Кочергина А.В.-Москва : 5 за зна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86000" y="214200"/>
            <a:ext cx="47847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8572680" y="628668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Прямоугольник 5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961400" cy="1243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ext Box 7" descr=""/>
          <p:cNvPicPr/>
          <p:nvPr/>
        </p:nvPicPr>
        <p:blipFill>
          <a:blip r:embed="rId1"/>
          <a:stretch/>
        </p:blipFill>
        <p:spPr>
          <a:xfrm>
            <a:off x="176040" y="907920"/>
            <a:ext cx="5511960" cy="4029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0"/>
          <p:cNvSpPr/>
          <p:nvPr/>
        </p:nvSpPr>
        <p:spPr>
          <a:xfrm>
            <a:off x="7740720" y="429264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8388360" y="623736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3794"/>
                </a:moveTo>
                <a:lnTo>
                  <a:pt x="19611" y="10800"/>
                </a:lnTo>
                <a:lnTo>
                  <a:pt x="5598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2"/>
          <a:stretch/>
        </p:blipFill>
        <p:spPr>
          <a:xfrm>
            <a:off x="4427640" y="2463840"/>
            <a:ext cx="4321080" cy="4017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 Box 7" descr=""/>
          <p:cNvPicPr/>
          <p:nvPr/>
        </p:nvPicPr>
        <p:blipFill>
          <a:blip r:embed="rId1"/>
          <a:stretch/>
        </p:blipFill>
        <p:spPr>
          <a:xfrm>
            <a:off x="3108240" y="901800"/>
            <a:ext cx="5992920" cy="3163680"/>
          </a:xfrm>
          <a:prstGeom prst="rect">
            <a:avLst/>
          </a:prstGeom>
          <a:ln w="0">
            <a:noFill/>
          </a:ln>
        </p:spPr>
      </p:pic>
      <p:pic>
        <p:nvPicPr>
          <p:cNvPr id="52" name="Text Box 8" descr=""/>
          <p:cNvPicPr/>
          <p:nvPr/>
        </p:nvPicPr>
        <p:blipFill>
          <a:blip r:embed="rId2"/>
          <a:stretch/>
        </p:blipFill>
        <p:spPr>
          <a:xfrm>
            <a:off x="79200" y="5821200"/>
            <a:ext cx="6675480" cy="987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0"/>
          <p:cNvSpPr/>
          <p:nvPr/>
        </p:nvSpPr>
        <p:spPr>
          <a:xfrm>
            <a:off x="7740720" y="429264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8496360" y="631044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3794"/>
                </a:moveTo>
                <a:lnTo>
                  <a:pt x="19611" y="10800"/>
                </a:lnTo>
                <a:lnTo>
                  <a:pt x="5598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3"/>
          <a:stretch/>
        </p:blipFill>
        <p:spPr>
          <a:xfrm>
            <a:off x="324000" y="549360"/>
            <a:ext cx="2862000" cy="5110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-571680" y="20574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-57456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-57312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573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842976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3794"/>
                </a:moveTo>
                <a:lnTo>
                  <a:pt x="19611" y="10800"/>
                </a:lnTo>
                <a:lnTo>
                  <a:pt x="5598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6696000" y="2057400"/>
            <a:ext cx="1982880" cy="4597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7360" y="162000"/>
            <a:ext cx="7772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d0d0d"/>
                </a:solidFill>
                <a:uFillTx/>
                <a:latin typeface="Comic Sans MS"/>
              </a:rPr>
              <a:t>Задание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890640" y="2056680"/>
            <a:ext cx="2197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жира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зая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соро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журав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бегемо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лебед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Прямая соединительная линия 4"/>
          <p:cNvSpPr/>
          <p:nvPr/>
        </p:nvSpPr>
        <p:spPr>
          <a:xfrm>
            <a:off x="2916360" y="2120760"/>
            <a:ext cx="0" cy="453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170160" y="2061360"/>
            <a:ext cx="2928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белобок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белокрыл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длинноше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толстокож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длинноног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длиннору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Прямоугольник 23"/>
          <p:cNvSpPr/>
          <p:nvPr/>
        </p:nvSpPr>
        <p:spPr>
          <a:xfrm>
            <a:off x="250920" y="1293840"/>
            <a:ext cx="96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Соедините слова, чтобы получилось словосочет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42976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3794"/>
                </a:moveTo>
                <a:lnTo>
                  <a:pt x="19611" y="10800"/>
                </a:lnTo>
                <a:lnTo>
                  <a:pt x="5598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Прямоугольник 6" descr=""/>
          <p:cNvPicPr/>
          <p:nvPr/>
        </p:nvPicPr>
        <p:blipFill>
          <a:blip r:embed="rId1"/>
          <a:stretch/>
        </p:blipFill>
        <p:spPr>
          <a:xfrm>
            <a:off x="1639800" y="-378000"/>
            <a:ext cx="8583840" cy="22003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2700360" y="1411200"/>
            <a:ext cx="65516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</a:rPr>
              <a:t>жираф длинношеий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</a:rPr>
              <a:t>заяц длинноух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</a:rPr>
              <a:t>сорока белобока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</a:rPr>
              <a:t>журавль длинноног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</a:rPr>
              <a:t>бегемот толстокож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</a:rPr>
              <a:t>лебедь белокрылы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Рисунок 8" descr=""/>
          <p:cNvPicPr/>
          <p:nvPr/>
        </p:nvPicPr>
        <p:blipFill>
          <a:blip r:embed="rId2"/>
          <a:stretch/>
        </p:blipFill>
        <p:spPr>
          <a:xfrm>
            <a:off x="179280" y="1440000"/>
            <a:ext cx="3762360" cy="513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52"/>
          <p:cNvSpPr txBox="1"/>
          <p:nvPr/>
        </p:nvSpPr>
        <p:spPr>
          <a:xfrm>
            <a:off x="3203640" y="220500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WordArt 53"/>
          <p:cNvSpPr txBox="1"/>
          <p:nvPr/>
        </p:nvSpPr>
        <p:spPr>
          <a:xfrm>
            <a:off x="4500720" y="213372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WordArt 55"/>
          <p:cNvSpPr txBox="1"/>
          <p:nvPr/>
        </p:nvSpPr>
        <p:spPr>
          <a:xfrm>
            <a:off x="4500720" y="587700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WordArt 56"/>
          <p:cNvSpPr txBox="1"/>
          <p:nvPr/>
        </p:nvSpPr>
        <p:spPr>
          <a:xfrm>
            <a:off x="4500720" y="364500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67"/>
          <p:cNvSpPr txBox="1"/>
          <p:nvPr/>
        </p:nvSpPr>
        <p:spPr>
          <a:xfrm>
            <a:off x="4500720" y="436572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WordArt 68"/>
          <p:cNvSpPr txBox="1"/>
          <p:nvPr/>
        </p:nvSpPr>
        <p:spPr>
          <a:xfrm>
            <a:off x="4500720" y="5157720"/>
            <a:ext cx="190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69"/>
          <p:cNvSpPr txBox="1"/>
          <p:nvPr/>
        </p:nvSpPr>
        <p:spPr>
          <a:xfrm>
            <a:off x="4500720" y="292428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WordArt 70"/>
          <p:cNvSpPr txBox="1"/>
          <p:nvPr/>
        </p:nvSpPr>
        <p:spPr>
          <a:xfrm>
            <a:off x="3276720" y="443700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72"/>
          <p:cNvSpPr txBox="1"/>
          <p:nvPr/>
        </p:nvSpPr>
        <p:spPr>
          <a:xfrm>
            <a:off x="3276720" y="587700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73"/>
          <p:cNvSpPr txBox="1"/>
          <p:nvPr/>
        </p:nvSpPr>
        <p:spPr>
          <a:xfrm>
            <a:off x="3276720" y="292428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74"/>
          <p:cNvSpPr txBox="1"/>
          <p:nvPr/>
        </p:nvSpPr>
        <p:spPr>
          <a:xfrm>
            <a:off x="3276720" y="364500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Управляющая кнопка: далее 19">
            <a:hlinkClick r:id="" action="ppaction://hlinkshowjump?jump=nextslide"/>
          </p:cNvPr>
          <p:cNvSpPr/>
          <p:nvPr/>
        </p:nvSpPr>
        <p:spPr>
          <a:xfrm>
            <a:off x="842976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3794"/>
                </a:moveTo>
                <a:lnTo>
                  <a:pt x="19611" y="10800"/>
                </a:lnTo>
                <a:lnTo>
                  <a:pt x="5598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Рисунок 2" descr=""/>
          <p:cNvPicPr/>
          <p:nvPr/>
        </p:nvPicPr>
        <p:blipFill>
          <a:blip r:embed="rId1"/>
          <a:stretch/>
        </p:blipFill>
        <p:spPr>
          <a:xfrm>
            <a:off x="5743440" y="1413000"/>
            <a:ext cx="3319560" cy="53020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3"/>
          <p:cNvSpPr/>
          <p:nvPr/>
        </p:nvSpPr>
        <p:spPr>
          <a:xfrm>
            <a:off x="557280" y="2717640"/>
            <a:ext cx="54388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d0d0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omic Sans MS"/>
              </a:rPr>
              <a:t>Машина для перевозки моло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d0d0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omic Sans MS"/>
              </a:rPr>
              <a:t>Любитель кни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d0d0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omic Sans MS"/>
              </a:rPr>
              <a:t>Копает земл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d0d0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omic Sans MS"/>
              </a:rPr>
              <a:t>Падают звёз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d0d0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omic Sans MS"/>
              </a:rPr>
              <a:t>Прибор для резки стек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690480" y="1592280"/>
            <a:ext cx="59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Times New Roman"/>
              </a:rPr>
              <a:t>Замени одним слово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7360" y="162000"/>
            <a:ext cx="7772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d0d0d"/>
                </a:solidFill>
                <a:uFillTx/>
                <a:latin typeface="Comic Sans MS"/>
              </a:rPr>
              <a:t>Задание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93E0-28D0-46E9-9DDA-667F3990AE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42976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3794"/>
                </a:moveTo>
                <a:lnTo>
                  <a:pt x="19611" y="10800"/>
                </a:lnTo>
                <a:lnTo>
                  <a:pt x="5598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Прямоугольник 8" descr=""/>
          <p:cNvPicPr/>
          <p:nvPr/>
        </p:nvPicPr>
        <p:blipFill>
          <a:blip r:embed="rId1"/>
          <a:stretch/>
        </p:blipFill>
        <p:spPr>
          <a:xfrm>
            <a:off x="1639800" y="-378000"/>
            <a:ext cx="6229440" cy="22003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"/>
          <p:cNvPicPr/>
          <p:nvPr/>
        </p:nvPicPr>
        <p:blipFill>
          <a:blip r:embed="rId2"/>
          <a:stretch/>
        </p:blipFill>
        <p:spPr>
          <a:xfrm>
            <a:off x="-2052720" y="47520"/>
            <a:ext cx="7918560" cy="79185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4356000" y="1844640"/>
            <a:ext cx="54388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d0d0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Comic Sans MS"/>
              </a:rPr>
              <a:t>Молоковоз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251"/>
              </a:spcBef>
              <a:buClr>
                <a:srgbClr val="0d0d0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Comic Sans MS"/>
              </a:rPr>
              <a:t>Книголюб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251"/>
              </a:spcBef>
              <a:buClr>
                <a:srgbClr val="0d0d0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Comic Sans MS"/>
              </a:rPr>
              <a:t>Землекоп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251"/>
              </a:spcBef>
              <a:buClr>
                <a:srgbClr val="0d0d0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Comic Sans MS"/>
              </a:rPr>
              <a:t>Звездопа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251"/>
              </a:spcBef>
              <a:buClr>
                <a:srgbClr val="0d0d0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Comic Sans MS"/>
              </a:rPr>
              <a:t>Стеклорез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-571680" y="20574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-57456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-57312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-573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42976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3794"/>
                </a:moveTo>
                <a:lnTo>
                  <a:pt x="19611" y="10800"/>
                </a:lnTo>
                <a:lnTo>
                  <a:pt x="5598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Рисунок 2" descr=""/>
          <p:cNvPicPr/>
          <p:nvPr/>
        </p:nvPicPr>
        <p:blipFill>
          <a:blip r:embed="rId1"/>
          <a:stretch/>
        </p:blipFill>
        <p:spPr>
          <a:xfrm>
            <a:off x="5943600" y="1635120"/>
            <a:ext cx="3200400" cy="50799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3"/>
          <p:cNvSpPr/>
          <p:nvPr/>
        </p:nvSpPr>
        <p:spPr>
          <a:xfrm>
            <a:off x="657360" y="1411200"/>
            <a:ext cx="59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Times New Roman"/>
              </a:rPr>
              <a:t>Во что превратился маг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333360" y="3448080"/>
            <a:ext cx="59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Times New Roman"/>
              </a:rPr>
              <a:t>униве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Прямоугольник 15"/>
          <p:cNvSpPr/>
          <p:nvPr/>
        </p:nvSpPr>
        <p:spPr>
          <a:xfrm>
            <a:off x="4205160" y="3362400"/>
            <a:ext cx="17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Times New Roman"/>
              </a:rPr>
              <a:t>нол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Прямоугольник 16"/>
          <p:cNvSpPr/>
          <p:nvPr/>
        </p:nvSpPr>
        <p:spPr>
          <a:xfrm>
            <a:off x="4224240" y="2881440"/>
            <a:ext cx="135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Times New Roman"/>
              </a:rPr>
              <a:t>ази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4222800" y="23623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Times New Roman"/>
              </a:rPr>
              <a:t>ни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4156200" y="3992400"/>
            <a:ext cx="2363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d0d0d"/>
                </a:solidFill>
                <a:latin typeface="Times New Roman"/>
              </a:rPr>
              <a:t>нитофон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Прямоугольник 19" descr=""/>
          <p:cNvPicPr/>
          <p:nvPr/>
        </p:nvPicPr>
        <p:blipFill>
          <a:blip r:embed="rId2"/>
          <a:stretch/>
        </p:blipFill>
        <p:spPr>
          <a:xfrm>
            <a:off x="1987560" y="3224160"/>
            <a:ext cx="1865160" cy="12924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21"/>
          <p:cNvSpPr/>
          <p:nvPr/>
        </p:nvSpPr>
        <p:spPr>
          <a:xfrm>
            <a:off x="2684520" y="45277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Прямоугольник 23"/>
          <p:cNvSpPr/>
          <p:nvPr/>
        </p:nvSpPr>
        <p:spPr>
          <a:xfrm>
            <a:off x="2593800" y="22636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Times New Roman"/>
              </a:rPr>
              <a:t>б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Прямая со стрелкой 20" descr=""/>
          <p:cNvPicPr/>
          <p:nvPr/>
        </p:nvPicPr>
        <p:blipFill>
          <a:blip r:embed="rId3"/>
          <a:stretch/>
        </p:blipFill>
        <p:spPr>
          <a:xfrm>
            <a:off x="1798560" y="3560760"/>
            <a:ext cx="451080" cy="15732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ая со стрелкой 34" descr=""/>
          <p:cNvPicPr/>
          <p:nvPr/>
        </p:nvPicPr>
        <p:blipFill>
          <a:blip r:embed="rId4"/>
          <a:stretch/>
        </p:blipFill>
        <p:spPr>
          <a:xfrm>
            <a:off x="2766960" y="4133880"/>
            <a:ext cx="158760" cy="56052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ая со стрелкой 36" descr=""/>
          <p:cNvPicPr/>
          <p:nvPr/>
        </p:nvPicPr>
        <p:blipFill>
          <a:blip r:embed="rId5"/>
          <a:stretch/>
        </p:blipFill>
        <p:spPr>
          <a:xfrm>
            <a:off x="2786040" y="2925720"/>
            <a:ext cx="158760" cy="56052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ая со стрелкой 38" descr=""/>
          <p:cNvPicPr/>
          <p:nvPr/>
        </p:nvPicPr>
        <p:blipFill>
          <a:blip r:embed="rId6"/>
          <a:stretch/>
        </p:blipFill>
        <p:spPr>
          <a:xfrm>
            <a:off x="3736800" y="3524400"/>
            <a:ext cx="549360" cy="15696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ая со стрелкой 39" descr=""/>
          <p:cNvPicPr/>
          <p:nvPr/>
        </p:nvPicPr>
        <p:blipFill>
          <a:blip r:embed="rId7"/>
          <a:stretch/>
        </p:blipFill>
        <p:spPr>
          <a:xfrm>
            <a:off x="3743280" y="3981600"/>
            <a:ext cx="493920" cy="40140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ая со стрелкой 41" descr=""/>
          <p:cNvPicPr/>
          <p:nvPr/>
        </p:nvPicPr>
        <p:blipFill>
          <a:blip r:embed="rId8"/>
          <a:stretch/>
        </p:blipFill>
        <p:spPr>
          <a:xfrm>
            <a:off x="3754440" y="3133800"/>
            <a:ext cx="519120" cy="41436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ая со стрелкой 43" descr=""/>
          <p:cNvPicPr/>
          <p:nvPr/>
        </p:nvPicPr>
        <p:blipFill>
          <a:blip r:embed="rId9"/>
          <a:stretch/>
        </p:blipFill>
        <p:spPr>
          <a:xfrm>
            <a:off x="3724200" y="2603520"/>
            <a:ext cx="579600" cy="68904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ая со стрелкой 48" descr=""/>
          <p:cNvPicPr/>
          <p:nvPr/>
        </p:nvPicPr>
        <p:blipFill>
          <a:blip r:embed="rId10"/>
          <a:stretch/>
        </p:blipFill>
        <p:spPr>
          <a:xfrm>
            <a:off x="3743280" y="4290840"/>
            <a:ext cx="560520" cy="6415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0"/>
          <p:cNvSpPr/>
          <p:nvPr/>
        </p:nvSpPr>
        <p:spPr>
          <a:xfrm>
            <a:off x="4156200" y="4653000"/>
            <a:ext cx="17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Times New Roman"/>
              </a:rPr>
              <a:t>истра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57360" y="16524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d0d0d"/>
                </a:solidFill>
                <a:uFillTx/>
                <a:latin typeface="Comic Sans MS"/>
              </a:rPr>
              <a:t>Задание 2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Управляющая кнопка: далее 26">
            <a:hlinkClick r:id="" action="ppaction://hlinkshowjump?jump=nextslide"/>
          </p:cNvPr>
          <p:cNvSpPr/>
          <p:nvPr/>
        </p:nvSpPr>
        <p:spPr>
          <a:xfrm>
            <a:off x="8532720" y="63086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Прямоугольник 7" descr=""/>
          <p:cNvPicPr/>
          <p:nvPr/>
        </p:nvPicPr>
        <p:blipFill>
          <a:blip r:embed="rId1"/>
          <a:stretch/>
        </p:blipFill>
        <p:spPr>
          <a:xfrm>
            <a:off x="1639800" y="-378000"/>
            <a:ext cx="6229440" cy="2200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490920" cy="475452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9"/>
          <p:cNvSpPr/>
          <p:nvPr/>
        </p:nvSpPr>
        <p:spPr>
          <a:xfrm>
            <a:off x="3995640" y="1628640"/>
            <a:ext cx="4537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1749"/>
              </a:spcBef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Универма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spcBef>
                <a:spcPts val="1749"/>
              </a:spcBef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Бумаг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spcBef>
                <a:spcPts val="1749"/>
              </a:spcBef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Магни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spcBef>
                <a:spcPts val="1749"/>
              </a:spcBef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Магази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spcBef>
                <a:spcPts val="1749"/>
              </a:spcBef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Магнол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spcBef>
                <a:spcPts val="1749"/>
              </a:spcBef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Магнитоф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spcBef>
                <a:spcPts val="1749"/>
              </a:spcBef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Магистрал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0:09:37Z</dcterms:created>
  <dc:creator>Обернихина Г.А., Сологуб В.А.,Симонова М.Н.</dc:creator>
  <dc:description/>
  <dc:language>en-US</dc:language>
  <cp:lastModifiedBy>RePack by Diakov</cp:lastModifiedBy>
  <dcterms:modified xsi:type="dcterms:W3CDTF">2019-03-03T18:55:29Z</dcterms:modified>
  <cp:revision>288</cp:revision>
  <dc:subject>Элективные курсы (русский язык и литература)</dc:subject>
  <dc:title>Элективные курсы</dc:title>
</cp:coreProperties>
</file>