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209240" y="694800"/>
            <a:ext cx="443556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2975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dt" idx="12"/>
          </p:nvPr>
        </p:nvSpPr>
        <p:spPr>
          <a:xfrm>
            <a:off x="3881520" y="0"/>
            <a:ext cx="2975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ftr" idx="13"/>
          </p:nvPr>
        </p:nvSpPr>
        <p:spPr>
          <a:xfrm>
            <a:off x="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 type="sldNum" idx="14"/>
          </p:nvPr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F98345-0E48-4930-83EF-1DC844E6504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WenQuanYi Micro Hei"/>
            </a:endParaRPr>
          </a:p>
        </p:txBody>
      </p:sp>
      <p:sp>
        <p:nvSpPr>
          <p:cNvPr id="271" name="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</a:pPr>
            <a:fld id="{477EDFF3-DB36-442A-B5CE-F0E067B0A060}" type="slidenum">
              <a:rPr b="0" lang="ru-RU" sz="18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WenQuanYi Micro Hei"/>
            </a:endParaRPr>
          </a:p>
        </p:txBody>
      </p:sp>
      <p:sp>
        <p:nvSpPr>
          <p:cNvPr id="265" name="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</a:pPr>
            <a:fld id="{2E5A7FC5-FF19-4645-A378-FC0BBDDD5D07}" type="slidenum">
              <a:rPr b="0" lang="ru-RU" sz="18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WenQuanYi Micro Hei"/>
            </a:endParaRPr>
          </a:p>
        </p:txBody>
      </p:sp>
      <p:sp>
        <p:nvSpPr>
          <p:cNvPr id="268" name="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</a:pPr>
            <a:fld id="{A696999B-8377-4EB5-B0D8-C0012C1C2E6D}" type="slidenum">
              <a:rPr b="0" lang="ru-RU" sz="18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4103D-2B2A-4C6D-8DF6-9F581C3F02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8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8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F98D3-4B23-4C8A-B7CD-73BDEC0A1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452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68208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3FA26-34F3-4AC1-BE00-25BFE8DA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4520"/>
            <a:ext cx="264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4520"/>
            <a:ext cx="264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682080"/>
            <a:ext cx="264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682080"/>
            <a:ext cx="264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BC280-25D3-4F5D-90D7-57902B433C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7743EA-1C6E-4DF2-ADED-020153D5B9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816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9EAF38-8E7E-4AB4-B463-37CE74D33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816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1B7FD8-4A86-4503-B34B-729730659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08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520" y="1604520"/>
            <a:ext cx="401508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4CAAD8-E293-4C41-B178-D0EA371E7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F07881-DFE6-4CD0-AE4B-B95F34962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41B364-0EC9-47B9-B841-AB922F1C5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4520"/>
            <a:ext cx="401508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F0EAEF-2E61-449C-8D48-1647C31B3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816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D4F1D-674C-4194-97BC-3F230D804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08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60452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3520" y="368208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1F1E8F-37BC-4976-8674-CE4A0AA7C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520" y="160452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8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0C03A8-E067-4CCD-8435-FE6E9312E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8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8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5226D6-3951-4BB0-81C1-94A76E641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520" y="160452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3520" y="368208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E4F7FA-8FCA-4E6C-B521-BFF9FB66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280" y="1604520"/>
            <a:ext cx="264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1360" y="1604520"/>
            <a:ext cx="264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280" y="3682080"/>
            <a:ext cx="264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1360" y="3682080"/>
            <a:ext cx="264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8628A3-ADA6-4C6B-B114-9C67B0208D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7EBAB-75AB-4635-96F7-2F6CBEACFF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816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F5A0F-0D07-43D1-8796-14CAC3A37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816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EC22C-C4FA-444A-96B8-DEA85DDD2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08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3520" y="1604520"/>
            <a:ext cx="401508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C4C53-8F8C-425E-A56E-CD2BA1502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DE2AA-CE38-4D63-81A1-159F7E76F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816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63C8F-89D7-44E8-9E6A-ACCE33397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5C17D-FB24-443F-A286-361A3B5DA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3520" y="1604520"/>
            <a:ext cx="401508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027E0-C6E0-4FFC-ADFE-6BFD062E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08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3520" y="160452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3520" y="368208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32D39-FFC8-4E1C-9476-4ACEB305D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3520" y="160452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8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19CB3-7C86-4320-891F-B395346BF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8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8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17B32-C9D9-40A8-9368-68B636B03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3520" y="160452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3520" y="368208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8CCE1-1EBE-4620-BA62-46EDFF6F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280" y="1604520"/>
            <a:ext cx="264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1360" y="1604520"/>
            <a:ext cx="264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280" y="3682080"/>
            <a:ext cx="264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1360" y="3682080"/>
            <a:ext cx="264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71240-057F-45E0-A190-00C0F11128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15738A-7F82-4A0E-BBAC-29388C759A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816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FC66E1-759F-4FB2-BABD-5F3A59BFD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816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A77268-7EF8-45CA-BF40-432E48ADF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08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4520"/>
            <a:ext cx="401508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34725-9C49-45C5-9E62-EEC3381F3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08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3520" y="1604520"/>
            <a:ext cx="401508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095356-B361-4CF5-946B-124A8ADF1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4DB7CB-627C-4011-BDC3-D17545006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B8CC82-3B96-41A3-8979-2BF908C61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3520" y="1604520"/>
            <a:ext cx="401508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6C9C32-B6B3-4F86-AA39-CA3EA83D4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08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520" y="160452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3520" y="368208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11B9C1-8F5D-46DB-9D9D-63802CB29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520" y="160452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8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5CF02B-343C-4768-A361-E3E8C8AA7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8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8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7D1DBA-A786-416C-A68F-5D4BF93FB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520" y="160452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3520" y="368208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C6F54E-7F6E-493F-8FE9-5FA46711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280" y="1604520"/>
            <a:ext cx="264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1360" y="1604520"/>
            <a:ext cx="264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280" y="3682080"/>
            <a:ext cx="264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1360" y="3682080"/>
            <a:ext cx="264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569104-CF55-467F-8743-EF8FAC7805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B20562-4F04-46BF-BE95-DD113D7D7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85F37-7B75-441A-9565-06FACDA7E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816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E3DF1A-D118-4DE2-945E-1B4237F66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816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C4E432-849A-43AC-BE3A-120E4CB7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08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3520" y="1604520"/>
            <a:ext cx="401508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31B19E-C372-4F52-83AE-2C7633D29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C94F0F-6E5E-4F70-9399-48B0AC7E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50D0A8-0709-4716-B4DC-E710C2DF3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3520" y="1604520"/>
            <a:ext cx="401508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9EC0B5-F65A-46E0-9F73-4053A17F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08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520" y="160452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3520" y="368208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CFB249-24C3-4DEF-B6A8-A51B35FB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520" y="160452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8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AC3C07-C7F0-496E-BC02-14D0B0CD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8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8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F63A33-57C4-45AB-8FCC-616573C61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520" y="160452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3520" y="368208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371F78-B309-41D3-982D-F40169DCC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E02D7-B8AD-479F-8CBF-DAB28A6D1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280" y="1604520"/>
            <a:ext cx="264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1360" y="1604520"/>
            <a:ext cx="264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280" y="3682080"/>
            <a:ext cx="264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1360" y="3682080"/>
            <a:ext cx="264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DE2C08-1365-4AC6-93B0-C359E3A5B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520"/>
            <a:ext cx="401508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53A61-F099-42EA-A496-E41F31A56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08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52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68208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696CC-A49A-4B11-B0AA-C9CD24D30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452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8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F2568-BD2C-48CF-AEEA-7828226B1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1a1a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V="1">
            <a:off x="2666880" y="-6480"/>
            <a:ext cx="1800" cy="687096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367080" y="533520"/>
            <a:ext cx="5099040" cy="2860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5870160" y="6558120"/>
            <a:ext cx="199548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4.11.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819520" y="6558120"/>
            <a:ext cx="2927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7880400" y="6555960"/>
            <a:ext cx="58104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E6E1F3-49AC-4746-B043-2C91F5370F27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6840" y="1604520"/>
            <a:ext cx="804060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e6f1"/>
            </a:gs>
            <a:gs pos="100000">
              <a:srgbClr val="9c909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89200" y="1142640"/>
            <a:ext cx="3422520" cy="2050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389200" y="3282840"/>
            <a:ext cx="3422520" cy="1505448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-11798280" y="-11798280"/>
            <a:ext cx="11793600" cy="117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  <a:defRPr b="0" lang="ru-RU" sz="1800" spc="-1" strike="noStrike">
                <a:solidFill>
                  <a:srgbClr val="000000"/>
                </a:solidFill>
                <a:latin typeface="Trebuchet MS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DejaVu Sans"/>
              </a:rPr>
              <a:t>24.11.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-11798280" y="-11798280"/>
            <a:ext cx="11793600" cy="117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  <a:defRPr b="0" lang="ru-RU" sz="1800" spc="-1" strike="noStrike">
                <a:solidFill>
                  <a:srgbClr val="000000"/>
                </a:solidFill>
                <a:latin typeface="Trebuchet MS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ADE2676B-CF6B-425C-A5B9-D15CC36FC678}" type="slidenum">
              <a:rPr b="0" lang="ru-RU" sz="1800" spc="-1" strike="noStrike">
                <a:solidFill>
                  <a:srgbClr val="000000"/>
                </a:solidFill>
                <a:latin typeface="Trebuchet MS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3480" y="1041480"/>
            <a:ext cx="4205520" cy="4205160"/>
          </a:xfrm>
          <a:prstGeom prst="rect">
            <a:avLst/>
          </a:prstGeom>
          <a:solidFill>
            <a:srgbClr val="b4aaaf"/>
          </a:solidFill>
          <a:ln w="108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26960" indent="-3222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Для правки структуры щелкните мыш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32076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  <a:ea typeface="WenQuanYi Micro Hei"/>
              </a:rPr>
              <a:t>Второй уровень стру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8260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  <a:ea typeface="WenQuanYi Micro Hei"/>
              </a:rPr>
              <a:t>Третий уровень стру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2600" indent="-21132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  <a:ea typeface="WenQuanYi Micro Hei"/>
              </a:rPr>
              <a:t>Четвёртый уровень стру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1276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  <a:ea typeface="WenQuanYi Micro Hei"/>
              </a:rPr>
              <a:t>Пятый уровень стру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1276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  <a:ea typeface="WenQuanYi Micro Hei"/>
              </a:rPr>
              <a:t>Шестой уровень стру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100000"/>
              </a:lnSpc>
              <a:tabLst>
                <a:tab algn="l" pos="0"/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Седьмой уровень структурыВставка рису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20400"/>
            <a:ext cx="7232760" cy="1136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6840" y="1609560"/>
            <a:ext cx="7232760" cy="48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5"/>
          </p:nvPr>
        </p:nvSpPr>
        <p:spPr>
          <a:xfrm>
            <a:off x="-11798280" y="-11798280"/>
            <a:ext cx="11793600" cy="117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  <a:defRPr b="0" lang="ru-RU" sz="1800" spc="-1" strike="noStrike">
                <a:solidFill>
                  <a:srgbClr val="000000"/>
                </a:solidFill>
                <a:latin typeface="Trebuchet MS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DejaVu Sans"/>
              </a:rPr>
              <a:t>24.11.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-11798280" y="-11798280"/>
            <a:ext cx="11793600" cy="117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  <a:defRPr b="0" lang="ru-RU" sz="1800" spc="-1" strike="noStrike">
                <a:solidFill>
                  <a:srgbClr val="000000"/>
                </a:solidFill>
                <a:latin typeface="Trebuchet MS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4F62190B-3D63-4746-9FC3-370939D2EF3E}" type="slidenum">
              <a:rPr b="0" lang="ru-RU" sz="1800" spc="-1" strike="noStrike">
                <a:solidFill>
                  <a:srgbClr val="000000"/>
                </a:solidFill>
                <a:latin typeface="Trebuchet MS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dt" idx="7"/>
          </p:nvPr>
        </p:nvSpPr>
        <p:spPr>
          <a:xfrm>
            <a:off x="-11798280" y="-11798280"/>
            <a:ext cx="11793600" cy="117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  <a:defRPr b="0" lang="ru-RU" sz="1800" spc="-1" strike="noStrike">
                <a:solidFill>
                  <a:srgbClr val="b13f9a"/>
                </a:solidFill>
                <a:latin typeface="Trebuchet MS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0" lang="ru-RU" sz="1800" spc="-1" strike="noStrike">
                <a:solidFill>
                  <a:srgbClr val="b13f9a"/>
                </a:solidFill>
                <a:latin typeface="Trebuchet MS"/>
                <a:ea typeface="DejaVu Sans"/>
              </a:rPr>
              <a:t>24.11.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ldNum" idx="8"/>
          </p:nvPr>
        </p:nvSpPr>
        <p:spPr>
          <a:xfrm>
            <a:off x="-11798280" y="-11798280"/>
            <a:ext cx="11793600" cy="117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  <a:defRPr b="0" lang="ru-RU" sz="1800" spc="-1" strike="noStrike">
                <a:solidFill>
                  <a:srgbClr val="000000"/>
                </a:solidFill>
                <a:latin typeface="Trebuchet MS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E169B2FE-6D95-4334-B101-C736F87120AF}" type="slidenum">
              <a:rPr b="0" lang="ru-RU" sz="1800" spc="-1" strike="noStrike">
                <a:solidFill>
                  <a:srgbClr val="000000"/>
                </a:solidFill>
                <a:latin typeface="Trebuchet MS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456840" y="1604520"/>
            <a:ext cx="804060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816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9"/>
          </p:nvPr>
        </p:nvSpPr>
        <p:spPr>
          <a:xfrm>
            <a:off x="45684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0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1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CC2DB42-6E51-4F24-AA0F-0C9E970EC5B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367080" y="533520"/>
            <a:ext cx="5105520" cy="286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Научно-</a:t>
            </a: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исследовательская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работа</a:t>
            </a:r>
            <a:br>
              <a:rPr sz="4000"/>
            </a:br>
            <a:endParaRPr b="1" lang="en-US" sz="4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3421080" y="3043080"/>
            <a:ext cx="5146560" cy="329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dc2300"/>
                </a:solidFill>
                <a:latin typeface="Times New Roman"/>
              </a:rPr>
              <a:t>«Авторские </a:t>
            </a:r>
            <a:r>
              <a:rPr b="1" lang="ru-RU" sz="3600" spc="-1" strike="noStrike" u="sng">
                <a:solidFill>
                  <a:srgbClr val="dc2300"/>
                </a:solidFill>
                <a:uFillTx/>
                <a:latin typeface="Times New Roman"/>
              </a:rPr>
              <a:t>неологизмы</a:t>
            </a:r>
            <a:r>
              <a:rPr b="1" lang="ru-RU" sz="3600" spc="-1" strike="noStrike">
                <a:solidFill>
                  <a:srgbClr val="dc2300"/>
                </a:solidFill>
                <a:latin typeface="Times New Roman"/>
              </a:rPr>
              <a:t> и окказионализмы в фантастике и литературе жанра  фэнтез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1000080"/>
            <a:ext cx="26431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dobe Song Std L"/>
                <a:ea typeface="Adobe Song Std L"/>
              </a:rPr>
              <a:t>Выполнил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428920"/>
            <a:ext cx="26431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dobe Song Std L"/>
                <a:ea typeface="Adobe Song Std L"/>
              </a:rPr>
              <a:t>Ученица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dobe Song Std L"/>
                <a:ea typeface="Adobe Song Std L"/>
              </a:rPr>
              <a:t>9 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dobe Song Std L"/>
                <a:ea typeface="Adobe Song Std L"/>
              </a:rPr>
              <a:t>класс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786200"/>
            <a:ext cx="264312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dobe Song Std L"/>
                <a:ea typeface="Adobe Song Std 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0"/>
            <a:ext cx="8143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dobe Song Std L"/>
                <a:ea typeface="Adobe Song Std L"/>
              </a:rPr>
              <a:t>Прием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dobe Song Std L"/>
                <a:ea typeface="Adobe Song Std L"/>
              </a:rPr>
              <a:t>историзмов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dobe Song Std L"/>
                <a:ea typeface="Adobe Song Std L"/>
              </a:rPr>
              <a:t>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dobe Song Std L"/>
                <a:ea typeface="Adobe Song Std L"/>
              </a:rPr>
              <a:t>архаиз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0" y="1571760"/>
            <a:ext cx="8153280" cy="52927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071960" y="0"/>
            <a:ext cx="4000320" cy="16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dobe Song Std L"/>
                <a:ea typeface="Adobe Song Std L"/>
              </a:rPr>
              <a:t>Мария Семен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dobe Song Std L"/>
                <a:ea typeface="Adobe Song Std L"/>
              </a:rPr>
              <a:t>«Волкодав  из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dobe Song Std L"/>
                <a:ea typeface="Adobe Song Std L"/>
              </a:rPr>
              <a:t>ро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dobe Song Std L"/>
                <a:ea typeface="Adobe Song Std L"/>
              </a:rPr>
              <a:t>Серых Пс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0" y="2286000"/>
            <a:ext cx="8153280" cy="45766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0" y="0"/>
            <a:ext cx="814392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dobe Fangsong Std R"/>
                <a:ea typeface="Adobe Fangsong Std R"/>
              </a:rPr>
              <a:t>Использование   неологизмов</a:t>
            </a:r>
            <a:br>
              <a:rPr sz="2400"/>
            </a:br>
            <a:r>
              <a:rPr b="0" lang="ru-RU" sz="1100" spc="-1" strike="noStrike">
                <a:solidFill>
                  <a:srgbClr val="000000"/>
                </a:solidFill>
                <a:latin typeface="Adobe Fangsong Std R"/>
                <a:ea typeface="Adobe Fangsong Std R"/>
              </a:rPr>
              <a:t>(Новое слово или выражение, а также новое значение старого слова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714240"/>
            <a:ext cx="8143920" cy="19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dventure"/>
              </a:rPr>
              <a:t>К примеру, слово «робот», ставшее сейчас обычным, впервые было употреблено Карелом Чапеком и его братом Йозефом в пьесе Чапека «Р. У. Р.» («Россумские универсальные роботы», 192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367080" y="533520"/>
            <a:ext cx="5348160" cy="286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5d194f"/>
                </a:solidFill>
                <a:latin typeface="Trebuchet MS"/>
              </a:rPr>
              <a:t>окказионализмы</a:t>
            </a:r>
            <a:endParaRPr b="1" lang="en-US" sz="4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3354120" y="3540240"/>
            <a:ext cx="5360760" cy="4024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dc2300"/>
                </a:solidFill>
                <a:latin typeface="Adventure"/>
              </a:rPr>
              <a:t>(лат. occasionalis 'случайный') – слова, образуемые «по случаю», в конкретных условиях речевой коммуникации и, как правило, противоречащие языковой норме, отклоняющиеся от привычных способов образования слов в данном</a:t>
            </a:r>
            <a:r>
              <a:rPr b="0" lang="ru-RU" sz="2400" spc="-1" strike="noStrike">
                <a:solidFill>
                  <a:srgbClr val="dc2300"/>
                </a:solidFill>
                <a:latin typeface="Adventure"/>
              </a:rPr>
              <a:t> язы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785880"/>
            <a:ext cx="8215200" cy="16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23720" indent="-31896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dobe Fangsong Std R"/>
                <a:ea typeface="Adobe Fangsong Std R"/>
              </a:rPr>
              <a:t>Лексические  окказионализ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 algn="ctr">
              <a:lnSpc>
                <a:spcPct val="100000"/>
              </a:lnSpc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dventure"/>
                <a:ea typeface="Adobe Fangsong Std R"/>
              </a:rPr>
              <a:t>полностью новое слово со своим , характерным только для него знач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 algn="ctr">
              <a:lnSpc>
                <a:spcPct val="100000"/>
              </a:lnSpc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dobe Fangsong Std R"/>
                <a:ea typeface="Adobe Fangsong Std R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dobe Fangsong Std R"/>
                <a:ea typeface="Adobe Fangsong Std R"/>
              </a:rPr>
              <a:t>Пример:  роб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100000"/>
              </a:lnSpc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0"/>
            <a:ext cx="82152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dobe Fangsong Std R"/>
                <a:ea typeface="Adobe Fangsong Std R"/>
              </a:rPr>
              <a:t>КЛАССИФИК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2214720"/>
            <a:ext cx="8143920" cy="20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23720" indent="-318960" algn="ctr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dobe Fangsong Std R"/>
                <a:ea typeface="Adobe Fangsong Std R"/>
              </a:rPr>
              <a:t>Семантические  окказионализ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 algn="ct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dventure"/>
                <a:ea typeface="WenQuanYi Micro Hei"/>
              </a:rPr>
              <a:t>уже существовавшее слово, получившее новое лексическое знач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 algn="ctr">
              <a:lnSpc>
                <a:spcPct val="100000"/>
              </a:lnSpc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dobe Fangsong Std R"/>
                <a:ea typeface="Adobe Fangsong Std R"/>
              </a:rPr>
              <a:t>Пример: галоша(космический  корабль у С. Лем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100000"/>
              </a:lnSpc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4032360"/>
            <a:ext cx="8143920" cy="32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23720" indent="-318960" algn="ctr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dobe Fangsong Std R"/>
                <a:ea typeface="Adobe Fangsong Std R"/>
              </a:rPr>
              <a:t>Авторские окказионализ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 algn="ct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dventure"/>
                <a:ea typeface="Adobe Fangsong Std R"/>
              </a:rPr>
              <a:t>слово, придуманное лично автором, которое раньше нигде не использовалось и не имело никакого зна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dobe Fangsong Std R"/>
                <a:ea typeface="Adobe Fangsong Std R"/>
              </a:rPr>
              <a:t>Пример: головотяпство - небрежное и бестолковое ведение де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dobe Fangsong Std R"/>
                <a:ea typeface="Adobe Fangsong Std R"/>
              </a:rPr>
              <a:t>(Салтыков- Щедрин М. Е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100000"/>
              </a:lnSpc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Структурная классификация НФ окказионализмов:</a:t>
            </a: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4720" cy="39783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нетические окказионализмы – слова, представляющие собой не зарегистрированные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языке сочетания фонем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520" y="1604520"/>
            <a:ext cx="4014720" cy="397836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сарак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гательство или слово-параз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«Обитаемый остров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36720" y="29520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Структурная классификация НФ окказионализмов:</a:t>
            </a: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47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 fontScale="98000"/>
          </a:bodyPr>
          <a:p>
            <a:pPr marL="3358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фологические окказионализмы – необычные сочетания морфем:  к знакомому корню добавлен новый неожиданный  суффикс по аналогии с имеющимися в языке словами  или наоборот—к новому корню типичный суффикс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3520" y="1604520"/>
            <a:ext cx="4014720" cy="39783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287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Arial Unicode MS"/>
              </a:rPr>
              <a:t>МОКРЕЦ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287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Arial Unicode MS"/>
              </a:rPr>
              <a:t>ВЕРТЯЧКА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287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Arial Unicode MS"/>
              </a:rPr>
              <a:t>ПОГОДНИК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287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Arial Unicode MS"/>
              </a:rPr>
              <a:t>АЛАЕЦ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287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Arial Unicode MS"/>
              </a:rPr>
              <a:t>ХОНТИЙСКИЙ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287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Arial Unicode MS"/>
              </a:rPr>
              <a:t>ТИГРОКРЫС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Структурная классификация НФ окказионализмов:</a:t>
            </a: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4720" cy="39783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аксические окказионализмы – необычные сочетания слов, имеющие целостное лексическое значение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520" y="1604520"/>
            <a:ext cx="4014720" cy="39783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287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Arial Unicode MS"/>
              </a:rPr>
              <a:t>МИНИСТЕРСТВО ОХРАНЫ КОРОНЫ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287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Arial Unicode MS"/>
              </a:rPr>
              <a:t>ЖГУЧИЙ ПУХ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66760" y="450720"/>
            <a:ext cx="8229600" cy="53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dc2300"/>
                </a:solidFill>
                <a:latin typeface="Times New Roman"/>
                <a:ea typeface="Times New Roman"/>
              </a:rPr>
              <a:t>Исследование подтвердило </a:t>
            </a:r>
            <a:r>
              <a:rPr b="0" lang="ru-RU" sz="2800" spc="-1" strike="noStrike" u="sng">
                <a:solidFill>
                  <a:srgbClr val="dc2300"/>
                </a:solidFill>
                <a:uFillTx/>
                <a:latin typeface="Times New Roman"/>
                <a:ea typeface="Times New Roman"/>
              </a:rPr>
              <a:t>гипотезу</a:t>
            </a:r>
            <a:r>
              <a:rPr b="0" lang="ru-RU" sz="2800" spc="-1" strike="noStrike">
                <a:solidFill>
                  <a:srgbClr val="dc2300"/>
                </a:solidFill>
                <a:latin typeface="Times New Roman"/>
                <a:ea typeface="Times New Roman"/>
              </a:rPr>
              <a:t>, выдвинутую в работ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dc2300"/>
                </a:solidFill>
                <a:latin typeface="Times New Roman"/>
                <a:ea typeface="Times New Roman"/>
              </a:rPr>
              <a:t>·   авторские неологизмы и окказионализмы являются одним из главных приемов, с помощью которого создается фантастическое произвед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dc2300"/>
                </a:solidFill>
                <a:latin typeface="Times New Roman"/>
                <a:ea typeface="Times New Roman"/>
              </a:rPr>
              <a:t>·   они придают уникальности и самобытности, созданному писателем мир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dc2300"/>
                </a:solidFill>
                <a:latin typeface="Times New Roman"/>
                <a:ea typeface="Times New Roman"/>
              </a:rPr>
              <a:t>·   некоторые авторские неологизмы и окказионализмы служат для придания юмористического эфф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272880"/>
            <a:ext cx="822960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  <a:ea typeface="Arial Unicode MS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5429160" y="3929040"/>
            <a:ext cx="3429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48103c"/>
                </a:solidFill>
                <a:latin typeface="Times New Roman"/>
              </a:rPr>
              <a:t>Фэнтези – это удивительные,  увлекательные книги, переносящие читателя в мир мечты, волшебства и необыкновенных приключений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89560" y="3282840"/>
            <a:ext cx="3429000" cy="19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63480" y="1041480"/>
            <a:ext cx="4205520" cy="42051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Вставка рису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елью моей работы является исследование роли окказионализмов в  литературе.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" y="1609560"/>
            <a:ext cx="723888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2880" indent="-26820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772754"/>
                </a:solidFill>
                <a:latin typeface="Adobe Song Std L"/>
                <a:ea typeface="Adobe Song Std L"/>
              </a:rPr>
              <a:t>Задач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682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772754"/>
                </a:solidFill>
                <a:latin typeface="Adventure"/>
                <a:ea typeface="Adobe Song Std L"/>
              </a:rPr>
              <a:t>Изучить теоретический материал о видах художественных приемов в фантастической литературе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682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772754"/>
                </a:solidFill>
                <a:latin typeface="Adventure"/>
                <a:ea typeface="Adobe Song Std L"/>
              </a:rPr>
              <a:t>Изучить теоретический материал об окказионализмах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682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772754"/>
                </a:solidFill>
                <a:latin typeface="Adventure"/>
                <a:ea typeface="Adobe Song Std L"/>
              </a:rPr>
              <a:t>Исследовать виды фантастических приемов в  литературе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682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772754"/>
                </a:solidFill>
                <a:latin typeface="Adventure"/>
                <a:ea typeface="Adobe Song Std L"/>
              </a:rPr>
              <a:t>Создать классификацию авторских неологизмов и окказионализмов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785880"/>
            <a:ext cx="814392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b23b7e"/>
                </a:solidFill>
                <a:latin typeface="Adobe Song Std L"/>
                <a:ea typeface="Adobe Song Std L"/>
              </a:rPr>
              <a:t>ХУДОЖЕСТВЕННЫЕ</a:t>
            </a:r>
            <a:r>
              <a:rPr b="0" lang="ru-RU" sz="6000" spc="-1" strike="noStrike">
                <a:solidFill>
                  <a:srgbClr val="b23b7e"/>
                </a:solidFill>
                <a:latin typeface="Adobe Song Std L"/>
                <a:ea typeface="Adobe Song Std L"/>
              </a:rPr>
              <a:t> ПРИЕМЫ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b23b7e"/>
                </a:solidFill>
                <a:latin typeface="Adobe Song Std L"/>
                <a:ea typeface="Adobe Song Std L"/>
              </a:rPr>
              <a:t>В </a:t>
            </a:r>
            <a:r>
              <a:rPr b="0" lang="ru-RU" sz="4400" spc="-1" strike="noStrike">
                <a:solidFill>
                  <a:srgbClr val="b23b7e"/>
                </a:solidFill>
                <a:latin typeface="Adobe Song Std L"/>
                <a:ea typeface="Adobe Song Std L"/>
              </a:rPr>
              <a:t>ФАНТАСТИЧЕСК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b23b7e"/>
                </a:solidFill>
                <a:latin typeface="Adobe Song Std L"/>
                <a:ea typeface="Adobe Song Std L"/>
              </a:rPr>
              <a:t>ЛИТЕРАТУРЕ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0"/>
            <a:ext cx="81439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dobe Song Std L"/>
                <a:ea typeface="Adobe Song Std L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dobe Song Std L"/>
                <a:ea typeface="Adobe Song Std L"/>
              </a:rPr>
              <a:t>Прием  путеше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0" y="1116000"/>
            <a:ext cx="8170920" cy="43941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0" y="5500800"/>
            <a:ext cx="814392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dobe Song Std L"/>
                <a:ea typeface="Adobe Song Std L"/>
              </a:rPr>
              <a:t>Клайв   Льюи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dobe Song Std L"/>
                <a:ea typeface="Adobe Song Std L"/>
              </a:rPr>
              <a:t>«Хроники   Нарн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81439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dobe Song Std L"/>
                <a:ea typeface="Adobe Song Std L"/>
              </a:rPr>
              <a:t>Прием  путешествия  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dobe Song Std L"/>
                <a:ea typeface="Adobe Song Std L"/>
              </a:rPr>
              <a:t>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0" y="928800"/>
            <a:ext cx="8170920" cy="52466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0" y="6143760"/>
            <a:ext cx="814392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dobe Song Std L"/>
                <a:ea typeface="Adobe Song Std L"/>
              </a:rPr>
              <a:t>Герберт  Уэллс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dobe Song Std L"/>
                <a:ea typeface="Adobe Song Std L"/>
              </a:rPr>
              <a:t>«Машина Времени»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35924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4357800" y="0"/>
            <a:ext cx="385740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dobe Song Std L"/>
                <a:ea typeface="Adobe Song Std L"/>
              </a:rPr>
              <a:t>Прием днев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357800" y="2857680"/>
            <a:ext cx="3786120" cy="15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dobe Song Std L"/>
                <a:ea typeface="Adobe Song Std L"/>
              </a:rPr>
              <a:t>Брэм Сток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dobe Song Std L"/>
                <a:ea typeface="Adobe Song Std L"/>
              </a:rPr>
              <a:t>«Дракул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3571920" y="0"/>
            <a:ext cx="457992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0" y="0"/>
            <a:ext cx="3571920" cy="26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dobe Song Std L"/>
                <a:ea typeface="Adobe Song Std L"/>
              </a:rPr>
              <a:t>Ром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dobe Song Std L"/>
                <a:ea typeface="Adobe Song Std L"/>
              </a:rPr>
              <a:t>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dobe Song Std L"/>
                <a:ea typeface="Adobe Song Std L"/>
              </a:rPr>
              <a:t>ром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dobe Song Std L"/>
                <a:ea typeface="Adobe Song Std L"/>
              </a:rPr>
              <a:t>\\\\\\\\\\\\\\\\\\\\\\\\\\\\\\\\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dobe Song Std L"/>
                <a:ea typeface="Adobe Song Std L"/>
              </a:rPr>
              <a:t>Расска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dobe Song Std L"/>
                <a:ea typeface="Adobe Song Std 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dobe Song Std L"/>
                <a:ea typeface="Adobe Song Std L"/>
              </a:rPr>
              <a:t>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dobe Song Std L"/>
                <a:ea typeface="Adobe Song Std L"/>
              </a:rPr>
              <a:t>расска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3714840"/>
            <a:ext cx="3571920" cy="24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dobe Song Std L"/>
                <a:ea typeface="Adobe Song Std L"/>
              </a:rPr>
              <a:t>Михаил Булга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dobe Song Std L"/>
                <a:ea typeface="Adobe Song Std L"/>
              </a:rPr>
              <a:t>«Масте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dobe Song Std L"/>
                <a:ea typeface="Adobe Song Std L"/>
              </a:rPr>
              <a:t>и Маргарит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0" y="1357200"/>
            <a:ext cx="8170920" cy="40039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0" y="0"/>
            <a:ext cx="814392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dobe Song Std L"/>
                <a:ea typeface="Adobe Song Std L"/>
              </a:rPr>
              <a:t>Прием  пес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5357880"/>
            <a:ext cx="81439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dobe Song Std L"/>
                <a:ea typeface="Adobe Song Std L"/>
              </a:rPr>
              <a:t>Джон  Рональд  Руэл  Тол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dobe Song Std L"/>
                <a:ea typeface="Adobe Song Std L"/>
              </a:rPr>
              <a:t>«Властелин  колец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