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9240" y="694800"/>
            <a:ext cx="4435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2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3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4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F6741-2B4A-4D14-8623-E59016686F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7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827405C5-914A-4CF3-9E47-BA6DFE3B42D8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6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822ACCCC-5A02-4894-8DF5-4BE4F01785A8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68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A22DF01C-EA4B-427D-B495-9F36550DDEC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035D-73BC-42C0-B9B5-B9A53C8AA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6210-5283-4615-8A34-349332AE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4414-0BBA-4F15-BEDE-F1BA3F3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D181-95D1-488D-9F0F-26F01BCB0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53C2D-17AC-4B9F-80D9-88F1F241A6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F64F-1F6A-4A19-9800-3CF63EE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11B78-83AA-45D1-A908-5CE8CD7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D24FD-68BE-4216-9494-A2CB7316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B11A-82A1-4BFC-B953-6326F4BC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91E71-704C-4347-B3FE-00DAAC7C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8B19-D57C-46C8-90E7-3A9B3722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4824-D40A-4495-BE26-17211AB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98285-20D6-4D4A-B829-0B965E7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A9EE-9931-4A8D-A001-9DA350F8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759E-6F14-4FCD-A486-2ACC138F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ED5F4-5D4A-4066-95E9-1FC5B2F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C23D8-CECF-463B-9B4E-B1201E2CF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4156-D5F0-482E-B7DD-6C37C52B9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4841-E2F3-4DA5-BB0A-EF4FC413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EB91-F67B-45C4-B90C-613A28D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67B2-0873-4E1E-BA4F-7F66948B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A46-38C6-440C-8033-79C64323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DC2C-D1D6-4F2C-9D32-4483C27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79E-71A7-4F25-99D5-9C1F945C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A472-4C66-4885-97F1-3B081567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27CB-314A-4424-B02C-C266E843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5B7-108C-4C2B-B82F-90010F1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4BB0-5C5D-47FF-8A83-989CF83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E4FF-B886-4ED8-A37F-F2C4509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DEB3-0B01-4E8F-AAAB-F4DC7B227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FF1DC-BD72-40F9-A0EE-5BA9F7C20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9E07D-C05E-4023-B4FA-022FB25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227D0-5098-4248-A088-0247AD11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BFFF-A6F6-4F95-AC2E-44AE57F6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FD346-BE9A-4D17-A209-435A4B1F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282F5-52A5-4CE4-ABEA-B9B30F00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38532-23CC-4725-A9FE-FE1153F7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21235-A515-4115-A424-03D2B93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5EE05-7B81-49FD-BDF8-451EE6C7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F5AA6-6F1A-4F96-B61F-CE6D590A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A6F26-5B52-4E3D-A959-A14758B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4C283-D151-4019-BF79-E3E76ADA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F96B8-08D2-41DD-903C-175FCDAE7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083DD-BE5D-48DA-941B-5A363D06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C7B2-D674-4B2B-8DB5-DC9BD63C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0D39F-7879-4446-8F21-230FF466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772E5-443E-4E6A-822B-5B951BDE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9E873-6AD9-4715-8DBB-DD59A269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33381-CDC8-4AF8-A096-C666E799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BD2F6-286E-449C-9DFB-A1E5EC2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609BD-478B-4CDC-9EB8-E893E24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88BE6-6566-49DD-A2BA-870C2BF8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EACC2-5CD9-4491-9005-F32F58C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0F044-DB93-4C0D-A8E6-29FE765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441FD-92F4-44C8-BACF-0E233D2B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1709-CC45-4227-8442-751A8521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28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1360" y="16045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28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1360" y="36820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05E22-2D35-416E-BB0B-B3017326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E27F-60B7-49B1-ADE5-FC0D822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20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9EE2-5FA5-463B-907A-F1261C82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B78C-03B3-438E-B60A-80D4B19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666880" y="-6480"/>
            <a:ext cx="1800" cy="687096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099040" cy="286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19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.11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880400" y="6555960"/>
            <a:ext cx="581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D2CA-3BD7-4706-AF4E-AEEC3CB7340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06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6f1"/>
            </a:gs>
            <a:gs pos="100000">
              <a:srgbClr val="9c909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2520" cy="20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9200" y="3282840"/>
            <a:ext cx="3422520" cy="150544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24.11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9216004-A2BF-4AE2-9D24-3157CC6A08C1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480" y="1041480"/>
            <a:ext cx="4205520" cy="4205160"/>
          </a:xfrm>
          <a:prstGeom prst="rect">
            <a:avLst/>
          </a:prstGeom>
          <a:solidFill>
            <a:srgbClr val="b4aaaf"/>
          </a:solidFill>
          <a:ln w="10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Четвё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WenQuanYi Micro Hei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едьмой уровень структурыВставка рис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32760" cy="113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9560"/>
            <a:ext cx="723276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24.11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3901E1B-0292-4678-95FB-E32E63F42E91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b13f9a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Trebuchet MS"/>
                <a:ea typeface="DejaVu Sans"/>
              </a:rPr>
              <a:t>24.11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D58D527-00A5-4D3A-B6C4-E4CC66C2D925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06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E06459-348A-4C0B-B29A-E888DBE3D9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но-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исследовательска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работа</a:t>
            </a:r>
            <a:br>
              <a:rPr sz="4000"/>
            </a:b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421080" y="3043080"/>
            <a:ext cx="5146560" cy="329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dc2300"/>
                </a:solidFill>
                <a:latin typeface="Times New Roman"/>
              </a:rPr>
              <a:t>«Авторские </a:t>
            </a:r>
            <a:r>
              <a:rPr b="1" lang="ru-RU" sz="3600" spc="-1" strike="noStrike" u="sng">
                <a:solidFill>
                  <a:srgbClr val="dc2300"/>
                </a:solidFill>
                <a:uFillTx/>
                <a:latin typeface="Times New Roman"/>
              </a:rPr>
              <a:t>неологизмы</a:t>
            </a:r>
            <a:r>
              <a:rPr b="1" lang="ru-RU" sz="3600" spc="-1" strike="noStrike">
                <a:solidFill>
                  <a:srgbClr val="dc2300"/>
                </a:solidFill>
                <a:latin typeface="Times New Roman"/>
              </a:rPr>
              <a:t> и окказионализмы в фантастике и литературе жанра  фэнтез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000080"/>
            <a:ext cx="2643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Выполни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28920"/>
            <a:ext cx="26431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Учениц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9 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кла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786200"/>
            <a:ext cx="26431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814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Прием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историзм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арха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571760"/>
            <a:ext cx="8153280" cy="5292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71960" y="0"/>
            <a:ext cx="40003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Мария Сем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Волкодав  и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Серых П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153280" cy="4576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8143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Использование   неологизмов</a:t>
            </a:r>
            <a:br>
              <a:rPr sz="2400"/>
            </a:br>
            <a:r>
              <a:rPr b="0" lang="ru-RU" sz="11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(Новое слово или выражение, а также новое значение старого слов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714240"/>
            <a:ext cx="81439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К примеру, слово «робот», ставшее сейчас обычным, впервые было употреблено Карелом Чапеком и его братом Йозефом в пьесе Чапека «Р. У. Р.» («Россумские универсальные роботы», 19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34816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5d194f"/>
                </a:solidFill>
                <a:latin typeface="Trebuchet MS"/>
              </a:rPr>
              <a:t>окказионализмы</a:t>
            </a:r>
            <a:endParaRPr b="1" lang="en-US" sz="4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354120" y="3540240"/>
            <a:ext cx="5360760" cy="40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dc2300"/>
                </a:solidFill>
                <a:latin typeface="Adventure"/>
              </a:rPr>
              <a:t>(лат. occasionalis 'случайный') – слова, образуемые «по случаю», в конкретных условиях речевой коммуникации и, как правило, противоречащие языковой норме, отклоняющиеся от привычных способов образования слов в данном</a:t>
            </a:r>
            <a:r>
              <a:rPr b="0" lang="ru-RU" sz="2400" spc="-1" strike="noStrike">
                <a:solidFill>
                  <a:srgbClr val="dc2300"/>
                </a:solidFill>
                <a:latin typeface="Adventure"/>
              </a:rPr>
              <a:t>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785880"/>
            <a:ext cx="8215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3720" indent="-3189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Лексические  окказионал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  <a:ea typeface="Adobe Fangsong Std R"/>
              </a:rPr>
              <a:t>полностью новое слово со своим , характерным только для него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Пример:  ро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8215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214720"/>
            <a:ext cx="81439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3720" indent="-318960" algn="ctr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Семантические  окказионал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  <a:ea typeface="WenQuanYi Micro Hei"/>
              </a:rPr>
              <a:t>уже существовавшее слово, получившее новое 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Пример: галоша(космический  корабль у С. Ле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032360"/>
            <a:ext cx="8143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3720" indent="-318960" algn="ctr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Авторские окказионал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  <a:ea typeface="Adobe Fangsong Std R"/>
              </a:rPr>
              <a:t>слово, придуманное лично автором, которое раньше нигде не использовалось и не имело никак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Пример: головотяпство - небрежное и бестолковое ведение д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obe Fangsong Std R"/>
                <a:ea typeface="Adobe Fangsong Std R"/>
              </a:rPr>
              <a:t>(Салтыков- Щедрин М. 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уктурная классификация НФ окказионализмов: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е окказионализмы – слова, представляющие собой не зарегистрированны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зыке сочетания фонем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рак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гательство или слово-параз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Обитаемый остро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6720" y="29520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уктурная классификация НФ окказионализмов: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4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98000"/>
          </a:bodyPr>
          <a:p>
            <a:pPr marL="3358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ческие окказионализмы – необычные сочетания морфем:  к знакомому корню добавлен новый неожиданный  суффикс по аналогии с имеющимися в языке словами  или наоборот—к новому корню типичный суффикс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МОКРЕ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ВЕРТЯЧ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ГОДНИ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АЛАЕ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ХОНТИЙ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ТИГРОКРЫ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уктурная классификация НФ окказионализмов: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е окказионализмы – необычные сочетания слов, имеющие целостное лексическое знач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4520"/>
            <a:ext cx="40147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МИНИСТЕРСТВО ОХРАНЫ КОРОН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ЖГУЧИЙ ПУ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6760" y="450720"/>
            <a:ext cx="82296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Исследование подтвердило </a:t>
            </a:r>
            <a:r>
              <a:rPr b="0" lang="ru-RU" sz="2800" spc="-1" strike="noStrike" u="sng">
                <a:solidFill>
                  <a:srgbClr val="dc2300"/>
                </a:solidFill>
                <a:uFillTx/>
                <a:latin typeface="Times New Roman"/>
                <a:ea typeface="Times New Roman"/>
              </a:rPr>
              <a:t>гипотезу</a:t>
            </a: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, выдвинутую в раб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·   авторские неологизмы и окказионализмы являются одним из главных приемов, с помощью которого создается фантастическое произ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·   они придают уникальности и самобытности, созданному писателем ми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c2300"/>
                </a:solidFill>
                <a:latin typeface="Times New Roman"/>
                <a:ea typeface="Times New Roman"/>
              </a:rPr>
              <a:t>·   некоторые авторские неологизмы и окказионализмы служат для придания юмористического 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272880"/>
            <a:ext cx="822960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429160" y="3929040"/>
            <a:ext cx="34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8103c"/>
                </a:solidFill>
                <a:latin typeface="Times New Roman"/>
              </a:rPr>
              <a:t>Фэнтези – это удивительные,  увлекательные книги, переносящие читателя в мир мечты, волшебства и необыкновенных приключен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89560" y="3282840"/>
            <a:ext cx="3429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3480" y="1041480"/>
            <a:ext cx="4205520" cy="420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ставка рис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моей работы является исследование роли окказионализмов в  литературе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obe Song Std L"/>
                <a:ea typeface="Adobe Song Std L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Изучить теоретический материал о видах художественных приемов в фантастической литератур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Изучить теоретический материал об окказионализм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Исследовать виды фантастических приемов в  литератур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772754"/>
                </a:solidFill>
                <a:latin typeface="Adventure"/>
                <a:ea typeface="Adobe Song Std L"/>
              </a:rPr>
              <a:t>Создать классификацию авторских неологизмов и окказионализм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785880"/>
            <a:ext cx="8143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ХУДОЖЕСТВЕННЫЕ</a:t>
            </a:r>
            <a:r>
              <a:rPr b="0" lang="ru-RU" sz="60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 ПРИЕМ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В </a:t>
            </a:r>
            <a:r>
              <a:rPr b="0" lang="ru-RU" sz="44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ФАНТАСТИЧЕ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b23b7e"/>
                </a:solidFill>
                <a:latin typeface="Adobe Song Std L"/>
                <a:ea typeface="Adobe Song Std L"/>
              </a:rPr>
              <a:t>ЛИТЕРАТУР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8143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Прием  путеше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1116000"/>
            <a:ext cx="8170920" cy="4394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5500800"/>
            <a:ext cx="814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Клайв   Лью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Хроники   Нар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8143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Прием  путешествия 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928800"/>
            <a:ext cx="8170920" cy="5246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6143760"/>
            <a:ext cx="8143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Герберт  Уэлл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Машина Времени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92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57800" y="0"/>
            <a:ext cx="38574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dobe Song Std L"/>
                <a:ea typeface="Adobe Song Std L"/>
              </a:rPr>
              <a:t>Прием дне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2857680"/>
            <a:ext cx="37861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Брэм Сток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Драку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57192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0"/>
            <a:ext cx="35719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ом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\\\\\\\\\\\\\\\\\\\\\\\\\\\\\\\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асс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расс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714840"/>
            <a:ext cx="3571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Михаил Булг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Мас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и Маргари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1357200"/>
            <a:ext cx="8170920" cy="400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439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Прием  пес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357880"/>
            <a:ext cx="8143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Джон  Рональд  Руэл  Тол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Song Std L"/>
                <a:ea typeface="Adobe Song Std L"/>
              </a:rPr>
              <a:t>«Властелин  кол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