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1B2-6C32-4557-9503-03722C3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23C-C981-4EEE-BC04-5F5007B6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459-56F2-40EE-AD99-B4118E2E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96C-F184-405C-A810-5F6319CF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83014-AB93-4564-A2B8-4BBCE95B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65235-6E81-442D-B194-88FB1BF7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9B21C-24FB-4A12-A8BC-5AE78B7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129B7-9226-473D-9B0E-936F9C0B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1FA3-A6D7-4B34-9B1F-63477D2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B779F-A9EE-42E1-80DD-0E9B7D1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0024-322A-4A72-A560-ACD5F9C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B51-80DE-4A9B-B7F0-9746E3F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A23B4-7E56-45FD-9655-AB6BE48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15A4-497B-4E24-BE32-EDDD4EE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F58F-2E3C-444C-B653-132445E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2E7E5-566E-4CB7-AFF4-6C5A91D7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70D6-0B8F-41B8-95E1-77BE4A83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345-C01F-49CC-8813-A91B9B11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C27-2BA6-4526-8D88-B02B879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DCE-8887-429D-9D64-6753124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F4A-5D6D-425C-9158-09F92438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80D-35D4-4CCE-B4F0-D81322AB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2AA-0B1D-496A-9F5B-DE8571B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01F-4E3D-4CE6-8CF4-85D8FD9A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415-B020-4058-B5A7-4A933308E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83E-415F-449C-B9E5-AD7B153647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ff"/>
                </a:solidFill>
                <a:latin typeface="Monotype Corsiva"/>
              </a:rPr>
              <a:t>Давайте     познакомим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52320" y="76176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Это   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Марина Валерьев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Александр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воспитатель МБДОУ «Детский сад № 20  «Белоч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«Моё  педагогическое кредо -  любить, понимать, помогать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IMG_9133.JPG"/>
          <p:cNvPicPr/>
          <p:nvPr/>
        </p:nvPicPr>
        <p:blipFill>
          <a:blip r:embed="rId1"/>
          <a:stretch/>
        </p:blipFill>
        <p:spPr>
          <a:xfrm>
            <a:off x="228600" y="1295280"/>
            <a:ext cx="3556080" cy="53341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укрепить интерес родителей к участию в физкультурных и оздоровительных мероприятиях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формировать положительное отношение к занятиям физкультурой и спортом, к здоровому образу жизни в семье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990720" y="1981080"/>
            <a:ext cx="693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Хорошее здоровье – фундамент для всестороннего и гармоничного общего  развития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28600" y="31431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3808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3" name="Рисунок 8" descr="IMG_0174.JPG"/>
          <p:cNvPicPr/>
          <p:nvPr/>
        </p:nvPicPr>
        <p:blipFill>
          <a:blip r:embed="rId1"/>
          <a:stretch/>
        </p:blipFill>
        <p:spPr>
          <a:xfrm>
            <a:off x="304920" y="5335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IMG_0482.JPG"/>
          <p:cNvPicPr/>
          <p:nvPr/>
        </p:nvPicPr>
        <p:blipFill>
          <a:blip r:embed="rId2"/>
          <a:stretch/>
        </p:blipFill>
        <p:spPr>
          <a:xfrm>
            <a:off x="4876920" y="6094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IMG_0498.JPG"/>
          <p:cNvPicPr/>
          <p:nvPr/>
        </p:nvPicPr>
        <p:blipFill>
          <a:blip r:embed="rId3"/>
          <a:stretch/>
        </p:blipFill>
        <p:spPr>
          <a:xfrm>
            <a:off x="2743200" y="38098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1143000" y="762120"/>
            <a:ext cx="6248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Главное в жизни  - это здоровье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С детства попробуйте это понять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Главная ценность – это здоровье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Его не купить, но легко потерять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Спасибо  за   внимание 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« Забота о здоровье – это важнейший труд воспитателя. От жизнерадостности, бодрости детей , зависит их духовная жизнь., мировоззрение, умственное развитие. Прочность знаний и вера в свои силы»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В. А. Сухомл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260280"/>
            <a:ext cx="769644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Физическое развитие – это процесс формирования и последующего изменения естественных форм и функций организма ребенка и основанных на них  физических каче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В  широком смысле  физическое развитие предполагает развитие  физических качеств (ловкость, быстрота, сила, выносливость, гибкость) и двигательных способностей (координация и глазомер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IMG_0008.JPG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IMG_0502.JPG"/>
          <p:cNvPicPr/>
          <p:nvPr/>
        </p:nvPicPr>
        <p:blipFill>
          <a:blip r:embed="rId2"/>
          <a:stretch/>
        </p:blipFill>
        <p:spPr>
          <a:xfrm>
            <a:off x="5105520" y="32767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4064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276720" y="2743200"/>
            <a:ext cx="281916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ормы двигательного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жима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Line 28"/>
          <p:cNvSpPr/>
          <p:nvPr/>
        </p:nvSpPr>
        <p:spPr>
          <a:xfrm flipV="1">
            <a:off x="4724280" y="1905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4800600" y="365760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4" name="Line 30"/>
          <p:cNvSpPr/>
          <p:nvPr/>
        </p:nvSpPr>
        <p:spPr>
          <a:xfrm flipV="1">
            <a:off x="6095880" y="20570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6095880" y="365760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Line 32"/>
          <p:cNvSpPr/>
          <p:nvPr/>
        </p:nvSpPr>
        <p:spPr>
          <a:xfrm flipH="1" flipV="1">
            <a:off x="2514240" y="22096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7" name="Line 33"/>
          <p:cNvSpPr/>
          <p:nvPr/>
        </p:nvSpPr>
        <p:spPr>
          <a:xfrm flipH="1">
            <a:off x="2743200" y="36576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3962520" y="1143000"/>
            <a:ext cx="16002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акаливани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Rectangle 35"/>
          <p:cNvSpPr/>
          <p:nvPr/>
        </p:nvSpPr>
        <p:spPr>
          <a:xfrm rot="20454600">
            <a:off x="1436400" y="1587600"/>
            <a:ext cx="1579320" cy="698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Физкультурны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анят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1600200" y="4419720"/>
            <a:ext cx="16765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итмическа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3886200" y="4419720"/>
            <a:ext cx="1981080" cy="761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трення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7086600" y="2971800"/>
            <a:ext cx="190512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портивные игры,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228600" y="2971800"/>
            <a:ext cx="198108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инамические паузы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течение дн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2286000" y="5715000"/>
            <a:ext cx="24382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движные игры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и физические упражнен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на прогулк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5" name="Rectangle 39"/>
          <p:cNvSpPr/>
          <p:nvPr/>
        </p:nvSpPr>
        <p:spPr>
          <a:xfrm rot="256800">
            <a:off x="6567120" y="1368000"/>
            <a:ext cx="1676520" cy="779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лавани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7010280" y="4572000"/>
            <a:ext cx="18288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ЛФК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Rectangle 38"/>
          <p:cNvSpPr/>
          <p:nvPr/>
        </p:nvSpPr>
        <p:spPr>
          <a:xfrm>
            <a:off x="5638680" y="5638680"/>
            <a:ext cx="2286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амостоятельна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вигательна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активность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cxnSp>
        <p:nvCxnSpPr>
          <p:cNvPr id="108" name="Прямая со стрелкой 24"/>
          <p:cNvCxnSpPr/>
          <p:nvPr/>
        </p:nvCxnSpPr>
        <p:spPr>
          <a:xfrm>
            <a:off x="5790960" y="3733920"/>
            <a:ext cx="686520" cy="18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" name="Прямая со стрелкой 29"/>
          <p:cNvCxnSpPr/>
          <p:nvPr/>
        </p:nvCxnSpPr>
        <p:spPr>
          <a:xfrm flipH="1">
            <a:off x="2361960" y="3200400"/>
            <a:ext cx="83880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0" name="Прямая со стрелкой 31"/>
          <p:cNvCxnSpPr/>
          <p:nvPr/>
        </p:nvCxnSpPr>
        <p:spPr>
          <a:xfrm flipH="1">
            <a:off x="3581280" y="3733560"/>
            <a:ext cx="76680" cy="19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" name="Прямая со стрелкой 33"/>
          <p:cNvCxnSpPr>
            <a:endCxn id="102" idx="1"/>
          </p:cNvCxnSpPr>
          <p:nvPr/>
        </p:nvCxnSpPr>
        <p:spPr>
          <a:xfrm>
            <a:off x="6172200" y="3200040"/>
            <a:ext cx="91512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895480" y="2743200"/>
            <a:ext cx="335304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ормы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ктивного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дыха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477120" y="1295280"/>
            <a:ext cx="22860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ический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осуг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1 раз в месяц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5486400" y="4876920"/>
            <a:ext cx="26668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деля здоровь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каникулы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09480" y="5257800"/>
            <a:ext cx="236232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ень здоровь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57200" y="129528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культурный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аздник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2-3 раза в год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cxnSp>
        <p:nvCxnSpPr>
          <p:cNvPr id="118" name="Прямая со стрелкой 9"/>
          <p:cNvCxnSpPr/>
          <p:nvPr/>
        </p:nvCxnSpPr>
        <p:spPr>
          <a:xfrm flipV="1">
            <a:off x="6476760" y="2666160"/>
            <a:ext cx="61020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9" name="Прямая со стрелкой 11"/>
          <p:cNvCxnSpPr/>
          <p:nvPr/>
        </p:nvCxnSpPr>
        <p:spPr>
          <a:xfrm>
            <a:off x="5562720" y="4419720"/>
            <a:ext cx="45792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 flipH="1">
            <a:off x="2361600" y="4419720"/>
            <a:ext cx="1143720" cy="762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1" name="Прямая со стрелкой 15"/>
          <p:cNvCxnSpPr/>
          <p:nvPr/>
        </p:nvCxnSpPr>
        <p:spPr>
          <a:xfrm flipH="1" flipV="1">
            <a:off x="3123720" y="175176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13" descr="AA033.jpg"/>
          <p:cNvPicPr/>
          <p:nvPr/>
        </p:nvPicPr>
        <p:blipFill>
          <a:blip r:embed="rId1"/>
          <a:stretch/>
        </p:blipFill>
        <p:spPr>
          <a:xfrm>
            <a:off x="457200" y="382680"/>
            <a:ext cx="3962520" cy="2639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IMG_0465.JPG"/>
          <p:cNvPicPr/>
          <p:nvPr/>
        </p:nvPicPr>
        <p:blipFill>
          <a:blip r:embed="rId2"/>
          <a:stretch/>
        </p:blipFill>
        <p:spPr>
          <a:xfrm>
            <a:off x="495288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IMG_0551.JPG"/>
          <p:cNvPicPr/>
          <p:nvPr/>
        </p:nvPicPr>
        <p:blipFill>
          <a:blip r:embed="rId3"/>
          <a:stretch/>
        </p:blipFill>
        <p:spPr>
          <a:xfrm>
            <a:off x="2362320" y="31240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укрепление здоровья детей путем развития физических качеств и обеспечения такого уровня физической подготовленности, который соответствует возможностям и состоянию здоровья ребен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: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повысить уровень знаний родителей в области формирования, сохранения и укрепления здоровья детей, здорового образа жизни в семье посредством систематического просвещения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6-02-15T17:33:1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