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591-858B-41E7-A162-51F7AB7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6BE-682C-4C5B-B89E-21B2E38F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C17-E674-48EB-91A6-248E78AD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F8C-1A9C-41FE-8FA0-A8A5F687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E27F-C576-43E3-BEAD-702A439B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701D1-2D4E-40D4-AC1E-FB473500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3FEA0-28D5-4706-BDB3-7E48C4FC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50162-277A-4651-AB32-6636EA0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9D90-CEC4-43A0-A661-C2403861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4CAB3-E5A1-4E4C-84D5-FC8894D3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FF60E-5150-43A0-B5C5-FACC935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7EC-0A15-4765-8C32-53BB6DD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469C9-A9AA-4B15-AAAE-36694F8D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D8D2-C6CA-43DD-AAEC-45CE950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F01C-DE4F-4CCD-91AB-97AB092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BA15D-CE15-4AD9-A3BD-1359324F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AA9F0-F77F-4A75-9E7F-7302C041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7E4-9E11-4CFC-BE51-7507564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CA6-064D-47F8-A462-FD22B01E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2BF-51C1-45FF-BC56-AE2255E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B59-DCE9-4343-9163-87252986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486-5321-461C-9B91-B2C2087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277-37E6-4659-9901-285B8926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5CA-FD69-440A-9C0F-035A90C9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748-5089-40DB-AC8B-70F7D2BAC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DFEE-2F4D-4A5B-81EA-8578D2B368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ff"/>
                </a:solidFill>
                <a:latin typeface="Monotype Corsiva"/>
              </a:rPr>
              <a:t>Давайте     познакомим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52320" y="76176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      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Это   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Марина Валерьев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Александр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воспитатель МБДОУ «Детский сад № 20  «Белоч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«Моё  педагогическое кредо -  любить, понимать, помогать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IMG_9133.JPG"/>
          <p:cNvPicPr/>
          <p:nvPr/>
        </p:nvPicPr>
        <p:blipFill>
          <a:blip r:embed="rId1"/>
          <a:stretch/>
        </p:blipFill>
        <p:spPr>
          <a:xfrm>
            <a:off x="228600" y="1295280"/>
            <a:ext cx="3556080" cy="533412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укрепить интерес родителей к участию в физкультурных и оздоровительных мероприятиях;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формировать положительное отношение к занятиям физкультурой и спортом, к здоровому образу жизни в семье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990720" y="1981080"/>
            <a:ext cx="693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Хорошее здоровье – фундамент для всестороннего и гармоничного общего  развития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28600" y="31431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3808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3" name="Рисунок 8" descr="IMG_0174.JPG"/>
          <p:cNvPicPr/>
          <p:nvPr/>
        </p:nvPicPr>
        <p:blipFill>
          <a:blip r:embed="rId1"/>
          <a:stretch/>
        </p:blipFill>
        <p:spPr>
          <a:xfrm>
            <a:off x="304920" y="5335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IMG_0482.JPG"/>
          <p:cNvPicPr/>
          <p:nvPr/>
        </p:nvPicPr>
        <p:blipFill>
          <a:blip r:embed="rId2"/>
          <a:stretch/>
        </p:blipFill>
        <p:spPr>
          <a:xfrm>
            <a:off x="4876920" y="6094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IMG_0498.JPG"/>
          <p:cNvPicPr/>
          <p:nvPr/>
        </p:nvPicPr>
        <p:blipFill>
          <a:blip r:embed="rId3"/>
          <a:stretch/>
        </p:blipFill>
        <p:spPr>
          <a:xfrm>
            <a:off x="2743200" y="38098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1143000" y="762120"/>
            <a:ext cx="6248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Главное в жизни  - это здоровье!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С детства попробуйте это понять!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Главная ценность – это здоровье!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Его не купить, но легко потерять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Спасибо  за   внимание 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« Забота о здоровье – это важнейший труд воспитателя. От жизнерадостности, бодрости детей , зависит их духовная жизнь., мировоззрение, умственное развитие. Прочность знаний и вера в свои силы»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В. А. Сухомлин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1920" y="260280"/>
            <a:ext cx="769644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Физическое развитие – это процесс формирования и последующего изменения естественных форм и функций организма ребенка и основанных на них  физических каче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В  широком смысле  физическое развитие предполагает развитие  физических качеств (ловкость, быстрота, сила, выносливость, гибкость) и двигательных способностей (координация и глазомер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IMG_0008.JPG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IMG_0502.JPG"/>
          <p:cNvPicPr/>
          <p:nvPr/>
        </p:nvPicPr>
        <p:blipFill>
          <a:blip r:embed="rId2"/>
          <a:stretch/>
        </p:blipFill>
        <p:spPr>
          <a:xfrm>
            <a:off x="5105520" y="32767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54064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276720" y="2743200"/>
            <a:ext cx="281916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ормы двигательного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жима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Line 28"/>
          <p:cNvSpPr/>
          <p:nvPr/>
        </p:nvSpPr>
        <p:spPr>
          <a:xfrm flipV="1">
            <a:off x="4724280" y="1905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4800600" y="365760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4" name="Line 30"/>
          <p:cNvSpPr/>
          <p:nvPr/>
        </p:nvSpPr>
        <p:spPr>
          <a:xfrm flipV="1">
            <a:off x="6095880" y="20570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6095880" y="365760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Line 32"/>
          <p:cNvSpPr/>
          <p:nvPr/>
        </p:nvSpPr>
        <p:spPr>
          <a:xfrm flipH="1" flipV="1">
            <a:off x="2514240" y="2209680"/>
            <a:ext cx="762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7" name="Line 33"/>
          <p:cNvSpPr/>
          <p:nvPr/>
        </p:nvSpPr>
        <p:spPr>
          <a:xfrm flipH="1">
            <a:off x="2743200" y="36576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3962520" y="1143000"/>
            <a:ext cx="160020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закаливани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Rectangle 35"/>
          <p:cNvSpPr/>
          <p:nvPr/>
        </p:nvSpPr>
        <p:spPr>
          <a:xfrm rot="20454600">
            <a:off x="1436400" y="1587600"/>
            <a:ext cx="1579320" cy="698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Физкультурны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занят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1600200" y="4419720"/>
            <a:ext cx="16765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итмическая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3886200" y="4419720"/>
            <a:ext cx="1981080" cy="761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тренняя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7086600" y="2971800"/>
            <a:ext cx="190512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портивные игры,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228600" y="2971800"/>
            <a:ext cx="198108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инамические паузы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течение дн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2286000" y="5715000"/>
            <a:ext cx="24382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одвижные игры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и физические упражнен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на прогулк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5" name="Rectangle 39"/>
          <p:cNvSpPr/>
          <p:nvPr/>
        </p:nvSpPr>
        <p:spPr>
          <a:xfrm rot="256800">
            <a:off x="6567120" y="1368000"/>
            <a:ext cx="1676520" cy="779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лавание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6" name="Rectangle 38"/>
          <p:cNvSpPr/>
          <p:nvPr/>
        </p:nvSpPr>
        <p:spPr>
          <a:xfrm>
            <a:off x="7010280" y="4572000"/>
            <a:ext cx="182880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ЛФК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Rectangle 38"/>
          <p:cNvSpPr/>
          <p:nvPr/>
        </p:nvSpPr>
        <p:spPr>
          <a:xfrm>
            <a:off x="5638680" y="5638680"/>
            <a:ext cx="22860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амостоятельна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вигательная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активность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cxnSp>
        <p:nvCxnSpPr>
          <p:cNvPr id="108" name="Прямая со стрелкой 24"/>
          <p:cNvCxnSpPr/>
          <p:nvPr/>
        </p:nvCxnSpPr>
        <p:spPr>
          <a:xfrm>
            <a:off x="5790960" y="3733920"/>
            <a:ext cx="686520" cy="18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9" name="Прямая со стрелкой 29"/>
          <p:cNvCxnSpPr/>
          <p:nvPr/>
        </p:nvCxnSpPr>
        <p:spPr>
          <a:xfrm flipH="1">
            <a:off x="2361960" y="3200400"/>
            <a:ext cx="83880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0" name="Прямая со стрелкой 31"/>
          <p:cNvCxnSpPr/>
          <p:nvPr/>
        </p:nvCxnSpPr>
        <p:spPr>
          <a:xfrm flipH="1">
            <a:off x="3581280" y="3733560"/>
            <a:ext cx="76680" cy="190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" name="Прямая со стрелкой 33"/>
          <p:cNvCxnSpPr>
            <a:endCxn id="102" idx="1"/>
          </p:cNvCxnSpPr>
          <p:nvPr/>
        </p:nvCxnSpPr>
        <p:spPr>
          <a:xfrm>
            <a:off x="6172200" y="3200040"/>
            <a:ext cx="91512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895480" y="2743200"/>
            <a:ext cx="3353040" cy="1523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ормы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ктивного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тдыха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477120" y="1295280"/>
            <a:ext cx="2286000" cy="12193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изический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досуг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1 раз в месяц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5486400" y="4876920"/>
            <a:ext cx="26668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еделя здоровь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каникулы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09480" y="5257800"/>
            <a:ext cx="236232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День здоровь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57200" y="129528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изкультурный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аздник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2-3 раза в год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cxnSp>
        <p:nvCxnSpPr>
          <p:cNvPr id="118" name="Прямая со стрелкой 9"/>
          <p:cNvCxnSpPr/>
          <p:nvPr/>
        </p:nvCxnSpPr>
        <p:spPr>
          <a:xfrm flipV="1">
            <a:off x="6476760" y="2666160"/>
            <a:ext cx="61020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9" name="Прямая со стрелкой 11"/>
          <p:cNvCxnSpPr/>
          <p:nvPr/>
        </p:nvCxnSpPr>
        <p:spPr>
          <a:xfrm>
            <a:off x="5562720" y="4419720"/>
            <a:ext cx="45792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 flipH="1">
            <a:off x="2361600" y="4419720"/>
            <a:ext cx="1143720" cy="762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1" name="Прямая со стрелкой 15"/>
          <p:cNvCxnSpPr/>
          <p:nvPr/>
        </p:nvCxnSpPr>
        <p:spPr>
          <a:xfrm flipH="1" flipV="1">
            <a:off x="3123720" y="1751760"/>
            <a:ext cx="1067760" cy="762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13" descr="AA033.jpg"/>
          <p:cNvPicPr/>
          <p:nvPr/>
        </p:nvPicPr>
        <p:blipFill>
          <a:blip r:embed="rId1"/>
          <a:stretch/>
        </p:blipFill>
        <p:spPr>
          <a:xfrm>
            <a:off x="457200" y="382680"/>
            <a:ext cx="3962520" cy="2639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4" descr="IMG_0465.JPG"/>
          <p:cNvPicPr/>
          <p:nvPr/>
        </p:nvPicPr>
        <p:blipFill>
          <a:blip r:embed="rId2"/>
          <a:stretch/>
        </p:blipFill>
        <p:spPr>
          <a:xfrm>
            <a:off x="4952880" y="457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IMG_0551.JPG"/>
          <p:cNvPicPr/>
          <p:nvPr/>
        </p:nvPicPr>
        <p:blipFill>
          <a:blip r:embed="rId3"/>
          <a:stretch/>
        </p:blipFill>
        <p:spPr>
          <a:xfrm>
            <a:off x="2362320" y="31240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укрепление здоровья детей путем развития физических качеств и обеспечения такого уровня физической подготовленности, который соответствует возможностям и состоянию здоровья ребен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: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 повысить уровень знаний родителей в области формирования, сохранения и укрепления здоровья детей, здорового образа жизни в семье посредством систематического просвещения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6-02-15T17:33:1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