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1EC27-4798-4358-A9DD-7C58060FB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B0303-9D4D-4D66-B690-2EDF497B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9CDEE-1F9B-4932-9CF7-909B19329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EF6A6-B41C-4B1A-A302-4F7231ED6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4D06D-75BD-4F07-94EC-A7426B013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955C6-6237-4A95-AF1B-53D32DFBE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4F5B8-0E99-4B60-9495-BADACCEB1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4003F-B459-4391-903C-976302747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B2599-C076-47E6-B036-C92F56B6F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D1FA0-39AC-4388-A123-AF77BC2EB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42CB9-8D33-4C52-8E60-D2ADF49C4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BA512-3844-43D2-A6C4-2427B6D80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2678F-61B2-4CFC-903C-F3B7A519D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E3B7C-C312-42AF-AC6B-4DA47587D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2F089-7F51-4C7F-8775-7FD66B815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509DA-E2F2-42F8-995F-1B1048AE8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86317-C841-42E9-AB25-66CC1F270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4A2E1F6-293B-4186-B1C1-FDFAF93190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23BE8A-3177-45E6-9545-8E631E202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49DA7AE-0538-49BA-A69A-9FB7AB3E8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8771AA-3897-4AB1-9032-D6BCEEEA6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380AFC-7E93-468E-8EE3-59689F382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14C54-D75C-4AC5-BB01-6F383490C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93765B-C568-4D28-9D55-A194B5654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4EA6EC-4C13-439C-8711-E8795B6C7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F3DE36-660A-4819-9B34-1778B6436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5CE538-2D74-4EF1-8818-0E9C6308D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B3D0EA1-DFF8-47D5-84A3-95D64EC81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9C0E0D-DC1C-4AC4-9620-506165132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4082505-7A82-4035-8D29-E77BB8AD6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7C2275-7B44-42F5-A1EB-D0D98253F5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5087D-98E0-4080-9669-2A727BC2F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AE561E-B625-4638-8153-9503BF39B5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62D47-E9ED-4092-8327-0BB668DF1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0C990E-FFA3-426D-9987-32809A6DB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168763-96A0-4108-82D4-B9C368314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2EEFAA-90C1-4E61-9CC2-9F2CBB6D96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81D89-AB3A-4B78-A2F8-BF9C9C2CA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F1C6E-6158-4B72-81F5-2C7E94961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52681-D189-41AD-BD0C-38FEE11F0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16204-82C9-4364-B15E-B7790DAF1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320A92-1141-4A06-B009-0CC7940A3A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850CE5-4BCC-481C-8144-9A8108A7AB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0A93159-0AB5-47B6-AA6D-BA3A76F825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5123D-D191-4223-9EA8-85D3B7F30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F9643B-8634-4F9F-9092-C161E98794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63D8C1-841B-4659-83D4-4A7365104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1648C6-1D1E-49BF-ABBC-EDC08287DD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190AE5-1767-44AE-9F2B-5E33CBEF9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5DE0B1-D417-4B10-8EFB-70B755D3A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921F6F-61D1-439D-91C6-E6334FBA6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1B3783-5BED-46B9-8D25-FBB08D997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81F7B2-C811-4677-9CFF-064053835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FB2E618-8D4E-44D2-A955-5AF75B8A22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5520B18-7CBB-4BD5-901D-CF893E6E00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A86EA-BB91-43B2-9792-9A486266D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F2D0D4-F2D6-4A19-A27E-EF00884ADB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18BF6B8-B497-40DF-A38C-4A1BFD17C8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FB63794-67E9-48F3-968C-967100D0B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DDE6DAF-9731-4A2A-8A70-0D8F0F5569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F7B323A-DA76-4CFA-AFA6-5F72A8A0AD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665E320-BBF9-4B0B-AE17-77647CEAA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30FE30D-6045-493A-8E6E-15007B93C9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AB6AD44-833E-4036-BE25-5CE1EB588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72C945-94BB-4011-BDF5-244C1957F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D80769-0714-4881-BCE9-512265DB61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FCDF2-124A-4A4F-9341-E81593F26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478EEFD-EABD-47F5-A7BE-CE92E46DED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8EE10BC-13A1-4BE4-87CF-B4DDADA4F7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3E67B3E-638C-4D0C-9A65-210037B68B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5CDDD29-C389-496A-B67A-0004E34142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4291A8-121F-425E-AF7E-657B4033A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5F5F12E-2109-4F21-A7F2-C24425B117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C44C5C1-18F8-4289-8795-BAF605059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6CF2C6C-6ECD-469B-8637-A79F963A30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1D0F36-4909-4182-BCC1-51FB4B3EC8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FD2D43-3E57-4AE3-BED9-6A6C72AF61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6414-D0BA-4490-899E-865015D7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EA26D5-F95E-4B9D-B4E2-6607136F9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A66FF3-A5CE-4590-8868-8C33C4CBF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F8F2558-67A0-49DD-9890-058344D5D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E7F0809-7411-4956-BC73-A7D0D92A2F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9AAEC3A-497E-4D4E-B15E-6B13B88177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576B9-1E76-473B-90BB-AE24B48BC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F4F1-9511-40E2-A42E-A52B089B14C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90C7-03DB-41E8-B463-4DA73CA5CB6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C71F-AFF6-4001-9CD6-052B244F6D3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1C9F-DB82-4A38-AFE8-6D07B1C7A94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D32E-DFA8-41A4-9540-AB835CDC645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4FBB-A970-46F8-8FDF-0606A5FC977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A820-8E79-4E94-A82D-882BC6A52C2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mebelux.ru/list/82/"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99840" y="457200"/>
            <a:ext cx="7162920" cy="373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Schoolbook"/>
              </a:rPr>
              <a:t>      </a:t>
            </a:r>
            <a:r>
              <a:rPr b="1" lang="ru-RU" sz="3200" spc="-1" strike="noStrike">
                <a:solidFill>
                  <a:srgbClr val="000000"/>
                </a:solidFill>
                <a:latin typeface="Century Schoolbook"/>
              </a:rPr>
              <a:t>ТВОРЧЕСКИЙ  ПРОЕКТ</a:t>
            </a:r>
            <a:br>
              <a:rPr sz="2400"/>
            </a:br>
            <a:r>
              <a:rPr b="1" lang="ru-RU" sz="2400" spc="-1" strike="noStrike">
                <a:solidFill>
                  <a:srgbClr val="000000"/>
                </a:solidFill>
                <a:latin typeface="Century Schoolbook"/>
              </a:rPr>
              <a:t>(СОЗДАНИЕ  ИЗДЕЛИЙ  ИЗ  КОНСТРУКЦИОННЫХ И ПОДЕЛОЧНЫХ МАТЕРИАЛОВ)</a:t>
            </a:r>
            <a:br>
              <a:rPr sz="2400"/>
            </a:br>
            <a:r>
              <a:rPr b="1" lang="ru-RU" sz="3000" spc="-1" strike="noStrike">
                <a:solidFill>
                  <a:srgbClr val="575f6d"/>
                </a:solidFill>
                <a:latin typeface="Century Schoolbook"/>
              </a:rPr>
              <a:t> </a:t>
            </a:r>
            <a:br>
              <a:rPr sz="3000"/>
            </a:br>
            <a:r>
              <a:rPr b="1" lang="ru-RU" sz="4400" spc="-1" strike="noStrike">
                <a:solidFill>
                  <a:srgbClr val="000000"/>
                </a:solidFill>
                <a:latin typeface="Century Schoolbook"/>
              </a:rPr>
              <a:t>«МЯГКИЙ СТУЛ – ПУФИК»</a:t>
            </a:r>
            <a:br>
              <a:rPr sz="4400"/>
            </a:br>
            <a:endParaRPr b="0" lang="en-US" sz="4400" spc="-1" strike="noStrike">
              <a:solidFill>
                <a:srgbClr val="575f6d"/>
              </a:solidFill>
              <a:latin typeface="Century Schoolbook"/>
            </a:endParaRPr>
          </a:p>
        </p:txBody>
      </p:sp>
      <p:sp>
        <p:nvSpPr>
          <p:cNvPr id="352" name="PlaceHolder 2"/>
          <p:cNvSpPr>
            <a:spLocks noGrp="1"/>
          </p:cNvSpPr>
          <p:nvPr>
            <p:ph type="subTitle"/>
          </p:nvPr>
        </p:nvSpPr>
        <p:spPr>
          <a:xfrm>
            <a:off x="2895480" y="5003640"/>
            <a:ext cx="5943600" cy="13716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Проект  разработал  и  выполнил:</a:t>
            </a:r>
            <a:endParaRPr b="0" lang="en-US" sz="24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Грачёв Владислав,</a:t>
            </a:r>
            <a:endParaRPr b="0" lang="en-US" sz="24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ученик  7 класса</a:t>
            </a:r>
            <a:endParaRPr b="0" lang="en-US" sz="24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360"/>
            <a:ext cx="746748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ЦЕНКА ИЗДЕЛИЯ </a:t>
            </a:r>
            <a:br>
              <a:rPr sz="3600"/>
            </a:br>
            <a:endParaRPr b="0" lang="en-US" sz="3600" spc="-1" strike="noStrike">
              <a:solidFill>
                <a:srgbClr val="575f6d"/>
              </a:solidFill>
              <a:latin typeface="Century Schoolbook"/>
            </a:endParaRPr>
          </a:p>
        </p:txBody>
      </p:sp>
      <p:sp>
        <p:nvSpPr>
          <p:cNvPr id="367" name=""/>
          <p:cNvSpPr txBox="1"/>
          <p:nvPr/>
        </p:nvSpPr>
        <p:spPr>
          <a:xfrm>
            <a:off x="228240" y="380520"/>
            <a:ext cx="8915400" cy="63248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сле изготовления изделия мы с учителем провели испытания. Пуфик оказался очень удобным и красивым. Такое изделие может  создать уют в квартире. Я уверен, что мама будет  рад  моему подарку.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Положительные стороны: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цель достигнута;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атериалы общедоступные;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ехнология изготовления посильна;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зделие безопасное;</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изайн изделия соответствует назначению;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Отрицательные стороны: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изводство получилось не безотходным.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680"/>
            <a:ext cx="3505320" cy="33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Schoolbook"/>
              </a:rPr>
              <a:t>           </a:t>
            </a:r>
            <a:r>
              <a:rPr b="1" lang="ru-RU" sz="1800" spc="-1" strike="noStrike">
                <a:solidFill>
                  <a:srgbClr val="000000"/>
                </a:solidFill>
                <a:latin typeface="Century Schoolbook"/>
              </a:rPr>
              <a:t>ГОТОВОЕ ИЗДЕЛИЕ</a:t>
            </a:r>
            <a:endParaRPr b="0" lang="en-US" sz="1800" spc="-1" strike="noStrike">
              <a:solidFill>
                <a:srgbClr val="575f6d"/>
              </a:solidFill>
              <a:latin typeface="Century Schoolbook"/>
            </a:endParaRPr>
          </a:p>
        </p:txBody>
      </p:sp>
      <p:pic>
        <p:nvPicPr>
          <p:cNvPr id="369" name="Объект 2" descr=""/>
          <p:cNvPicPr/>
          <p:nvPr/>
        </p:nvPicPr>
        <p:blipFill>
          <a:blip r:embed="rId1"/>
          <a:stretch/>
        </p:blipFill>
        <p:spPr>
          <a:xfrm>
            <a:off x="3809880" y="228600"/>
            <a:ext cx="4873680" cy="6499080"/>
          </a:xfrm>
          <a:prstGeom prst="rect">
            <a:avLst/>
          </a:prstGeom>
          <a:ln w="0">
            <a:noFill/>
          </a:ln>
        </p:spPr>
      </p:pic>
      <p:pic>
        <p:nvPicPr>
          <p:cNvPr id="370" name="Рисунок 3" descr=""/>
          <p:cNvPicPr/>
          <p:nvPr/>
        </p:nvPicPr>
        <p:blipFill>
          <a:blip r:embed="rId2"/>
          <a:stretch/>
        </p:blipFill>
        <p:spPr>
          <a:xfrm>
            <a:off x="533520" y="1752480"/>
            <a:ext cx="245736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РЕКЛАМА</a:t>
            </a:r>
            <a:endParaRPr b="0" lang="en-US" sz="3600" spc="-1" strike="noStrike">
              <a:solidFill>
                <a:srgbClr val="575f6d"/>
              </a:solidFill>
              <a:latin typeface="Century Schoolbook"/>
            </a:endParaRPr>
          </a:p>
        </p:txBody>
      </p:sp>
      <p:sp>
        <p:nvSpPr>
          <p:cNvPr id="372" name=""/>
          <p:cNvSpPr txBox="1"/>
          <p:nvPr/>
        </p:nvSpPr>
        <p:spPr>
          <a:xfrm>
            <a:off x="457200" y="990360"/>
            <a:ext cx="8153280" cy="5638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екламная  фраза: </a:t>
            </a:r>
            <a:r>
              <a:rPr b="0" lang="ru-RU" sz="2800" spc="-1" strike="noStrike">
                <a:solidFill>
                  <a:srgbClr val="000000"/>
                </a:solidFill>
                <a:latin typeface="Times New Roman"/>
                <a:ea typeface="Times New Roman"/>
              </a:rPr>
              <a:t> «А у нас высший  класс!»</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евиз:</a:t>
            </a:r>
            <a:r>
              <a:rPr b="0" lang="ru-RU" sz="2800" spc="-1" strike="noStrike">
                <a:solidFill>
                  <a:srgbClr val="000000"/>
                </a:solidFill>
                <a:latin typeface="Times New Roman"/>
                <a:ea typeface="Times New Roman"/>
              </a:rPr>
              <a:t> «Делай полезное и</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риятное другим, чтобы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оставить удовольствие себе».</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Если вы хотите лучше оформить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нтерьер с наименьшими затратами,</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сделайте подарок, выполненный своими руками в класс, кабинет, домой и ваше помещение, в котором вы живёте, учитесь,  станет еще уютнее и красивее.</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entury Schoolbook"/>
            </a:endParaRPr>
          </a:p>
          <a:p>
            <a:pPr lvl="2" marL="914400" indent="-182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373" name="Рисунок 3" descr="8358449-worker-with-drill.jpg"/>
          <p:cNvPicPr/>
          <p:nvPr/>
        </p:nvPicPr>
        <p:blipFill>
          <a:blip r:embed="rId1"/>
          <a:stretch/>
        </p:blipFill>
        <p:spPr>
          <a:xfrm>
            <a:off x="6324480" y="205740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1" lang="ru-RU" sz="3600" spc="-1" strike="noStrike">
                <a:solidFill>
                  <a:srgbClr val="000000"/>
                </a:solidFill>
                <a:latin typeface="Times New Roman"/>
                <a:ea typeface="Times New Roman"/>
              </a:rPr>
              <a:t>ЛИТЕРАТУРА   </a:t>
            </a:r>
            <a:br>
              <a:rPr sz="3600"/>
            </a:br>
            <a:endParaRPr b="0" lang="en-US" sz="3600" spc="-1" strike="noStrike">
              <a:solidFill>
                <a:srgbClr val="575f6d"/>
              </a:solidFill>
              <a:latin typeface="Century Schoolbook"/>
            </a:endParaRPr>
          </a:p>
        </p:txBody>
      </p:sp>
      <p:sp>
        <p:nvSpPr>
          <p:cNvPr id="375" name=""/>
          <p:cNvSpPr txBox="1"/>
          <p:nvPr/>
        </p:nvSpPr>
        <p:spPr>
          <a:xfrm>
            <a:off x="457200" y="762120"/>
            <a:ext cx="815328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1.Мызников В.А. «Столярное дело 1 и 2 ч.»</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2.Деркачев А.А., Карабанов И.А., Щур Н.К., Гулак К.Г. «Технический труд 5-7 классы»  </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3.Федотов Г.Н. «Дарите людям красоту»</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4.«Декоративно-прикладное творчество». О.Н.Маркелова.</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дополнительное образование)</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5.Технология « Творческие проекты».А.В.Жадаева, А.В.Пяткова.</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6. 300 советов любителям художественных работ по дереву.В.Д.Тусарчук.</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7.Справочник столяра и плотников В.П.Жуков, Леонтьев П.А.</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8.Техническое творчество учащихся Ю.С.Столяров., Д.М.Комской.</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9.Технология обработки древесины. 5-9 И.А.Карабанов</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ФОРМУЛИРОВАНИЕ ПРОБЛЕМЫ</a:t>
            </a:r>
            <a:endParaRPr b="0" lang="en-US" sz="4000" spc="-1" strike="noStrike">
              <a:solidFill>
                <a:srgbClr val="575f6d"/>
              </a:solidFill>
              <a:latin typeface="Century Schoolbook"/>
            </a:endParaRPr>
          </a:p>
        </p:txBody>
      </p:sp>
      <p:sp>
        <p:nvSpPr>
          <p:cNvPr id="354" name=""/>
          <p:cNvSpPr txBox="1"/>
          <p:nvPr/>
        </p:nvSpPr>
        <p:spPr>
          <a:xfrm>
            <a:off x="456840" y="685800"/>
            <a:ext cx="792468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Маме очень неудобно одевать обувь стоя в прихожей и выполнять различные работы на кухне.</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Для решения этой проблемы я придумал создать такое изделие, чтобы оно было внешне красивым и полезным. На следующий день  я пришел в школу и посоветовался с учителем технологии сделать скамеечку. Учитель посоветовала, что можно сделать стул, с контейнером для  вещей.                                                                                  </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И так, решено сделать  мягкий стул – пуфик.</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ИСТОРИЧЕСКАЯ СПРАВКА</a:t>
            </a:r>
            <a:br>
              <a:rPr sz="3600"/>
            </a:br>
            <a:endParaRPr b="0" lang="en-US" sz="3600" spc="-1" strike="noStrike">
              <a:solidFill>
                <a:srgbClr val="575f6d"/>
              </a:solidFill>
              <a:latin typeface="Century Schoolbook"/>
            </a:endParaRPr>
          </a:p>
        </p:txBody>
      </p:sp>
      <p:sp>
        <p:nvSpPr>
          <p:cNvPr id="356" name=""/>
          <p:cNvSpPr txBox="1"/>
          <p:nvPr/>
        </p:nvSpPr>
        <p:spPr>
          <a:xfrm>
            <a:off x="228600" y="685800"/>
            <a:ext cx="8686800" cy="58672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d2611c"/>
                </a:solidFill>
                <a:uFillTx/>
                <a:latin typeface="Times New Roman"/>
                <a:ea typeface="Times New Roman"/>
                <a:hlinkClick r:id="rId1"/>
              </a:rPr>
              <a:t>Пуфики</a:t>
            </a:r>
            <a:r>
              <a:rPr b="0" lang="ru-RU" sz="2200" spc="-1" strike="noStrike">
                <a:solidFill>
                  <a:srgbClr val="000000"/>
                </a:solidFill>
                <a:latin typeface="Times New Roman"/>
                <a:ea typeface="Times New Roman"/>
              </a:rPr>
              <a:t>  - это,  пожалуй, один из наиболее многофункциональных и необычных мебельных элементов в человеческом жилище.  Пуфики  можно использовать не только в домашней обстановке, но и в  детских садах и других общественных учреждениях. Они удобны и компактны. Пуфики являются  не чем иным, как симпатичными мягкими заменителями низких табуретов. </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Пуфы обладают незначительным весом, что сказывается на их мобильности. Если они надоедают в одном помещении, их с легкостью можно перенести в другое. Поломать пуфы так же невозможно, как и травмироваться с их помощью. Из-за этих свойств, пуфики являются идеальной  мягкой мебелью для детских комнат. Не имея ни каркаса, ни подлокотников и какого-либо крепежа, эта домашняя и офисная мебель считается эталоном   безопасности.  Остановив свой выбор на столь эксклюзивной и необычной мебели, можно быть уверенным в том, что наш интерьер обретет ту долю  индивидуального обаяния.</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15328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ПРЕДЕЛЕНИЕ ПОТРЕБНОСТИ В ПРОЕКТЕ </a:t>
            </a:r>
            <a:br>
              <a:rPr sz="2700"/>
            </a:br>
            <a:endParaRPr b="0" lang="en-US" sz="3200" spc="-1" strike="noStrike">
              <a:solidFill>
                <a:srgbClr val="575f6d"/>
              </a:solidFill>
              <a:latin typeface="Century Schoolbook"/>
            </a:endParaRPr>
          </a:p>
        </p:txBody>
      </p:sp>
      <p:pic>
        <p:nvPicPr>
          <p:cNvPr id="358" name="Содержимое 5" descr=""/>
          <p:cNvPicPr/>
          <p:nvPr/>
        </p:nvPicPr>
        <p:blipFill>
          <a:blip r:embed="rId1"/>
          <a:stretch/>
        </p:blipFill>
        <p:spPr>
          <a:xfrm>
            <a:off x="457200" y="841320"/>
            <a:ext cx="8156520" cy="566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380880"/>
            <a:ext cx="7467480" cy="1036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ОИСК АЛЬТЕРНАТИВНЫХ ВАРИАНТОВ ПРОЕКТА </a:t>
            </a:r>
            <a:br>
              <a:rPr sz="2700"/>
            </a:br>
            <a:endParaRPr b="0" lang="en-US" sz="3200" spc="-1" strike="noStrike">
              <a:solidFill>
                <a:srgbClr val="575f6d"/>
              </a:solidFill>
              <a:latin typeface="Century Schoolbook"/>
            </a:endParaRPr>
          </a:p>
        </p:txBody>
      </p:sp>
      <p:sp>
        <p:nvSpPr>
          <p:cNvPr id="360" name=""/>
          <p:cNvSpPr txBox="1"/>
          <p:nvPr/>
        </p:nvSpPr>
        <p:spPr>
          <a:xfrm>
            <a:off x="380880" y="914040"/>
            <a:ext cx="8229600" cy="5715000"/>
          </a:xfrm>
          <a:prstGeom prst="rect">
            <a:avLst/>
          </a:prstGeom>
          <a:noFill/>
          <a:ln w="0">
            <a:noFill/>
          </a:ln>
        </p:spPr>
        <p:txBody>
          <a:bodyPr anchor="t">
            <a:normAutofit fontScale="97000"/>
          </a:bodyPr>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иступая к разработке проекта, я определяю, какие требования следует учитывать при  изготовлении изделия.</a:t>
            </a:r>
            <a:endParaRPr b="0" lang="en-US" sz="26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Назначение: подарок                  </a:t>
            </a:r>
            <a:endParaRPr b="0" lang="en-US" sz="26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и выборе конструкции и технологии изготовление данного набора возможны различные варианты. Чтобы выбрать наиболее подходящий вариант, я использовал таблицу морфологического анализа, с ее помощью отобрал нужную форму набора. </a:t>
            </a:r>
            <a:endParaRPr b="0" lang="en-US" sz="26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осле сравнения вариантов конструкции и сделаем вывод: что подходящим для нас является вариант: фанера, квадратная форма, морилка лак, паралон, ткань. Так как время на изготовления уходит меньше, расход материала экономичнее.    </a:t>
            </a:r>
            <a:endParaRPr b="0" lang="en-US" sz="26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0"/>
            <a:ext cx="7467480" cy="144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БОР МАТЕРИАЛОВ, ИНСТРУМЕНТОВ И ОБОРУДОВАНИЙ ДЛЯ ИЗГОТОВЛЕНИЯ ИЗДЕЛИЯ</a:t>
            </a:r>
            <a:br>
              <a:rPr sz="2700"/>
            </a:br>
            <a:endParaRPr b="0" lang="en-US" sz="2800" spc="-1" strike="noStrike">
              <a:solidFill>
                <a:srgbClr val="575f6d"/>
              </a:solidFill>
              <a:latin typeface="Century Schoolbook"/>
            </a:endParaRPr>
          </a:p>
        </p:txBody>
      </p:sp>
      <p:sp>
        <p:nvSpPr>
          <p:cNvPr id="362" name=""/>
          <p:cNvSpPr txBox="1"/>
          <p:nvPr/>
        </p:nvSpPr>
        <p:spPr>
          <a:xfrm>
            <a:off x="457200" y="990360"/>
            <a:ext cx="8305920" cy="54831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сследуя различные материалы, применяемые при изготовлении пуфа, я нашел, на мой взгляд, оптимальное соотношение между стоимостью материала, сложностью обработки этого материала. Из возможных материалов (ДСП, ДВП, пластмасса, металла ), наиболее приемлемой оказалось фанера, так как стоимость относительно не велика, она легко обрабатывается. Металл непригоден для изготовления данного изделия, потому что трудно обрабатывается. Пластмасса  не подходит из-за имеющихся в своем составе химических связующих компонентов.</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837720"/>
            <a:ext cx="8077320" cy="56358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Для успешного выполнения проекта в школьной мастерской имеются все необходимое.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еречень инструментов: линейка, карандаш, угольник, электролобзик, дрель, шуруповёрт. </a:t>
            </a:r>
            <a:endParaRPr b="0" lang="en-US" sz="3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Рабочие места  –  столярный верстак с приспособлениями. Во время изготовления спроектированного изделия с минимальными затратами времени и материалов.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28600"/>
            <a:ext cx="8381880" cy="64008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Times New Roman"/>
                <a:ea typeface="Times New Roman"/>
              </a:rPr>
              <a:t>Правила  при выпиливании:</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правляющий пилку лобэикасовместить с линией разметки, чтобы линия осталась на заготовке,  и сделать пропил  и отпилить деталь.</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конце пиления ослабить нажим на лобзик, чтобы не скалывать волокна при выходе пилы.</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Times New Roman"/>
                <a:ea typeface="Times New Roman"/>
              </a:rPr>
              <a:t>Особое внимание обращать:</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положение рук при пилении: надежно удерживаем электролобзик  обеими руками.</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 время пиления контролировать  положения пилы относительно разметки.</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то,  что линия разметки всегда должна оставаться на заготовке.</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ле окончания работы рабочее место необходимо привести в порядок,  убрать  весь инструмент с верстака и подмести мусор.</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56840" y="228240"/>
            <a:ext cx="8381880" cy="662940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кономический расчет проекта</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Себестоимость изделия - это все затраты, понесённые при его изготовлении. В себестоимость могут входить стоимость использованных материалов, электроэнергии, коммунальные услуги, аренда помещения, амортизация оборудования, транспортные расходы, заработная  плата, налоги и другие прямые и косвенные затраты понесённые при изготовлении изделия. Но школа  является бесплатными образовательным учреждением. В нашем случае проект выполнялся для подарка маме, поэтому затраты минимальные.</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r>
              <a:rPr b="0" lang="ru-RU" sz="1300" spc="-1" strike="noStrike">
                <a:solidFill>
                  <a:srgbClr val="000000"/>
                </a:solidFill>
                <a:latin typeface="Century Schoolbook"/>
              </a:rPr>
              <a:t>С = Мз + Дз + Эз + Аз + З + Н</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r>
              <a:rPr b="0" lang="ru-RU" sz="1300" spc="-1" strike="noStrike">
                <a:solidFill>
                  <a:srgbClr val="000000"/>
                </a:solidFill>
                <a:latin typeface="Century Schoolbook"/>
              </a:rPr>
              <a:t>4.1. Затраты на материалы (Мз).</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Подсчитаем некоторые затраты на изготовление пуфа. Для изготовления стенок, дна и крышки  использовали школьные  отходы фанеры, значит её стоимость можно не  учитывать, и плюс к ним 28 шт саморезов,  ткань, паралон, морилка и лак.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1. Для сборки стенок использовали саморезы 4*40 кол-во 12 шт. Стоимость 1 самореза 1 рубль.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Значить 12*1= 12рубля.</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1300" spc="-1" strike="noStrike">
                <a:solidFill>
                  <a:srgbClr val="000000"/>
                </a:solidFill>
                <a:latin typeface="Century Schoolbook"/>
              </a:rPr>
              <a:t>2. При креплении </a:t>
            </a:r>
            <a:r>
              <a:rPr b="0" lang="ru-RU" sz="1300" spc="-1" strike="noStrike">
                <a:solidFill>
                  <a:srgbClr val="000000"/>
                </a:solidFill>
                <a:latin typeface="Century Schoolbook"/>
              </a:rPr>
              <a:t>крышки использовали 10 саморезов </a:t>
            </a:r>
            <a:r>
              <a:rPr b="0" lang="be-BY" sz="1300" spc="-1" strike="noStrike">
                <a:solidFill>
                  <a:srgbClr val="000000"/>
                </a:solidFill>
                <a:latin typeface="Century Schoolbook"/>
              </a:rPr>
              <a:t>3*15 и 3*30</a:t>
            </a:r>
            <a:r>
              <a:rPr b="0" lang="ru-RU"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Стоимость 1 самореза  0.7рубля.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Значить 10*0.7= 7 рубля.</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3. Для крепления дна использовали 6 саморезов </a:t>
            </a:r>
            <a:r>
              <a:rPr b="0" lang="be-BY" sz="1300" spc="-1" strike="noStrike">
                <a:solidFill>
                  <a:srgbClr val="000000"/>
                </a:solidFill>
                <a:latin typeface="Century Schoolbook"/>
              </a:rPr>
              <a:t>4*25 </a:t>
            </a:r>
            <a:r>
              <a:rPr b="0" lang="ru-RU" sz="1300" spc="-1" strike="noStrike">
                <a:solidFill>
                  <a:srgbClr val="000000"/>
                </a:solidFill>
                <a:latin typeface="Century Schoolbook"/>
              </a:rPr>
              <a:t>Стоимость 1 самореза  1рубль.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Значить 6*1= 6 рубля.</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Итого на саморезы затрачено 25 рублей.</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4. Но если приобретать все материалы в магазине , можно определить их стоимость : фанера-12х300х340-2 шт., фанера-18х180х280 – 2шт., фанера-12х360х360  -1шт.,фанера-8х280х300 – 1шт.,Стоимость1м</a:t>
            </a:r>
            <a:r>
              <a:rPr b="0" lang="ru-RU" sz="1300" spc="-1" strike="noStrike" baseline="30000">
                <a:solidFill>
                  <a:srgbClr val="000000"/>
                </a:solidFill>
                <a:latin typeface="Century Schoolbook"/>
              </a:rPr>
              <a:t>2</a:t>
            </a:r>
            <a:r>
              <a:rPr b="0" lang="ru-RU" sz="1300" spc="-1" strike="noStrike">
                <a:solidFill>
                  <a:srgbClr val="000000"/>
                </a:solidFill>
                <a:latin typeface="Century Schoolbook"/>
              </a:rPr>
              <a:t> фанеры 12мм-1200р.,стоимость наших заготовок составила: 800р. Лист наждачной бумаги – 10р. 100г. лака ПФ – 20руб, 100г. морилки -10руб.</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Собщ =С1+С2+С3+С4</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entury Schoolbook"/>
              </a:rPr>
              <a:t>Общая стоимость материалов составила- 800+25+10+10+20=825рублей</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хозяин</cp:lastModifiedBy>
  <dcterms:modified xsi:type="dcterms:W3CDTF">2019-03-04T16:22:32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