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9B67A-3464-4C3B-A56A-DF2966FADF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42E9A-CA44-4632-8B67-1C266C6D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C264E-4378-46BA-8389-39E02965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13CB8-0BF8-4534-8834-7BB40A46FB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B2546-7568-46D1-A02E-9E92B882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4132C-3951-4B2D-964D-6C217233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BC31A-9529-440C-8CC7-A4DF10DB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48D8F-0174-459F-B406-B86F2EED3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EED77-5990-47C7-A54D-C87539FC2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805CA-4BA1-4414-B2DD-E317CC46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59025-13FF-4738-8AF1-B98E6A2C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667F3-79B9-4E2C-8B3C-9B4A10AB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ffff"/>
            </a:gs>
            <a:gs pos="100000">
              <a:srgbClr val="78949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ED45EC-687B-4EEC-973D-0C2EE40A2611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ffff"/>
            </a:gs>
            <a:gs pos="100000">
              <a:srgbClr val="78949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8800" y="1714680"/>
            <a:ext cx="777240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оектная деятельность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 уроках технологии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 начальной школе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 её роль в формировании УУД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18572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d0d0d"/>
                </a:solidFill>
                <a:latin typeface="Calibri"/>
              </a:rPr>
              <a:t>Подготовила учитель начальных классов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d0d0d"/>
                </a:solidFill>
                <a:latin typeface="Calibri"/>
              </a:rPr>
              <a:t>Карнакова  Олеся Васильевн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d0d0d"/>
                </a:solidFill>
                <a:latin typeface="Calibri"/>
              </a:rPr>
              <a:t>МАОУ СОШ №19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d0d0d"/>
                </a:solidFill>
                <a:latin typeface="Calibri"/>
              </a:rPr>
              <a:t>г. Улан-Удэ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4500720" y="573120"/>
            <a:ext cx="428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«Спорьте, заблуждайтесь, ошибайтесь, но ради бога, размышляйте, и хотя и криво, да сами»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Г.Э. Лессин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ffff"/>
            </a:gs>
            <a:gs pos="100000">
              <a:srgbClr val="78949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85840" y="6357960"/>
            <a:ext cx="4601880" cy="307080"/>
          </a:xfrm>
          <a:prstGeom prst="rect">
            <a:avLst/>
          </a:prstGeom>
          <a:gradFill rotWithShape="0">
            <a:gsLst>
              <a:gs pos="0">
                <a:srgbClr val="0e819d"/>
              </a:gs>
              <a:gs pos="100000">
                <a:srgbClr val="13add3"/>
              </a:gs>
            </a:gsLst>
            <a:lin ang="16200000"/>
          </a:gradFill>
          <a:ln cap="sq" w="9360">
            <a:solidFill>
              <a:srgbClr val="28a0b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арнакова  Олеся Васильевна учитель начальных классов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214200" y="285840"/>
            <a:ext cx="8715600" cy="337320"/>
          </a:xfrm>
          <a:prstGeom prst="rect">
            <a:avLst/>
          </a:prstGeom>
          <a:gradFill rotWithShape="0">
            <a:gsLst>
              <a:gs pos="0">
                <a:srgbClr val="0e819d"/>
              </a:gs>
              <a:gs pos="100000">
                <a:srgbClr val="13add3"/>
              </a:gs>
            </a:gsLst>
            <a:lin ang="16200000"/>
          </a:gradFill>
          <a:ln cap="sq" w="9360">
            <a:solidFill>
              <a:srgbClr val="28a0b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оектная деятельность на уроках технологии в начальной школе и ее роль в формировании УУ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285840" y="785880"/>
            <a:ext cx="27860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Проект» в рамках образовательной деятельности есть особое результативное действие, совершаемое в специально организованных педагогом безопасных условиях, которые дают ребёнку возможность действовать самостоятельно и получать результат. Этот результат можно увидеть, осмыслить, применить в реальной практической деятель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3071880" y="1214280"/>
            <a:ext cx="4143240" cy="1285920"/>
          </a:xfrm>
          <a:prstGeom prst="ellipse">
            <a:avLst/>
          </a:prstGeom>
          <a:solidFill>
            <a:srgbClr val="2da2bf"/>
          </a:solidFill>
          <a:ln cap="sq"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1 класс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лан работы над изделием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опросы юного техноло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4286160" y="2357280"/>
            <a:ext cx="4143600" cy="1285920"/>
          </a:xfrm>
          <a:prstGeom prst="ellipse">
            <a:avLst/>
          </a:prstGeom>
          <a:solidFill>
            <a:srgbClr val="2da2bf"/>
          </a:solidFill>
          <a:ln cap="sq"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2 клас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лан изготовления издел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Осмысление последовательности операц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3357720" y="3571920"/>
            <a:ext cx="4143240" cy="1285920"/>
          </a:xfrm>
          <a:prstGeom prst="ellipse">
            <a:avLst/>
          </a:prstGeom>
          <a:solidFill>
            <a:srgbClr val="2da2bf"/>
          </a:solidFill>
          <a:ln cap="sq"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3 клас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лан работы над издели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Алгоритм выполнения опер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714920"/>
            <a:ext cx="4143240" cy="1285920"/>
          </a:xfrm>
          <a:prstGeom prst="ellipse">
            <a:avLst/>
          </a:prstGeom>
          <a:solidFill>
            <a:srgbClr val="2da2bf"/>
          </a:solidFill>
          <a:ln cap="sq"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4 клас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лан работы над проект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ffff"/>
            </a:gs>
            <a:gs pos="100000">
              <a:srgbClr val="78949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4200" y="285840"/>
            <a:ext cx="8715600" cy="337320"/>
          </a:xfrm>
          <a:prstGeom prst="rect">
            <a:avLst/>
          </a:prstGeom>
          <a:gradFill rotWithShape="0">
            <a:gsLst>
              <a:gs pos="0">
                <a:srgbClr val="0e819d"/>
              </a:gs>
              <a:gs pos="100000">
                <a:srgbClr val="13add3"/>
              </a:gs>
            </a:gsLst>
            <a:lin ang="16200000"/>
          </a:gradFill>
          <a:ln cap="sq" w="9360">
            <a:solidFill>
              <a:srgbClr val="28a0b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оектная деятельность на уроках технологии в начальной школе и ее роль в формировании УУ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285840" y="6357960"/>
            <a:ext cx="4601880" cy="307080"/>
          </a:xfrm>
          <a:prstGeom prst="rect">
            <a:avLst/>
          </a:prstGeom>
          <a:gradFill rotWithShape="0">
            <a:gsLst>
              <a:gs pos="0">
                <a:srgbClr val="0e819d"/>
              </a:gs>
              <a:gs pos="100000">
                <a:srgbClr val="13add3"/>
              </a:gs>
            </a:gsLst>
            <a:lin ang="16200000"/>
          </a:gradFill>
          <a:ln cap="sq" w="9360">
            <a:solidFill>
              <a:srgbClr val="28a0b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арнакова  Олеся Васильевна  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357120" y="1000080"/>
            <a:ext cx="37148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тод проекта предполагае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язь обучения с жизнью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витие самостоятельности и активности детей в учебном процесс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вития умения адаптироваться к действитель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мение общаться, сотрудничать с детьми в различных видах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тод проектов помогает научить детей ориентироваться в мире информации, добывать ее самостоятельно, усваивать в виде знаний, рационально подходить к процессу познания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. е. учит учить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4071960" y="3786120"/>
            <a:ext cx="444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157640" y="1030320"/>
            <a:ext cx="4397400" cy="1185840"/>
            <a:chOff x="4157640" y="1030320"/>
            <a:chExt cx="4397400" cy="118584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4157640" y="1030320"/>
              <a:ext cx="439740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4892760" y="1279440"/>
              <a:ext cx="2927160" cy="6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Урок-проект  курса технологии УМК «Перспектива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3870360" y="2389320"/>
            <a:ext cx="4971960" cy="1325520"/>
            <a:chOff x="3870360" y="2389320"/>
            <a:chExt cx="4971960" cy="1325520"/>
          </a:xfrm>
        </p:grpSpPr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3870360" y="2389320"/>
              <a:ext cx="4971960" cy="13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4691160" y="2657520"/>
              <a:ext cx="333036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рактическая ситуация предметные умения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роектная деятельност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870360" y="3749760"/>
            <a:ext cx="5111640" cy="2538360"/>
            <a:chOff x="3870360" y="3749760"/>
            <a:chExt cx="5111640" cy="253836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3870360" y="3749760"/>
              <a:ext cx="5111640" cy="25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4711680" y="4192560"/>
              <a:ext cx="343224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оздание практической ситуации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подготовка к выполнению работ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оставление плана работ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выполнение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оценивание работы по разным основаниям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презентаци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083280" y="2036880"/>
            <a:ext cx="417600" cy="477720"/>
            <a:chOff x="6083280" y="2036880"/>
            <a:chExt cx="417600" cy="477720"/>
          </a:xfrm>
        </p:grpSpPr>
        <p:pic>
          <p:nvPicPr>
            <p:cNvPr id="65" name="" descr=""/>
            <p:cNvPicPr/>
            <p:nvPr/>
          </p:nvPicPr>
          <p:blipFill>
            <a:blip r:embed="rId4"/>
            <a:stretch/>
          </p:blipFill>
          <p:spPr>
            <a:xfrm>
              <a:off x="6083280" y="2036880"/>
              <a:ext cx="417600" cy="47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 rot="5400000">
              <a:off x="6149520" y="2144520"/>
              <a:ext cx="2952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156360" y="3535200"/>
            <a:ext cx="412560" cy="479520"/>
            <a:chOff x="6156360" y="3535200"/>
            <a:chExt cx="412560" cy="479520"/>
          </a:xfrm>
        </p:grpSpPr>
        <p:pic>
          <p:nvPicPr>
            <p:cNvPr id="68" name="" descr=""/>
            <p:cNvPicPr/>
            <p:nvPr/>
          </p:nvPicPr>
          <p:blipFill>
            <a:blip r:embed="rId5"/>
            <a:stretch/>
          </p:blipFill>
          <p:spPr>
            <a:xfrm>
              <a:off x="6156360" y="3535200"/>
              <a:ext cx="41256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 rot="5400000">
              <a:off x="6221520" y="3645000"/>
              <a:ext cx="29520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4797360" y="2749680"/>
            <a:ext cx="399960" cy="466560"/>
            <a:chOff x="4797360" y="2749680"/>
            <a:chExt cx="399960" cy="466560"/>
          </a:xfrm>
        </p:grpSpPr>
        <p:pic>
          <p:nvPicPr>
            <p:cNvPr id="71" name="" descr=""/>
            <p:cNvPicPr/>
            <p:nvPr/>
          </p:nvPicPr>
          <p:blipFill>
            <a:blip r:embed="rId6"/>
            <a:stretch/>
          </p:blipFill>
          <p:spPr>
            <a:xfrm>
              <a:off x="4797360" y="2749680"/>
              <a:ext cx="39996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4857840" y="2786040"/>
              <a:ext cx="2826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7510320" y="3035160"/>
            <a:ext cx="398520" cy="393840"/>
            <a:chOff x="7510320" y="3035160"/>
            <a:chExt cx="398520" cy="393840"/>
          </a:xfrm>
        </p:grpSpPr>
        <p:pic>
          <p:nvPicPr>
            <p:cNvPr id="74" name="" descr=""/>
            <p:cNvPicPr/>
            <p:nvPr/>
          </p:nvPicPr>
          <p:blipFill>
            <a:blip r:embed="rId7"/>
            <a:stretch/>
          </p:blipFill>
          <p:spPr>
            <a:xfrm>
              <a:off x="7510320" y="3035160"/>
              <a:ext cx="398520" cy="3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7572240" y="3071880"/>
              <a:ext cx="28260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ffff"/>
            </a:gs>
            <a:gs pos="100000">
              <a:srgbClr val="78949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85840" y="6357960"/>
            <a:ext cx="4608000" cy="307080"/>
          </a:xfrm>
          <a:prstGeom prst="rect">
            <a:avLst/>
          </a:prstGeom>
          <a:gradFill rotWithShape="0">
            <a:gsLst>
              <a:gs pos="0">
                <a:srgbClr val="0e819d"/>
              </a:gs>
              <a:gs pos="100000">
                <a:srgbClr val="13add3"/>
              </a:gs>
            </a:gsLst>
            <a:lin ang="16200000"/>
          </a:gradFill>
          <a:ln cap="sq" w="9360">
            <a:solidFill>
              <a:srgbClr val="28a0b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арнакова  Олеся Васильевна. 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214200" y="357120"/>
            <a:ext cx="8715600" cy="337320"/>
          </a:xfrm>
          <a:prstGeom prst="rect">
            <a:avLst/>
          </a:prstGeom>
          <a:gradFill rotWithShape="0">
            <a:gsLst>
              <a:gs pos="0">
                <a:srgbClr val="0e819d"/>
              </a:gs>
              <a:gs pos="100000">
                <a:srgbClr val="13add3"/>
              </a:gs>
            </a:gsLst>
            <a:lin ang="16200000"/>
          </a:gradFill>
          <a:ln cap="sq" w="9360">
            <a:solidFill>
              <a:srgbClr val="28a0b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оектная деятельность на уроках технологии в начальной школе и ее роль в формировании УУ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1643040" y="15717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214200" y="940320"/>
            <a:ext cx="5143680" cy="54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од проекта формирует у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скников начальной школы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стную картину мира (образа мира) на основе познания, освоения трудовых умений, осмысления технологического процесса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о профессиях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равственное и позитивное отношение к окружающему миру (природа, люди, производство)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ыбирать способы деятельности, реализовывать его в рамках практической деятельности, нести ответственность за результат своего труда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к равноправному сотрудничеству на основе уважения личности другого человека; толерантность к мнению и позиции других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знание себя как гражданина России в поликультурном многонациональном обществе на основе знакомства с ремёслами народов Росси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ение проектной деятельности в рамках курса «Технологии» обеспечит условия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личностного развития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ое включает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ую активность, инициативу школьника на основе связи трудового и технологического образования с жизненным опытом и системой ценностей ребёнка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онятийно-логического и образно-художественного мышления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й потенциал и формирование умения решать проблемы в учебных, социальных и нестандартных ситуациях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формирования универсальных учебных действий (УУД)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е включают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работать с технологической картой, выполнять технологические операции при изготовлении любых изделий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амостоятельно оценивать свой труд (изделие)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использовать теоретические знания в практической деятельности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работать с разными материалами и инструментами (природные материалы, пластичные материалы, бумага, ткани, конструктор и пр.)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облюдать технику безопасности и правила работы с инструментами при организации рабочего места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6572160" y="785880"/>
            <a:ext cx="1143000" cy="1214280"/>
          </a:xfrm>
          <a:prstGeom prst="ellipse">
            <a:avLst/>
          </a:prstGeom>
          <a:solidFill>
            <a:srgbClr val="ffff00"/>
          </a:solidFill>
          <a:ln cap="sq" w="9360">
            <a:solidFill>
              <a:srgbClr val="da19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еник учитс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6215040" y="1928880"/>
            <a:ext cx="1857240" cy="642960"/>
          </a:xfrm>
          <a:prstGeom prst="ellipse">
            <a:avLst/>
          </a:prstGeom>
          <a:solidFill>
            <a:srgbClr val="92d050"/>
          </a:solidFill>
          <a:ln cap="sq" w="9360">
            <a:solidFill>
              <a:srgbClr val="3560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авить цель, определять задач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6072120" y="2571840"/>
            <a:ext cx="2214720" cy="642960"/>
          </a:xfrm>
          <a:prstGeom prst="ellipse">
            <a:avLst/>
          </a:prstGeom>
          <a:solidFill>
            <a:srgbClr val="00b0f0"/>
          </a:solidFill>
          <a:ln cap="sq" w="9360">
            <a:solidFill>
              <a:srgbClr val="28a0b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относить  цель и  условия  ее достиж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5786280" y="3143160"/>
            <a:ext cx="2714760" cy="71460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ланировать действия исходя из своих возможност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5572080" y="3786120"/>
            <a:ext cx="3286080" cy="857160"/>
          </a:xfrm>
          <a:prstGeom prst="ellipse">
            <a:avLst/>
          </a:prstGeom>
          <a:solidFill>
            <a:srgbClr val="35385a"/>
          </a:solidFill>
          <a:ln cap="sq"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использовать предметные знания для реализации цел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5286240" y="4572000"/>
            <a:ext cx="3500640" cy="928800"/>
          </a:xfrm>
          <a:prstGeom prst="ellipse">
            <a:avLst/>
          </a:prstGeom>
          <a:solidFill>
            <a:srgbClr val="a3171e"/>
          </a:solidFill>
          <a:ln cap="sq"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различать виды ответственности внутри своей работ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5143680" y="5429160"/>
            <a:ext cx="3786120" cy="1000080"/>
          </a:xfrm>
          <a:prstGeom prst="ellipse">
            <a:avLst/>
          </a:prstGeom>
          <a:solidFill>
            <a:srgbClr val="00b050"/>
          </a:solidFill>
          <a:ln cap="sq"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формлять и представлять результаты проек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ffff"/>
            </a:gs>
            <a:gs pos="100000">
              <a:srgbClr val="78949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85840" y="6357960"/>
            <a:ext cx="4568400" cy="307080"/>
          </a:xfrm>
          <a:prstGeom prst="rect">
            <a:avLst/>
          </a:prstGeom>
          <a:gradFill rotWithShape="0">
            <a:gsLst>
              <a:gs pos="0">
                <a:srgbClr val="0e819d"/>
              </a:gs>
              <a:gs pos="100000">
                <a:srgbClr val="13add3"/>
              </a:gs>
            </a:gsLst>
            <a:lin ang="16200000"/>
          </a:gradFill>
          <a:ln cap="sq" w="9360">
            <a:solidFill>
              <a:srgbClr val="28a0b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арнакова Олеся Васильевна. 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285840" y="1020600"/>
            <a:ext cx="38574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ная деятельность вошла в уроки трудового обучения как естественная часть современного решения проблемы развивающего обучения. Ее появление в общеобразовательной школе – требование времени. Задача педагогов заключается в том, чтобы принять и реализовать это требование, полноценно использовать общеобразовательные и развивающие возможности учебных проек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214200" y="357120"/>
            <a:ext cx="8715600" cy="337320"/>
          </a:xfrm>
          <a:prstGeom prst="rect">
            <a:avLst/>
          </a:prstGeom>
          <a:gradFill rotWithShape="0">
            <a:gsLst>
              <a:gs pos="0">
                <a:srgbClr val="0e819d"/>
              </a:gs>
              <a:gs pos="100000">
                <a:srgbClr val="13add3"/>
              </a:gs>
            </a:gsLst>
            <a:lin ang="16200000"/>
          </a:gradFill>
          <a:ln cap="sq" w="9360">
            <a:solidFill>
              <a:srgbClr val="28a0b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оектная деятельность на уроках технологии в начальной школе и ее роль в формировании УУ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11520" y="1103400"/>
            <a:ext cx="1492560" cy="1719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657760" y="1530360"/>
            <a:ext cx="2486160" cy="20908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651200" y="2457360"/>
            <a:ext cx="1730520" cy="1650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010200" y="2955960"/>
            <a:ext cx="2494080" cy="2262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4T00:13:52Z</dcterms:created>
  <dc:creator>Admin</dc:creator>
  <dc:description/>
  <dc:language>en-US</dc:language>
  <cp:lastModifiedBy>Admin</cp:lastModifiedBy>
  <dcterms:modified xsi:type="dcterms:W3CDTF">2010-12-20T10:56:40Z</dcterms:modified>
  <cp:revision>14</cp:revision>
  <dc:subject/>
  <dc:title>Проектная деятельность на уроках технологии в начальной школе и её роль в формировании УУД. </dc:title>
</cp:coreProperties>
</file>