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70EE-F1E4-4CEB-9DD5-5E8CE1AE8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C704-AAE4-43FB-AE9E-A7EB40D3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4B84-6448-40DD-93D0-E047A65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5629-BCE7-4831-8D67-DB94AAB0B4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4BBD-18BD-48BE-AFF9-0078F09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B044-9118-4C75-BAFF-50774F8D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6595-5CB9-48E2-9262-EC7A14D8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493B-16B5-44AE-BDCD-1C0952A0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5B55-53B6-40E0-8905-66871D9B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A9FF-EA6C-46E0-BB4A-A12C425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25F2-B636-4EAF-820A-2A6F3D4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B3A9-7617-4C28-94B0-286278EB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C054E-98FF-4942-89AB-4B613D83BF7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8800" y="1714680"/>
            <a:ext cx="777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чальной школ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её роль в формировании У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8572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Подготовила учитель начальных класс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Карнакова  Олеся Васильев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МАОУ СОШ №1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г. Улан-Уд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73120"/>
            <a:ext cx="428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порьте, заблуждайтесь, ошибайтесь, но ради бога, размышляйте, и хотя и криво, да сами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.Э. Лессин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5840" y="6357960"/>
            <a:ext cx="460188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 Олеся Васильевна 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85840" y="785880"/>
            <a:ext cx="27860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оект» в рамках образовательной деятельности есть особое результативное действие, совершаемое в специально организованных педагогом безопасных условиях, которые дают ребёнку возможность действовать самостоятельно и получать результат. Этот результат можно увидеть, осмыслить, применить в реальной практическ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071880" y="1214280"/>
            <a:ext cx="414324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 клас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изделие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просы юного технол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286160" y="2357280"/>
            <a:ext cx="414360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изготовления издел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мысление последовательности опера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357720" y="3571920"/>
            <a:ext cx="414324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издел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лгоритм выполнения оп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714920"/>
            <a:ext cx="414324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4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проект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6357960"/>
            <a:ext cx="460188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 Олеся Васильевна 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57120" y="1000080"/>
            <a:ext cx="371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проекта предполаг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зь обучения с жизн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амостоятельности и активности детей в учебном процесс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я умения адаптироваться к действи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общаться, сотрудничать с детьми в различны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проектов помогает научить детей ориентироваться в мире информации, добывать ее самостоятельно, усваивать в виде знаний, рационально подходить к процессу позн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 е. учит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071960" y="3786120"/>
            <a:ext cx="44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57640" y="1030320"/>
            <a:ext cx="4397400" cy="1185840"/>
            <a:chOff x="4157640" y="1030320"/>
            <a:chExt cx="4397400" cy="11858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157640" y="1030320"/>
              <a:ext cx="43974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892760" y="1279440"/>
              <a:ext cx="29271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ок-проект  курса технологии УМК «Перспектива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70360" y="2389320"/>
            <a:ext cx="4971960" cy="1325520"/>
            <a:chOff x="3870360" y="2389320"/>
            <a:chExt cx="4971960" cy="132552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870360" y="2389320"/>
              <a:ext cx="497196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91160" y="2657520"/>
              <a:ext cx="333036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актическая ситуация предметные ум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оект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0360" y="3749760"/>
            <a:ext cx="5111640" cy="2538360"/>
            <a:chOff x="3870360" y="3749760"/>
            <a:chExt cx="5111640" cy="253836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3870360" y="3749760"/>
              <a:ext cx="511164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711680" y="4192560"/>
              <a:ext cx="34322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здание практической ситуац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одготовка к выполнению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ставление плана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выполнение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оценивание работы по разным основания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резентаци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83280" y="2036880"/>
            <a:ext cx="417600" cy="477720"/>
            <a:chOff x="6083280" y="2036880"/>
            <a:chExt cx="417600" cy="4777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6083280" y="2036880"/>
              <a:ext cx="41760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5400000">
              <a:off x="6149520" y="2144520"/>
              <a:ext cx="295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56360" y="3535200"/>
            <a:ext cx="412560" cy="479520"/>
            <a:chOff x="6156360" y="3535200"/>
            <a:chExt cx="412560" cy="47952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156360" y="3535200"/>
              <a:ext cx="41256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5400000">
              <a:off x="6221520" y="3645000"/>
              <a:ext cx="2952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97360" y="2749680"/>
            <a:ext cx="399960" cy="466560"/>
            <a:chOff x="4797360" y="2749680"/>
            <a:chExt cx="399960" cy="466560"/>
          </a:xfrm>
        </p:grpSpPr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797360" y="2749680"/>
              <a:ext cx="39996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857840" y="2786040"/>
              <a:ext cx="2826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510320" y="3035160"/>
            <a:ext cx="398520" cy="393840"/>
            <a:chOff x="7510320" y="3035160"/>
            <a:chExt cx="398520" cy="393840"/>
          </a:xfrm>
        </p:grpSpPr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7510320" y="3035160"/>
              <a:ext cx="39852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572240" y="3071880"/>
              <a:ext cx="282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5840" y="6357960"/>
            <a:ext cx="46080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 Олеся Васильевна.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14200" y="940320"/>
            <a:ext cx="51436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проекта формирует у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ов начальной школы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ую картину мира (образа мира) на основе познания, освоения трудовых умений, осмысления технологического процесс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 профессиях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и позитивное отношение к окружающему миру (природа, люди, производство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бирать способы деятельности, реализовывать его в рамках практической деятельности, нести ответственность за результат своего труд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равноправному сотрудничеству на основе уважения личности другого человека; толерантность к мнению и позиции других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ебя как гражданина России в поликультурном многонациональном обществе на основе знакомства с ремёслами народов Росс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роектной деятельности в рамках курса «Технологии» обеспечит услов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чностного развит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включает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ую активность, инициативу школьника на основе связи трудового и технологического образования с жизненным опытом и системой ценностей ребён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ятийно-логического и образно-художественного мышле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отенциал и формирование умения решать проблемы в учебных, социальных и нестандартных ситуациях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универсальных учебных действий (УУД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ключают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технологической картой, выполнять технологические операции при изготовлении любых изделий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оценивать свой труд (изделие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теоретические знания в практической деятельност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разными материалами и инструментами (природные материалы, пластичные материалы, бумага, ткани, конструктор и пр.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блюдать технику безопасности и правила работы с инструментами при организации рабочего мес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572160" y="785880"/>
            <a:ext cx="1143000" cy="1214280"/>
          </a:xfrm>
          <a:prstGeom prst="ellipse">
            <a:avLst/>
          </a:prstGeom>
          <a:solidFill>
            <a:srgbClr val="ffff00"/>
          </a:solidFill>
          <a:ln cap="sq" w="9360">
            <a:solidFill>
              <a:srgbClr val="da19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к учи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6215040" y="1928880"/>
            <a:ext cx="1857240" cy="642960"/>
          </a:xfrm>
          <a:prstGeom prst="ellipse">
            <a:avLst/>
          </a:prstGeom>
          <a:solidFill>
            <a:srgbClr val="92d050"/>
          </a:solidFill>
          <a:ln cap="sq" w="9360">
            <a:solidFill>
              <a:srgbClr val="3560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ть цель, определять задач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072120" y="2571840"/>
            <a:ext cx="2214720" cy="642960"/>
          </a:xfrm>
          <a:prstGeom prst="ellipse">
            <a:avLst/>
          </a:prstGeom>
          <a:solidFill>
            <a:srgbClr val="00b0f0"/>
          </a:solidFill>
          <a:ln cap="sq" w="9360">
            <a:solidFill>
              <a:srgbClr val="28a0b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относить  цель и  условия  ее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786280" y="3143160"/>
            <a:ext cx="2714760" cy="714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нировать действия исходя из своих возмож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572080" y="3786120"/>
            <a:ext cx="3286080" cy="857160"/>
          </a:xfrm>
          <a:prstGeom prst="ellipse">
            <a:avLst/>
          </a:prstGeom>
          <a:solidFill>
            <a:srgbClr val="35385a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спользовать предметные знания для реализации 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286240" y="4572000"/>
            <a:ext cx="3500640" cy="928800"/>
          </a:xfrm>
          <a:prstGeom prst="ellipse">
            <a:avLst/>
          </a:prstGeom>
          <a:solidFill>
            <a:srgbClr val="a3171e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личать виды ответственности внутри своей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143680" y="5429160"/>
            <a:ext cx="3786120" cy="1000080"/>
          </a:xfrm>
          <a:prstGeom prst="ellipse">
            <a:avLst/>
          </a:prstGeom>
          <a:solidFill>
            <a:srgbClr val="00b05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формлять и представлять результаты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5840" y="6357960"/>
            <a:ext cx="45684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Олеся Васильевна.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85840" y="1020600"/>
            <a:ext cx="3857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ная деятельность вошла в уроки трудового обучения как естественная часть современного решения проблемы развивающего обучения. Ее появление в общеобразовательной школе – требование времени. Задача педагогов заключается в том, чтобы принять и реализовать это требование, полноценно использовать общеобразовательные и развивающие возможности учебных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11520" y="1103400"/>
            <a:ext cx="1492560" cy="171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7760" y="1530360"/>
            <a:ext cx="2486160" cy="2090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51200" y="2457360"/>
            <a:ext cx="173052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10200" y="2955960"/>
            <a:ext cx="24940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Admin</cp:lastModifiedBy>
  <dcterms:modified xsi:type="dcterms:W3CDTF">2010-12-20T10:56:40Z</dcterms:modified>
  <cp:revision>14</cp:revision>
  <dc:subject/>
  <dc:title>Проектная деятельность на уроках технологии в начальной школе и её роль в формировании УУД. </dc:title>
</cp:coreProperties>
</file>