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65F-0CB3-45E8-A949-00149F8D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A81-672B-4F31-9678-89D21857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064-190B-40B1-BCBF-9491783C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F19-5786-48C0-B080-5DC68C48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7434F-B075-4287-AB78-DE505DB9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2232F-B7D3-4AD9-BCE4-A0C152C0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E2D4C-82FE-4475-B28D-5CE51B0C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3161C-0E6E-4B80-A01D-31526418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6299B-5C51-4C6A-92FF-46A4C36F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9F9ED-1E7C-41CD-B351-6CE0BF74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8973E-02FB-4A45-9E49-BAE359EE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3FA3-375F-4CC2-B1AE-140AF910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4379A-259D-492F-9D15-16A37E33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F08E6-9B83-4145-98DC-7F56DF47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ADD05-20AF-485F-B773-BD469189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B9258-6E33-4558-A9EF-B3832807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395A9-EE79-49AB-8767-0F1FEB53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CDE-3597-4620-990D-F03D6BA8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FB8-73B6-4B56-9467-08B9E378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DC0-1C95-4EC1-974A-5C50420F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D2F-ED12-4733-86B4-A2B875D7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F2D-75F7-4DC6-BA19-ABDBF48E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F1B-9BCA-4ADB-96C8-8C68C30B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79E-212F-4AE6-817D-37354C6D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78CC-E968-45B9-BC7D-B20932F601D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8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7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9134-863A-4FAD-A9F9-0AB0E168C67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3e3ff"/>
                </a:solidFill>
                <a:latin typeface="Arial"/>
              </a:rPr>
              <a:t>ФИНЛЯНДИЯ </a:t>
            </a:r>
            <a:br>
              <a:rPr sz="8000"/>
            </a:br>
            <a:r>
              <a:rPr b="0" lang="ru-RU" sz="8000" spc="-1" strike="noStrike">
                <a:solidFill>
                  <a:srgbClr val="e3e3ff"/>
                </a:solidFill>
                <a:latin typeface="Arial"/>
              </a:rPr>
              <a:t> SUOMI 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улицах северных городов Финляндии действительно иногда можно встретить олен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384720" cy="2459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59280" y="3068640"/>
            <a:ext cx="2736720" cy="1832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79280" y="4168800"/>
            <a:ext cx="3240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ectangle 24" descr=""/>
          <p:cNvPicPr/>
          <p:nvPr/>
        </p:nvPicPr>
        <p:blipFill>
          <a:blip r:embed="rId1"/>
          <a:stretch/>
        </p:blipFill>
        <p:spPr>
          <a:xfrm>
            <a:off x="2843280" y="4005360"/>
            <a:ext cx="3533760" cy="2651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 rot="264000">
            <a:off x="5292360" y="1989000"/>
            <a:ext cx="3384720" cy="2538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56908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Финны ходят с лыжными палками летом. В Финляндии спортивная ходьба с палками очень популярна в любое время года. 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 rot="21048000">
            <a:off x="250920" y="1844280"/>
            <a:ext cx="38163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87280" y="18900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нны любят танцевать, любят свою народную музыку и песни и не отстают от современных ритм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 rot="21137400">
            <a:off x="178920" y="2492280"/>
            <a:ext cx="3333960" cy="2343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 rot="442200">
            <a:off x="3779640" y="184464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 rot="21082800">
            <a:off x="2484360" y="3860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 rot="516000">
            <a:off x="5579640" y="4076640"/>
            <a:ext cx="324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етив Финляндию, вы останетесь довольны поездкой. Везде вас будут окружать красивая природа, чистый воздух и здоровая эколог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 rot="20727600">
            <a:off x="323640" y="2565360"/>
            <a:ext cx="3166920" cy="2376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 rot="637800">
            <a:off x="5580000" y="2491920"/>
            <a:ext cx="3097440" cy="2143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 rot="1000800">
            <a:off x="5940360" y="4365360"/>
            <a:ext cx="2665440" cy="199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6836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етив Финляндию, вы останетесь довольны поездкой. Везде вас будут окружать красивая природа, чистый воздух и здоровая эколог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 rot="21091200">
            <a:off x="622440" y="4628880"/>
            <a:ext cx="3384360" cy="2116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 rot="21203400">
            <a:off x="3059280" y="3357360"/>
            <a:ext cx="3311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71280" y="476280"/>
            <a:ext cx="725796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нляндия, в переводе со старо-финского означает «Мое болото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нское название страны Suo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7129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ый крупный город Финляндии и столица страны Хельсин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Столицу Финляндии – Хельсинки – местные жители называют прекрасной дочерью Балтии. </a:t>
            </a:r>
            <a:br>
              <a:rPr sz="2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Именно с этого города стартуют почти все </a:t>
            </a:r>
            <a:br>
              <a:rPr sz="2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туристические маршруты Финляндии.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5184720" cy="3202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431400">
            <a:off x="4356000" y="270792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7905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Хельсинки названия улиц на табличках пишут на двух языках финском и шведском. Потому что в стране два официальных языка: финский и швед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4365720"/>
            <a:ext cx="3457440" cy="2305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651640" y="3357720"/>
            <a:ext cx="3286080" cy="3200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36194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сем не зря Финское государство носит название «страны тысячи озер»,их там около 187888 (!!!). Там самая чистая вода в мир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888000" cy="2917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2421000"/>
            <a:ext cx="388800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"/>
              </a:rPr>
              <a:t>Хорошо в Финляндии летом, но в тысячу раз прекраснее здесь зимой! Самое интересное, несомненно, происходит в Лапландии, самой северной части страны. По мифологии, лисы, охотящиеся на сопках, чешут бока о скалы так, что искры летят на небо и превращаются в северное сияние.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21112800">
            <a:off x="250560" y="4005000"/>
            <a:ext cx="2700360" cy="2401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627280" y="3500280"/>
            <a:ext cx="3600360" cy="2667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364200">
            <a:off x="5756400" y="3722760"/>
            <a:ext cx="319860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115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десь же в Лапландии живет Санта Клаус или по-фински – Йоулупукки. Встретить Рождество или Новый год в гостях у Деда Мороза – мечты миллионов детей по всему миру. Ведь только там можно не только познакомиться с Санта Клаусом, но и прокатиться на оленьих и собачьих упряжках, поучаствовать в сафари на мото-санях… Список радостей, даруемых зимней Финляндии бесконечен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64818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финского Йолупуки (Санта Клаус, а вообще переводится как «рождественский козел») есть свой паспорт. Указана даже дата рождения «давным давно»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rot="217200">
            <a:off x="3419280" y="2636640"/>
            <a:ext cx="5113080" cy="38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17:34:58Z</dcterms:created>
  <dc:creator>Anna</dc:creator>
  <dc:description/>
  <cp:keywords/>
  <dc:language>en-US</dc:language>
  <cp:lastModifiedBy>Anna</cp:lastModifiedBy>
  <dcterms:modified xsi:type="dcterms:W3CDTF">2013-10-01T00:33:21Z</dcterms:modified>
  <cp:revision>5</cp:revision>
  <dc:subject/>
  <dc:title>ФИНЛЯНДИЯ   SUOM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911049</vt:lpwstr>
  </property>
</Properties>
</file>