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EBE-26A4-4D26-8BF2-35CAF1BC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977-DE0F-44F6-A6B9-EC5357D0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DD1-1CB8-4FD8-83EE-EA9075A6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2BC-704C-40F3-91EB-3DC3FB63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CC763-D5FB-42EE-ADA3-6A98C0B5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7E0F0-C7D5-4D6F-BA0B-797CE856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72507-3EBD-443C-A810-4165A825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FA137-236B-4EE4-833F-7330D0D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22A4B-5189-42B0-8DEC-0C5A6B49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20804-A8CD-4E2F-988E-F12535A0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45392-077E-4D61-8746-7C9A71D9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CC5-4026-4835-8176-7690BD4D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0A901-1E8B-4C18-9005-4F008BBD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19B3-42B0-4B8C-A085-B3C9674B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43677-AD9C-4B9E-A8D1-AB693059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28366-A810-4B77-97CF-14727435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0CD48-AE0D-4118-8A3C-BF152908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948-3004-4D04-B168-9E7CE193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4FF-E691-498C-B9FC-5C000B26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392-66C3-4EB2-BC7D-F110A5F7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50E-DB7D-43B8-8C9C-BDF23100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3FE-0BD3-4E7D-9E26-C05D22E0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633-A10D-450C-8BAF-13DBFC11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2B6-86D1-4CE7-9798-FB8B9C3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CD0E-B497-4F2C-9904-9A609A5474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205F-10BE-408F-A3BC-350C7B3BC6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3e3ff"/>
                </a:solidFill>
                <a:latin typeface="Arial"/>
              </a:rPr>
              <a:t>ФИНЛЯНДИЯ </a:t>
            </a:r>
            <a:br>
              <a:rPr sz="8000"/>
            </a:br>
            <a:r>
              <a:rPr b="0" lang="ru-RU" sz="8000" spc="-1" strike="noStrike">
                <a:solidFill>
                  <a:srgbClr val="e3e3ff"/>
                </a:solidFill>
                <a:latin typeface="Arial"/>
              </a:rPr>
              <a:t> SUOMI 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лицах северных городов Финляндии действительно иногда можно встретить оле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384720" cy="245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2736720" cy="1832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9280" y="4168800"/>
            <a:ext cx="3240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4" descr=""/>
          <p:cNvPicPr/>
          <p:nvPr/>
        </p:nvPicPr>
        <p:blipFill>
          <a:blip r:embed="rId1"/>
          <a:stretch/>
        </p:blipFill>
        <p:spPr>
          <a:xfrm>
            <a:off x="2843280" y="4005360"/>
            <a:ext cx="3533760" cy="2651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264000">
            <a:off x="5292360" y="1989000"/>
            <a:ext cx="3384720" cy="2538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56908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Финны ходят с лыжными палками летом. В Финляндии спортивная ходьба с палками очень популярна в любое время года. 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 rot="21048000">
            <a:off x="250920" y="1844280"/>
            <a:ext cx="38163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87280" y="18900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ны любят танцевать, любят свою народную музыку и песни и не отстают от современных рит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21137400">
            <a:off x="178920" y="2492280"/>
            <a:ext cx="3333960" cy="2343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 rot="442200">
            <a:off x="3779640" y="18446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rot="21082800">
            <a:off x="2484360" y="386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 rot="516000">
            <a:off x="5579640" y="4076640"/>
            <a:ext cx="324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тив Финляндию, вы останетесь довольны поездкой. Везде вас будут окружать красивая природа, чистый воздух и здоровая эколог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rot="20727600">
            <a:off x="323640" y="256536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rot="637800">
            <a:off x="5580000" y="2491920"/>
            <a:ext cx="3097440" cy="2143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rot="1000800">
            <a:off x="5940360" y="436536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836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тив Финляндию, вы останетесь довольны поездкой. Везде вас будут окружать красивая природа, чистый воздух и здоровая эколог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 rot="21091200">
            <a:off x="622440" y="4628880"/>
            <a:ext cx="3384360" cy="2116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 rot="21203400">
            <a:off x="3059280" y="3357360"/>
            <a:ext cx="3311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725796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ляндия, в переводе со старо-финского означает «Мое болото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ское название страны Suo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129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й крупный город Финляндии и столица страны Хельсин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толицу Финляндии – Хельсинки – местные жители называют прекрасной дочерью Балтии.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Именно с этого города стартуют почти все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туристические маршруты Финляндии.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5184720" cy="3202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431400">
            <a:off x="4356000" y="270792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7905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ельсинки названия улиц на табличках пишут на двух языках финском и шведском. Потому что в стране два официальных языка: финский и швед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4365720"/>
            <a:ext cx="3457440" cy="230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51640" y="3357720"/>
            <a:ext cx="328608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6194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сем не зря Финское государство носит название «страны тысячи озер»,их там около 187888 (!!!). Там самая чистая вода в мир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888000" cy="2917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38880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"/>
              </a:rPr>
              <a:t>Хорошо в Финляндии летом, но в тысячу раз прекраснее здесь зимой! Самое интересное, несомненно, происходит в Лапландии, самой северной части страны. По мифологии, лисы, охотящиеся на сопках, чешут бока о скалы так, что искры летят на небо и превращаются в северное сияние.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21112800">
            <a:off x="250560" y="4005000"/>
            <a:ext cx="2700360" cy="240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3600360" cy="2667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364200">
            <a:off x="5756400" y="3722760"/>
            <a:ext cx="31986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десь же в Лапландии живет Санта Клаус или по-фински – Йоулупукки. Встретить Рождество или Новый год в гостях у Деда Мороза – мечты миллионов детей по всему миру. Ведь только там можно не только познакомиться с Санта Клаусом, но и прокатиться на оленьих и собачьих упряжках, поучаствовать в сафари на мото-санях… Список радостей, даруемых зимней Финляндии бесконечен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64818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финского Йолупуки (Санта Клаус, а вообще переводится как «рождественский козел») есть свой паспорт. Указана даже дата рождения «давным давно»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217200">
            <a:off x="3419280" y="2636640"/>
            <a:ext cx="5113080" cy="38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17:34:58Z</dcterms:created>
  <dc:creator>Anna</dc:creator>
  <dc:description/>
  <cp:keywords/>
  <dc:language>en-US</dc:language>
  <cp:lastModifiedBy>Anna</cp:lastModifiedBy>
  <dcterms:modified xsi:type="dcterms:W3CDTF">2013-10-01T00:33:21Z</dcterms:modified>
  <cp:revision>5</cp:revision>
  <dc:subject/>
  <dc:title>ФИНЛЯНДИЯ   SUOM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11049</vt:lpwstr>
  </property>
</Properties>
</file>