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742-A341-47E4-AE8F-48875ACF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386-9D33-433C-BCD3-89410450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39F-4B19-49A5-940C-61D4401A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C61-8583-45CF-822E-61CA2605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8D6-ACAE-4DC5-8E07-A4120E75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3EE-FDB8-47C2-854B-D6BCB993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91E-2C7D-4FBF-83F1-3ACCDA0C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457-1330-40FA-A25C-0165FD27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CE5-51CF-421E-B729-8BCD3B54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9A4-0467-47AE-926B-8814331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C45-E21F-48B7-BB13-0F7948B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6E9-D2D2-4C51-83AF-069FC6CF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916B-F777-4FDB-ADAF-99C003FE2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У «Лаганская СОШ №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сан Бадьминович Городов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Вывод частей Советской Армии из состава группы Советских войск в ГДР. Парад прин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ородовиков Б.Б. – генерал-лейтенант, зам. командующего Прикарпатским военным ок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Городовиков Б.Б. и Н. С-Г с внуками Андреем и Леной Элиста. 1975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Открытие памятника Городовикову Б.Б. на могиле на Новодевичьем кладбище. Москва.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Басан Басанович Городовиков у скульптурного памятника отца. Аллея героев, г. Эли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Басан Бадьминович Городовиков – выдающийся государственный и политический деятел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Городовиков Бадьма Иванович – хутор Мокрая Эльмута Области Войска Донского (отец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 Городовиков Басан Бадьминович – выпускник Военной Академии. Москва. 1938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Басан Бадьминович с супругой Ноной Санджи- Горяевной. Москва. 30 апреля 1938 г.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Городовиков Б.Б. – полковник, командир 251-й гвардейской дивизии. 1943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Городовиков Б.Б. командир 251-й стрелковой дивизии. Восточная Пруссия. 1944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Генерал-майор Городовиков Б.Б. перед прорывом оборонительного рубежа Квантунской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Полевые занятия Белорусского военного округа. На фото генерал армии С.П. Иванов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8:35:30Z</dcterms:created>
  <dc:creator>sanal</dc:creator>
  <dc:description/>
  <dc:language>en-US</dc:language>
  <cp:lastModifiedBy>Admin</cp:lastModifiedBy>
  <dcterms:modified xsi:type="dcterms:W3CDTF">2019-03-06T15:49:02Z</dcterms:modified>
  <cp:revision>3</cp:revision>
  <dc:subject/>
  <dc:title>Слайд 1</dc:title>
</cp:coreProperties>
</file>