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A181-6C30-4379-8ACB-F0BF6A02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EC3D-F748-4191-BBBA-30ECFCEC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4F74-295D-40AC-A0F1-09C80A44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B147-42EE-4DD6-B89F-CFA502C9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568-2CD4-4C92-AB03-80B625E4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802-82DD-4F9A-A35C-5E12CADD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CEC-9F14-4ED0-83EB-9D9E9449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82E-E297-4532-8D23-AD405EA0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1A8-9183-4911-9ADB-561210E0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05B7-F757-4FEA-9CAD-404803A0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9D95-87D7-4448-B582-F7344F8B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CF1-D5CB-470F-8F64-F857C23D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47CF-7B69-4C28-BE55-7CFB0553C4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У «Лаганская СОШ №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ласс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асан Бадьминович Городов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Вывод частей Советской Армии из состава группы Советских войск в ГДР. Парад прин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Городовиков Б.Б. – генерал-лейтенант, зам. командующего Прикарпатским военным ок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Городовиков Б.Б. и Н. С-Г с внуками Андреем и Леной Элиста. 1975 г. 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Открытие памятника Городовикову Б.Б. на могиле на Новодевичьем кладбище. Москва.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Басан Басанович Городовиков у скульптурного памятника отца. Аллея героев, г. Эли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Басан Бадьминович Городовиков – выдающийся государственный и политический деятел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Городовиков Бадьма Иванович – хутор Мокрая Эльмута Области Войска Донского (отец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 Городовиков Басан Бадьминович – выпускник Военной Академии. Москва. 1938 г. 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Басан Бадьминович с супругой Ноной Санджи- Горяевной. Москва. 30 апреля 1938 г.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Городовиков Б.Б. – полковник, командир 251-й гвардейской дивизии. 1943 г. 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Городовиков Б.Б. командир 251-й стрелковой дивизии. Восточная Пруссия. 1944 г. 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Генерал-майор Городовиков Б.Б. перед прорывом оборонительного рубежа Квантунской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Полевые занятия Белорусского военного округа. На фото генерал армии С.П. Иванов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8:35:30Z</dcterms:created>
  <dc:creator>sanal</dc:creator>
  <dc:description/>
  <dc:language>en-US</dc:language>
  <cp:lastModifiedBy>Admin</cp:lastModifiedBy>
  <dcterms:modified xsi:type="dcterms:W3CDTF">2019-03-06T15:49:02Z</dcterms:modified>
  <cp:revision>3</cp:revision>
  <dc:subject/>
  <dc:title>Слайд 1</dc:title>
</cp:coreProperties>
</file>