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305C-0D19-46B4-A777-CE6537676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5F05-0A10-4FD8-9F83-193DC5945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D0D5-EC8D-48A9-910E-DB3B88301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0062-76E9-4098-885C-9F3FC06A3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FB28-09C5-4191-8FA3-7214F8200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E3FE-E17F-4D8E-8893-FEEB6853E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EA20-386F-452D-9827-B910CA129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A741-72A0-4E50-9DC7-72136AC11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6554-9549-4D42-A900-76E804F95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B7F2-5A97-4FBE-95DA-D2A68D93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0FB1-752E-44D0-BEC2-06402AAE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587D-2F1E-480A-9416-46EB090B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05DE1-E6F3-4060-B40B-8A107EAB34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КУ «Лаганская СОШ №3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лассны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Басан Бадьминович Городов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Вывод частей Советской Армии из состава группы Советских войск в ГДР. Парад прин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7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Городовиков Б.Б. – генерал-лейтенант, зам. командующего Прикарпатским военным ок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7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Городовиков Б.Б. и Н. С-Г с внуками Андреем и Леной Элиста. 1975 г. 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7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Открытие памятника Городовикову Б.Б. на могиле на Новодевичьем кладбище. Москва.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7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Басан Басанович Городовиков у скульптурного памятника отца. Аллея героев, г. Эли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7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Басан Бадьминович Городовиков – выдающийся государственный и политический деятел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7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Городовиков Бадьма Иванович – хутор Мокрая Эльмута Области Войска Донского (отец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7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 Городовиков Басан Бадьминович – выпускник Военной Академии. Москва. 1938 г. 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7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Басан Бадьминович с супругой Ноной Санджи- Горяевной. Москва. 30 апреля 1938 г.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7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Городовиков Б.Б. – полковник, командир 251-й гвардейской дивизии. 1943 г. 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7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Городовиков Б.Б. командир 251-й стрелковой дивизии. Восточная Пруссия. 1944 г. 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7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Генерал-майор Городовиков Б.Б. перед прорывом оборонительного рубежа Квантунской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7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Полевые занятия Белорусского военного округа. На фото генерал армии С.П. Иванов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7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8T18:35:30Z</dcterms:created>
  <dc:creator>sanal</dc:creator>
  <dc:description/>
  <dc:language>en-US</dc:language>
  <cp:lastModifiedBy>Admin</cp:lastModifiedBy>
  <dcterms:modified xsi:type="dcterms:W3CDTF">2019-03-06T15:49:02Z</dcterms:modified>
  <cp:revision>3</cp:revision>
  <dc:subject/>
  <dc:title>Слайд 1</dc:title>
</cp:coreProperties>
</file>