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A3C-4A64-4E04-8C7E-4FF5BBDF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35E-999D-4CBF-B0C1-C2B3A22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8FF-C91F-414C-9BDA-F6B5D85B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6B4-4CDC-45DD-95FE-2E4AC7B9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C025-2326-4D42-9669-2ACA4E03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EA48-6079-4303-A4BE-7FB0B797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6E68-A139-408C-BCA3-2143739B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FE9C-B2AC-4ED2-AFF0-DA011F7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7E4A-5F51-491B-BA5E-90E9638B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3727-E822-4EA2-ACE1-E35C7847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11E0-9DB6-4D4F-90D7-6B91C66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763-1FD5-42E0-A637-0909B3C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2F6A-A156-4052-8997-E48056E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462-7728-4EDB-A69B-4763B1DF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B1B8-66FD-46C1-BCC8-B6B52C1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20CA-7A6F-4B5A-83FA-511E6A8C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AAB5-092F-4960-A58E-31621629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475F-3B7A-4A7F-B3EB-6E5F98FE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BE9E-2094-4E6D-994B-524E891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A73D-7A3A-4AC0-844F-F220131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A581-9B30-4D5E-8A91-6C4C516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E860-91FA-44F6-BE82-1573924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FAE-95E1-4387-823C-36E8D60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D22A-B820-495D-8A55-3061D295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0DEB-CF51-469D-83F6-7597B74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8F1C-265C-46CA-92EB-E64ECAE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222C-7B73-4CB3-8608-B80A468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100C-2FFD-485B-BFDF-3A372B74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3882D-64B8-4DB9-940C-FB68A104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FBD1-1AF5-4976-8821-FE8D20D1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E8BB-B43A-44AB-B8EE-3DEE0AC1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63CA5-1C4C-4C9D-9221-5D226F3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1913-B453-493D-9EF5-315C875B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C4F-C06B-4C03-8533-B60E125C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88F5-1611-4004-8765-E46B71D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2815-BDD5-44D2-BC13-BF14320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0762-A076-42EA-B6CE-080660B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0ACB-6E1A-4468-951E-51117AF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1BCD-E82D-4DD6-B5C3-13DFA704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163C-C976-4190-90F5-BDAE5F3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F5BA-B233-47AD-AA2E-9FF9AA0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9E10-C454-4CF6-B9FC-AF0F457D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78CE-97F8-4788-928D-90BF9AD4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7A43-FC26-459C-B1D7-A5F80D29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CF3-35E1-4381-8249-E001EC43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8164-CC73-48AC-9645-3C01299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CE07-F61B-4448-A93F-EB1CFD7A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4A53-49F8-4DFF-A244-4BF43BB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88F5-9F05-44A6-9D94-F60279E6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EF1C-F291-4BCB-8E29-62E09DFE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1940-C925-4341-B985-45391EE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339A0-2306-4A02-8B79-6110A44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14DDB-5915-40FE-A7F1-3711390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D279-FD2D-45DF-AA31-7429AA6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7CD0-177A-4F36-8550-3637AA33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9A3-3D43-4FBC-BD01-49E6098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7B47-0767-4626-BBCE-9998D1FC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E30-A8BB-4155-BC8D-AC42934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375-C016-4E9C-B11F-9C71CA9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C89-5FF5-4599-8BE7-34957FD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232E-24C2-4B29-A658-359656F6AF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B915-44F9-4B28-A58C-F5007BBDC4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B91F-FE71-41A1-B406-2DBC4DE0EF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D3B-532E-4E70-9D5E-3DDDEC1E4D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F70-EBD8-4B26-A26A-6662876283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7" descr="Ботанический сад Гюнеш Гарден"/>
          <p:cNvPicPr/>
          <p:nvPr/>
        </p:nvPicPr>
        <p:blipFill>
          <a:blip r:embed="rId1"/>
          <a:stretch/>
        </p:blipFill>
        <p:spPr>
          <a:xfrm>
            <a:off x="289080" y="260280"/>
            <a:ext cx="8493120" cy="6369120"/>
          </a:xfrm>
          <a:prstGeom prst="rect">
            <a:avLst/>
          </a:prstGeom>
          <a:ln w="0">
            <a:noFill/>
          </a:ln>
        </p:spPr>
      </p:pic>
      <p:sp>
        <p:nvSpPr>
          <p:cNvPr id="223" name="WordArt 8"/>
          <p:cNvSpPr txBox="1"/>
          <p:nvPr/>
        </p:nvSpPr>
        <p:spPr>
          <a:xfrm>
            <a:off x="214200" y="2170080"/>
            <a:ext cx="78868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лнистый попуга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12"/>
          <p:cNvSpPr txBox="1"/>
          <p:nvPr/>
        </p:nvSpPr>
        <p:spPr>
          <a:xfrm>
            <a:off x="214200" y="620640"/>
            <a:ext cx="81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следовательская работ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17"/>
          <p:cNvSpPr txBox="1"/>
          <p:nvPr/>
        </p:nvSpPr>
        <p:spPr>
          <a:xfrm>
            <a:off x="1763640" y="443700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ил     ученик      4 «б"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течество Олег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ть попугаи - неразлучники. Так их прозвали за то, что они очень дружные и не расстаются друг с друг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1258920" y="2567160"/>
            <a:ext cx="489744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начинающего любителя специалисты рекомендуют завести волнистого попугайчика, так как он отличается кротким нравом, общительностью и неприхотлив в кормлении. Наверное, поэтому мне подарили именно волнистого попуга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ак что полностью его имя звучит по-русски — поющий волнистый попугай или сокращенно уменьшительно — волнистый попугайчик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3" name="Picture 5" descr="F:\ОЛЕГ ПАПУГАИ\IMG_9517.JPG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6" name="Picture 5" descr="F:\ОЛЕГ ПАПУГАИ\IMG_9522.JPG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расу перьев бывают желтые, белые, серые, синие и зеленые. У моего Чика оперение яркого жёлто-зелёного цвета. Размеры волнистого попугайчика очень малы. Его длина всего 18 см (до кончика хвос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на этих нарядных птичек – Австралия. Здесь они собираются в огромные стаи, кормятся на покрытых травой равнинах. На этом материке они распространены везде. Питаются семенами трав, зелеными ростками, просом. У себя на родине волнистые попугайчики с ярким зеленым опер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ина этих нарядных птичек – Австралия. Здесь они собираются в огромные стаи, кормятся на покрытых травой равнинах. На этом материке они распространены везде. Питаются семенами трав, зелеными ростками, просом. У себя на родине волнистые попугайчики с ярким зеленым опере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пугаи удивительно изящные, грациозные и ловкие птицы, наблюдение за ними доставляет большое удовольствие. Попугайчики очень оживляют комнату, наполняя её радостными, мелодичными звуками. Их щебет и стрекотание приятны и не режут слух. Волнистые попугайчики могут довольно точно подражать пению птиц и хорошо уживаются с другими видами попугаев, никогда не обижая равных себе по величине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и всех попугаев волнистые – самые быстрые, могут преодолевать большие расстояния. Их полет напоминает полет хищной птицы. Пользуясь лапками и клювом, волнистые попугайчики превосходно лазают по ветвям деревьев или стенкам своих клеток, хорошо бегают мелкими короткими шаж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одержание и уход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ему попугайчику я чищу клетку, даю корм, чистую воду. Отпускаю летать по комнате. Слежу за внешним ви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узнал, что попугайчикам нужна небольшая клетка, обязательно кипяченая вода. На ночь клетку необходимо закрывать тонким платком, что бы ночью его случайно никто не испугал, так как птицы в природе очень тревожны. Жердочка в клетке должна быть из натурального дерева, что бы когти попугая не поломал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69" name="Picture 6" descr="F:\ОЛЕГ ПАПУГАИ\IMG_9518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угаи очень забавные птицы. Они как собаки, могут радоваться и огорчаться, тосковать, играть, развлекаться и хитрить. Именно эти качества привлекли внимание человека к попугаям. И, конечно, человек немедленно отнёс попугая к волшебным птицам. Ведь попугаи умеют подражать человеческой речи. Правда, это поняли много позже, а первые люди, встретившие попугаев, просто не поверили своим ушам, когда птицы начали говори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Кормл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й попугайчик любит просо и овес. Пьет чистую воду. Мы покупаем ему специальный корм. В состав которого входят: просо, семена подсолнечника и льна, пшено, овес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узнал, что кормление попугайчика должно включать в себя разнообразный рацион. В первую очередь, это крупы: овёс, просо, канареечное сем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имой можно проращивать эти зерна и кормить попугая всходами. Полезно давать сваренное вкрутую яйцо, творог. Категорически нельзя угощать волнистых попугаев мясом, хлебом; соленой, сладкой, острой и жирной пищей, приготовленной для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2" descr="F:\первые шаги\ОЛЕГ ПАПУГАИ\IMG_9515.JPG"/>
          <p:cNvPicPr/>
          <p:nvPr/>
        </p:nvPicPr>
        <p:blipFill>
          <a:blip r:embed="rId1"/>
          <a:stretch/>
        </p:blipFill>
        <p:spPr>
          <a:xfrm>
            <a:off x="324000" y="530280"/>
            <a:ext cx="70563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 очень хочу, что бы мой попугай начал говорить. Я разговариваю с ним, но он пока молчит. Я решил узнать, а могут ли волнистые попугайчики разговарив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казывается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лнистые попугаи отличаются высокой способностью к подражанию звуков. Научить говорить можно только одинокого самца. Если попугаи живут парой, то они общаются друг с другом. И потребности в общении с человеком у них нет. Я надеюсь, что Чики начнет говори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Picture 2" descr="F:\первые шаги\ОЛЕГ ПАПУГАИ\IMG_9520.JPG"/>
          <p:cNvPicPr/>
          <p:nvPr/>
        </p:nvPicPr>
        <p:blipFill>
          <a:blip r:embed="rId1"/>
          <a:stretch/>
        </p:blipFill>
        <p:spPr>
          <a:xfrm>
            <a:off x="1187280" y="530280"/>
            <a:ext cx="65534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я эту исследовательскую работу, я не только узнал много нового, интересного и необычного, но и еще больше привязался к своему попугайчику, потому что он такой милый, симпатичный и смешной. Мне кажется, работа только начинается. Я теперь постоянно буду за ним наблюдать  и отмечать все, что с ним происходит, читать новый материал в книгах, журналах, а также  на Интернет-сайтах. Также заинтересовались мои друзья, они приходили ко мне в гости, чтобы посмотреть на моего попуг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4425d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меня дома живёт  волнистый попугай. Зовут его Чика.  В нашем доме он появился в  2017  году. Его купила мне мама. Я был очень рад его появлению в нашем доме. Чика очень красивый! Он такой умный, понимает интонации и многие фразы, например, «Лети ко мне», «Садись на мою руку». Чика очень забавная птица. Он может радоваться и огорчаться, тосковать, играть и развлека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е стало интересно, какие и сколько видов этих птиц бывает, где они обитают на воле. Я люблю своего попугая и поэтому решил узнать, как правильно ухаживать за н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F:\ОЛЕГ ПАПУГАИ\IMG_9519.JPG"/>
          <p:cNvPicPr/>
          <p:nvPr/>
        </p:nvPicPr>
        <p:blipFill>
          <a:blip r:embed="rId1"/>
          <a:stretch/>
        </p:blipFill>
        <p:spPr>
          <a:xfrm>
            <a:off x="4284720" y="4508640"/>
            <a:ext cx="37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Цель работы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зучить повадки  попугая, его эмоциональное состояние в разных ситуация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Задач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изучить литературу о попугаях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познакомиться с видами попугае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узнать, где обитают и чем занимаются попугаи на вол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как ухаживать за попугаями в домашних условиях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сти анкетирование и обработать данны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5" name="Picture 5" descr="F:\ОЛЕГ ПАПУГАИ\IMG_9516.JPG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Гипотеза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если изучить литературу о жизни попугаев, то можно научиться управлять эмоциями попугая,  правильно ухаживать за питомц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Метод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следование  жизни попуга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блюдение за попуга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ке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едмет исследования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олнистый попуга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Объект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жизнь попугае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книг я узнал, что попугаи – жители тропических лесов. У них яркое оперение, большой крючковатый клюв, которым они разгрызают даже самые твердые орехи. На лапах по четыре пальца: два спереди и два сзади, - которыми они обхватывают ветки деревьев, как клещами. А вот по размерам попугаи заметно отличаются друг от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2920" y="529920"/>
            <a:ext cx="47163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мые крупные попугаи – ара, их длина вместе с хвостом почти метр. У них резкий неприятный крик, а перья такие красивые, что местные жители – индейцы - украшали себя этими перь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http://popugator.ru/wp-content/uploads/2018/01/12-48.jpg"/>
          <p:cNvPicPr/>
          <p:nvPr/>
        </p:nvPicPr>
        <p:blipFill>
          <a:blip r:embed="rId1"/>
          <a:stretch/>
        </p:blipFill>
        <p:spPr>
          <a:xfrm>
            <a:off x="5076720" y="765000"/>
            <a:ext cx="35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37814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аду ростом примерно с ворону, у них на голове хохол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https://avatars.mds.yandex.net/get-pdb/770122/ac52738b-8371-4798-acbb-85ed68ffce9c/s1200?webp=false"/>
          <p:cNvPicPr/>
          <p:nvPr/>
        </p:nvPicPr>
        <p:blipFill>
          <a:blip r:embed="rId1"/>
          <a:stretch/>
        </p:blipFill>
        <p:spPr>
          <a:xfrm>
            <a:off x="3419640" y="2349360"/>
            <a:ext cx="52545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3:18:46Z</dcterms:created>
  <dc:creator>Марина</dc:creator>
  <dc:description/>
  <dc:language>en-US</dc:language>
  <cp:lastModifiedBy>Светлана</cp:lastModifiedBy>
  <dcterms:modified xsi:type="dcterms:W3CDTF">2019-03-06T15:16:49Z</dcterms:modified>
  <cp:revision>18</cp:revision>
  <dc:subject/>
  <dc:title>Слайд 1</dc:title>
</cp:coreProperties>
</file>