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3CB5-9B96-44CB-82AA-481A69C9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C257-75AF-4024-8C14-02877015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7768-AD5F-4978-B8A4-8D3E326D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C68-3CEF-46FC-AF94-B59EC50D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33EA-819D-486E-BA0D-97CC1FF9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FF63-27EB-4D3D-842C-6B38B78B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97E9-021C-4107-995C-F07E849D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BFEF-12E0-4E60-A7B5-FC0D30F0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A0AF-79AF-4253-8F77-AB362A65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71B9-F81F-417F-8A76-9317BC5D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3119-189C-48C8-A182-003E7415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DF4A-B465-4538-85A3-FEC4A413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07FD-83ED-44DA-8310-F5E783EF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8DD1-0CA6-481E-BF51-DF2718EA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C7B9-1C3A-4149-8DFE-0500C077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3D9E-D4CE-4ABF-981D-BC0A3806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79CE-F6F9-49D6-A76E-30096F92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DEE96-287B-45F9-A5EA-EB0B0751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39F1E-90E3-43BA-AE12-50573046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6DFBE-7536-4108-AB22-9EA90283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A4F20-138F-4A2C-B54B-A1698660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976E9-746D-4884-B8B4-853BF98C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96FA-B4F4-44FE-A062-6DB30824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DE170-1843-4D3E-BD57-54E583F8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92BF1-1289-4644-AE86-2241FB48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06380-0C40-4BA8-AB91-5AABF328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7C80A-E06D-46D0-AB62-E2CB0FFE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8C48E-E48A-400E-A69F-B711BDC9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A282C-0339-48F5-99B5-CB9A29A8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8D38E-F6DB-4AD7-B141-44A29A4B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AE085-CF92-4AFD-87D6-40FC9C6C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CEF4F-A50E-4988-B784-B572D783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FBD8B-1271-41D7-9725-1D029705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3A38-FC52-4BC6-81DD-DF373D4D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CCB9C-BAA5-4C90-BD92-8D4D6C93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2FF89-E468-4867-899E-8804F154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8CF2B-CB9E-4F3B-8326-3FC3825F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88991-62E2-476B-ABD9-B11F1E3D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0C75B-2629-49E4-A7E1-92E9B512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99C14-6C55-4CA2-B645-81B3C281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1861B-6DD2-4EE4-9031-427A54CB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9DAEB-32C7-432F-ADC3-5D577101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30BE4-898D-4B84-A745-CBD36FC0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314BF-F948-47BE-8679-F72321F5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1395-543C-4FE8-A76A-FC085C30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52CC7-C7DA-4A39-B176-A46F3DC3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0179A-6981-4950-8C4E-068F34A6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B07A5-C1A4-4EEC-8816-A8E6B9B9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C7ABB-0049-4295-81FC-764C97F5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0E4A9-AF35-4804-BAC6-E160807A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8E384-78C5-4139-AD4F-8A2320E9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16760-F2D6-4025-BC57-1CF8F339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A5D42-063A-414D-ABE1-A6F445C7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20DF3-E1B9-4D8E-9A16-00B12EE6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BA1A2-C585-451C-8F9B-B7E69514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52C-5122-4D38-87C3-D9E9952C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2466B-5A4A-472A-A015-479CECF7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E92-84F6-459B-B5A4-D209F6C9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4BC-9573-4B90-9320-86CE6A16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EF3-45A9-47C0-BCF2-595BFB1D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F148-873E-427E-9EBD-A1C36907E78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AB56-5E8D-4ADC-9284-FE0329D243D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F090-22AF-4021-B059-B6D8AC398CA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305B-61F6-475C-9F6E-8CA910CC1FF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2268-276A-4000-8255-5D12EA53DAD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22" name="Picture 7" descr="Ботанический сад Гюнеш Гарден"/>
          <p:cNvPicPr/>
          <p:nvPr/>
        </p:nvPicPr>
        <p:blipFill>
          <a:blip r:embed="rId1"/>
          <a:stretch/>
        </p:blipFill>
        <p:spPr>
          <a:xfrm>
            <a:off x="289080" y="260280"/>
            <a:ext cx="8493120" cy="6369120"/>
          </a:xfrm>
          <a:prstGeom prst="rect">
            <a:avLst/>
          </a:prstGeom>
          <a:ln w="0">
            <a:noFill/>
          </a:ln>
        </p:spPr>
      </p:pic>
      <p:sp>
        <p:nvSpPr>
          <p:cNvPr id="223" name="WordArt 8"/>
          <p:cNvSpPr txBox="1"/>
          <p:nvPr/>
        </p:nvSpPr>
        <p:spPr>
          <a:xfrm>
            <a:off x="214200" y="2170080"/>
            <a:ext cx="78868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лнистый попуга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4" name="WordArt 12"/>
          <p:cNvSpPr txBox="1"/>
          <p:nvPr/>
        </p:nvSpPr>
        <p:spPr>
          <a:xfrm>
            <a:off x="214200" y="620640"/>
            <a:ext cx="8174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следовательская работа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" name="WordArt 17"/>
          <p:cNvSpPr txBox="1"/>
          <p:nvPr/>
        </p:nvSpPr>
        <p:spPr>
          <a:xfrm>
            <a:off x="1763640" y="4437000"/>
            <a:ext cx="6337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готовил     ученик      4 «б" класс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зотечество Олег 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ть попугаи - неразлучники. Так их прозвали за то, что они очень дружные и не расстаются друг с друг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Рисунок 3" descr=""/>
          <p:cNvPicPr/>
          <p:nvPr/>
        </p:nvPicPr>
        <p:blipFill>
          <a:blip r:embed="rId1"/>
          <a:stretch/>
        </p:blipFill>
        <p:spPr>
          <a:xfrm>
            <a:off x="1258920" y="2567160"/>
            <a:ext cx="4897440" cy="35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ля начинающего любителя специалисты рекомендуют завести волнистого попугайчика, так как он отличается кротким нравом, общительностью и неприхотлив в кормлении. Наверное, поэтому мне подарили именно волнистого попуга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ак что полностью его имя звучит по-русски — поющий волнистый попугай или сокращенно уменьшительно — волнистый попугайчик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53" name="Picture 5" descr="F:\ОЛЕГ ПАПУГАИ\IMG_9517.JPG"/>
          <p:cNvPicPr/>
          <p:nvPr/>
        </p:nvPicPr>
        <p:blipFill>
          <a:blip r:embed="rId1"/>
          <a:stretch/>
        </p:blipFill>
        <p:spPr>
          <a:xfrm>
            <a:off x="179280" y="0"/>
            <a:ext cx="864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56" name="Picture 5" descr="F:\ОЛЕГ ПАПУГАИ\IMG_9522.JPG"/>
          <p:cNvPicPr/>
          <p:nvPr/>
        </p:nvPicPr>
        <p:blipFill>
          <a:blip r:embed="rId1"/>
          <a:stretch/>
        </p:blipFill>
        <p:spPr>
          <a:xfrm>
            <a:off x="826920" y="0"/>
            <a:ext cx="763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расу перьев бывают желтые, белые, серые, синие и зеленые. У моего Чика оперение яркого жёлто-зелёного цвета. Размеры волнистого попугайчика очень малы. Его длина всего 18 см (до кончика хвоста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дина этих нарядных птичек – Австралия. Здесь они собираются в огромные стаи, кормятся на покрытых травой равнинах. На этом материке они распространены везде. Питаются семенами трав, зелеными ростками, просом. У себя на родине волнистые попугайчики с ярким зеленым оперени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дина этих нарядных птичек – Австралия. Здесь они собираются в огромные стаи, кормятся на покрытых травой равнинах. На этом материке они распространены везде. Питаются семенами трав, зелеными ростками, просом. У себя на родине волнистые попугайчики с ярким зеленым оперени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-2358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пугаи удивительно изящные, грациозные и ловкие птицы, наблюдение за ними доставляет большое удовольствие. Попугайчики очень оживляют комнату, наполняя её радостными, мелодичными звуками. Их щебет и стрекотание приятны и не режут слух. Волнистые попугайчики могут довольно точно подражать пению птиц и хорошо уживаются с другими видами попугаев, никогда не обижая равных себе по величине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и всех попугаев волнистые – самые быстрые, могут преодолевать большие расстояния. Их полет напоминает полет хищной птицы. Пользуясь лапками и клювом, волнистые попугайчики превосходно лазают по ветвям деревьев или стенкам своих клеток, хорошо бегают мелкими короткими шажк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5000"/>
          </a:bodyPr>
          <a:p>
            <a:pPr marL="225000" indent="-2250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одержание и уход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воему попугайчику я чищу клетку, даю корм, чистую воду. Отпускаю летать по комнате. Слежу за внешним вид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узнал, что попугайчикам нужна небольшая клетка, обязательно кипяченая вода. На ночь клетку необходимо закрывать тонким платком, что бы ночью его случайно никто не испугал, так как птицы в природе очень тревожны. Жердочка в клетке должна быть из натурального дерева, что бы когти попугая не поломал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69" name="Picture 6" descr="F:\ОЛЕГ ПАПУГАИ\IMG_9518.JPG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пугаи очень забавные птицы. Они как собаки, могут радоваться и огорчаться, тосковать, играть, развлекаться и хитрить. Именно эти качества привлекли внимание человека к попугаям. И, конечно, человек немедленно отнёс попугая к волшебным птицам. Ведь попугаи умеют подражать человеческой речи. Правда, это поняли много позже, а первые люди, встретившие попугаев, просто не поверили своим ушам, когда птицы начали говорить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Кормлени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й попугайчик любит просо и овес. Пьет чистую воду. Мы покупаем ему специальный корм. В состав которого входят: просо, семена подсолнечника и льна, пшено, овес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узнал, что кормление попугайчика должно включать в себя разнообразный рацион. В первую очередь, это крупы: овёс, просо, канареечное сем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имой можно проращивать эти зерна и кормить попугая всходами. Полезно давать сваренное вкрутую яйцо, творог. Категорически нельзя угощать волнистых попугаев мясом, хлебом; соленой, сладкой, острой и жирной пищей, приготовленной для люд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5" name="Picture 2" descr="F:\первые шаги\ОЛЕГ ПАПУГАИ\IMG_9515.JPG"/>
          <p:cNvPicPr/>
          <p:nvPr/>
        </p:nvPicPr>
        <p:blipFill>
          <a:blip r:embed="rId1"/>
          <a:stretch/>
        </p:blipFill>
        <p:spPr>
          <a:xfrm>
            <a:off x="324000" y="530280"/>
            <a:ext cx="705636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-2358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бщ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 очень хочу, что бы мой попугай начал говорить. Я разговариваю с ним, но он пока молчит. Я решил узнать, а могут ли волнистые попугайчики разговаривать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казывается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лнистые попугаи отличаются высокой способностью к подражанию звуков. Научить говорить можно только одинокого самца. Если попугаи живут парой, то они общаются друг с другом. И потребности в общении с человеком у них нет. Я надеюсь, что Чики начнет говори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5157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9" name="Picture 2" descr="F:\первые шаги\ОЛЕГ ПАПУГАИ\IMG_9520.JPG"/>
          <p:cNvPicPr/>
          <p:nvPr/>
        </p:nvPicPr>
        <p:blipFill>
          <a:blip r:embed="rId1"/>
          <a:stretch/>
        </p:blipFill>
        <p:spPr>
          <a:xfrm>
            <a:off x="1187280" y="530280"/>
            <a:ext cx="655344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3000"/>
          </a:bodyPr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я эту исследовательскую работу, я не только узнал много нового, интересного и необычного, но и еще больше привязался к своему попугайчику, потому что он такой милый, симпатичный и смешной. Мне кажется, работа только начинается. Я теперь постоянно буду за ним наблюдать  и отмечать все, что с ним происходит, читать новый материал в книгах, журналах, а также  на Интернет-сайтах. Также заинтересовались мои друзья, они приходили ко мне в гости, чтобы посмотреть на моего попуга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4425d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меня дома живёт  волнистый попугай. Зовут его Чика.  В нашем доме он появился в  2017  году. Его купила мне мама. Я был очень рад его появлению в нашем доме. Чика очень красивый! Он такой умный, понимает интонации и многие фразы, например, «Лети ко мне», «Садись на мою руку». Чика очень забавная птица. Он может радоваться и огорчаться, тосковать, играть и развлекать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не стало интересно, какие и сколько видов этих птиц бывает, где они обитают на воле. Я люблю своего попугая и поэтому решил узнать, как правильно ухаживать за ни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2" descr="F:\ОЛЕГ ПАПУГАИ\IMG_9519.JPG"/>
          <p:cNvPicPr/>
          <p:nvPr/>
        </p:nvPicPr>
        <p:blipFill>
          <a:blip r:embed="rId1"/>
          <a:stretch/>
        </p:blipFill>
        <p:spPr>
          <a:xfrm>
            <a:off x="4284720" y="4508640"/>
            <a:ext cx="374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Цель работы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изучить повадки  попугая, его эмоциональное состояние в разных ситуация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Задачи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изучить литературу о попугаях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познакомиться с видами попугаев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узнать, где обитают и чем занимаются попугаи на воле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как ухаживать за попугаями в домашних условиях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провести анкетирование и обработать данны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35" name="Picture 5" descr="F:\ОЛЕГ ПАПУГАИ\IMG_9516.JPG"/>
          <p:cNvPicPr/>
          <p:nvPr/>
        </p:nvPicPr>
        <p:blipFill>
          <a:blip r:embed="rId1"/>
          <a:stretch/>
        </p:blipFill>
        <p:spPr>
          <a:xfrm>
            <a:off x="826920" y="0"/>
            <a:ext cx="7705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Гипотеза: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если изучить литературу о жизни попугаев, то можно научиться управлять эмоциями попугая,  правильно ухаживать за питомц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Методы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сследование  жизни попуга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блюдение за попугае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кетирова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редмет исследования: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волнистый попуга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Объект исследова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: жизнь попугае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 книг я узнал, что попугаи – жители тропических лесов. У них яркое оперение, большой крючковатый клюв, которым они разгрызают даже самые твердые орехи. На лапах по четыре пальца: два спереди и два сзади, - которыми они обхватывают ветки деревьев, как клещами. А вот по размерам попугаи заметно отличаются друг от друг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2920" y="529920"/>
            <a:ext cx="471636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амые крупные попугаи – ара, их длина вместе с хвостом почти метр. У них резкий неприятный крик, а перья такие красивые, что местные жители – индейцы - украшали себя этими перья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http://popugator.ru/wp-content/uploads/2018/01/12-48.jpg"/>
          <p:cNvPicPr/>
          <p:nvPr/>
        </p:nvPicPr>
        <p:blipFill>
          <a:blip r:embed="rId1"/>
          <a:stretch/>
        </p:blipFill>
        <p:spPr>
          <a:xfrm>
            <a:off x="5076720" y="765000"/>
            <a:ext cx="352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378144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аду ростом примерно с ворону, у них на голове хохол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https://avatars.mds.yandex.net/get-pdb/770122/ac52738b-8371-4798-acbb-85ed68ffce9c/s1200?webp=false"/>
          <p:cNvPicPr/>
          <p:nvPr/>
        </p:nvPicPr>
        <p:blipFill>
          <a:blip r:embed="rId1"/>
          <a:stretch/>
        </p:blipFill>
        <p:spPr>
          <a:xfrm>
            <a:off x="3419640" y="2349360"/>
            <a:ext cx="525456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3:18:46Z</dcterms:created>
  <dc:creator>Марина</dc:creator>
  <dc:description/>
  <dc:language>en-US</dc:language>
  <cp:lastModifiedBy>Светлана</cp:lastModifiedBy>
  <dcterms:modified xsi:type="dcterms:W3CDTF">2019-03-06T15:16:49Z</dcterms:modified>
  <cp:revision>18</cp:revision>
  <dc:subject/>
  <dc:title>Слайд 1</dc:title>
</cp:coreProperties>
</file>