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6BC-04B2-4BF2-92E8-2301C8A9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B2F-3C34-4471-9167-5CC3D97B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E2458-6191-4B24-898B-96130662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D64F1-A038-46F2-B106-866BCB99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7E690-5E8B-488C-A315-49E0DC5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2B509-E1A8-4C93-91B7-5F932450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39998-DF4A-47B6-AE25-3BBF16CA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47F32-A47F-4A55-9BEE-41279CDD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CB457-8C50-4A09-A521-E9FDCA9C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A5342-02F7-4952-8C2A-ABB101D4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F87F3-3D48-4EEB-9625-6E730168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A1D81-9CCE-4DA9-A324-A2E66AEC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3CD-CADA-48C6-9B53-4BB287C7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A02CF-BBF4-478F-AE07-7D42B357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B9966-AA21-4D4D-9DC3-FED0ADD4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205DE-5252-4FA1-8DC9-748558E0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715FB-8FB8-4368-880C-85175AEA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18FA1-1D78-439B-B4EA-C6784233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A0716-3DDC-453A-B965-70F7FBD7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DA5F5-2AEB-4995-A386-73CE65AB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D955C-56C6-42DB-B335-6E988CD9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ACEE9-89A4-44B1-9F62-7C8DAAD2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D8A79-EB20-456E-86FE-63E61F43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0EA-DFD8-420A-ACA8-5CF706E9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08740-1794-4B70-94A8-85A0E06D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2B8F3-FBA7-4FB7-83DE-AF8BC082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CC249-1999-4F84-AFF1-9224CBDA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36994-5A1A-40AF-AEC5-86A6A097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B79F4-FBA7-4ABB-8E76-68B300C5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F280C-6EDE-400C-87EB-AD9E429B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2617F-3180-447D-BC1A-A49298CC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6E027-2B64-4C8E-9D79-200E0934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65A05-6A14-4790-B46C-618D64EE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1210F-0886-46D1-945B-F9B0566C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EC47F-1D47-4DD5-BDB0-28366535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D0E55-C5BF-4BD8-A731-37DFEEC7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96D3D-F454-4513-BC6C-27EC1195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F5B0D-DEE6-4401-8724-1B7ABEF2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695E9-AF55-479D-A0E8-F31BB2CB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75B0E-6C12-458A-9A3A-C7D1A86B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F2E0D-22AC-4E08-9D7A-B193F0D2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48EF7-E94F-4E4E-86E4-35D75504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A5E69-D791-4FC5-A146-476930E6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344CE-C23D-45D9-A6F3-E8CE5014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4CD91-B672-4C2C-B36D-200187C4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812F7-0F79-4772-8712-B8F1B795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B9DC6-7ADE-4A24-827F-6D8F4329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22776-0EAB-42CF-842B-9D19713A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40AD6-936A-40F2-B4E7-31E3493D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1B46F-F04B-46B3-B722-B13E897D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A2C0F-286F-49B7-8263-7378F00C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758BB-E069-43E4-9063-07CC99F5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06392-FBC0-4070-BE28-2F31F392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A8390-97BF-4EFB-A734-2ED8C01D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15F41-6F29-4576-A13D-A6DA1662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2ADAA-EA0E-4470-9D44-5396F847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35A14-5677-4E03-B986-C19ECF27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1284E-FB96-420F-B1EF-A6F66DD2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034C1-2722-48E8-B021-1D0E3FE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05E57-831C-4A4F-BDCB-64484C0F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44243-5AF5-4FCD-968E-1BB2848E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99A4E-E580-4449-AF97-A58EB5F3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8D956-ADBA-41C7-8A12-FF6B123B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9D746-A545-463A-9A1D-BB67BF33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27FB9-EDD5-4527-A9E6-4D4CFA4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CE08C-2388-44E7-8E36-78E71487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25CA0-1F97-4B9C-9E0E-22470D0B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73B8B-0124-40BA-9181-885B6E85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B0F-9B22-42B2-AB13-764EEE30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468E0-8F51-4F1B-B962-57DF8113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3AE46-E87E-4996-94E2-37BB01E5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11E2D-F9A1-4D08-BEC5-95612ECC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68CD2-C350-495E-934C-382F5EF2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13362-2B6F-4E2F-A906-4FADFC80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27155-4425-438D-ADB5-EA35632C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E58AB-C638-4617-9A07-67BA1DAE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9DC8E-AE22-4F06-8995-FC1961B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1D2BE-D532-42CF-83E1-39325BDF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D79B0-9BA8-4366-B77A-C46A2A8A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45E-B1BD-44EA-BFB2-8E0A6569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055A0-BE51-4802-AB56-7954636B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D9D22-1A01-46EC-A629-9E0288B8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C0FB3-1BAA-4FA8-BDBE-A943EDD4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A6B89-84A6-4A73-8C41-561A84F5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B5A90-D575-43E7-A3D1-B964CC37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781D5-4B81-4D28-A7D1-7DF0C369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D4973-5675-4841-85F9-CA2837AC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48D71-7C1A-4521-9D73-5D580576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8FEFC-7C7F-4894-A6C6-084649A9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2E6A-0210-4F88-BEF5-55E207AE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D43-A670-4ADF-A599-BF40798F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0FFB0-E6D5-45C9-95BD-256CB2AD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24A71-C955-496B-AA66-8CF08282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AE3D-96FC-4CE8-9C4B-AA0684CC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46D56-80BB-485A-9F2A-B4A95723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4C90-B4A0-475B-BAFA-BEA099C6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78DA-AE0E-45E4-806E-3F4A4926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C567D-237D-4065-A8C3-8696845D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465B-EA33-4816-A68B-789C1B6A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1F25-551A-4A9B-BB9D-8DA56957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5A389-12F1-42A5-A23D-5741B7FC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ECD-24C1-4158-84C9-0502A12F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1C95-552A-4CE2-8BF7-A3AC489E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CA1A-8937-4C4B-857B-399CEFC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6B768-6E31-4398-8123-6B206035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A908-C5D8-4ADF-A75B-2718BE3A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EE5BF-8362-47A6-92B4-07CC2D00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E1BC6-7928-4023-BCC7-6DE2E9A5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D86DB-1D01-48F4-87A5-966B4E97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95D2A-69CC-437C-A962-D5ABD407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7470E-F917-443D-9473-942FA989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72449-0293-458C-8688-216FBA49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A63-8981-4C94-B424-CE47FBBD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74954-319F-4CBE-9B3F-F5082BE9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DE44F-18F1-46FC-B90D-BE99CB21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6261-F40F-462A-B7CF-DE7FBCAD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07B54-4CB6-4F5B-9062-A9E7BC15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38034-A2FA-4A3E-A480-1F7340A4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4E1B3-DC8D-4292-B6C6-D0EFA187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2A23C-B94C-4FAA-8B5A-A7BDA7FD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7EDD0-AD4A-4A05-8938-0D8AB709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1BCEB-7904-442D-A074-9C4E2657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77341-0078-4D7F-866F-5A414CDD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12E-F1B9-4527-980C-B66CEF61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90C17-B717-41D1-9C62-5EB6531B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4E62B-D192-4159-AB4E-D2661517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E9F66-000D-4768-9CD0-CE6D5055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7704C-44B1-4EB5-9BB5-D6B407C0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9AA7C-3043-4143-8F06-38714400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B183C-61D3-4838-B324-FE81FAC4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91945-96CA-4DBC-9EC6-384390B0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03BC9-5F4E-479E-A754-532DDA4F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CC8F8-9217-4916-AFC5-3B622A27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A6EB-81AE-4DFA-88CA-81944932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33A-8618-444F-BA80-BE35F21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863EF-F90D-462F-BD8E-7E19AF24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A389F-94F8-47A0-ACB6-1387CBF8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2D6A2-D1F8-48C9-8E07-D83EDABF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D52B2-CFB4-4CE9-ADD5-76F7F9A4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9199-0AB3-48EC-8AB7-38DC640E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5E868-3C6C-4B23-81D9-995FE135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45375-5E3F-4086-9382-EEAD197D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07095-0222-4FAC-8C16-4FE39708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5EC13-C49C-4242-9A04-6695685D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73464-E434-458C-8827-99BF6C8D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7C7-3C49-4E62-BE6D-4E11B73C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FF904-71B0-4620-8531-3B5A36F2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478EF-F9E9-4ED7-8145-3D39F0F1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8B6C2-05FF-4543-AA5F-C906E4F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ECE9E-6B8B-4E23-B5C3-721DFA78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98A5B-3DB9-400A-A814-32868FF6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3EA32-A691-41FD-A186-15469529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113B9-AF15-4DCD-BE01-EB265A51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2F115-6783-4EE1-95B3-26D4183D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9654B-E29C-4410-99C5-D17ADB1E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DB1C1-8342-411B-8ECE-C98F7647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55E3EE4-A156-4695-9F2D-D5FFA5FED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8EAAB38-A316-4E66-84F9-B9F5EEFD4FF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D09458E-ECB7-494C-8F3E-E314A734E0C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CD995C8-553C-468A-8625-1B767F8810B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71D3225-F806-4202-B5C8-6D5929AA93A3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D46E0C3-4280-4A89-8737-C6787E96B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49D6184-9F51-4121-AB2C-2459CC3FF11F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D4A16FA-DDD7-4B9A-863A-05CA6F7247A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D1EACE4-709B-452A-BD61-4AF866EE1D37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542D920-C57A-42EC-826F-8EB61280096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4D158A9-35F1-40AA-B864-9B0D7AC333AF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273430F-E9C3-4AA0-A06D-FC88D4E93A78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B2F6C7C-ED8C-4726-AEB0-8780BBEA61F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70560" bIns="50400" anchor="b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9058320"/>
                <a:tab algn="l" pos="10064880"/>
              </a:tabLst>
            </a:pPr>
            <a:r>
              <a:rPr b="0" lang="de-DE" sz="7200" spc="-1" strike="noStrike">
                <a:solidFill>
                  <a:srgbClr val="ff8600"/>
                </a:solidFill>
                <a:latin typeface="Arial"/>
              </a:rPr>
              <a:t>С. Д. Эрзя</a:t>
            </a:r>
            <a:endParaRPr b="0" lang="en-US" sz="72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2863800" y="1800360"/>
            <a:ext cx="379728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1"/>
          <p:cNvSpPr/>
          <p:nvPr/>
        </p:nvSpPr>
        <p:spPr>
          <a:xfrm>
            <a:off x="906480" y="446040"/>
            <a:ext cx="809316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Степан Дмитриевич Э́рьзя — российский и советский художник, ваятель, мастер скульптуры из дерева, представитель стиля модер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Псевдоним отражает принадлежность художника к этнической группе эрзя в составе мордовских на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409680" y="539640"/>
            <a:ext cx="938196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Степан Нефёдов родился 8 ноября 1876 года в эрзянском селе Баево в семье крестьяни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Был крещен в Покровской церкви с. Ахматова. Окончил церковно-приходскую школу в с. Алтышеве. В 1892 году семья переехала в Алатырь. Первые уроки изобразительного искусства получил в иконописных мастерских Алтыря и Казани, где занимался росписью церквей приволжских сёл и гор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1"/>
          <p:cNvSpPr/>
          <p:nvPr/>
        </p:nvSpPr>
        <p:spPr>
          <a:xfrm>
            <a:off x="0" y="539640"/>
            <a:ext cx="1011096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Аргентинский период творчества скульп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С 1927 по 1950 год скульптор работал в Аргент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Газеты называют Эрьзю странником, а его жизнь загадочной. Сразу же в некую причинную связь были поставлены обстоятельства его жизни, его происхождение и творчеств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Персональная выставка 1927 года была явлением новым для аргентинской скульптуры. Среди произведений, представленных на ней, соседствовали выполненные в рост фигуры революционных рабочих со знаменами, «Расстрел» и обнаженная женская натура — «Танец», «Во сне», «Леда и лебедь», «Ева», монументальные и лирические камерные портреты. Перешагнув порог своего пятидесятилетия, Эрьзя предстал перед зрителем во всей полноте своего человеческого опыта, сложности и глубине пережи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Здесь впервые в скульптуре использовал южноамериканские породы деревьев. Но огромное воздействие на С. Эрьзя имела сельва. Он бывал в лесах Чако, в провинции Мисьонес, где велась разработка особо ценных пород древесины — альгарробо, урундай, кебрач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360360" y="379440"/>
            <a:ext cx="4940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Работы скульптора С. Эр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204840" y="880920"/>
            <a:ext cx="4680000" cy="288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5245200" y="71280"/>
            <a:ext cx="4475160" cy="2989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3"/>
          <a:stretch/>
        </p:blipFill>
        <p:spPr>
          <a:xfrm>
            <a:off x="792000" y="3780000"/>
            <a:ext cx="2794320" cy="39621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"/>
          <p:cNvPicPr/>
          <p:nvPr/>
        </p:nvPicPr>
        <p:blipFill>
          <a:blip r:embed="rId4"/>
          <a:stretch/>
        </p:blipFill>
        <p:spPr>
          <a:xfrm>
            <a:off x="5832360" y="3238560"/>
            <a:ext cx="27939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C:\Users\User\Desktop\1_html_m79c49e08.png"/>
          <p:cNvPicPr/>
          <p:nvPr/>
        </p:nvPicPr>
        <p:blipFill>
          <a:blip r:embed="rId1"/>
          <a:stretch/>
        </p:blipFill>
        <p:spPr>
          <a:xfrm>
            <a:off x="6840360" y="1457280"/>
            <a:ext cx="3095640" cy="25797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"/>
          <p:cNvSpPr/>
          <p:nvPr/>
        </p:nvSpPr>
        <p:spPr>
          <a:xfrm>
            <a:off x="2879640" y="755640"/>
            <a:ext cx="48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ей С.Д.Эрзи в г.Саран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C:\Users\User\Desktop\d8778668d1a7c74230918aaec7c507f7.JPG"/>
          <p:cNvPicPr/>
          <p:nvPr/>
        </p:nvPicPr>
        <p:blipFill>
          <a:blip r:embed="rId2"/>
          <a:stretch/>
        </p:blipFill>
        <p:spPr>
          <a:xfrm>
            <a:off x="647640" y="1289160"/>
            <a:ext cx="3251160" cy="2665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C:\Users\User\Desktop\saransk_museum_erzia_3.jpg"/>
          <p:cNvPicPr/>
          <p:nvPr/>
        </p:nvPicPr>
        <p:blipFill>
          <a:blip r:embed="rId3"/>
          <a:stretch/>
        </p:blipFill>
        <p:spPr>
          <a:xfrm>
            <a:off x="1008000" y="4475160"/>
            <a:ext cx="3210120" cy="2408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C:\Users\User\Desktop\thumb_3872_atlas_big.jpeg"/>
          <p:cNvPicPr/>
          <p:nvPr/>
        </p:nvPicPr>
        <p:blipFill>
          <a:blip r:embed="rId4"/>
          <a:stretch/>
        </p:blipFill>
        <p:spPr>
          <a:xfrm>
            <a:off x="5904000" y="4524480"/>
            <a:ext cx="3597120" cy="23842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C:\Users\User\Desktop\i.jpg"/>
          <p:cNvPicPr/>
          <p:nvPr/>
        </p:nvPicPr>
        <p:blipFill>
          <a:blip r:embed="rId5"/>
          <a:stretch/>
        </p:blipFill>
        <p:spPr>
          <a:xfrm>
            <a:off x="4103640" y="1289160"/>
            <a:ext cx="22734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just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9058320"/>
                <a:tab algn="l" pos="10064880"/>
              </a:tabLst>
            </a:pPr>
            <a:br>
              <a:rPr sz="1400"/>
            </a:br>
            <a:endParaRPr b="0" lang="en-US" sz="1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74" name="Text Box 2"/>
          <p:cNvSpPr/>
          <p:nvPr/>
        </p:nvSpPr>
        <p:spPr>
          <a:xfrm>
            <a:off x="2519280" y="378000"/>
            <a:ext cx="46278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Художник скончался в Москве 24 ноября 1959 года. Похоронен в Саранске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4859280" cy="431964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6840360" y="3600360"/>
            <a:ext cx="296712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Памятник на могиле С. Д. Эрьзи. Мемориальное кладбище в Саранс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User</cp:lastModifiedBy>
  <dcterms:modified xsi:type="dcterms:W3CDTF">2015-05-06T18:26:10Z</dcterms:modified>
  <cp:revision>5</cp:revision>
  <dc:subject/>
  <dc:title>С. Д. Эрзя</dc:title>
</cp:coreProperties>
</file>