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625-B0A0-4232-A194-2B0E6AC3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BEE-B467-49DF-9EB5-1E9AD44A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CFEA7-DF25-44A9-9F1E-1C64F20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92E3E-9568-447E-8647-CB09759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9310-D3C9-41F7-8106-FE45F1CE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4407A-26E7-4877-B636-B6E24DD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6B30D-B6E3-44E0-9063-F285185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96EE-17D3-4C52-B6CF-843FD09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9B860-35D4-499A-B449-004DD1C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C4159-50FF-4219-BEA1-EC415DB4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1D827-4588-40CB-8DDB-83F44009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EB81-7486-416C-AAEC-517FA1C1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535-B4B5-44CE-96C4-9D8E21AF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5F568-431F-4570-9F52-880CB85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0FEBB-CFD7-4E4C-84FE-2EF3C998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E6C1E-EA37-42AA-8B7F-0CF7AC6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372B6-0918-42E2-9492-739FF68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D3029-DD8C-4F11-8006-0663008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4CF4-D36C-49A4-BC7C-4FFBFE0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F6666-0145-40FF-B473-28CCFC7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A1AB-5545-4BA8-85C6-442E6ABB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3C3AB-3670-4E2A-99E4-4D121B0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79EBE-DE92-48A6-88BC-37435703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D8B-6488-4595-AFC5-D6F379DB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2BDBF-2698-4FD5-801D-59060E30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A658D-27C2-4F6A-83F9-012B76EE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59926-B0B4-4D05-89BC-001046F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D384-8724-43ED-A84D-A0CE1829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742C3-8126-40B0-9E15-C8C24BB2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3E64-5402-4856-B4E0-2117AEEA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386FF-806B-478E-8177-45AC41A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BE32-6620-4006-A022-1FB9E8F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BC32-2076-44D6-8919-35DA983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18762-1553-4E81-8156-EF71F62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8EB43-BA3C-4958-941D-726FD957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94CA-C992-4ACB-956C-82CC20D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B846-208C-4B85-AF15-DDA23B43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C97C4-BA02-42FE-8736-ED137FE8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DDCCD-776B-42D7-9426-87B8AFB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CBAF4-8B34-47B2-90BE-3265A36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F4D61-B18D-49CD-BFBF-117544D9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00075-74FB-42E3-9765-7C243E0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B6514-8F82-43C7-B040-C5B2004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1CF7-2BA5-4691-BEF0-2140675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9AF2B-0269-4F0D-B74D-4D45CBB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D6B8D-3AED-4BD9-81A2-2B5EE027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93C4E-6D71-44D1-811F-90A6C7B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5FA4F-3A40-4B16-A175-6DEF6C0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3706D-BB32-4B15-9410-43AC0B7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19E7E-49EE-4452-858E-0922FFB4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BD190-74D6-4172-8CCC-6D99F44A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324CF-5824-4B9B-983D-C4E19C98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14147-7D90-4D33-919A-651B9CA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9EACE-5A17-4915-8FFD-AE8EA30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8F83B-BFC7-40ED-A393-27B43FB0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F612E-2887-48AB-B6FD-5877589C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3B5B-37A7-4147-9438-2443662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B0676-A603-4A5B-A930-26A4BB30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18EC0-1524-4634-8FAC-829D4DF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7D4EC-6E2D-4E91-A1D7-773A94C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6311E-C7CD-4C1C-B103-30FDD31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A4D71-B823-408A-923F-92E3498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46EED-2EA7-4921-8D1A-1C006E3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6D1E3-C6FB-4082-8BD4-D31257A4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8646-F3AB-453F-B694-B678783C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A30C0-EA30-4756-B19A-F2055A77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29460-744E-40F6-BAE5-97CFE4F2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0EDBA-844A-4C77-BDFC-61EBEDF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553-E072-463B-9A9D-7C895DB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BE4B7-009D-4FA5-B16D-A76F1F2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F6566-A312-4283-B641-6B29F48A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B6C51-594F-41B0-A61E-5795220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8714D-83CD-4E6F-8C13-16E3159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3C420-D508-4B2F-B68E-31F26BD3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D803C-2A7D-48ED-8F2C-AC9DAB3D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6F997-D530-43C2-A7FB-D312C5D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F1378-C0F0-4104-9CB4-3F2167F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0EC99-68D2-43D5-B9EB-A6C80F6D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9E804-54B6-4A40-B799-C494186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094-973C-4B77-BA77-9BFA6C9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6A1C3-2A8C-4006-AEB3-912EB01B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67A1D-1C61-4D78-A833-DD1960D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ED31-DA45-45B6-B6CE-95904D3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89279-B795-4BE8-9788-1C75CFD1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AB3BB-D74C-4391-ADC5-A2AD352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68BB0-2B52-4386-82CC-E2C4D12F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0F611-FEAC-4F77-8833-C040BAE1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1A94-2968-406D-B31D-A23B1F49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0605-4E4D-4F0D-AF17-02EAC44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AC1E-0C08-48FC-AE0A-795E5B6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8D0-6D6D-49C0-8E97-A3DBFC4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4C54-BA91-4345-A246-1A00774C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1DFC-2F9D-4530-BF2C-8D20C28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5616-72BE-456D-85CE-A18F2BA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6BD2-53B8-483F-BAA1-602DDD9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3B81-E21E-4320-9B06-9005258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0E95-77E7-4822-92CB-231D7097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51C2-40A8-4DA7-A875-FF04958B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014C-AF99-456E-9B5A-E962B2A5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CA1B-4CD7-4B0E-967A-C8AF92E0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F216-E016-40B1-9DA2-826FFDE4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C36-00C2-46F9-83DF-A07CD4F0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56DF-EE3F-4725-B5DA-13BADF0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671A-305B-43BC-8339-A67802EC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2B22-183C-49F0-97D2-6CB9E93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AC8C-E67F-472B-A9EB-2813B879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28DF-E161-4620-811E-AB3E4BE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B8D5-BBC9-4231-8954-AC97B0C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5A28-1B27-4A10-92FE-018E13C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0381-26B8-4C65-9392-AE0C5AB0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2F92-546F-4611-9C19-782BA8DF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530E-2069-49C2-86C9-BE5B33B3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BCF-1593-4C2A-B041-76C81643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399D-47C5-41E0-B2C2-6071A119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8091-2573-469B-BB3B-8BBD7AB5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F7F6-CDF2-45B1-8990-E22DDD3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B815-9EC9-4C5B-B949-0302D0A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6146-888B-41FE-A807-B2B3002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30D5-03F1-4169-A3FF-D2AAFDB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379F-B37E-4E2F-B2F4-B4DF2C1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C5DE-B7F3-48E0-8536-B45DD67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4C602-6200-4A57-862E-C48A043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D6C9-5B3E-4707-BE42-1701FC3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824-8A05-43D5-A7D1-0C4BC3E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5B63-41C9-4841-98E6-A309511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EA5A-BD62-4BBB-B766-17BEC13C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054A-6172-47BE-93D6-407644B2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7EAB-CB5E-44AB-B224-EDD048E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7338-0DE5-4CF5-B612-1C7B0B6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DC16-1F51-4B00-9153-75374449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D976-4DBF-4E86-ABA9-993C0E1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5BC6-1AD9-4364-9849-6F27251D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8568-4D78-489A-9F62-34F5151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E444-34E7-4D96-9FAA-907D64C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7C5-5A00-401D-91D6-734760C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790E2-A71B-4E46-B5B7-7C8E5AFA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F8905-23ED-4F5E-8603-7139B2B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027E-C934-446F-B581-9A898A2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1EC5-BA6D-4895-A4ED-CCF02F01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4307-E8B8-47EE-9426-2981893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40F7F-966C-4F03-ACB7-590ED38F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FE7F1-6528-4C3A-9523-F710327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D764-60B2-4C38-A589-B728A28F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4E843-69B9-47CB-AC8E-EC1BD95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D8B4-DDEC-4D76-81E6-927A78CC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040-EF76-40E3-9EA8-0CDD0DC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08000" y="1703520"/>
            <a:ext cx="80647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A547-92C5-4B5D-804E-E4A14C2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14E6-D5CE-4D88-BFA5-2E08B95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EB43-DE87-493F-8697-EA2B92E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8E891-48A8-4877-AF97-F215A2E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008000" y="5090760"/>
            <a:ext cx="80647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B017-19AA-4DA9-AE15-FDF22D9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0800" y="305244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080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40800" y="5090760"/>
            <a:ext cx="393552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8442-D1FC-4B66-8638-0A92A666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3500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61640" y="305244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008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3500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461640" y="5090760"/>
            <a:ext cx="2596680" cy="186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6FA6F-B6AE-4252-BEE1-CBCDAFA0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3B663-D9EA-4C7E-B331-DE14EAFE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9AE51-022E-492A-9D3A-60E3513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156F5-4B58-4EE0-B1FD-486B072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42D2887-9E0B-4CCB-A5DD-70E25434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317CACF-B577-4AD2-A3DC-8C26EB8325F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C1A77E8-E239-44A5-8D01-415D1F9BBD7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3081324-FE4D-4B12-AE18-05C1D3AD8D6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340A343-0E11-4F3F-9592-36E59D83BB6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9F4095B-9D4C-4921-BA8F-774E8EAC2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931E007-D967-4E26-9A00-C59DBE19525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667BF54-817A-490C-8956-02F8AB6A7A4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26C22FC-CDEC-4808-9BEB-74249733B9F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C950F45-FE74-4DC5-AF42-DB8C065433A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CBFA152-E5E1-44A8-B355-7CDA78872B0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5942422-F531-4E77-926C-CB75F9132A5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9299520" y="631800"/>
            <a:ext cx="9540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9447120" y="631800"/>
            <a:ext cx="635040" cy="63180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8000" y="1703520"/>
            <a:ext cx="8064720" cy="127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08000" y="3052440"/>
            <a:ext cx="8064720" cy="390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40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0656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8920" indent="-20016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892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622560" y="604440"/>
            <a:ext cx="1311480" cy="32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6624360" y="942840"/>
            <a:ext cx="24764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062920" y="604800"/>
            <a:ext cx="10382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691E8C0-39C3-419E-B314-33C44E4CF85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70560" bIns="50400" anchor="b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9058320"/>
                <a:tab algn="l" pos="10064880"/>
              </a:tabLst>
            </a:pPr>
            <a:r>
              <a:rPr b="0" lang="de-DE" sz="7200" spc="-1" strike="noStrike">
                <a:solidFill>
                  <a:srgbClr val="ff8600"/>
                </a:solidFill>
                <a:latin typeface="Arial"/>
              </a:rPr>
              <a:t>С. Д. Эрзя</a:t>
            </a:r>
            <a:endParaRPr b="0" lang="en-US" sz="72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863800" y="1800360"/>
            <a:ext cx="379728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906480" y="446040"/>
            <a:ext cx="80931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Степан Дмитриевич Э́рьзя — российский и советский художник, ваятель, мастер скульптуры из дерева, представитель стиля модер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Псевдоним отражает принадлежность художника к этнической группе эрзя в составе мордовски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409680" y="539640"/>
            <a:ext cx="93819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Степан Нефёдов родился 8 ноября 1876 года в эрзянском селе Баево в семье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Был крещен в Покровской церкви с. Ахматова. Окончил церковно-приходскую школу в с. Алтышеве. В 1892 году семья переехала в Алатырь. Первые уроки изобразительного искусства получил в иконописных мастерских Алтыря и Казани, где занимался росписью церквей приволжских сёл и гор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"/>
          <p:cNvSpPr/>
          <p:nvPr/>
        </p:nvSpPr>
        <p:spPr>
          <a:xfrm>
            <a:off x="0" y="539640"/>
            <a:ext cx="1011096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Аргентинский период творчества скульп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С 1927 по 1950 год скульптор работал в Аргент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Газеты называют Эрьзю странником, а его жизнь загадочной. Сразу же в некую причинную связь были поставлены обстоятельства его жизни, его происхождение и творче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Персональная выставка 1927 года была явлением новым для аргентинской скульптуры. Среди произведений, представленных на ней, соседствовали выполненные в рост фигуры революционных рабочих со знаменами, «Расстрел» и обнаженная женская натура — «Танец», «Во сне», «Леда и лебедь», «Ева», монументальные и лирические камерные портреты. Перешагнув порог своего пятидесятилетия, Эрьзя предстал перед зрителем во всей полноте своего человеческого опыта, сложности и глубине пережи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Здесь впервые в скульптуре использовал южноамериканские породы деревьев. Но огромное воздействие на С. Эрьзя имела сельва. Он бывал в лесах Чако, в провинции Мисьонес, где велась разработка особо ценных пород древесины — альгарробо, урундай, кебрач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60360" y="379440"/>
            <a:ext cx="4940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Работы скульптора С. Эр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204840" y="880920"/>
            <a:ext cx="4680000" cy="288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5245200" y="71280"/>
            <a:ext cx="4475160" cy="2989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3"/>
          <a:stretch/>
        </p:blipFill>
        <p:spPr>
          <a:xfrm>
            <a:off x="792000" y="3780000"/>
            <a:ext cx="2794320" cy="3962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4"/>
          <a:stretch/>
        </p:blipFill>
        <p:spPr>
          <a:xfrm>
            <a:off x="5832360" y="3238560"/>
            <a:ext cx="27939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Users\User\Desktop\1_html_m79c49e08.png"/>
          <p:cNvPicPr/>
          <p:nvPr/>
        </p:nvPicPr>
        <p:blipFill>
          <a:blip r:embed="rId1"/>
          <a:stretch/>
        </p:blipFill>
        <p:spPr>
          <a:xfrm>
            <a:off x="6840360" y="1457280"/>
            <a:ext cx="3095640" cy="257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2879640" y="755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ей С.Д.Эрзи в г.Саран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User\Desktop\d8778668d1a7c74230918aaec7c507f7.JPG"/>
          <p:cNvPicPr/>
          <p:nvPr/>
        </p:nvPicPr>
        <p:blipFill>
          <a:blip r:embed="rId2"/>
          <a:stretch/>
        </p:blipFill>
        <p:spPr>
          <a:xfrm>
            <a:off x="647640" y="1289160"/>
            <a:ext cx="3251160" cy="2665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C:\Users\User\Desktop\saransk_museum_erzia_3.jpg"/>
          <p:cNvPicPr/>
          <p:nvPr/>
        </p:nvPicPr>
        <p:blipFill>
          <a:blip r:embed="rId3"/>
          <a:stretch/>
        </p:blipFill>
        <p:spPr>
          <a:xfrm>
            <a:off x="1008000" y="4475160"/>
            <a:ext cx="3210120" cy="2408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C:\Users\User\Desktop\thumb_3872_atlas_big.jpeg"/>
          <p:cNvPicPr/>
          <p:nvPr/>
        </p:nvPicPr>
        <p:blipFill>
          <a:blip r:embed="rId4"/>
          <a:stretch/>
        </p:blipFill>
        <p:spPr>
          <a:xfrm>
            <a:off x="5904000" y="4524480"/>
            <a:ext cx="3597120" cy="23842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C:\Users\User\Desktop\i.jpg"/>
          <p:cNvPicPr/>
          <p:nvPr/>
        </p:nvPicPr>
        <p:blipFill>
          <a:blip r:embed="rId5"/>
          <a:stretch/>
        </p:blipFill>
        <p:spPr>
          <a:xfrm>
            <a:off x="4103640" y="1289160"/>
            <a:ext cx="22734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just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051760"/>
                <a:tab algn="l" pos="9058320"/>
                <a:tab algn="l" pos="10064880"/>
              </a:tabLst>
            </a:pPr>
            <a:br>
              <a:rPr sz="1400"/>
            </a:br>
            <a:endParaRPr b="0" lang="en-US" sz="1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4" name="Text Box 2"/>
          <p:cNvSpPr/>
          <p:nvPr/>
        </p:nvSpPr>
        <p:spPr>
          <a:xfrm>
            <a:off x="2519280" y="378000"/>
            <a:ext cx="46278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Художник скончался в Москве 24 ноября 1959 года. Похоронен в Саранске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4859280" cy="43196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6840360" y="3600360"/>
            <a:ext cx="29671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Памятник на могиле С. Д. Эрьзи. Мемориальное кладбище в Саранс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User</cp:lastModifiedBy>
  <dcterms:modified xsi:type="dcterms:W3CDTF">2015-05-06T18:26:10Z</dcterms:modified>
  <cp:revision>5</cp:revision>
  <dc:subject/>
  <dc:title>С. Д. Эрзя</dc:title>
</cp:coreProperties>
</file>