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02C-BD17-4421-8530-EEE99A9C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4CD-2C01-47D5-A8FD-CFA32123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82F24-17C6-4BEA-8FC3-16C92AC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2714C-D8FA-495B-8B2A-194BAA56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D8684-4905-4605-AF5E-A7A911FE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A72BE-1B58-4DC2-9C0E-8976C4E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2C74-AA46-41AE-9D4D-204DBC9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6D444-D0B4-4056-A4C7-24D3E0A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02438-6F9B-4EAD-9F61-EE756D0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92274-21F6-4992-8580-EAD31C75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BDCD3-08F2-469A-9061-E57F7F78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B0C-AF71-4AC0-A88A-E0016254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FEB-2714-49B2-81BD-182670A6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6CD-A1B2-40BC-879B-589CB776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09E-4C8F-4FDE-A2D0-77435EC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C9A-7B7A-4352-88D9-E17291EE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AA30-8C00-449A-B787-7368F2A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BB6D-E05B-4376-8DFE-60D5BC0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F5E-5A2F-4686-83CD-0388F6E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BCB1-01A0-43F8-AEE9-F51A6CE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B39-080F-4395-893D-B7A6325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F8A1-B7B8-4C6E-BCB1-64A7048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99F-8986-44EE-8784-E516B41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5D1-1519-479B-AF57-0900E758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A6D1-F008-49E1-82E6-7FD8C89B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3003-E29D-4D65-BFCA-739628E0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A938-D4A5-4991-B63D-9BCA6235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28FD-3FD0-4270-B1AB-A1E91FAF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7192-61BC-4D4B-A592-6829B26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7A26-0397-4DF6-A603-8CDF0F8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C363-FB4B-400E-8F69-B3726D8C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29B-87D8-43BA-8C49-7D0E7D87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7FB0-6D93-4DFC-8E53-4FCAD8D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2865-C682-4E9C-B139-662B542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9E3C-05EE-4B78-9C4E-A05BD48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5FF1-EE6E-4D28-9064-97916BE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9222-4B6A-4D5D-ADE2-7299111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9E1B-7345-454C-B439-DA58D0A7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576E-5890-449A-9286-065F375F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3A16-1B1F-4EDC-AA0D-672EBDB8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3684-81B3-4BF2-AC7F-35E7819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DBF1-190F-423F-A843-B513C4B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546-4DB1-44A1-8188-A4C868B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26D5-E748-49EF-917A-FB0ABAC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B897-892E-415F-9664-3E449F68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1FFE-9DED-40F0-BFD9-0769ECA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AB59-D875-49B0-9C4B-63647893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0797-5420-4447-B7FE-A900AA2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D1F9-FEBC-41AB-9040-923478B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5A58-6848-4278-9DED-772551E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6F85-52B2-45DC-8EB6-408FE2C1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0E1E-0B57-4A26-A848-D68F03E4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9882-7176-4BEE-9ECA-95F5AABA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C52-71E1-417D-BB3C-7ACA116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0A0D-64DD-43D1-8571-42CCA315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7CD3-635A-42F3-BE14-44E15BF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E9B3-B427-458E-B4BE-CB02731B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360E-F4EE-47D4-BF0F-41A7A1CF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3B00-5C77-4D49-9BFC-0B862CD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20B34-C549-4028-B64D-4CDD792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212A-BD6A-4B92-9FDA-E1CCE94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6CF3-2AAE-45DB-8898-7EDE878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6D32-3E69-4D86-8D68-B3AABA7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D4EE-7205-495D-A6AE-4853C09C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8A1-1D7F-4AA0-AA17-B1EF5F0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3191-6E56-4F21-BE0E-E25F6C60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6702-B404-43B3-A15B-DD65128C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D09A-3A1C-45AC-B1E5-EA19880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06EE-D538-4439-8021-50C47768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F705-5EC0-4B49-8AE1-4423F0EE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8370-7C23-4B0C-B447-EC5FB0D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339D-9234-49E0-9BD5-7F64DD4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8F8C-01A3-48B2-9302-51523E5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6AE2-53E6-4C3C-9072-81DB9B0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B556-C028-47C1-872E-DA4BB88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FF0-9804-4CB2-88A6-539470D4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FC95F-94B0-435B-9707-ECA6BEE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13A8-F428-40C2-BAE2-18848DEB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6468-B619-4E73-BAD7-387ED180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02A3-535A-4577-9E75-A9EC7ED8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9A7F6-5FA9-4688-BF29-267C7BA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6BCBF-20B0-494A-AB02-A83BE20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A922-DB6A-4863-A242-B25638E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7790-850B-4929-B114-E1D8323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3DFD-6F0C-4F12-8A06-784F64C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6435-A230-4000-8CD1-4ED0FA8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319-C84C-41B3-8697-FFC868C5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868E-D143-4E3E-B80F-FA25E0A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1D68-0EAA-4A19-B0C2-4C1C8C5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52F1-4110-4641-A839-955C56D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448B-D1AA-487C-AE38-3B14B415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EBC8B-6D61-425B-8644-A0C9B9A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0366-FE1E-479B-B13A-7E314489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8714-723C-4BE1-B780-4A69D51B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EE205-AD46-4361-AAFC-400F7EBC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1C982-1A91-4B24-A10A-AF2B412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0990-DD03-45A7-8A92-AB8A047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750-1A00-442C-BB03-DFE7421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40DE-3C8D-4461-A7B5-1E05B25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5853-F04D-4552-B48C-44FBA7D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A261-1D6A-40CB-8182-1E907D5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A1A3-5F70-4B4D-B17D-B6BE2C1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6F06-F781-420C-85E4-01DFA75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21071-4B00-4A20-B917-DDF829AB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427A-4A7C-4059-A853-55A72C34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F21CE-3439-4AAA-935A-5FC47337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9D83-CCA1-4FDD-9F7B-D44D803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2F3D6-0C3E-43FE-A969-F86E1B1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F9DD-3889-4C90-AE94-3772136AC0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077-D11A-4747-B5E8-1AF70C4827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54F-1FD6-4148-A908-D21D03A4284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8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9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9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94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95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6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0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3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4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6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207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8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9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10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2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213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5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216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8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9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1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2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4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5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7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8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0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31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9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40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1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8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9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1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52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3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4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5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6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5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59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60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1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8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269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1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272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3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4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275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6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0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81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284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6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7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9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290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9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557-B8B9-4D2E-951E-0FF271E06F5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5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5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F2D-8516-40F1-B358-8CF3126238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6515-6228-425E-B999-AD1AEEF88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6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8F3C-8FB7-4D16-9577-53D9441BDB6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538" name="Group 3"/>
            <p:cNvGrpSpPr/>
            <p:nvPr/>
          </p:nvGrpSpPr>
          <p:grpSpPr>
            <a:xfrm>
              <a:off x="3484080" y="967320"/>
              <a:ext cx="945720" cy="709920"/>
              <a:chOff x="3484080" y="967320"/>
              <a:chExt cx="945720" cy="709920"/>
            </a:xfrm>
          </p:grpSpPr>
          <p:sp>
            <p:nvSpPr>
              <p:cNvPr id="539" name="Oval 4"/>
              <p:cNvSpPr/>
              <p:nvPr/>
            </p:nvSpPr>
            <p:spPr>
              <a:xfrm>
                <a:off x="3484080" y="96732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Oval 5"/>
              <p:cNvSpPr/>
              <p:nvPr/>
            </p:nvSpPr>
            <p:spPr>
              <a:xfrm>
                <a:off x="3823920" y="12790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54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543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544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547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548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9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0" name="Group 15"/>
                  <p:cNvGrpSpPr/>
                  <p:nvPr/>
                </p:nvGrpSpPr>
                <p:grpSpPr>
                  <a:xfrm>
                    <a:off x="5787720" y="2143800"/>
                    <a:ext cx="3039480" cy="2528640"/>
                    <a:chOff x="5787720" y="2143800"/>
                    <a:chExt cx="3039480" cy="2528640"/>
                  </a:xfrm>
                </p:grpSpPr>
                <p:sp>
                  <p:nvSpPr>
                    <p:cNvPr id="551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2" name="Freeform 17"/>
                    <p:cNvSpPr/>
                    <p:nvPr/>
                  </p:nvSpPr>
                  <p:spPr>
                    <a:xfrm rot="2103600">
                      <a:off x="7542000" y="371664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3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554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5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6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557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8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9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560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1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2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563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4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5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566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7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68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569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0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1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572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3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4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575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6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77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578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79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0" name="Group 45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581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2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3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584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5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6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587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8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89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590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1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2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593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4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5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596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7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98" name="Group 63"/>
                  <p:cNvGrpSpPr/>
                  <p:nvPr/>
                </p:nvGrpSpPr>
                <p:grpSpPr>
                  <a:xfrm>
                    <a:off x="4031640" y="322560"/>
                    <a:ext cx="1458360" cy="1898280"/>
                    <a:chOff x="4031640" y="322560"/>
                    <a:chExt cx="1458360" cy="1898280"/>
                  </a:xfrm>
                </p:grpSpPr>
                <p:sp>
                  <p:nvSpPr>
                    <p:cNvPr id="599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0" name="Freeform 65"/>
                    <p:cNvSpPr/>
                    <p:nvPr/>
                  </p:nvSpPr>
                  <p:spPr>
                    <a:xfrm flipH="1" rot="3474000">
                      <a:off x="4036680" y="53352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1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602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3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4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605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6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7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608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9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610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1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12" name="Group 77"/>
                  <p:cNvGrpSpPr/>
                  <p:nvPr/>
                </p:nvGrpSpPr>
                <p:grpSpPr>
                  <a:xfrm>
                    <a:off x="5360040" y="269640"/>
                    <a:ext cx="1189800" cy="1890000"/>
                    <a:chOff x="5360040" y="269640"/>
                    <a:chExt cx="1189800" cy="1890000"/>
                  </a:xfrm>
                </p:grpSpPr>
                <p:sp>
                  <p:nvSpPr>
                    <p:cNvPr id="613" name="Freeform 78"/>
                    <p:cNvSpPr/>
                    <p:nvPr/>
                  </p:nvSpPr>
                  <p:spPr>
                    <a:xfrm rot="17742000">
                      <a:off x="5091840" y="1408320"/>
                      <a:ext cx="130680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4" name="Freeform 79"/>
                    <p:cNvSpPr/>
                    <p:nvPr/>
                  </p:nvSpPr>
                  <p:spPr>
                    <a:xfrm rot="17742000">
                      <a:off x="5885280" y="486000"/>
                      <a:ext cx="70344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5" name="Group 80"/>
                  <p:cNvGrpSpPr/>
                  <p:nvPr/>
                </p:nvGrpSpPr>
                <p:grpSpPr>
                  <a:xfrm>
                    <a:off x="5350320" y="379440"/>
                    <a:ext cx="1890000" cy="1795680"/>
                    <a:chOff x="5350320" y="379440"/>
                    <a:chExt cx="1890000" cy="1795680"/>
                  </a:xfrm>
                </p:grpSpPr>
                <p:sp>
                  <p:nvSpPr>
                    <p:cNvPr id="616" name="Freeform 81"/>
                    <p:cNvSpPr/>
                    <p:nvPr/>
                  </p:nvSpPr>
                  <p:spPr>
                    <a:xfrm rot="18822600">
                      <a:off x="5249880" y="1377360"/>
                      <a:ext cx="14277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7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8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619" name="Freeform 84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0" name="Freeform 85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1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622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3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4" name="Group 89"/>
                  <p:cNvGrpSpPr/>
                  <p:nvPr/>
                </p:nvGrpSpPr>
                <p:grpSpPr>
                  <a:xfrm>
                    <a:off x="3790440" y="2641320"/>
                    <a:ext cx="1482480" cy="3008520"/>
                    <a:chOff x="3790440" y="2641320"/>
                    <a:chExt cx="1482480" cy="3008520"/>
                  </a:xfrm>
                </p:grpSpPr>
                <p:sp>
                  <p:nvSpPr>
                    <p:cNvPr id="625" name="Freeform 90"/>
                    <p:cNvSpPr/>
                    <p:nvPr/>
                  </p:nvSpPr>
                  <p:spPr>
                    <a:xfrm flipH="1" rot="17543400">
                      <a:off x="3736800" y="3432960"/>
                      <a:ext cx="19688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6" name="Freeform 91"/>
                    <p:cNvSpPr/>
                    <p:nvPr/>
                  </p:nvSpPr>
                  <p:spPr>
                    <a:xfrm flipH="1" rot="17543400">
                      <a:off x="3741840" y="474480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7" name="Group 92"/>
                  <p:cNvGrpSpPr/>
                  <p:nvPr/>
                </p:nvGrpSpPr>
                <p:grpSpPr>
                  <a:xfrm>
                    <a:off x="4502160" y="2689200"/>
                    <a:ext cx="873720" cy="2937600"/>
                    <a:chOff x="4502160" y="2689200"/>
                    <a:chExt cx="873720" cy="2937600"/>
                  </a:xfrm>
                </p:grpSpPr>
                <p:sp>
                  <p:nvSpPr>
                    <p:cNvPr id="628" name="Freeform 93"/>
                    <p:cNvSpPr/>
                    <p:nvPr/>
                  </p:nvSpPr>
                  <p:spPr>
                    <a:xfrm flipH="1" rot="16870800">
                      <a:off x="4074480" y="3478680"/>
                      <a:ext cx="189468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9" name="Freeform 94"/>
                    <p:cNvSpPr/>
                    <p:nvPr/>
                  </p:nvSpPr>
                  <p:spPr>
                    <a:xfrm flipH="1" rot="16870800">
                      <a:off x="4359960" y="4805280"/>
                      <a:ext cx="1013400" cy="54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0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631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2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3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634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5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6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637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8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9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640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1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42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643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4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645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646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647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8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9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0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1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2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654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5" name="Group 120"/>
            <p:cNvGrpSpPr/>
            <p:nvPr/>
          </p:nvGrpSpPr>
          <p:grpSpPr>
            <a:xfrm>
              <a:off x="2343960" y="759600"/>
              <a:ext cx="6411960" cy="4711680"/>
              <a:chOff x="2343960" y="759600"/>
              <a:chExt cx="6411960" cy="4711680"/>
            </a:xfrm>
          </p:grpSpPr>
          <p:sp>
            <p:nvSpPr>
              <p:cNvPr id="656" name="Freeform 121"/>
              <p:cNvSpPr/>
              <p:nvPr/>
            </p:nvSpPr>
            <p:spPr>
              <a:xfrm flipH="1">
                <a:off x="4470840" y="3283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Arc 122"/>
              <p:cNvSpPr/>
              <p:nvPr/>
            </p:nvSpPr>
            <p:spPr>
              <a:xfrm flipH="1">
                <a:off x="3385440" y="262800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8" name="Arc 123"/>
              <p:cNvSpPr/>
              <p:nvPr/>
            </p:nvSpPr>
            <p:spPr>
              <a:xfrm flipH="1">
                <a:off x="3646800" y="217008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Arc 124"/>
              <p:cNvSpPr/>
              <p:nvPr/>
            </p:nvSpPr>
            <p:spPr>
              <a:xfrm flipH="1">
                <a:off x="2343600" y="178632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Arc 125"/>
              <p:cNvSpPr/>
              <p:nvPr/>
            </p:nvSpPr>
            <p:spPr>
              <a:xfrm>
                <a:off x="5588640" y="219852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Arc 126"/>
              <p:cNvSpPr/>
              <p:nvPr/>
            </p:nvSpPr>
            <p:spPr>
              <a:xfrm>
                <a:off x="5711760" y="218484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Freeform 127"/>
              <p:cNvSpPr/>
              <p:nvPr/>
            </p:nvSpPr>
            <p:spPr>
              <a:xfrm>
                <a:off x="6155640" y="35956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Freeform 128"/>
              <p:cNvSpPr/>
              <p:nvPr/>
            </p:nvSpPr>
            <p:spPr>
              <a:xfrm flipV="1" rot="19660800">
                <a:off x="5227200" y="299484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Freeform 129"/>
              <p:cNvSpPr/>
              <p:nvPr/>
            </p:nvSpPr>
            <p:spPr>
              <a:xfrm flipH="1">
                <a:off x="2688120" y="343296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Freeform 130"/>
              <p:cNvSpPr/>
              <p:nvPr/>
            </p:nvSpPr>
            <p:spPr>
              <a:xfrm flipH="1">
                <a:off x="3318840" y="144576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31"/>
              <p:cNvSpPr/>
              <p:nvPr/>
            </p:nvSpPr>
            <p:spPr>
              <a:xfrm>
                <a:off x="7513920" y="315648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32"/>
              <p:cNvSpPr/>
              <p:nvPr/>
            </p:nvSpPr>
            <p:spPr>
              <a:xfrm>
                <a:off x="6868800" y="215784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33"/>
              <p:cNvSpPr/>
              <p:nvPr/>
            </p:nvSpPr>
            <p:spPr>
              <a:xfrm>
                <a:off x="6937920" y="75960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34"/>
              <p:cNvSpPr/>
              <p:nvPr/>
            </p:nvSpPr>
            <p:spPr>
              <a:xfrm flipH="1" rot="1347000">
                <a:off x="4183920" y="220212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F8DC-A8AD-4640-B824-02AB057DAFE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F44-E85B-4F29-939F-E05159834E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900000" y="2060640"/>
            <a:ext cx="74883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Решение  квадратных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           </a:t>
            </a:r>
            <a:r>
              <a:rPr b="1" i="1" lang="ru-RU" sz="4800" spc="-1" strike="noStrike">
                <a:solidFill>
                  <a:srgbClr val="ff0000"/>
                </a:solidFill>
                <a:latin typeface="Informal Roman"/>
              </a:rPr>
              <a:t>уравнений.</a:t>
            </a:r>
            <a:r>
              <a:rPr b="1" i="1" lang="ru-RU" sz="4000" spc="-1" strike="noStrike">
                <a:solidFill>
                  <a:srgbClr val="000000"/>
                </a:solidFill>
                <a:latin typeface="Informal Roman"/>
              </a:rPr>
              <a:t>            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84360" y="69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Comic Sans MS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3492360" y="5157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6588000" y="836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67327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Comic Sans MS"/>
              </a:rPr>
              <a:t>x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3635280" y="3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684360" y="5013360"/>
            <a:ext cx="79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7812000" y="3645000"/>
            <a:ext cx="64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Историческая справка.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Вавилон – около 2000лет до н. э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395280" y="2781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250920" y="28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2002 г. – 800летие КВУР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324000" y="3789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1202 г. – изложены формулы КВУР  Леонардом Фибоначчи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112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179280" y="4046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Verdana"/>
              </a:rPr>
              <a:t>XVII </a:t>
            </a:r>
            <a:r>
              <a:rPr b="1" i="1" lang="ru-RU" sz="3600" spc="-1" strike="noStrike">
                <a:solidFill>
                  <a:srgbClr val="ffffcc"/>
                </a:solidFill>
                <a:latin typeface="Verdana"/>
              </a:rPr>
              <a:t> век – формулы принимают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Verdana"/>
              </a:rPr>
              <a:t>современный вид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1" name="Picture 5" descr="ньютон"/>
          <p:cNvPicPr/>
          <p:nvPr/>
        </p:nvPicPr>
        <p:blipFill>
          <a:blip r:embed="rId1"/>
          <a:stretch/>
        </p:blipFill>
        <p:spPr>
          <a:xfrm>
            <a:off x="971640" y="2133720"/>
            <a:ext cx="1377720" cy="1815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декарт"/>
          <p:cNvPicPr/>
          <p:nvPr/>
        </p:nvPicPr>
        <p:blipFill>
          <a:blip r:embed="rId2"/>
          <a:stretch/>
        </p:blipFill>
        <p:spPr>
          <a:xfrm>
            <a:off x="900000" y="4437000"/>
            <a:ext cx="1471680" cy="17542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7"/>
          <p:cNvSpPr/>
          <p:nvPr/>
        </p:nvSpPr>
        <p:spPr>
          <a:xfrm>
            <a:off x="2627280" y="2276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Исаак  Ньютон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(1643-1727)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2556000" y="4653000"/>
            <a:ext cx="47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Рене  Декарт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ffffcc"/>
                </a:solidFill>
                <a:latin typeface="Verdana"/>
              </a:rPr>
              <a:t>(1596-1662)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Дискриминант» - различитель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468360" y="1557360"/>
            <a:ext cx="1511280" cy="115092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611280" y="3141720"/>
            <a:ext cx="1439640" cy="115092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611280" y="4941720"/>
            <a:ext cx="1512720" cy="1224000"/>
          </a:xfrm>
          <a:prstGeom prst="ellipse">
            <a:avLst/>
          </a:prstGeom>
          <a:solidFill>
            <a:srgbClr val="f06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9"/>
          <p:cNvSpPr/>
          <p:nvPr/>
        </p:nvSpPr>
        <p:spPr>
          <a:xfrm>
            <a:off x="755640" y="17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   0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10"/>
          <p:cNvSpPr/>
          <p:nvPr/>
        </p:nvSpPr>
        <p:spPr>
          <a:xfrm>
            <a:off x="1258920" y="1916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12"/>
          <p:cNvSpPr/>
          <p:nvPr/>
        </p:nvSpPr>
        <p:spPr>
          <a:xfrm flipV="1">
            <a:off x="1258920" y="2060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755640" y="3429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=0 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75564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   0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6"/>
          <p:cNvSpPr/>
          <p:nvPr/>
        </p:nvSpPr>
        <p:spPr>
          <a:xfrm flipV="1">
            <a:off x="1258920" y="53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7"/>
          <p:cNvSpPr/>
          <p:nvPr/>
        </p:nvSpPr>
        <p:spPr>
          <a:xfrm>
            <a:off x="1258920" y="551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2050920" y="213372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19"/>
          <p:cNvSpPr/>
          <p:nvPr/>
        </p:nvSpPr>
        <p:spPr>
          <a:xfrm>
            <a:off x="3132000" y="1268280"/>
            <a:ext cx="3095640" cy="13341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имеет два  действительных       корня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29"/>
          <p:cNvSpPr/>
          <p:nvPr/>
        </p:nvSpPr>
        <p:spPr>
          <a:xfrm>
            <a:off x="2124000" y="371628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30"/>
          <p:cNvSpPr/>
          <p:nvPr/>
        </p:nvSpPr>
        <p:spPr>
          <a:xfrm>
            <a:off x="3132000" y="3284640"/>
            <a:ext cx="3311640" cy="7855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имеет один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рень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31"/>
          <p:cNvSpPr/>
          <p:nvPr/>
        </p:nvSpPr>
        <p:spPr>
          <a:xfrm>
            <a:off x="2195640" y="5589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3132000" y="5157720"/>
            <a:ext cx="3384720" cy="78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Уравнение не имеет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действительных корней</a:t>
            </a: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Verdana"/>
              </a:rPr>
              <a:t>Формула для вычисления</a:t>
            </a:r>
            <a:br>
              <a:rPr sz="3200"/>
            </a:br>
            <a:r>
              <a:rPr b="1" i="1" lang="ru-RU" sz="3200" spc="-1" strike="noStrike">
                <a:solidFill>
                  <a:srgbClr val="a26d18"/>
                </a:solidFill>
                <a:latin typeface="Verdana"/>
              </a:rPr>
              <a:t>дискриминанта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71640" y="206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D=b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-4ac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ahoma"/>
              </a:rPr>
              <a:t>Преобразовать уравнения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ahoma"/>
              </a:rPr>
              <a:t>к стандартному виду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815" name="Picture 4" descr="office_ani_12"/>
          <p:cNvPicPr/>
          <p:nvPr/>
        </p:nvPicPr>
        <p:blipFill>
          <a:blip r:embed="rId1"/>
          <a:stretch/>
        </p:blipFill>
        <p:spPr>
          <a:xfrm>
            <a:off x="7236000" y="5157720"/>
            <a:ext cx="1533240" cy="14097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5"/>
          <p:cNvSpPr/>
          <p:nvPr/>
        </p:nvSpPr>
        <p:spPr>
          <a:xfrm>
            <a:off x="250920" y="198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1. х+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6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250920" y="306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2.  -4х-5+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0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2509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3.(2+5х)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=9.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4500720" y="184464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+х-6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4572000" y="306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-4х-5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4572000" y="4292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25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+20х-5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9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9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о интересн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 1. Если в квадратном уравнении 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с = 0 сумма коэффициент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+ в +с = 0,   то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:  Дано уравнение  5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7х + 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+ в + с =5 – 7 + 2 = 0,  значит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1,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2 Если в квадратном уравнении  а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вх + с = 0  сумма  коэффи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– в + с = 0,  то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-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:  Дано  уравнение  3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2х – 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– в + с = 3 – 2 – 1 = 0,  значит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-1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5" name="Picture 3" descr=""/>
          <p:cNvPicPr/>
          <p:nvPr/>
        </p:nvPicPr>
        <p:blipFill>
          <a:blip r:embed="rId1"/>
          <a:stretch/>
        </p:blipFill>
        <p:spPr>
          <a:xfrm>
            <a:off x="4857840" y="2357280"/>
            <a:ext cx="214200" cy="600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"/>
          <p:cNvPicPr/>
          <p:nvPr/>
        </p:nvPicPr>
        <p:blipFill>
          <a:blip r:embed="rId3"/>
          <a:stretch/>
        </p:blipFill>
        <p:spPr>
          <a:xfrm>
            <a:off x="5286240" y="4500720"/>
            <a:ext cx="214560" cy="59976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0" name="Picture 11" descr=""/>
          <p:cNvPicPr/>
          <p:nvPr/>
        </p:nvPicPr>
        <p:blipFill>
          <a:blip r:embed="rId4"/>
          <a:stretch/>
        </p:blipFill>
        <p:spPr>
          <a:xfrm>
            <a:off x="7000920" y="5357880"/>
            <a:ext cx="142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оставь сло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00040" y="1642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8х + 15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11х + 18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5х – 6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4х + 2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дите карточку со своим ответом и составьте сл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000080" y="3929040"/>
          <a:ext cx="6786720" cy="2000160"/>
        </p:xfrm>
        <a:graphic>
          <a:graphicData uri="http://schemas.openxmlformats.org/drawingml/2006/table">
            <a:tbl>
              <a:tblPr/>
              <a:tblGrid>
                <a:gridCol w="1352520"/>
                <a:gridCol w="1430280"/>
                <a:gridCol w="1352520"/>
                <a:gridCol w="26514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 и 5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и 9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 и -1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рней  нет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Самостоятельная работа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ариант 1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аждого уравнения вида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укажите зна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) 3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6х-6=0;          б)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4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Продолжите вычисление дискриминан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квадратного уравнени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формул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7х+2=0,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(-7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∙5∙2=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кончите решение уравнения  3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-5х-2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(-5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4∙3∙(-2)=4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                                        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Б.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Решите уравнение: а) 6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32=0;         б)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5х-6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В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Решите уравнение: а) -5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4х+28=0;         б)2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8х-2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полнительное задание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При каком значении а уравнение  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2ах+3=0  име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ин корен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948360" cy="1525680"/>
          </a:xfrm>
          <a:prstGeom prst="rect">
            <a:avLst/>
          </a:prstGeom>
          <a:solidFill>
            <a:srgbClr val="f3e6f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06ad6"/>
                </a:solidFill>
                <a:latin typeface="Tahoma"/>
              </a:rPr>
              <a:t>  </a:t>
            </a:r>
            <a:r>
              <a:rPr b="1" i="1" lang="ru-RU" sz="3600" spc="-1" strike="noStrike">
                <a:solidFill>
                  <a:srgbClr val="f06ad6"/>
                </a:solidFill>
                <a:latin typeface="Tahoma"/>
              </a:rPr>
              <a:t>Подведение  итогов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195280" y="1234800"/>
            <a:ext cx="6948360" cy="5622840"/>
          </a:xfrm>
          <a:prstGeom prst="rect">
            <a:avLst/>
          </a:prstGeom>
          <a:solidFill>
            <a:srgbClr val="f3e6f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15 – 20 баллов –</a:t>
            </a:r>
            <a:r>
              <a:rPr b="1" i="1" lang="ru-RU" sz="3600" spc="-1" strike="noStrike">
                <a:solidFill>
                  <a:srgbClr val="e4005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оценка  « 5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9 – 14 баллов -   оценка  «4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4005c"/>
                </a:solidFill>
                <a:latin typeface="Tahoma"/>
              </a:rPr>
              <a:t>5 – 8 баллов -   оценка  «3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9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99"/>
                </a:solidFill>
                <a:latin typeface="Comic Sans MS"/>
              </a:rPr>
              <a:t>Сюрприз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39" name="Picture 4" descr="cats_23"/>
          <p:cNvPicPr/>
          <p:nvPr/>
        </p:nvPicPr>
        <p:blipFill>
          <a:blip r:embed="rId1"/>
          <a:stretch/>
        </p:blipFill>
        <p:spPr>
          <a:xfrm>
            <a:off x="826920" y="1989000"/>
            <a:ext cx="2664000" cy="28083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5"/>
          <p:cNvSpPr/>
          <p:nvPr/>
        </p:nvSpPr>
        <p:spPr>
          <a:xfrm>
            <a:off x="3851280" y="4869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3e6fe"/>
                </a:solidFill>
                <a:latin typeface="Arial"/>
              </a:rPr>
              <a:t>(х-3)</a:t>
            </a:r>
            <a:r>
              <a:rPr b="1" i="1" lang="ru-RU" sz="4400" spc="-1" strike="noStrike" baseline="30000">
                <a:solidFill>
                  <a:srgbClr val="f3e6fe"/>
                </a:solidFill>
                <a:latin typeface="Arial"/>
              </a:rPr>
              <a:t>2</a:t>
            </a:r>
            <a:r>
              <a:rPr b="1" i="1" lang="ru-RU" sz="4400" spc="-1" strike="noStrike">
                <a:solidFill>
                  <a:srgbClr val="f3e6fe"/>
                </a:solidFill>
                <a:latin typeface="Arial"/>
              </a:rPr>
              <a:t>(х-4)=0.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класс вошёл – не хмурь лиц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удь разумным до конц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ы не зритель и не гост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ы программы нашей гвозд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е ломайся, не смущайся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ем законам подчиняй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nature34"/>
          <p:cNvPicPr/>
          <p:nvPr/>
        </p:nvPicPr>
        <p:blipFill>
          <a:blip r:embed="rId1"/>
          <a:stretch/>
        </p:blipFill>
        <p:spPr>
          <a:xfrm>
            <a:off x="611280" y="260280"/>
            <a:ext cx="1439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п</a:t>
            </a: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с</a:t>
            </a:r>
            <a:r>
              <a:rPr b="1" i="1" lang="ru-RU" sz="4800" spc="-1" strike="noStrike">
                <a:solidFill>
                  <a:srgbClr val="c204ab"/>
                </a:solidFill>
                <a:latin typeface="Arial"/>
              </a:rPr>
              <a:t>и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б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о 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з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а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i="1" lang="ru-RU" sz="4800" spc="-1" strike="noStrike">
                <a:solidFill>
                  <a:srgbClr val="ff5050"/>
                </a:solidFill>
                <a:latin typeface="Arial"/>
              </a:rPr>
              <a:t>р</a:t>
            </a:r>
            <a:r>
              <a:rPr b="1" i="1" lang="ru-RU" sz="48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к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! </a:t>
            </a:r>
            <a:r>
              <a:rPr b="1" i="1" lang="ru-RU" sz="4800" spc="-1" strike="noStrike">
                <a:solidFill>
                  <a:srgbClr val="ff99ff"/>
                </a:solidFill>
                <a:latin typeface="Arial"/>
              </a:rPr>
              <a:t>! </a:t>
            </a: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ru-RU" sz="4800" spc="-1" strike="noStrike">
                <a:solidFill>
                  <a:srgbClr val="f3e6fe"/>
                </a:solidFill>
                <a:latin typeface="Arial"/>
              </a:rPr>
              <a:t>Вы замечательно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2627280" y="479736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3e6fe"/>
                </a:solidFill>
                <a:latin typeface="Arial"/>
              </a:rPr>
              <a:t>поработали !</a:t>
            </a: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ервое задание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2х + 27 = 0                          2.  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4х – 1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. 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8 = 0                                     4.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х + 10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5.  5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6х = 0                                   6.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8х + 12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7.  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= 0                                           8.  14 – 2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+ х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)  Выпишите номера полных квадратных урав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)  Выпишите коэффициенты  а, в, с  в уравнении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)  Выпишите номер не полного  квадратного  уравн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меющего один корен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)  Найдите дискриминант в уравнении 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) Решите уравнение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)  Решите уравнение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верка первого зада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2876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а)  1,2,4,6,8.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б)  а = - 2, в = 1, с = 1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) 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г)  Д = 2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) 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= 9,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= 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е)  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= 6, х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=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ценивание домашнего задани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6 ответов –     5 баллов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5 ответов – 4 бал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04ab"/>
                </a:solidFill>
                <a:latin typeface="Times New Roman"/>
              </a:rPr>
              <a:t>верно 3-4 ответа -  3 балл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b6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Посредством  уравнени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теор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Я уйму  всяких  разреши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пробл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 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Чосе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250920" y="333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Что называется уравнением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50920" y="141300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Является ли уравнением выражени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            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(х+1)(х-4)=0 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179280" y="314172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Каким наиболее рациональным способом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можно решить его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0" y="479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Найдите корни этого уравнения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0" y="5734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5050"/>
                </a:solidFill>
                <a:latin typeface="Comic Sans MS"/>
              </a:rPr>
              <a:t>Как ещё можно решить это уравнение?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4"/>
          <p:cNvSpPr/>
          <p:nvPr/>
        </p:nvSpPr>
        <p:spPr>
          <a:xfrm>
            <a:off x="250920" y="620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Какие уравнения называются квадратными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50920" y="177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ax</a:t>
            </a:r>
            <a:r>
              <a:rPr b="1" i="1" lang="en-US" sz="3600" spc="-1" strike="noStrike" baseline="30000">
                <a:solidFill>
                  <a:srgbClr val="ff0066"/>
                </a:solidFill>
                <a:latin typeface="Comic Sans MS"/>
              </a:rPr>
              <a:t>2</a:t>
            </a: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+bx+c=0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0920" y="2924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Какие виды КВУР вам известны?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395280" y="42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пол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3132000" y="472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непол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5148360" y="57340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приведённые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204ab"/>
                </a:solidFill>
                <a:latin typeface="Arial Unicode MS"/>
              </a:rPr>
              <a:t>Тест «Виды КВУР»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782" name="Picture 4" descr="21m2"/>
          <p:cNvPicPr/>
          <p:nvPr/>
        </p:nvPicPr>
        <p:blipFill>
          <a:blip r:embed="rId1"/>
          <a:stretch/>
        </p:blipFill>
        <p:spPr>
          <a:xfrm>
            <a:off x="7524720" y="148428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5"/>
          <p:cNvSpPr/>
          <p:nvPr/>
        </p:nvSpPr>
        <p:spPr>
          <a:xfrm>
            <a:off x="2556000" y="29973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204ab"/>
                </a:solidFill>
                <a:latin typeface="Comic Sans MS"/>
              </a:rPr>
              <a:t>Критерии оценивания: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411280" y="4005360"/>
            <a:ext cx="648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нет ошибок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5 баллов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1 – 2 ошибки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4 балла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3 – 4 ошибки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3 балла;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5 – 6 ошибок –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2 балла.</a:t>
            </a: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7:09:52Z</dcterms:created>
  <dc:creator>User</dc:creator>
  <dc:description/>
  <dc:language>en-US</dc:language>
  <cp:lastModifiedBy>Admin</cp:lastModifiedBy>
  <dcterms:modified xsi:type="dcterms:W3CDTF">2010-01-26T18:21:39Z</dcterms:modified>
  <cp:revision>31</cp:revision>
  <dc:subject/>
  <dc:title>Слайд 1</dc:title>
</cp:coreProperties>
</file>