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18A-D3A0-4299-9BA6-4D7F795A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D4B-F971-4D17-A821-8F7EC122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1C409-4B2D-443E-B482-8FDC2022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192A8-1642-4D81-9BDE-A068AF63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08CCD-D483-401F-BF90-B76988DF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7B26F-DA1D-4877-98B8-E53BC11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8E409-468F-461F-9F80-0C454293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D5B7B-ED1F-453B-A194-FFEC15E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177C6-F611-484C-A60F-9F5D69DD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0AADE-D833-443D-94ED-E04A77CE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39664-B5F9-499F-AE11-5F205C78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C8D-30C7-4121-9CB1-C9DB696A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2E0-0B4D-497A-B114-633A7A44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CC70-4103-4727-BFDA-806B85B7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D2DE-5D32-42E2-B1C0-7B6A07AA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A316-B8FA-435D-8305-7A99FC6A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2858-C24F-4AAF-A0E5-C91462EE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4B94-A29C-41BB-9996-AB7132C3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F99E-84A2-4770-98EE-FEDFD654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671E-3285-429B-8AB4-A4BA0E04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2BD-27FE-4BFC-9885-93B8DC29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4D73-A403-4D82-861F-FF66825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F8BC-8028-48B8-9628-DB90A8C5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923A-9692-40FA-AD17-2AC2CF9A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522F-21E5-44C9-AF8D-0A68D819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11E3-F185-42D4-8F54-358D4EC7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59B8-39FE-4CE6-AAF6-0D30C04C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133A-48EA-4E43-B115-3C2DA9E7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33BB-F2EB-4709-8939-85A5C730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71332-1B8E-4A0D-A36A-CC75585A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FB4A-A580-4B90-B6F0-4053151B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061-3598-401D-B1B3-1919470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AB7B-51CF-4BD8-943F-D55D1E8A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494B-DF17-49AE-9C16-77C2B53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CA12-B792-4278-A0FA-6EF3C223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C636-D87E-4A1E-9551-1C988A6B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F401-F4C4-4262-B993-6940305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283A-8B0F-4387-96E9-A7EAFDE3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8753-1279-44E7-B9AA-513628F6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169D-03E4-486F-BAE7-44BC653C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EC8D-F6EF-4BA1-85A3-E5C569B0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7D185-BA21-4EB7-964F-B9BB14C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490-E3F3-4C60-82BC-BEECD95D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831AC-A4CD-4C42-963C-01C006AA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FFDF7-8D91-4261-8640-53B0C3A7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42CD4-B814-4612-A8B3-CF838785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0F5D-738C-474A-8B61-A6F67EF3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28092-E46C-4840-9EC4-09F47F2B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2201-9092-444E-BA98-611F9CB2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4A3B-A6BB-4219-AC21-016831D1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4BA3-963A-4381-8966-3987C908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223B-004B-4547-916F-53FED6D0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46EC-F1DB-4DA4-A8C3-DD0A4972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5F5-D424-4B30-A0E2-3E21BE86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4273B-A65C-40D1-8048-22ABA5B7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23ED2-0B3B-48FA-A3D6-A20E71C0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E8DF4-054D-41C8-AD53-78C5BF34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D1D3C-3C58-4CFD-B8C5-9B6E4B6F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DCF4A-4106-4DA1-8B87-A585E0B3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9AA68-DD12-487C-8E94-89D02558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69E03-4578-422A-AB37-2E4AC2EA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26B03-8712-4FAE-BD6D-3ADC5E7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F4C5-07E7-4840-964E-6BA22D39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5F574-C843-4117-8AB4-77FCA833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901-D43E-4404-B5E0-8E2372D8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02677-BBEC-43DA-A814-0134CBF3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707A9-C90F-4BD7-A875-8E1C6830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721EA-7EE9-402B-BEF0-979D3A5F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48E13-C89D-4297-8BE3-70ADE9B2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07CA3-2E10-463C-A521-B9934E39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1DDFD-2946-44B5-9DA7-4C0D8381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23D3C-5432-47D1-B659-89266CE2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75D47-051B-411A-AD4C-64DEF91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207E3-DD66-4384-9245-393033A8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ED17C-0670-43FB-8056-F671E3B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153-26CD-4CB8-9266-10516DF2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6A61E-4E22-43FD-A2D0-F827F3E6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B827-A141-44B7-9F32-4A4619ED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BE3F-FFA4-4E83-8D24-36C57DBA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28450-1055-4E1A-9D48-602C27D3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76EE-0D59-402D-9E8D-D681F273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ED6D3-7A25-4F3A-90AE-FF516088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BEA98-5F65-4E6A-A9B9-C2B5017A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17FAC-F339-4E57-802C-0E288A8D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F7BA6-2EA6-4A2A-87DE-4EDEF898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E5797-F495-4219-9E72-D9405AC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988-1A5C-4230-97B7-EEEF6467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B59C-1E9A-4A81-B7AB-1EAE883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32D9D-8B89-4FAB-A285-B8DFDA33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8537-6E1E-43C1-B24B-B565AB79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9487D-27F8-409B-8FDE-5071FC37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09D9D-8F8C-4D2A-AA15-4F6BDEFC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48BDB-EBF2-4B4C-8CF5-3D9DB26E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76DD2-8A05-4395-9E29-C92AE317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6F386-CBF8-4E51-B6C4-9E5C189F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67630-6F90-4D7A-A224-27C097C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0FC15-79DE-4F37-99B7-5094DCE0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529-FE17-46FA-9079-026623F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E962D-9BD2-40B7-BE2C-8EED33EA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6E352-2B0B-412D-B5B3-7129E14B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4B4EF-9AE5-4198-9359-D2E971DD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40C15-713F-4007-B952-9D3140E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F4F77-2722-4E30-AD52-CB56054D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1DBDB-B461-4BDC-8023-ECF50993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87FB2-B125-443B-84F6-46B48B74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1FF16-5A95-4E1B-B4C4-3792C427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8E4F3-A347-4684-92BB-8B118B2F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49999-81E9-49F2-BA10-11251F37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646E-BFE6-4D6F-9DAF-D090CBF2A5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0BC-FBCB-4032-AF8E-30F8023101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2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6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E3AC-ACF1-4703-B3A1-640DBD5EA40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80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1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3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4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6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7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9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90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1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3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94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95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6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97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8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9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0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01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2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3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04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6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207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8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9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10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1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2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213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4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5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216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7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8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219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0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1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222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3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4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225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6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7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228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0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31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2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3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34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5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6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7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8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9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40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1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2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43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4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5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6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7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8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249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0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1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252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3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4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255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6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57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59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260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1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2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63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4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5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6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7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8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269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0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1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272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3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4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275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6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7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8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9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0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81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3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284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6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287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8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9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290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1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92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5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9FB4-CCDE-4B58-8E38-9F6F978C171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5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5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FD6E-35C2-4DE2-81B8-7EB5CAE452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C586-ACAF-40CC-AF1E-EE7C000E53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6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7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8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9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AAE6-886B-42CA-AE45-7BB1405EA11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538" name="Group 3"/>
            <p:cNvGrpSpPr/>
            <p:nvPr/>
          </p:nvGrpSpPr>
          <p:grpSpPr>
            <a:xfrm>
              <a:off x="3484080" y="967320"/>
              <a:ext cx="945720" cy="709920"/>
              <a:chOff x="3484080" y="967320"/>
              <a:chExt cx="945720" cy="709920"/>
            </a:xfrm>
          </p:grpSpPr>
          <p:sp>
            <p:nvSpPr>
              <p:cNvPr id="539" name="Oval 4"/>
              <p:cNvSpPr/>
              <p:nvPr/>
            </p:nvSpPr>
            <p:spPr>
              <a:xfrm>
                <a:off x="3484080" y="96732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Oval 5"/>
              <p:cNvSpPr/>
              <p:nvPr/>
            </p:nvSpPr>
            <p:spPr>
              <a:xfrm>
                <a:off x="3823920" y="127908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41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542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543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544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6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547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548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9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0" name="Group 15"/>
                  <p:cNvGrpSpPr/>
                  <p:nvPr/>
                </p:nvGrpSpPr>
                <p:grpSpPr>
                  <a:xfrm>
                    <a:off x="5787720" y="2143800"/>
                    <a:ext cx="3039480" cy="2528640"/>
                    <a:chOff x="5787720" y="2143800"/>
                    <a:chExt cx="3039480" cy="2528640"/>
                  </a:xfrm>
                </p:grpSpPr>
                <p:sp>
                  <p:nvSpPr>
                    <p:cNvPr id="551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2" name="Freeform 17"/>
                    <p:cNvSpPr/>
                    <p:nvPr/>
                  </p:nvSpPr>
                  <p:spPr>
                    <a:xfrm rot="2103600">
                      <a:off x="7542000" y="3716640"/>
                      <a:ext cx="1200960" cy="671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3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554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5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6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557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8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9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560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61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62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563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64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65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566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67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68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569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70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71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572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73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74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575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76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77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578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79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80" name="Group 45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581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2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83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584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5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86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587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8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89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590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1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92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593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4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95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596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7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98" name="Group 63"/>
                  <p:cNvGrpSpPr/>
                  <p:nvPr/>
                </p:nvGrpSpPr>
                <p:grpSpPr>
                  <a:xfrm>
                    <a:off x="4031640" y="322560"/>
                    <a:ext cx="1458360" cy="1898280"/>
                    <a:chOff x="4031640" y="322560"/>
                    <a:chExt cx="1458360" cy="1898280"/>
                  </a:xfrm>
                </p:grpSpPr>
                <p:sp>
                  <p:nvSpPr>
                    <p:cNvPr id="599" name="Freeform 64"/>
                    <p:cNvSpPr/>
                    <p:nvPr/>
                  </p:nvSpPr>
                  <p:spPr>
                    <a:xfrm flipH="1" rot="3474000">
                      <a:off x="4335840" y="1441800"/>
                      <a:ext cx="13600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0" name="Freeform 65"/>
                    <p:cNvSpPr/>
                    <p:nvPr/>
                  </p:nvSpPr>
                  <p:spPr>
                    <a:xfrm flipH="1" rot="3474000">
                      <a:off x="4036680" y="533520"/>
                      <a:ext cx="72936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01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602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3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04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605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6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07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608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9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610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1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12" name="Group 77"/>
                  <p:cNvGrpSpPr/>
                  <p:nvPr/>
                </p:nvGrpSpPr>
                <p:grpSpPr>
                  <a:xfrm>
                    <a:off x="5360040" y="269640"/>
                    <a:ext cx="1189800" cy="1890000"/>
                    <a:chOff x="5360040" y="269640"/>
                    <a:chExt cx="1189800" cy="1890000"/>
                  </a:xfrm>
                </p:grpSpPr>
                <p:sp>
                  <p:nvSpPr>
                    <p:cNvPr id="613" name="Freeform 78"/>
                    <p:cNvSpPr/>
                    <p:nvPr/>
                  </p:nvSpPr>
                  <p:spPr>
                    <a:xfrm rot="17742000">
                      <a:off x="5091840" y="1408320"/>
                      <a:ext cx="130680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4" name="Freeform 79"/>
                    <p:cNvSpPr/>
                    <p:nvPr/>
                  </p:nvSpPr>
                  <p:spPr>
                    <a:xfrm rot="17742000">
                      <a:off x="5885280" y="486000"/>
                      <a:ext cx="70344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15" name="Group 80"/>
                  <p:cNvGrpSpPr/>
                  <p:nvPr/>
                </p:nvGrpSpPr>
                <p:grpSpPr>
                  <a:xfrm>
                    <a:off x="5350320" y="379440"/>
                    <a:ext cx="1890000" cy="1795680"/>
                    <a:chOff x="5350320" y="379440"/>
                    <a:chExt cx="1890000" cy="1795680"/>
                  </a:xfrm>
                </p:grpSpPr>
                <p:sp>
                  <p:nvSpPr>
                    <p:cNvPr id="616" name="Freeform 81"/>
                    <p:cNvSpPr/>
                    <p:nvPr/>
                  </p:nvSpPr>
                  <p:spPr>
                    <a:xfrm rot="18822600">
                      <a:off x="5249880" y="1377360"/>
                      <a:ext cx="142776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7" name="Freeform 82"/>
                    <p:cNvSpPr/>
                    <p:nvPr/>
                  </p:nvSpPr>
                  <p:spPr>
                    <a:xfrm rot="18822600">
                      <a:off x="6402960" y="57636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18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619" name="Freeform 84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0" name="Freeform 85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21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622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3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24" name="Group 89"/>
                  <p:cNvGrpSpPr/>
                  <p:nvPr/>
                </p:nvGrpSpPr>
                <p:grpSpPr>
                  <a:xfrm>
                    <a:off x="3790440" y="2641320"/>
                    <a:ext cx="1482480" cy="3008520"/>
                    <a:chOff x="3790440" y="2641320"/>
                    <a:chExt cx="1482480" cy="3008520"/>
                  </a:xfrm>
                </p:grpSpPr>
                <p:sp>
                  <p:nvSpPr>
                    <p:cNvPr id="625" name="Freeform 90"/>
                    <p:cNvSpPr/>
                    <p:nvPr/>
                  </p:nvSpPr>
                  <p:spPr>
                    <a:xfrm flipH="1" rot="17543400">
                      <a:off x="3736800" y="3432960"/>
                      <a:ext cx="196884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6" name="Freeform 91"/>
                    <p:cNvSpPr/>
                    <p:nvPr/>
                  </p:nvSpPr>
                  <p:spPr>
                    <a:xfrm flipH="1" rot="17543400">
                      <a:off x="3741840" y="474480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27" name="Group 92"/>
                  <p:cNvGrpSpPr/>
                  <p:nvPr/>
                </p:nvGrpSpPr>
                <p:grpSpPr>
                  <a:xfrm>
                    <a:off x="4502160" y="2689200"/>
                    <a:ext cx="873720" cy="2937600"/>
                    <a:chOff x="4502160" y="2689200"/>
                    <a:chExt cx="873720" cy="2937600"/>
                  </a:xfrm>
                </p:grpSpPr>
                <p:sp>
                  <p:nvSpPr>
                    <p:cNvPr id="628" name="Freeform 93"/>
                    <p:cNvSpPr/>
                    <p:nvPr/>
                  </p:nvSpPr>
                  <p:spPr>
                    <a:xfrm flipH="1" rot="16870800">
                      <a:off x="4074480" y="3478680"/>
                      <a:ext cx="1894680" cy="346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9" name="Freeform 94"/>
                    <p:cNvSpPr/>
                    <p:nvPr/>
                  </p:nvSpPr>
                  <p:spPr>
                    <a:xfrm flipH="1" rot="16870800">
                      <a:off x="4359960" y="4805280"/>
                      <a:ext cx="1013400" cy="54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30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631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2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33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634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5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36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637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8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39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640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1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42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643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4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645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646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647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8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9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0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1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2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3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654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55" name="Group 120"/>
            <p:cNvGrpSpPr/>
            <p:nvPr/>
          </p:nvGrpSpPr>
          <p:grpSpPr>
            <a:xfrm>
              <a:off x="2343960" y="759600"/>
              <a:ext cx="6411960" cy="4711680"/>
              <a:chOff x="2343960" y="759600"/>
              <a:chExt cx="6411960" cy="4711680"/>
            </a:xfrm>
          </p:grpSpPr>
          <p:sp>
            <p:nvSpPr>
              <p:cNvPr id="656" name="Freeform 121"/>
              <p:cNvSpPr/>
              <p:nvPr/>
            </p:nvSpPr>
            <p:spPr>
              <a:xfrm flipH="1">
                <a:off x="4470840" y="328356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Arc 122"/>
              <p:cNvSpPr/>
              <p:nvPr/>
            </p:nvSpPr>
            <p:spPr>
              <a:xfrm flipH="1">
                <a:off x="3385440" y="2628000"/>
                <a:ext cx="2617200" cy="28432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8" name="Arc 123"/>
              <p:cNvSpPr/>
              <p:nvPr/>
            </p:nvSpPr>
            <p:spPr>
              <a:xfrm flipH="1">
                <a:off x="3646800" y="217008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9" name="Arc 124"/>
              <p:cNvSpPr/>
              <p:nvPr/>
            </p:nvSpPr>
            <p:spPr>
              <a:xfrm flipH="1">
                <a:off x="2343600" y="178632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Arc 125"/>
              <p:cNvSpPr/>
              <p:nvPr/>
            </p:nvSpPr>
            <p:spPr>
              <a:xfrm>
                <a:off x="5588640" y="2198520"/>
                <a:ext cx="469800" cy="29361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Arc 126"/>
              <p:cNvSpPr/>
              <p:nvPr/>
            </p:nvSpPr>
            <p:spPr>
              <a:xfrm>
                <a:off x="5711760" y="218484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2" name="Freeform 127"/>
              <p:cNvSpPr/>
              <p:nvPr/>
            </p:nvSpPr>
            <p:spPr>
              <a:xfrm>
                <a:off x="6155640" y="359568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3" name="Freeform 128"/>
              <p:cNvSpPr/>
              <p:nvPr/>
            </p:nvSpPr>
            <p:spPr>
              <a:xfrm flipV="1" rot="19660800">
                <a:off x="5227200" y="299484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Freeform 129"/>
              <p:cNvSpPr/>
              <p:nvPr/>
            </p:nvSpPr>
            <p:spPr>
              <a:xfrm flipH="1">
                <a:off x="2688120" y="3432960"/>
                <a:ext cx="1338480" cy="1880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Freeform 130"/>
              <p:cNvSpPr/>
              <p:nvPr/>
            </p:nvSpPr>
            <p:spPr>
              <a:xfrm flipH="1">
                <a:off x="3318840" y="144576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6" name="Freeform 131"/>
              <p:cNvSpPr/>
              <p:nvPr/>
            </p:nvSpPr>
            <p:spPr>
              <a:xfrm>
                <a:off x="7513920" y="315648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Freeform 132"/>
              <p:cNvSpPr/>
              <p:nvPr/>
            </p:nvSpPr>
            <p:spPr>
              <a:xfrm>
                <a:off x="6868800" y="215784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8" name="Freeform 133"/>
              <p:cNvSpPr/>
              <p:nvPr/>
            </p:nvSpPr>
            <p:spPr>
              <a:xfrm>
                <a:off x="6937920" y="75960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9" name="Freeform 134"/>
              <p:cNvSpPr/>
              <p:nvPr/>
            </p:nvSpPr>
            <p:spPr>
              <a:xfrm flipH="1" rot="1347000">
                <a:off x="4183920" y="220212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0D9E-8C0A-4A9F-AED3-E9BED013F04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1D5C-D6CB-482F-9CD4-EEF264B9C0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4"/>
          <p:cNvSpPr/>
          <p:nvPr/>
        </p:nvSpPr>
        <p:spPr>
          <a:xfrm>
            <a:off x="900000" y="2060640"/>
            <a:ext cx="748836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4800" spc="-1" strike="noStrike">
                <a:solidFill>
                  <a:srgbClr val="ff0000"/>
                </a:solidFill>
                <a:latin typeface="Informal Roman"/>
              </a:rPr>
              <a:t>Решение  квадратных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Informal Roman"/>
              </a:rPr>
              <a:t>           </a:t>
            </a:r>
            <a:r>
              <a:rPr b="1" i="1" lang="ru-RU" sz="4800" spc="-1" strike="noStrike">
                <a:solidFill>
                  <a:srgbClr val="ff0000"/>
                </a:solidFill>
                <a:latin typeface="Informal Roman"/>
              </a:rPr>
              <a:t>уравнений.</a:t>
            </a:r>
            <a:r>
              <a:rPr b="1" i="1" lang="ru-RU" sz="4000" spc="-1" strike="noStrike">
                <a:solidFill>
                  <a:srgbClr val="000000"/>
                </a:solidFill>
                <a:latin typeface="Informal Roman"/>
              </a:rPr>
              <a:t>            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684360" y="692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Comic Sans MS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3492360" y="5157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Comic Sans MS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6588000" y="836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Comic Sans MS"/>
              </a:rPr>
              <a:t>c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8"/>
          <p:cNvSpPr/>
          <p:nvPr/>
        </p:nvSpPr>
        <p:spPr>
          <a:xfrm>
            <a:off x="6732720" y="4869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Comic Sans MS"/>
              </a:rPr>
              <a:t>x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3635280" y="33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684360" y="5013360"/>
            <a:ext cx="79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7812000" y="3645000"/>
            <a:ext cx="647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Историческая справка.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Вавилон – около 2000лет до н. э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395280" y="2781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250920" y="2852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2002 г. – 800летие КВУР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324000" y="378936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1202 г. – изложены формулы КВУР  Леонардом Фибоначчи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4"/>
          <p:cNvSpPr/>
          <p:nvPr/>
        </p:nvSpPr>
        <p:spPr>
          <a:xfrm>
            <a:off x="179280" y="40464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Verdana"/>
              </a:rPr>
              <a:t>XVII </a:t>
            </a:r>
            <a:r>
              <a:rPr b="1" i="1" lang="ru-RU" sz="3600" spc="-1" strike="noStrike">
                <a:solidFill>
                  <a:srgbClr val="ffffcc"/>
                </a:solidFill>
                <a:latin typeface="Verdana"/>
              </a:rPr>
              <a:t> век – формулы принимают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Verdana"/>
              </a:rPr>
              <a:t>современный вид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1" name="Picture 5" descr="ньютон"/>
          <p:cNvPicPr/>
          <p:nvPr/>
        </p:nvPicPr>
        <p:blipFill>
          <a:blip r:embed="rId1"/>
          <a:stretch/>
        </p:blipFill>
        <p:spPr>
          <a:xfrm>
            <a:off x="971640" y="2133720"/>
            <a:ext cx="1377720" cy="1815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декарт"/>
          <p:cNvPicPr/>
          <p:nvPr/>
        </p:nvPicPr>
        <p:blipFill>
          <a:blip r:embed="rId2"/>
          <a:stretch/>
        </p:blipFill>
        <p:spPr>
          <a:xfrm>
            <a:off x="900000" y="4437000"/>
            <a:ext cx="1471680" cy="175428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7"/>
          <p:cNvSpPr/>
          <p:nvPr/>
        </p:nvSpPr>
        <p:spPr>
          <a:xfrm>
            <a:off x="2627280" y="2276640"/>
            <a:ext cx="424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Исаак  Ньютон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(1643-1727)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2556000" y="4653000"/>
            <a:ext cx="47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Рене  Декарт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(1596-1662)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4"/>
          <p:cNvSpPr/>
          <p:nvPr/>
        </p:nvSpPr>
        <p:spPr>
          <a:xfrm>
            <a:off x="250920" y="33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Дискриминант» - различитель.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Oval 5"/>
          <p:cNvSpPr/>
          <p:nvPr/>
        </p:nvSpPr>
        <p:spPr>
          <a:xfrm>
            <a:off x="468360" y="1557360"/>
            <a:ext cx="1511280" cy="1150920"/>
          </a:xfrm>
          <a:prstGeom prst="ellipse">
            <a:avLst/>
          </a:prstGeom>
          <a:solidFill>
            <a:srgbClr val="f06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Oval 6"/>
          <p:cNvSpPr/>
          <p:nvPr/>
        </p:nvSpPr>
        <p:spPr>
          <a:xfrm>
            <a:off x="611280" y="3141720"/>
            <a:ext cx="1439640" cy="1150920"/>
          </a:xfrm>
          <a:prstGeom prst="ellipse">
            <a:avLst/>
          </a:prstGeom>
          <a:solidFill>
            <a:srgbClr val="f06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Oval 7"/>
          <p:cNvSpPr/>
          <p:nvPr/>
        </p:nvSpPr>
        <p:spPr>
          <a:xfrm>
            <a:off x="611280" y="4941720"/>
            <a:ext cx="1512720" cy="1224000"/>
          </a:xfrm>
          <a:prstGeom prst="ellipse">
            <a:avLst/>
          </a:prstGeom>
          <a:solidFill>
            <a:srgbClr val="f06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9"/>
          <p:cNvSpPr/>
          <p:nvPr/>
        </p:nvSpPr>
        <p:spPr>
          <a:xfrm>
            <a:off x="755640" y="17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   0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10"/>
          <p:cNvSpPr/>
          <p:nvPr/>
        </p:nvSpPr>
        <p:spPr>
          <a:xfrm>
            <a:off x="1258920" y="191628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12"/>
          <p:cNvSpPr/>
          <p:nvPr/>
        </p:nvSpPr>
        <p:spPr>
          <a:xfrm flipV="1">
            <a:off x="1258920" y="206028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755640" y="3429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=0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755640" y="522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   0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16"/>
          <p:cNvSpPr/>
          <p:nvPr/>
        </p:nvSpPr>
        <p:spPr>
          <a:xfrm flipV="1">
            <a:off x="1258920" y="537336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17"/>
          <p:cNvSpPr/>
          <p:nvPr/>
        </p:nvSpPr>
        <p:spPr>
          <a:xfrm>
            <a:off x="1258920" y="5516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2050920" y="2133720"/>
            <a:ext cx="100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Text Box 19"/>
          <p:cNvSpPr/>
          <p:nvPr/>
        </p:nvSpPr>
        <p:spPr>
          <a:xfrm>
            <a:off x="3132000" y="1268280"/>
            <a:ext cx="3095640" cy="13341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Уравнение имеет два  действительных       корня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29"/>
          <p:cNvSpPr/>
          <p:nvPr/>
        </p:nvSpPr>
        <p:spPr>
          <a:xfrm>
            <a:off x="2124000" y="3716280"/>
            <a:ext cx="9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Text Box 30"/>
          <p:cNvSpPr/>
          <p:nvPr/>
        </p:nvSpPr>
        <p:spPr>
          <a:xfrm>
            <a:off x="3132000" y="3284640"/>
            <a:ext cx="3311640" cy="7855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Уравнение имеет один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корень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31"/>
          <p:cNvSpPr/>
          <p:nvPr/>
        </p:nvSpPr>
        <p:spPr>
          <a:xfrm>
            <a:off x="2195640" y="558972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3132000" y="5157720"/>
            <a:ext cx="3384720" cy="785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Уравнение не имеет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действительных корней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Verdana"/>
              </a:rPr>
              <a:t>Формула для вычисления</a:t>
            </a:r>
            <a:br>
              <a:rPr sz="3200"/>
            </a:br>
            <a:r>
              <a:rPr b="1" i="1" lang="ru-RU" sz="3200" spc="-1" strike="noStrike">
                <a:solidFill>
                  <a:srgbClr val="a26d18"/>
                </a:solidFill>
                <a:latin typeface="Verdana"/>
              </a:rPr>
              <a:t>дискриминанта: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971640" y="206064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D=b</a:t>
            </a:r>
            <a:r>
              <a:rPr b="1" i="1" lang="en-US" sz="48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-4ac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ahoma"/>
              </a:rPr>
              <a:t>Преобразовать уравнения</a:t>
            </a:r>
            <a:br>
              <a:rPr sz="4000"/>
            </a:br>
            <a:r>
              <a:rPr b="1" lang="ru-RU" sz="4000" spc="-1" strike="noStrike">
                <a:solidFill>
                  <a:srgbClr val="a26d18"/>
                </a:solidFill>
                <a:latin typeface="Tahoma"/>
              </a:rPr>
              <a:t>к стандартному виду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815" name="Picture 4" descr="office_ani_12"/>
          <p:cNvPicPr/>
          <p:nvPr/>
        </p:nvPicPr>
        <p:blipFill>
          <a:blip r:embed="rId1"/>
          <a:stretch/>
        </p:blipFill>
        <p:spPr>
          <a:xfrm>
            <a:off x="7236000" y="5157720"/>
            <a:ext cx="1533240" cy="140976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5"/>
          <p:cNvSpPr/>
          <p:nvPr/>
        </p:nvSpPr>
        <p:spPr>
          <a:xfrm>
            <a:off x="250920" y="198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1. х+5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=6.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 Box 6"/>
          <p:cNvSpPr/>
          <p:nvPr/>
        </p:nvSpPr>
        <p:spPr>
          <a:xfrm>
            <a:off x="250920" y="306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2.  -4х-5+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=0.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2509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3.(2+5х)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=9.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Text Box 8"/>
          <p:cNvSpPr/>
          <p:nvPr/>
        </p:nvSpPr>
        <p:spPr>
          <a:xfrm>
            <a:off x="4500720" y="1844640"/>
            <a:ext cx="39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5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+х-6=0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10"/>
          <p:cNvSpPr/>
          <p:nvPr/>
        </p:nvSpPr>
        <p:spPr>
          <a:xfrm>
            <a:off x="4572000" y="306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-4х-5=0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4572000" y="4292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25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+20х-5=0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9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9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о интересн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 1. Если в квадратном уравнении 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с = 0 сумма коэффициент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+ в +с = 0,   то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1,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мер:  Дано уравнение  5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7х + 2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+ в + с =5 – 7 + 2 = 0,  значит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 1,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.2 Если в квадратном уравнении  а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вх + с = 0  сумма  коэффиц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– в + с = 0,  то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 -1,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мер:  Дано  уравнение  3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2х – 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– в + с = 3 – 2 – 1 = 0,  значит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-1,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5" name="Picture 3" descr=""/>
          <p:cNvPicPr/>
          <p:nvPr/>
        </p:nvPicPr>
        <p:blipFill>
          <a:blip r:embed="rId1"/>
          <a:stretch/>
        </p:blipFill>
        <p:spPr>
          <a:xfrm>
            <a:off x="4857840" y="2357280"/>
            <a:ext cx="214200" cy="600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7" name="Picture 9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214200" cy="500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" descr=""/>
          <p:cNvPicPr/>
          <p:nvPr/>
        </p:nvPicPr>
        <p:blipFill>
          <a:blip r:embed="rId3"/>
          <a:stretch/>
        </p:blipFill>
        <p:spPr>
          <a:xfrm>
            <a:off x="5286240" y="4500720"/>
            <a:ext cx="214560" cy="59976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0" name="Picture 11" descr=""/>
          <p:cNvPicPr/>
          <p:nvPr/>
        </p:nvPicPr>
        <p:blipFill>
          <a:blip r:embed="rId4"/>
          <a:stretch/>
        </p:blipFill>
        <p:spPr>
          <a:xfrm>
            <a:off x="7000920" y="5357880"/>
            <a:ext cx="142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оставь слов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500040" y="164268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8х + 15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11х + 18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5х – 6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 4х + 2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дите карточку со своим ответом и составьте сло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1000080" y="3929040"/>
          <a:ext cx="6786720" cy="2000160"/>
        </p:xfrm>
        <a:graphic>
          <a:graphicData uri="http://schemas.openxmlformats.org/drawingml/2006/table">
            <a:tbl>
              <a:tblPr/>
              <a:tblGrid>
                <a:gridCol w="1352520"/>
                <a:gridCol w="1430280"/>
                <a:gridCol w="1352520"/>
                <a:gridCol w="265140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 и 5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и 9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 и -1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рней  нет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Самостоятельная работа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ариант 1            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Для каждого уравнения вида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укажите значен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) 3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6х-6=0;          б) 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4х+4=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Продолжите вычисление дискриминант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квадратного уравнени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 формул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7х+2=0,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(-7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4∙5∙2=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…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кончите решение уравнения  3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-5х-2=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(-5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4∙3∙(-2)=49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                                        х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Б.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Решите уравнение: а) 6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4х+32=0;         б) 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5х-6=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В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Решите уравнение: а) -5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4х+28=0;         б)2 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8х-2=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полнительное задание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При каком значении а уравнение  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2ах+3=0  имее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ин корень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195280" y="0"/>
            <a:ext cx="6948360" cy="1525680"/>
          </a:xfrm>
          <a:prstGeom prst="rect">
            <a:avLst/>
          </a:prstGeom>
          <a:solidFill>
            <a:srgbClr val="f3e6fe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06ad6"/>
                </a:solidFill>
                <a:latin typeface="Tahoma"/>
              </a:rPr>
              <a:t>  </a:t>
            </a:r>
            <a:r>
              <a:rPr b="1" i="1" lang="ru-RU" sz="3600" spc="-1" strike="noStrike">
                <a:solidFill>
                  <a:srgbClr val="f06ad6"/>
                </a:solidFill>
                <a:latin typeface="Tahoma"/>
              </a:rPr>
              <a:t>Подведение  итогов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195280" y="1234800"/>
            <a:ext cx="6948360" cy="5622840"/>
          </a:xfrm>
          <a:prstGeom prst="rect">
            <a:avLst/>
          </a:prstGeom>
          <a:solidFill>
            <a:srgbClr val="f3e6f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15 – 20 баллов –</a:t>
            </a:r>
            <a:r>
              <a:rPr b="1" i="1" lang="ru-RU" sz="3600" spc="-1" strike="noStrike">
                <a:solidFill>
                  <a:srgbClr val="e4005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оценка  « 5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9 – 14 баллов -   оценка  «4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5 – 8 баллов -   оценка  «3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99"/>
                </a:solidFill>
                <a:latin typeface="Comic Sans MS"/>
              </a:rPr>
              <a:t>Сюрприз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39" name="Picture 4" descr="cats_23"/>
          <p:cNvPicPr/>
          <p:nvPr/>
        </p:nvPicPr>
        <p:blipFill>
          <a:blip r:embed="rId1"/>
          <a:stretch/>
        </p:blipFill>
        <p:spPr>
          <a:xfrm>
            <a:off x="826920" y="1989000"/>
            <a:ext cx="2664000" cy="28083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5"/>
          <p:cNvSpPr/>
          <p:nvPr/>
        </p:nvSpPr>
        <p:spPr>
          <a:xfrm>
            <a:off x="3851280" y="486900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3e6fe"/>
                </a:solidFill>
                <a:latin typeface="Arial"/>
              </a:rPr>
              <a:t>(х-3)</a:t>
            </a:r>
            <a:r>
              <a:rPr b="1" i="1" lang="ru-RU" sz="4400" spc="-1" strike="noStrike" baseline="30000">
                <a:solidFill>
                  <a:srgbClr val="f3e6fe"/>
                </a:solidFill>
                <a:latin typeface="Arial"/>
              </a:rPr>
              <a:t>2</a:t>
            </a:r>
            <a:r>
              <a:rPr b="1" i="1" lang="ru-RU" sz="4400" spc="-1" strike="noStrike">
                <a:solidFill>
                  <a:srgbClr val="f3e6fe"/>
                </a:solidFill>
                <a:latin typeface="Arial"/>
              </a:rPr>
              <a:t>(х-4)=0.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 класс вошёл – не хмурь лиц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удь разумным до конц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ы не зритель и не гость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ы программы нашей гвозд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е ломайся, не смущайся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сем законам подчиняй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4" descr="nature34"/>
          <p:cNvPicPr/>
          <p:nvPr/>
        </p:nvPicPr>
        <p:blipFill>
          <a:blip r:embed="rId1"/>
          <a:stretch/>
        </p:blipFill>
        <p:spPr>
          <a:xfrm>
            <a:off x="611280" y="260280"/>
            <a:ext cx="1439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i="1" lang="ru-RU" sz="4800" spc="-1" strike="noStrike">
                <a:solidFill>
                  <a:srgbClr val="ffff99"/>
                </a:solidFill>
                <a:latin typeface="Arial"/>
              </a:rPr>
              <a:t>п</a:t>
            </a:r>
            <a:r>
              <a:rPr b="1" i="1" lang="ru-RU" sz="48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1" i="1" lang="ru-RU" sz="4800" spc="-1" strike="noStrike">
                <a:solidFill>
                  <a:srgbClr val="ff99ff"/>
                </a:solidFill>
                <a:latin typeface="Arial"/>
              </a:rPr>
              <a:t>с</a:t>
            </a:r>
            <a:r>
              <a:rPr b="1" i="1" lang="ru-RU" sz="4800" spc="-1" strike="noStrike">
                <a:solidFill>
                  <a:srgbClr val="c204ab"/>
                </a:solidFill>
                <a:latin typeface="Arial"/>
              </a:rPr>
              <a:t>и</a:t>
            </a:r>
            <a:r>
              <a:rPr b="1" i="1" lang="ru-RU" sz="4800" spc="-1" strike="noStrike">
                <a:solidFill>
                  <a:srgbClr val="ffff99"/>
                </a:solidFill>
                <a:latin typeface="Arial"/>
              </a:rPr>
              <a:t>б</a:t>
            </a: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о </a:t>
            </a:r>
            <a:r>
              <a:rPr b="1" i="1" lang="ru-RU" sz="4800" spc="-1" strike="noStrike">
                <a:solidFill>
                  <a:srgbClr val="ff99ff"/>
                </a:solidFill>
                <a:latin typeface="Arial"/>
              </a:rPr>
              <a:t>з</a:t>
            </a:r>
            <a:r>
              <a:rPr b="1" i="1" lang="ru-RU" sz="4800" spc="-1" strike="noStrike">
                <a:solidFill>
                  <a:srgbClr val="ffff99"/>
                </a:solidFill>
                <a:latin typeface="Arial"/>
              </a:rPr>
              <a:t>а </a:t>
            </a: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1" i="1" lang="ru-RU" sz="4800" spc="-1" strike="noStrike">
                <a:solidFill>
                  <a:srgbClr val="ff5050"/>
                </a:solidFill>
                <a:latin typeface="Arial"/>
              </a:rPr>
              <a:t>р</a:t>
            </a:r>
            <a:r>
              <a:rPr b="1" i="1" lang="ru-RU" sz="48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1" i="1" lang="ru-RU" sz="4800" spc="-1" strike="noStrike">
                <a:solidFill>
                  <a:srgbClr val="ff99ff"/>
                </a:solidFill>
                <a:latin typeface="Arial"/>
              </a:rPr>
              <a:t>к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! </a:t>
            </a:r>
            <a:r>
              <a:rPr b="1" i="1" lang="ru-RU" sz="4800" spc="-1" strike="noStrike">
                <a:solidFill>
                  <a:srgbClr val="ff99ff"/>
                </a:solidFill>
                <a:latin typeface="Arial"/>
              </a:rPr>
              <a:t>! </a:t>
            </a:r>
            <a:r>
              <a:rPr b="1" i="1" lang="ru-RU" sz="4800" spc="-1" strike="noStrike">
                <a:solidFill>
                  <a:srgbClr val="ff66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ru-RU" sz="4800" spc="-1" strike="noStrike">
                <a:solidFill>
                  <a:srgbClr val="f3e6fe"/>
                </a:solidFill>
                <a:latin typeface="Arial"/>
              </a:rPr>
              <a:t>Вы замечательно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2627280" y="479736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3e6fe"/>
                </a:solidFill>
                <a:latin typeface="Arial"/>
              </a:rPr>
              <a:t>поработали !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8500"/>
                            </p:stCondLst>
                            <p:childTnLst>
                              <p:par>
                                <p:cTn id="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ервое задание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2х + 27 = 0                          2.  3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+ 4х – 1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3. 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8 = 0                                     4. 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х + 100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5.  5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+ 6х = 0                                   6. 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8х + 12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7.  3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= 0                                           8.  14 – 2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+ х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)  Выпишите номера полных квадратных уравн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б)  Выпишите коэффициенты  а, в, с  в уравнении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)  Выпишите номер не полного  квадратного  уравн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меющего один корен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г)  Найдите дискриминант в уравнении 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) Решите уравнение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е)  Решите уравнение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верка первого зада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28760" y="17859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а)  1,2,4,6,8.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б)  а = - 2, в = 1, с = 1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) 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г)  Д = 2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д)  х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= 9, х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= 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е)   х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= 6, х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=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ценивание домашнего задания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204ab"/>
                </a:solidFill>
                <a:latin typeface="Times New Roman"/>
              </a:rPr>
              <a:t>верно 6 ответов –     5 баллов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204ab"/>
                </a:solidFill>
                <a:latin typeface="Times New Roman"/>
              </a:rPr>
              <a:t>верно 5 ответов – 4 балл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204ab"/>
                </a:solidFill>
                <a:latin typeface="Times New Roman"/>
              </a:rPr>
              <a:t>верно 3-4 ответа -  3 балл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b6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Посредством  уравнений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       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теор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Я уйму  всяких  разреши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        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пробле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 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Чосе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250920" y="333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Что называется уравнением?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250920" y="1413000"/>
            <a:ext cx="86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Является ли уравнением выражение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             </a:t>
            </a: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(х+1)(х-4)=0 ?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179280" y="314172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Каким наиболее рациональным способом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можно решить его?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7"/>
          <p:cNvSpPr/>
          <p:nvPr/>
        </p:nvSpPr>
        <p:spPr>
          <a:xfrm>
            <a:off x="0" y="479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Найдите корни этого уравнения.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8"/>
          <p:cNvSpPr/>
          <p:nvPr/>
        </p:nvSpPr>
        <p:spPr>
          <a:xfrm>
            <a:off x="0" y="5734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Как ещё можно решить это уравнение?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4"/>
          <p:cNvSpPr/>
          <p:nvPr/>
        </p:nvSpPr>
        <p:spPr>
          <a:xfrm>
            <a:off x="250920" y="620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Comic Sans MS"/>
              </a:rPr>
              <a:t>Какие уравнения называются квадратными?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50920" y="1773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ax</a:t>
            </a:r>
            <a:r>
              <a:rPr b="1" i="1" lang="en-US" sz="3600" spc="-1" strike="noStrike" baseline="30000">
                <a:solidFill>
                  <a:srgbClr val="ff0066"/>
                </a:solidFill>
                <a:latin typeface="Comic Sans MS"/>
              </a:rPr>
              <a:t>2</a:t>
            </a: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+bx+c=0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0920" y="2924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Comic Sans MS"/>
              </a:rPr>
              <a:t>Какие виды КВУР вам известны?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395280" y="422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omic Sans MS"/>
              </a:rPr>
              <a:t>полные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3132000" y="472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omic Sans MS"/>
              </a:rPr>
              <a:t>неполные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5148360" y="57340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omic Sans MS"/>
              </a:rPr>
              <a:t>приведённые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204ab"/>
                </a:solidFill>
                <a:latin typeface="Arial Unicode MS"/>
              </a:rPr>
              <a:t>Тест «Виды КВУР»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782" name="Picture 4" descr="21m2"/>
          <p:cNvPicPr/>
          <p:nvPr/>
        </p:nvPicPr>
        <p:blipFill>
          <a:blip r:embed="rId1"/>
          <a:stretch/>
        </p:blipFill>
        <p:spPr>
          <a:xfrm>
            <a:off x="7524720" y="148428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5"/>
          <p:cNvSpPr/>
          <p:nvPr/>
        </p:nvSpPr>
        <p:spPr>
          <a:xfrm>
            <a:off x="2556000" y="299736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204ab"/>
                </a:solidFill>
                <a:latin typeface="Comic Sans MS"/>
              </a:rPr>
              <a:t>Критерии оценивания: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2411280" y="4005360"/>
            <a:ext cx="648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нет ошибок –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ru-RU" sz="2800" spc="-1" strike="noStrike">
                <a:solidFill>
                  <a:srgbClr val="ff0066"/>
                </a:solidFill>
                <a:latin typeface="Comic Sans MS"/>
              </a:rPr>
              <a:t>5 баллов;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1 – 2 ошибки –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Comic Sans MS"/>
              </a:rPr>
              <a:t>4 балла;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3 – 4 ошибки –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Comic Sans MS"/>
              </a:rPr>
              <a:t>3 балла;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5 – 6 ошибок –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Comic Sans MS"/>
              </a:rPr>
              <a:t>2 балла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7:09:52Z</dcterms:created>
  <dc:creator>User</dc:creator>
  <dc:description/>
  <dc:language>en-US</dc:language>
  <cp:lastModifiedBy>Admin</cp:lastModifiedBy>
  <dcterms:modified xsi:type="dcterms:W3CDTF">2010-01-26T18:21:39Z</dcterms:modified>
  <cp:revision>31</cp:revision>
  <dc:subject/>
  <dc:title>Слайд 1</dc:title>
</cp:coreProperties>
</file>