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38.jpeg" ContentType="image/jpeg"/>
  <Override PartName="/ppt/media/image12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39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F39-0609-43AE-980D-17AB1287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F25-BDAD-4576-865E-EDC1A47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92B8E-9697-4D30-A4DE-ED245E59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C11DF-9F5C-45CD-B4F3-CBC466F7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5A14D-27B3-4839-9599-8ADB7584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8B6F3-F5C5-40F6-9DA0-C6AA7C1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577D6-D800-45D5-871B-03956216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D5257-2BE4-4C79-9E36-32835666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C3571-0811-4453-A345-1A721C09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64934-4F30-46EB-95DA-39F5A35A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47E8C-9C93-4769-9938-E66E32E6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7A1-7D2F-4D99-AB87-0AE0849B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83C-53DD-477F-A9DB-6079B204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1DD5-07D9-406F-AB49-373E6B15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35BB-7F7C-4BB9-A5C8-9CE1C522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7CDB-A9BE-4F2C-BA66-84945749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CF75-4561-4933-A3B4-570ECBA5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DBCD-4A08-4355-8734-67624970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C26A-FC6A-44D2-880A-90EDF802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DFB8-D31D-4D02-838D-0BEB506A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0E3-EEC3-4202-83F8-6BDD0DB0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0667-653D-4C9F-90D3-BC9AAEF0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177B-C801-4DE5-9BF7-33BDA09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5839-4349-4159-B8BC-7F2542C5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028D-C101-4489-BB69-FC6D60D4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D507-A177-443E-881B-07A63186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982B8-10BF-4287-8BF7-7F6A8422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84F9-D357-4A2A-887E-30F2D30F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C49B-7EEA-47A6-B698-6ADA451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F019-B34D-499B-B6DD-F18C2F65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2B79-86EC-4429-B398-CCE6084C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A1D-9C96-442A-82A7-E8EE5FAD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7CC3-8E68-4B18-9A52-0641FE0A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9B71E-6460-4861-B69F-F41A41F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8D5F-9961-46FC-8A42-FA2051D0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7865-E659-4352-9D68-1D978B4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A3A5-E9DE-4F12-A1F0-1DE193A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1069-F36D-4F09-8156-280CCE8C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FB93-D8D3-4398-A558-F2A04EB9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A4516-363E-4C21-90BE-E671F277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4E9E9-A525-4251-839E-801B436B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3DF1-DD27-40E2-B9E8-29B31575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8DF-2607-457A-85F0-9D6D5B6A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0C6C-AD93-40D6-8D33-26F26C5F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7D1D-C437-482F-9C60-12740701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6370-B64B-4ADB-929B-DDD55294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C6B1D-322C-482C-9E64-032B6CD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884F7-7E1E-4F2F-8028-6C56E74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D132-6BCF-4EED-8F32-5237EF1F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B1B2E-CDEA-4147-848F-3AA13DB9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F2096-E59D-4B45-B340-F07410AF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861E-D234-48DF-9D27-5D1030B4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7C33-F84A-4ECC-9990-9046E246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133-C130-4F4D-BE63-4EC65DB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E2D7-F5CA-483E-B594-E65F6751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3467-9B8A-4BAF-BE7E-4EC77E1A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31149-1DB3-4128-A702-49C5C3FC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F2E6-F69A-4463-8429-ABF0F255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A811-B158-437B-828E-C07DB307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7BDF-B70D-42AA-8E8D-3BCC8A5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938AD-5710-4CDC-9A44-B5C7A442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4883-0258-4BB7-A619-6A2C9641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B138-53A6-4C28-946A-8AC0E165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1E6C-F2F6-42BA-9647-5A5B1523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C11-23A1-45F6-8297-B49AD283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E281-B40D-4462-8F84-C8F0B990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D3DF3-81D7-4543-BF12-D89387D8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DAA7C-33A2-42B0-99A5-100F1C49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A2DC5-1301-405C-981E-74AC1D6A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D9E05-CE11-4648-B8A9-24BF7382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932C0-7CBF-420E-AA9C-F35E5175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D6B1D-ABE6-4DF8-9B37-7D92A1B4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53243-98DC-4E90-81D3-1DF01955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0A7FF-C5DD-492B-AA5D-6BC49CE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60AE-833B-4B37-8E0C-2FB6E624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D44-820D-4F2E-AD76-FE4965BB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D2463-F422-4B1D-B6F7-01746A47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0ED6-AA77-4C86-B0DE-05F6151D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3151-7716-47E1-8D40-BACDC606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024B-4D7F-41BB-8CBC-BBC4AB8B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F84C8-3B89-4FA4-A41A-C2BB6889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F36D8-108A-40E2-BB1E-E897810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76A54-0A24-4B61-B044-C99F9EC2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8DC21-C896-4AE1-AA5F-D818ACB4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C218-6505-4E71-9E06-F43171F1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6D18-E50A-40A2-85F9-23F081F0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21D-54C8-43E5-AD17-FB39B168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6884-2F75-4C6D-9B63-61791E2F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4E93D-AEB6-4D7B-AF99-63A92D3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1E21-1291-40D1-93E7-82FFFFF0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96CED-3FE8-4B7A-A23F-2CABFAF5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49677-B8F3-492A-900F-95121285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FFCB0-7791-4CBB-A390-228F4715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B143F-F9BB-42D7-B7C3-5881EE97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84544-BCE5-4D89-8A5B-A7EAEC84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17996-1C9A-4744-A264-F7572A9C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07869-4F3F-46A8-8CB1-08721651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EC5-7079-459F-BADD-17A84771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D1564-DD0C-4340-A438-4D4E2A34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19878-DD88-41DF-BC1D-E02FB96C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2F778-4A9B-4A6B-83B7-2C0B1D0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76986-B391-4660-A51C-3E53026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190AB-8306-41D9-B2B7-D45EC4F4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7BC24-6B9F-4D0D-AFC9-AD1B1AD4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01851-B973-4829-AAB1-E102C96B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DE4C0-3CED-47A6-8CDE-86137E68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C2B3D-3232-4886-AC7C-072C5460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96952-F889-4FA8-8125-E320FF2D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8AEE-9FE5-4C2F-AE61-3874EE63D3F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B3EB-1C9E-4548-99AE-196E2D3F899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5DC-6381-49FA-8318-9206F0780DF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DE73-4756-4AC1-9123-11C0D8AF771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1A12-20AF-47E0-81F4-00FA7B075796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86BB-F267-4231-90FB-8949B625525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3914-1C89-4382-AFF7-D219D6F5E62B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16F2-3F0A-49FF-8C48-7B77A776001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8E70-4EA7-42D9-A91E-CE676957A2F5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85840" y="1432080"/>
            <a:ext cx="8572320" cy="2073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84582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4c535f"/>
              </a:solidFill>
              <a:latin typeface="Arial"/>
              <a:ea typeface="Arial"/>
            </a:endParaRPr>
          </a:p>
        </p:txBody>
      </p:sp>
      <p:pic>
        <p:nvPicPr>
          <p:cNvPr id="401" name="Picture 2" descr="C:\Documents and Settings\Admin\Рабочий стол\проект радио\DSC08916.JPG"/>
          <p:cNvPicPr/>
          <p:nvPr/>
        </p:nvPicPr>
        <p:blipFill>
          <a:blip r:embed="rId2"/>
          <a:stretch/>
        </p:blipFill>
        <p:spPr>
          <a:xfrm>
            <a:off x="324000" y="1989000"/>
            <a:ext cx="3551040" cy="237816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4"/>
          <p:cNvSpPr/>
          <p:nvPr/>
        </p:nvSpPr>
        <p:spPr>
          <a:xfrm>
            <a:off x="4067280" y="184464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йствующая модель         радиоприемника для демонстрации принципов радиосвязи на уроках физ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1835280" y="5013360"/>
            <a:ext cx="70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еник 5 класса Комаров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  учитель физики Жирноклеева Ю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6"/>
          <p:cNvSpPr/>
          <p:nvPr/>
        </p:nvSpPr>
        <p:spPr>
          <a:xfrm>
            <a:off x="3344760" y="6165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1" descr="http://sdelanounas.ru/i/d/3/d3d3LjIxLmJ5L3B1Yi9uZXdzLzIwMTIvMDUvMTMzNjM4MjUyNjY0ODM4MC5qcGc_X19pZD0zMDQ3Nw==.jpg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2"/>
          <p:cNvSpPr/>
          <p:nvPr/>
        </p:nvSpPr>
        <p:spPr>
          <a:xfrm>
            <a:off x="6012000" y="3933720"/>
            <a:ext cx="273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7 мая 2015 г исполнило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120 л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радио А.С. Поп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http://im2-tub-ru.yandex.net/i?id=00cc05cd0345da5855fc966a68ffc31e-64-144&amp;n=33&amp;h=230"/>
          <p:cNvPicPr/>
          <p:nvPr/>
        </p:nvPicPr>
        <p:blipFill>
          <a:blip r:embed="rId2"/>
          <a:stretch/>
        </p:blipFill>
        <p:spPr>
          <a:xfrm>
            <a:off x="5219640" y="907920"/>
            <a:ext cx="3683160" cy="24498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4569840" y="83664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н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5"/>
          <p:cNvSpPr/>
          <p:nvPr/>
        </p:nvSpPr>
        <p:spPr>
          <a:xfrm>
            <a:off x="6227640" y="333360"/>
            <a:ext cx="2448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когерер, который выполнял роль детектора (приемник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6"/>
          <p:cNvSpPr/>
          <p:nvPr/>
        </p:nvSpPr>
        <p:spPr>
          <a:xfrm>
            <a:off x="5722560" y="162864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зв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1" descr="Маркони осуществил передачу радиосигналов через Ла-Манш - Презентация 6906/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Radio communication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568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РАДИОСВЯЗЬ 120 ЛЕТ СПУ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Using Communications to Drive Innovation - How to Develop an Engaging and Sustainable Program Innovation Managem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Рисунок 1" descr="http://ok-t.ru/lektsiopedia/baza/3564060153896.files/image894.jpg"/>
          <p:cNvPicPr/>
          <p:nvPr/>
        </p:nvPicPr>
        <p:blipFill>
          <a:blip r:embed="rId1"/>
          <a:srcRect l="0" t="0" r="0" b="17408"/>
          <a:stretch/>
        </p:blipFill>
        <p:spPr>
          <a:xfrm>
            <a:off x="468360" y="981000"/>
            <a:ext cx="8351640" cy="4996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"/>
          <p:cNvSpPr/>
          <p:nvPr/>
        </p:nvSpPr>
        <p:spPr>
          <a:xfrm>
            <a:off x="1878480" y="190440"/>
            <a:ext cx="58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Calibri"/>
              </a:rPr>
              <a:t>ПРИНЦИПЫ  РАДИО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http://ok-t.ru/lektsiopedia/baza/3564060153896.files/image894.jpg"/>
          <p:cNvPicPr/>
          <p:nvPr/>
        </p:nvPicPr>
        <p:blipFill>
          <a:blip r:embed="rId2"/>
          <a:srcRect l="41326" t="84328" r="28083" b="3531"/>
          <a:stretch/>
        </p:blipFill>
        <p:spPr>
          <a:xfrm>
            <a:off x="3995640" y="6021360"/>
            <a:ext cx="2521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http://ok-t.ru/lektsiopedia/baza/3564060153896.files/image886.jpg"/>
          <p:cNvPicPr/>
          <p:nvPr/>
        </p:nvPicPr>
        <p:blipFill>
          <a:blip r:embed="rId1"/>
          <a:stretch/>
        </p:blipFill>
        <p:spPr>
          <a:xfrm>
            <a:off x="179280" y="1197000"/>
            <a:ext cx="8425080" cy="54450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"/>
          <p:cNvSpPr/>
          <p:nvPr/>
        </p:nvSpPr>
        <p:spPr>
          <a:xfrm>
            <a:off x="574560" y="189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3434"/>
                </a:solidFill>
                <a:latin typeface="Arial"/>
                <a:ea typeface="Calibri"/>
              </a:rPr>
              <a:t>Радиоприемник состоит в основном из следующих элемен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986120" y="12682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ан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5"/>
          <p:cNvSpPr/>
          <p:nvPr/>
        </p:nvSpPr>
        <p:spPr>
          <a:xfrm>
            <a:off x="1121760" y="350028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Колеб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кон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8"/>
          <p:cNvSpPr/>
          <p:nvPr/>
        </p:nvSpPr>
        <p:spPr>
          <a:xfrm>
            <a:off x="4793400" y="1700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дет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7981560" y="30686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дина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10"/>
          <p:cNvSpPr/>
          <p:nvPr/>
        </p:nvSpPr>
        <p:spPr>
          <a:xfrm>
            <a:off x="5433480" y="33577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3434"/>
                </a:solidFill>
                <a:latin typeface="Arial"/>
                <a:ea typeface="Calibri"/>
              </a:rPr>
              <a:t>филь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6 июня - вторая игра ВелоDozoR"/>
          <p:cNvPicPr/>
          <p:nvPr/>
        </p:nvPicPr>
        <p:blipFill>
          <a:blip r:embed="rId1"/>
          <a:stretch/>
        </p:blipFill>
        <p:spPr>
          <a:xfrm>
            <a:off x="0" y="189000"/>
            <a:ext cx="4427640" cy="3370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Ламповый радиоприемник Беларусь-53"/>
          <p:cNvPicPr/>
          <p:nvPr/>
        </p:nvPicPr>
        <p:blipFill>
          <a:blip r:embed="rId2"/>
          <a:stretch/>
        </p:blipFill>
        <p:spPr>
          <a:xfrm>
            <a:off x="179280" y="371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Радиоприёмник и радиола сетевые ламповые ''Пионер''."/>
          <p:cNvPicPr/>
          <p:nvPr/>
        </p:nvPicPr>
        <p:blipFill>
          <a:blip r:embed="rId3"/>
          <a:stretch/>
        </p:blipFill>
        <p:spPr>
          <a:xfrm>
            <a:off x="4859280" y="333360"/>
            <a:ext cx="3643200" cy="2708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Схемы замков &quot; Электрические схемы ламповых радиоприемников"/>
          <p:cNvPicPr/>
          <p:nvPr/>
        </p:nvPicPr>
        <p:blipFill>
          <a:blip r:embed="rId4"/>
          <a:stretch/>
        </p:blipFill>
        <p:spPr>
          <a:xfrm>
            <a:off x="4427640" y="3429000"/>
            <a:ext cx="4321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Ламповый радиоприемник Беларусь-53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Портативный радиоприёмник ''Ласточка''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Робофест 2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0240" y="195120"/>
            <a:ext cx="894240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250920" y="3303000"/>
            <a:ext cx="4608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4c535f"/>
              </a:solidFill>
              <a:latin typeface="Franklin Gothic Book"/>
            </a:endParaRPr>
          </a:p>
        </p:txBody>
      </p:sp>
      <p:pic>
        <p:nvPicPr>
          <p:cNvPr id="407" name="Picture 1" descr="C:\Documents and Settings\Admin\Рабочий стол\проект радио\сканирование0001_cr.jpg"/>
          <p:cNvPicPr/>
          <p:nvPr/>
        </p:nvPicPr>
        <p:blipFill>
          <a:blip r:embed="rId2"/>
          <a:stretch/>
        </p:blipFill>
        <p:spPr>
          <a:xfrm>
            <a:off x="324000" y="1341360"/>
            <a:ext cx="5165640" cy="3311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Admin\Рабочий стол\проект радио\сканирование0002_cr.jpg"/>
          <p:cNvPicPr/>
          <p:nvPr/>
        </p:nvPicPr>
        <p:blipFill>
          <a:blip r:embed="rId3"/>
          <a:stretch/>
        </p:blipFill>
        <p:spPr>
          <a:xfrm>
            <a:off x="3924360" y="3429000"/>
            <a:ext cx="50101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E:\проект радио\DSC08904.JPG"/>
          <p:cNvPicPr/>
          <p:nvPr/>
        </p:nvPicPr>
        <p:blipFill>
          <a:blip r:embed="rId1"/>
          <a:stretch/>
        </p:blipFill>
        <p:spPr>
          <a:xfrm>
            <a:off x="0" y="2852640"/>
            <a:ext cx="5572080" cy="3730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E:\проект радио\DSC08912.JPG"/>
          <p:cNvPicPr/>
          <p:nvPr/>
        </p:nvPicPr>
        <p:blipFill>
          <a:blip r:embed="rId2"/>
          <a:stretch/>
        </p:blipFill>
        <p:spPr>
          <a:xfrm>
            <a:off x="5557680" y="189000"/>
            <a:ext cx="3586320" cy="5357880"/>
          </a:xfrm>
          <a:prstGeom prst="rect">
            <a:avLst/>
          </a:prstGeom>
          <a:ln w="0">
            <a:noFill/>
          </a:ln>
        </p:spPr>
      </p:pic>
      <p:pic>
        <p:nvPicPr>
          <p:cNvPr id="459" name="Заголовок 6" descr=""/>
          <p:cNvPicPr/>
          <p:nvPr/>
        </p:nvPicPr>
        <p:blipFill>
          <a:blip r:embed="rId3"/>
          <a:stretch/>
        </p:blipFill>
        <p:spPr>
          <a:xfrm>
            <a:off x="407880" y="457200"/>
            <a:ext cx="42562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проект радио\DSC08921.JPG"/>
          <p:cNvPicPr/>
          <p:nvPr/>
        </p:nvPicPr>
        <p:blipFill>
          <a:blip r:embed="rId1"/>
          <a:stretch/>
        </p:blipFill>
        <p:spPr>
          <a:xfrm>
            <a:off x="5580000" y="260280"/>
            <a:ext cx="3214800" cy="4802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E:\проект радио\DSC08924.JPG"/>
          <p:cNvPicPr/>
          <p:nvPr/>
        </p:nvPicPr>
        <p:blipFill>
          <a:blip r:embed="rId2"/>
          <a:stretch/>
        </p:blipFill>
        <p:spPr>
          <a:xfrm>
            <a:off x="179280" y="1916280"/>
            <a:ext cx="4999320" cy="3346200"/>
          </a:xfrm>
          <a:prstGeom prst="rect">
            <a:avLst/>
          </a:prstGeom>
          <a:ln w="0">
            <a:noFill/>
          </a:ln>
        </p:spPr>
      </p:pic>
      <p:pic>
        <p:nvPicPr>
          <p:cNvPr id="462" name="Заголовок 3" descr=""/>
          <p:cNvPicPr/>
          <p:nvPr/>
        </p:nvPicPr>
        <p:blipFill>
          <a:blip r:embed="rId3"/>
          <a:stretch/>
        </p:blipFill>
        <p:spPr>
          <a:xfrm>
            <a:off x="5211720" y="5078520"/>
            <a:ext cx="3760920" cy="19810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79280" y="549360"/>
            <a:ext cx="4897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535f"/>
                </a:solidFill>
                <a:latin typeface="Arial"/>
                <a:ea typeface="Arial"/>
              </a:rPr>
              <a:t>МОНТАЖ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проект радио\DSC08916.JPG"/>
          <p:cNvPicPr/>
          <p:nvPr/>
        </p:nvPicPr>
        <p:blipFill>
          <a:blip r:embed="rId1"/>
          <a:stretch/>
        </p:blipFill>
        <p:spPr>
          <a:xfrm>
            <a:off x="0" y="736560"/>
            <a:ext cx="9144000" cy="6121440"/>
          </a:xfrm>
          <a:prstGeom prst="rect">
            <a:avLst/>
          </a:prstGeom>
          <a:ln w="0">
            <a:noFill/>
          </a:ln>
        </p:spPr>
      </p:pic>
      <p:pic>
        <p:nvPicPr>
          <p:cNvPr id="465" name="Заголовок 2" descr=""/>
          <p:cNvPicPr/>
          <p:nvPr/>
        </p:nvPicPr>
        <p:blipFill>
          <a:blip r:embed="rId2"/>
          <a:stretch/>
        </p:blipFill>
        <p:spPr>
          <a:xfrm>
            <a:off x="6480" y="-6480"/>
            <a:ext cx="88628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176040" y="4511520"/>
            <a:ext cx="8828280" cy="1998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Началка. День за днем Timeline"/>
          <p:cNvPicPr/>
          <p:nvPr/>
        </p:nvPicPr>
        <p:blipFill>
          <a:blip r:embed="rId2"/>
          <a:stretch/>
        </p:blipFill>
        <p:spPr>
          <a:xfrm>
            <a:off x="250920" y="-171360"/>
            <a:ext cx="83628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E:\проект радио\Новая папка\DSC03769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4286160" cy="4075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E:\проект радио\Новая папка\DSC03773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143240" y="2970360"/>
            <a:ext cx="5000760" cy="388764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4572000" y="9079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й папа радиолюби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828360" y="4797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я т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E:\проект радио\Новая папка\SAM_03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2"/>
          <p:cNvSpPr/>
          <p:nvPr/>
        </p:nvSpPr>
        <p:spPr>
          <a:xfrm>
            <a:off x="0" y="4046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2110"/>
                </a:solidFill>
                <a:latin typeface="Arial"/>
                <a:ea typeface="Arial"/>
              </a:rPr>
              <a:t>Мы всей семьей выезжаем на слеты и соревнования радиолюб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E:\проект радио\Новая папка\SAM_04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"/>
          <p:cNvSpPr/>
          <p:nvPr/>
        </p:nvSpPr>
        <p:spPr>
          <a:xfrm>
            <a:off x="5508720" y="53830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9e91"/>
                </a:solidFill>
                <a:latin typeface="Times New Roman"/>
                <a:ea typeface="Calibri"/>
              </a:rPr>
              <a:t>А э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                        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               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7 мая 2015 г 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исполнилось 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120 лет радио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19" name="Picture 6" descr="C:\Documents and Settings\Admin\Local Settings\Temporary Internet Files\Content.IE5\DFNN2WS0\MC900285520[1].wmf"/>
          <p:cNvPicPr/>
          <p:nvPr/>
        </p:nvPicPr>
        <p:blipFill>
          <a:blip r:embed="rId2"/>
          <a:stretch/>
        </p:blipFill>
        <p:spPr>
          <a:xfrm>
            <a:off x="324000" y="1700280"/>
            <a:ext cx="41814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Генрих Герц - Картинка 12940/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50920" y="159480"/>
            <a:ext cx="4645080" cy="3751560"/>
          </a:xfrm>
          <a:prstGeom prst="rect">
            <a:avLst/>
          </a:prstGeom>
          <a:gradFill rotWithShape="0">
            <a:gsLst>
              <a:gs pos="0">
                <a:srgbClr val="ffd5c1"/>
              </a:gs>
              <a:gs pos="100000">
                <a:srgbClr val="ff842c"/>
              </a:gs>
            </a:gsLst>
            <a:lin ang="5400000"/>
          </a:gradFill>
          <a:ln w="10080">
            <a:solidFill>
              <a:srgbClr val="fe8637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  <a:ea typeface="Calibri"/>
              </a:rPr>
              <a:t> 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Герц создал источник электромагнитных волн, названный им "вибратором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В таком виде вибратор Герца был использован как передатчик в первых практических схемах пионеров радиосвязи А.С. Попов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Г. Маркони в 1895 и 1896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31" descr="http://www.rt.mipt.ru/images/misc/radio/herz/8s.gif"/>
          <p:cNvPicPr/>
          <p:nvPr/>
        </p:nvPicPr>
        <p:blipFill>
          <a:blip r:embed="rId1"/>
          <a:stretch/>
        </p:blipFill>
        <p:spPr>
          <a:xfrm>
            <a:off x="5148360" y="333360"/>
            <a:ext cx="3643200" cy="23860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5076720" y="3000960"/>
            <a:ext cx="37213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индуктор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азрядник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'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цилиндры вибратора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а, с, d, b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езонатор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искровой промежу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4" descr="http://www.rt.mipt.ru/images/misc/radio/herz/ruks.jpg"/>
          <p:cNvPicPr/>
          <p:nvPr/>
        </p:nvPicPr>
        <p:blipFill>
          <a:blip r:embed="rId2"/>
          <a:stretch/>
        </p:blipFill>
        <p:spPr>
          <a:xfrm>
            <a:off x="250920" y="4149720"/>
            <a:ext cx="2881080" cy="237492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"/>
          <p:cNvSpPr/>
          <p:nvPr/>
        </p:nvSpPr>
        <p:spPr>
          <a:xfrm>
            <a:off x="3492360" y="4455360"/>
            <a:ext cx="518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 качестве детектора, или приемника, Герц использовал кольцо (иногда прямоугольник) с разрывом - искровым промежутком, который можно было регул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http://class-fizika.narod.ru/phys/18.jpg"/>
          <p:cNvPicPr/>
          <p:nvPr/>
        </p:nvPicPr>
        <p:blipFill>
          <a:blip r:embed="rId1"/>
          <a:stretch/>
        </p:blipFill>
        <p:spPr>
          <a:xfrm>
            <a:off x="357120" y="357120"/>
            <a:ext cx="2790720" cy="372420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428760" y="450072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ПОП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Александр Степан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1859 -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3571920" y="452520"/>
            <a:ext cx="521496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1c01"/>
                </a:solidFill>
                <a:latin typeface="Arial"/>
                <a:ea typeface="Calibri"/>
              </a:rPr>
              <a:t>В 1895 году на заседании Русского физико-химического общества состоялась первая демонстрация радиоприемного устройства А.С. Попова, а через год там же ему удалось передать 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Calibri"/>
              </a:rPr>
              <a:t>первую в мире радиограмму,</a:t>
            </a:r>
            <a:r>
              <a:rPr b="0" lang="ru-RU" sz="2400" spc="-1" strike="noStrike">
                <a:solidFill>
                  <a:srgbClr val="301c01"/>
                </a:solidFill>
                <a:latin typeface="Arial"/>
                <a:ea typeface="Calibri"/>
              </a:rPr>
              <a:t> которую отстучал перед собравшимися аппарат Морзе: в ней было всего два слова «Генрих Гер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1c01"/>
                </a:solidFill>
                <a:latin typeface="Arial"/>
                <a:ea typeface="Calibri"/>
              </a:rPr>
              <a:t>Признанием заслуг А.С. Попова перед Отечеством является праздник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"День радио"</a:t>
            </a:r>
            <a:r>
              <a:rPr b="0" lang="ru-RU" sz="2400" spc="-1" strike="noStrike">
                <a:solidFill>
                  <a:srgbClr val="301c01"/>
                </a:solidFill>
                <a:latin typeface="Arial"/>
                <a:ea typeface="Calibri"/>
              </a:rPr>
              <a:t>, отмечаемый 7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357120" y="550080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 великий русский ученый, изобретатель рад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09:53:31Z</dcterms:created>
  <dc:creator>Юлия МОУ-Высоковская СОШ 4</dc:creator>
  <dc:description/>
  <dc:language>en-US</dc:language>
  <cp:lastModifiedBy>Admin</cp:lastModifiedBy>
  <dcterms:modified xsi:type="dcterms:W3CDTF">2019-03-06T15:45:21Z</dcterms:modified>
  <cp:revision>38</cp:revision>
  <dc:subject/>
  <dc:title>Слайд 1</dc:title>
</cp:coreProperties>
</file>