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8.jpeg" ContentType="image/jpeg"/>
  <Override PartName="/ppt/media/image12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39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06D-D32B-47B3-A4D2-9704E08B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EFB-ED2B-42D8-9028-2E61DF4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1D51C-9BE0-4DD9-B9B5-BB3B890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4989E-AC6B-4C48-A353-4A25B77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47611-7574-481D-9E07-011F1817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359D1-458B-49BA-9BC5-F192F2C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0A6D0-8AE9-483E-849A-22AAE450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2E7C4-2667-438D-BAAF-51B9837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1D6AB-83A7-4B41-8A2A-AFEB45E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0501E-AC7F-4A04-8544-B79E4B3B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74431-A7F6-4364-9D40-D5E3E9FA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3B3-F4AC-422B-BABE-879CAC46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B1B-EF31-495E-891D-F9545BA1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0202-D0A4-4369-9938-07EC100D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CB49-5CD9-4F9F-B0BB-6D259A3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C33-213B-493B-9AA1-557184B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B9E8-F228-4FEE-B4E9-FE461121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A2ED-F3CB-4A35-AD1E-51DB3D33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015-772D-475D-B6DA-E4CD036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320-7354-4A6D-A66A-B2DFA7B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A9D-6F3A-45F4-9CC4-866EB73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AD5-C3ED-4E7E-8FCE-E0C3C21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FB8-BCE2-424E-970C-A4454D4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BF5B-AEE4-4ABC-B38B-85FF212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600E-BD2D-4078-83CC-A68B2CAB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BBAA-F1BD-45B2-9B41-107100C9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71C4-A203-4E11-B161-990C5290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DB05-4752-48A8-9B17-D6A89C6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773C-8E92-483C-9A82-AB504DA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F999-CA94-4238-9AB9-8D031F1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C1BB-C3F0-4802-8F7F-0688036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AD0-629A-4390-A77A-907B34C3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057B-42C0-4F10-BD26-2A4942E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B9E6-E7B8-4273-8DBE-5A34F0F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E0FC-4528-429D-A7C8-DEE7E53E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A045-3AE4-4B44-BD68-E83DEA0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8CEE-9754-4F1F-9880-4BFDE90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41AA-DC79-4E3E-9BCB-0000CC39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850A-C620-4FC3-AFD3-DE54C160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BEE5-6537-4E56-98F3-D4586C25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3635-D2DB-482E-9DAF-34B2101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F755-0A33-41AD-B092-9F49314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6AA-03DC-4908-8F50-31F32F51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BFED-B396-4526-AEC8-2CED84AB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4BA2-59CC-4508-9FE8-3B826D9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2403-ACD5-4EB5-AF0D-B4E69E16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1B30-E8CA-4952-BA6B-F3A1427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3201-E122-46A7-97D5-D208F0B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83B1-76CF-4351-9185-B599698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DDAC-33B8-4EEF-8946-17030BBF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7BEB-8235-4F67-81AE-08E8DA3A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1903-E224-4265-A0C7-9129EEDA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BB12-3FE0-41F2-8F18-0C6E243C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E9D-7599-4DAE-B14A-01E4BFC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E906-5833-466B-B05A-0C9D6880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037B-BA3A-4A2F-88D4-D9E3F29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1504-979D-4032-840D-DB09FBD2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0B2C-BCCC-4928-862E-BF46D11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D27C-467C-4EE3-96A4-618C5DD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FD4FC-077D-479E-A35A-A404D28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35C5-C7E2-45A5-8EF7-CEC292C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C062-3B63-4270-988F-C7D2272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BC40-747C-4638-B56D-67EFDA8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9C11-5AF0-4814-9A01-6D815F21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692-AD1B-4EF3-A1DE-263D49E3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517E-4F62-4346-A764-9CBF714F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995F-C483-4974-82F0-4199381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4212-9BC6-4F91-BF1F-8794199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AEB7-054F-40F1-B349-45827F6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07059-954B-4872-9626-85F0E26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B7CF8-F9E6-49B9-BDAE-965648F4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AB6DB-4464-458F-8551-83CFD6D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3B29-CCDE-4098-A356-2BC4084C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F0D1-ABDB-45B9-B8FB-0F3CA60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5665-3A94-4FF8-8873-BB08866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796-7E50-46EE-8A7E-9776F66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26C0-F19E-4F27-99FC-AAC760F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CF04-0609-4BDF-AF56-AC77838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509E6-7F48-4004-81D1-795EDB3B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18EA6-5384-4ABC-9A87-9F6A1BB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4DB35-4B9E-49AB-B959-CA49F34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7D3F4-2E14-49EF-A550-BFAC3B83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B431-F632-4048-9D78-B101420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C9B9-6E48-4F90-81C5-26DECF7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3C00-3FEE-4BED-BD62-BB1FFE19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6B35-8803-4058-9048-1DDE497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C22-2355-4C92-974D-744231B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52D3-91D3-4818-81C8-B5664F5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7D04-EE8B-4A38-AAA0-D2CD6B7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5C92-7EB9-453B-AA45-356B3A2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99A11-B510-4131-8886-E86D590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6EF4-B956-454F-9DEC-7D89B004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C20C-22C3-41C4-BB78-F0276D0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9CE5E-2B68-41C9-B80C-0DD6AF6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0CC8-4F7B-47F8-A6A3-B5F49ED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ED3B-73D2-4FC5-AA71-CBCCF42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5115-56B4-4CAC-A664-ADB0679C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B83-4AD2-40EE-A8EF-669E1B8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097E5-CC42-4571-8C97-3159BE8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59CF-F431-40EB-93C8-BCFC967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FFF8-4567-4AF3-A4AA-CACEF48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E26AA-59C9-483C-A006-B494547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1DBE-543C-4B11-A42C-664FFA2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8D84-0CBC-4863-8191-6C863C98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F32C6-4B64-465C-B548-58FAB0F9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9D1B-4314-4CB7-B3EB-190A5D6B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A65D-4FF3-4BF4-B174-97E363D3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62C7E-DF97-4136-A189-EF879DE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E3C1-6C7A-4F1A-B352-CE75C6AD991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72B-D246-4BF2-8185-88F17367FCB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708-905B-4961-B846-BE0622DC0FC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F3E-DC95-4AE4-9BC3-25D5283153D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653-A7EF-4599-8B13-ED78329400B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CAD3-031E-4ADF-B91A-89F9582484E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6A11-DD57-46C2-8E8C-2F47D2A9F39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C4A-B63D-4EB7-84AE-30DDB728419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1412-9251-4694-98C6-972C3FC471C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85840" y="1432080"/>
            <a:ext cx="8572320" cy="2073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4582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c535f"/>
              </a:solidFill>
              <a:latin typeface="Arial"/>
              <a:ea typeface="Arial"/>
            </a:endParaRPr>
          </a:p>
        </p:txBody>
      </p:sp>
      <p:pic>
        <p:nvPicPr>
          <p:cNvPr id="401" name="Picture 2" descr="C:\Documents and Settings\Admin\Рабочий стол\проект радио\DSC08916.JPG"/>
          <p:cNvPicPr/>
          <p:nvPr/>
        </p:nvPicPr>
        <p:blipFill>
          <a:blip r:embed="rId2"/>
          <a:stretch/>
        </p:blipFill>
        <p:spPr>
          <a:xfrm>
            <a:off x="324000" y="1989000"/>
            <a:ext cx="3551040" cy="23781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4"/>
          <p:cNvSpPr/>
          <p:nvPr/>
        </p:nvSpPr>
        <p:spPr>
          <a:xfrm>
            <a:off x="4067280" y="184464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йствующая модель         радиоприемника для демонстрации принципов радиосвязи на уроках физ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1835280" y="5013360"/>
            <a:ext cx="70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5 класса Комаров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  учитель физики Жирноклеева Ю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3344760" y="6165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1" descr="http://sdelanounas.ru/i/d/3/d3d3LjIxLmJ5L3B1Yi9uZXdzLzIwMTIvMDUvMTMzNjM4MjUyNjY0ODM4MC5qcGc_X19pZD0zMDQ3Nw==.jpg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2"/>
          <p:cNvSpPr/>
          <p:nvPr/>
        </p:nvSpPr>
        <p:spPr>
          <a:xfrm>
            <a:off x="6012000" y="393372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7 мая 2015 г исполнило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120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радио А.С. Поп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http://im2-tub-ru.yandex.net/i?id=00cc05cd0345da5855fc966a68ffc31e-64-144&amp;n=33&amp;h=230"/>
          <p:cNvPicPr/>
          <p:nvPr/>
        </p:nvPicPr>
        <p:blipFill>
          <a:blip r:embed="rId2"/>
          <a:stretch/>
        </p:blipFill>
        <p:spPr>
          <a:xfrm>
            <a:off x="5219640" y="907920"/>
            <a:ext cx="3683160" cy="24498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4569840" y="8366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н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5"/>
          <p:cNvSpPr/>
          <p:nvPr/>
        </p:nvSpPr>
        <p:spPr>
          <a:xfrm>
            <a:off x="6227640" y="333360"/>
            <a:ext cx="244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когерер, который выполнял роль детектора (приемник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6"/>
          <p:cNvSpPr/>
          <p:nvPr/>
        </p:nvSpPr>
        <p:spPr>
          <a:xfrm>
            <a:off x="5722560" y="16286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зв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Маркони осуществил передачу радиосигналов через Ла-Манш - Презентация 6906/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adio communication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568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РАДИОСВЯЗЬ 120 ЛЕТ СПУ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Using Communications to Drive Innovation - How to Develop an Engaging and Sustainable Program Innovation Managem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1" descr="http://ok-t.ru/lektsiopedia/baza/3564060153896.files/image894.jpg"/>
          <p:cNvPicPr/>
          <p:nvPr/>
        </p:nvPicPr>
        <p:blipFill>
          <a:blip r:embed="rId1"/>
          <a:srcRect l="0" t="0" r="0" b="17408"/>
          <a:stretch/>
        </p:blipFill>
        <p:spPr>
          <a:xfrm>
            <a:off x="468360" y="981000"/>
            <a:ext cx="8351640" cy="4996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"/>
          <p:cNvSpPr/>
          <p:nvPr/>
        </p:nvSpPr>
        <p:spPr>
          <a:xfrm>
            <a:off x="1878480" y="190440"/>
            <a:ext cx="58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Calibri"/>
              </a:rPr>
              <a:t>ПРИНЦИПЫ  РАДИО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http://ok-t.ru/lektsiopedia/baza/3564060153896.files/image894.jpg"/>
          <p:cNvPicPr/>
          <p:nvPr/>
        </p:nvPicPr>
        <p:blipFill>
          <a:blip r:embed="rId2"/>
          <a:srcRect l="41326" t="84328" r="28083" b="3531"/>
          <a:stretch/>
        </p:blipFill>
        <p:spPr>
          <a:xfrm>
            <a:off x="3995640" y="6021360"/>
            <a:ext cx="2521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http://ok-t.ru/lektsiopedia/baza/3564060153896.files/image886.jpg"/>
          <p:cNvPicPr/>
          <p:nvPr/>
        </p:nvPicPr>
        <p:blipFill>
          <a:blip r:embed="rId1"/>
          <a:stretch/>
        </p:blipFill>
        <p:spPr>
          <a:xfrm>
            <a:off x="179280" y="1197000"/>
            <a:ext cx="8425080" cy="5445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"/>
          <p:cNvSpPr/>
          <p:nvPr/>
        </p:nvSpPr>
        <p:spPr>
          <a:xfrm>
            <a:off x="574560" y="189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3434"/>
                </a:solidFill>
                <a:latin typeface="Arial"/>
                <a:ea typeface="Calibri"/>
              </a:rPr>
              <a:t>Радиоприемник состоит в основном из следующих элемен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986120" y="126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ан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"/>
          <p:cNvSpPr/>
          <p:nvPr/>
        </p:nvSpPr>
        <p:spPr>
          <a:xfrm>
            <a:off x="1121760" y="35002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Колеб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кон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8"/>
          <p:cNvSpPr/>
          <p:nvPr/>
        </p:nvSpPr>
        <p:spPr>
          <a:xfrm>
            <a:off x="4793400" y="1700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дет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7981560" y="30686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дина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0"/>
          <p:cNvSpPr/>
          <p:nvPr/>
        </p:nvSpPr>
        <p:spPr>
          <a:xfrm>
            <a:off x="5433480" y="3357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филь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6 июня - вторая игра ВелоDozoR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3370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Ламповый радиоприемник Беларусь-53"/>
          <p:cNvPicPr/>
          <p:nvPr/>
        </p:nvPicPr>
        <p:blipFill>
          <a:blip r:embed="rId2"/>
          <a:stretch/>
        </p:blipFill>
        <p:spPr>
          <a:xfrm>
            <a:off x="179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Радиоприёмник и радиола сетевые ламповые ''Пионер''."/>
          <p:cNvPicPr/>
          <p:nvPr/>
        </p:nvPicPr>
        <p:blipFill>
          <a:blip r:embed="rId3"/>
          <a:stretch/>
        </p:blipFill>
        <p:spPr>
          <a:xfrm>
            <a:off x="4859280" y="333360"/>
            <a:ext cx="3643200" cy="2708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Схемы замков &quot; Электрические схемы ламповых радиоприемников"/>
          <p:cNvPicPr/>
          <p:nvPr/>
        </p:nvPicPr>
        <p:blipFill>
          <a:blip r:embed="rId4"/>
          <a:stretch/>
        </p:blipFill>
        <p:spPr>
          <a:xfrm>
            <a:off x="4427640" y="3429000"/>
            <a:ext cx="4321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Ламповый радиоприемник Беларусь-53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Портативный радиоприёмник ''Ласточка''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Робофест 2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0240" y="195120"/>
            <a:ext cx="894240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50920" y="3303000"/>
            <a:ext cx="4608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407" name="Picture 1" descr="C:\Documents and Settings\Admin\Рабочий стол\проект радио\сканирование0001_cr.jpg"/>
          <p:cNvPicPr/>
          <p:nvPr/>
        </p:nvPicPr>
        <p:blipFill>
          <a:blip r:embed="rId2"/>
          <a:stretch/>
        </p:blipFill>
        <p:spPr>
          <a:xfrm>
            <a:off x="324000" y="1341360"/>
            <a:ext cx="5165640" cy="331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Admin\Рабочий стол\проект радио\сканирование0002_cr.jpg"/>
          <p:cNvPicPr/>
          <p:nvPr/>
        </p:nvPicPr>
        <p:blipFill>
          <a:blip r:embed="rId3"/>
          <a:stretch/>
        </p:blipFill>
        <p:spPr>
          <a:xfrm>
            <a:off x="3924360" y="3429000"/>
            <a:ext cx="5010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E:\проект радио\DSC08904.JPG"/>
          <p:cNvPicPr/>
          <p:nvPr/>
        </p:nvPicPr>
        <p:blipFill>
          <a:blip r:embed="rId1"/>
          <a:stretch/>
        </p:blipFill>
        <p:spPr>
          <a:xfrm>
            <a:off x="0" y="2852640"/>
            <a:ext cx="5572080" cy="3730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E:\проект радио\DSC08912.JPG"/>
          <p:cNvPicPr/>
          <p:nvPr/>
        </p:nvPicPr>
        <p:blipFill>
          <a:blip r:embed="rId2"/>
          <a:stretch/>
        </p:blipFill>
        <p:spPr>
          <a:xfrm>
            <a:off x="5557680" y="189000"/>
            <a:ext cx="3586320" cy="535788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6" descr=""/>
          <p:cNvPicPr/>
          <p:nvPr/>
        </p:nvPicPr>
        <p:blipFill>
          <a:blip r:embed="rId3"/>
          <a:stretch/>
        </p:blipFill>
        <p:spPr>
          <a:xfrm>
            <a:off x="407880" y="457200"/>
            <a:ext cx="42562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проект радио\DSC08921.JPG"/>
          <p:cNvPicPr/>
          <p:nvPr/>
        </p:nvPicPr>
        <p:blipFill>
          <a:blip r:embed="rId1"/>
          <a:stretch/>
        </p:blipFill>
        <p:spPr>
          <a:xfrm>
            <a:off x="5580000" y="260280"/>
            <a:ext cx="3214800" cy="4802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E:\проект радио\DSC08924.JPG"/>
          <p:cNvPicPr/>
          <p:nvPr/>
        </p:nvPicPr>
        <p:blipFill>
          <a:blip r:embed="rId2"/>
          <a:stretch/>
        </p:blipFill>
        <p:spPr>
          <a:xfrm>
            <a:off x="179280" y="1916280"/>
            <a:ext cx="4999320" cy="3346200"/>
          </a:xfrm>
          <a:prstGeom prst="rect">
            <a:avLst/>
          </a:prstGeom>
          <a:ln w="0">
            <a:noFill/>
          </a:ln>
        </p:spPr>
      </p:pic>
      <p:pic>
        <p:nvPicPr>
          <p:cNvPr id="462" name="Заголовок 3" descr=""/>
          <p:cNvPicPr/>
          <p:nvPr/>
        </p:nvPicPr>
        <p:blipFill>
          <a:blip r:embed="rId3"/>
          <a:stretch/>
        </p:blipFill>
        <p:spPr>
          <a:xfrm>
            <a:off x="5211720" y="507852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79280" y="549360"/>
            <a:ext cx="4897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535f"/>
                </a:solidFill>
                <a:latin typeface="Arial"/>
                <a:ea typeface="Arial"/>
              </a:rPr>
              <a:t>МОНТАЖ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проект радио\DSC08916.JPG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6121440"/>
          </a:xfrm>
          <a:prstGeom prst="rect">
            <a:avLst/>
          </a:prstGeom>
          <a:ln w="0">
            <a:noFill/>
          </a:ln>
        </p:spPr>
      </p:pic>
      <p:pic>
        <p:nvPicPr>
          <p:cNvPr id="465" name="Заголовок 2" descr=""/>
          <p:cNvPicPr/>
          <p:nvPr/>
        </p:nvPicPr>
        <p:blipFill>
          <a:blip r:embed="rId2"/>
          <a:stretch/>
        </p:blipFill>
        <p:spPr>
          <a:xfrm>
            <a:off x="6480" y="-6480"/>
            <a:ext cx="8862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76040" y="4511520"/>
            <a:ext cx="8828280" cy="1998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Началка. День за днем Timeline"/>
          <p:cNvPicPr/>
          <p:nvPr/>
        </p:nvPicPr>
        <p:blipFill>
          <a:blip r:embed="rId2"/>
          <a:stretch/>
        </p:blipFill>
        <p:spPr>
          <a:xfrm>
            <a:off x="250920" y="-171360"/>
            <a:ext cx="8362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E:\проект радио\Новая папка\DSC0376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4286160" cy="4075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E:\проект радио\Новая папка\DSC03773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143240" y="2970360"/>
            <a:ext cx="5000760" cy="38876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4572000" y="9079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й папа радиолюби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828360" y="4797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я т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E:\проект радио\Новая папка\SAM_03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2"/>
          <p:cNvSpPr/>
          <p:nvPr/>
        </p:nvSpPr>
        <p:spPr>
          <a:xfrm>
            <a:off x="0" y="404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2110"/>
                </a:solidFill>
                <a:latin typeface="Arial"/>
                <a:ea typeface="Arial"/>
              </a:rPr>
              <a:t>Мы всей семьей выезжаем на слеты и соревнования радиолюб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E:\проект радио\Новая папка\SAM_04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5508720" y="53830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9e91"/>
                </a:solidFill>
                <a:latin typeface="Times New Roman"/>
                <a:ea typeface="Calibri"/>
              </a:rPr>
              <a:t>А э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7 мая 2015 г 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исполнилось 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120 лет радио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Local Settings\Temporary Internet Files\Content.IE5\DFNN2WS0\MC900285520[1].wmf"/>
          <p:cNvPicPr/>
          <p:nvPr/>
        </p:nvPicPr>
        <p:blipFill>
          <a:blip r:embed="rId2"/>
          <a:stretch/>
        </p:blipFill>
        <p:spPr>
          <a:xfrm>
            <a:off x="324000" y="1700280"/>
            <a:ext cx="41814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Генрих Герц - Картинка 12940/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50920" y="159480"/>
            <a:ext cx="4645080" cy="3751560"/>
          </a:xfrm>
          <a:prstGeom prst="rect">
            <a:avLst/>
          </a:prstGeom>
          <a:gradFill rotWithShape="0">
            <a:gsLst>
              <a:gs pos="0">
                <a:srgbClr val="ffd5c1"/>
              </a:gs>
              <a:gs pos="100000">
                <a:srgbClr val="ff842c"/>
              </a:gs>
            </a:gsLst>
            <a:lin ang="5400000"/>
          </a:gradFill>
          <a:ln w="10080">
            <a:solidFill>
              <a:srgbClr val="fe863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  <a:ea typeface="Calibri"/>
              </a:rPr>
              <a:t> 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Герц создал источник электромагнитных волн, названный им "вибратором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В таком виде вибратор Герца был использован как передатчик в первых практических схемах пионеров радиосвязи А.С. Попо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Г. Маркони в 1895 и 1896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31" descr="http://www.rt.mipt.ru/images/misc/radio/herz/8s.gif"/>
          <p:cNvPicPr/>
          <p:nvPr/>
        </p:nvPicPr>
        <p:blipFill>
          <a:blip r:embed="rId1"/>
          <a:stretch/>
        </p:blipFill>
        <p:spPr>
          <a:xfrm>
            <a:off x="5148360" y="333360"/>
            <a:ext cx="3643200" cy="23860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5076720" y="3000960"/>
            <a:ext cx="37213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индуктор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азрядник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'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цилиндры вибратора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, с, d, b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езонатор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искровой промеж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4" descr="http://www.rt.mipt.ru/images/misc/radio/herz/ruks.jpg"/>
          <p:cNvPicPr/>
          <p:nvPr/>
        </p:nvPicPr>
        <p:blipFill>
          <a:blip r:embed="rId2"/>
          <a:stretch/>
        </p:blipFill>
        <p:spPr>
          <a:xfrm>
            <a:off x="250920" y="4149720"/>
            <a:ext cx="2881080" cy="23749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3492360" y="4455360"/>
            <a:ext cx="518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 качестве детектора, или приемника, Герц использовал кольцо (иногда прямоугольник) с разрывом - искровым промежутком, который можно было регул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http://class-fizika.narod.ru/phys/18.jpg"/>
          <p:cNvPicPr/>
          <p:nvPr/>
        </p:nvPicPr>
        <p:blipFill>
          <a:blip r:embed="rId1"/>
          <a:stretch/>
        </p:blipFill>
        <p:spPr>
          <a:xfrm>
            <a:off x="357120" y="357120"/>
            <a:ext cx="2790720" cy="372420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428760" y="450072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ПОП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Александр Степа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1859 -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3571920" y="452520"/>
            <a:ext cx="521496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В 1895 году на заседании Русского физико-химического общества состоялась первая демонстрация радиоприемного устройства А.С. Попова, а через год там же ему удалось передать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Calibri"/>
              </a:rPr>
              <a:t>первую в мире радиограмму,</a:t>
            </a: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 которую отстучал перед собравшимися аппарат Морзе: в ней было всего два слова «Генрих Гер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Признанием заслуг А.С. Попова перед Отечеством является праздник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"День радио"</a:t>
            </a: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, отмечаемый 7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357120" y="550080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 великий русский ученый, изобретатель рад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9:53:31Z</dcterms:created>
  <dc:creator>Юлия МОУ-Высоковская СОШ 4</dc:creator>
  <dc:description/>
  <dc:language>en-US</dc:language>
  <cp:lastModifiedBy>Admin</cp:lastModifiedBy>
  <dcterms:modified xsi:type="dcterms:W3CDTF">2019-03-06T15:45:21Z</dcterms:modified>
  <cp:revision>38</cp:revision>
  <dc:subject/>
  <dc:title>Слайд 1</dc:title>
</cp:coreProperties>
</file>