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B77-002E-4972-8CCA-DBDF4085EC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852-6D23-47D6-BF53-5F14CBF27EB1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C603-BC1D-49A7-827D-241997D27869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B12-64A5-490E-BA08-5F35507B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A5B-7199-4F2E-856D-34C417B9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470-4496-4B89-A20F-97A04C20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4AC-392E-47E3-871B-322F2B1B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EC1B-D8BA-4690-ADF3-F36DFD3D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9870-46F0-435E-9D90-D403931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0845-22B5-42E0-84A5-88A1586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5463-F20B-4EE9-A893-B0F8FC8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3FDA-6374-4EE1-A1AF-D6F808C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ADA-7263-4D52-9DAA-C662135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7FA-9702-4DF3-B82A-E46B641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78A-D579-4723-8033-FFB16ADF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553-C82E-4798-9542-4F43F70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0659-F367-43AC-BBC0-1961CA7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CDE-2A58-4EAC-9676-77B7753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8FA7-D921-4BB8-B2EB-122B077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87F-F42E-4FAE-BC6E-67964FD8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AFCB-C17B-48D9-B460-AA6E333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92C1-A0C9-4639-AFBA-FF73F8C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A9E7-5A7E-48D6-A828-08375A65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495A-D3FD-4A42-8B06-90976E1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61BC-F492-4B48-9921-ADB8A784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AE6-B470-4F23-9461-B358914E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061C-BA93-4A4E-A24B-70EA72F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8039-E140-4248-AFFD-D37BD5E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4064-2B87-4E3D-A7A1-AB3AA34F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AE86-7F79-4765-9A0A-EB4480D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4B18-427D-48D9-9358-2195CA6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C47C-9359-43F4-BD13-343CE62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21AB-7C7D-4244-84D5-096871A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50DF7-5A24-4C63-AC34-D3DF2FD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4A62-E23E-4845-B9B5-6919763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D5CE-054A-469B-A95A-0F256AA4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E1B-AAB2-4F46-A413-1434BB5B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37FB-8197-4014-89E7-A268D5C8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C4FC-5DCD-4A36-9702-46331FB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2D8E-0E4B-4A10-ACE9-DBE923A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146C-19AC-4BCB-B19D-EFD681D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EEE6-EA94-478A-A8F5-EF2AC20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6FDA-1CC4-42CB-8D58-8C2C313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9677-EAEF-4FD0-931F-E4BF514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7D1D-A4B2-4154-8B3F-04F6B8FC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B640-5040-4B78-AF98-DA5CA7D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F8B4-0B7B-4CAE-98F8-A1EBD490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13C-B630-4439-91E4-BC1FAAF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16CF-ED50-4E4D-902E-3B57962F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AA41-8E20-4FE4-A983-AF672B4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21CB-72B5-4FDB-8651-469006C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2DA6-E3DA-4AB0-88E0-9150787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BCA7D-EE40-4A16-A06D-B3D5B8E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608B-3040-4E30-8E64-9EB29EC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EF56-B766-4EB9-8D03-E0D4B72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5E08-AD27-468C-A834-10F6E6F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E362-6DEC-47DB-86DF-F2D0C74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3913-5C24-4A61-A4E2-BA5910FB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F2D-30AD-4AD1-AB27-415E8CC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16441-E91D-43B4-8179-34DE26C3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F92-3811-4BCD-9CFC-11DC03E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B28-DF92-4236-8C72-BA2C052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8A6-759B-4020-BD21-A50DD10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20F0-CE76-4BA9-B856-A98A3CAC20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D78-9DF4-4779-8392-DAE0004003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859-FF03-4DEA-8019-6F7B86F7B9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735-6D2B-40F0-AB0D-8D47CD0469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EE49-C1AF-488B-8EA1-E79AE0B1D7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71880"/>
            <a:ext cx="38102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9" name="Picture 2" descr="D:\Биология\7 класс\ЖИВОТНЫЕ\Беспозвоночные\Тип плоские черви\Pseudobiceros-gloriosus6.jpg"/>
          <p:cNvPicPr/>
          <p:nvPr/>
        </p:nvPicPr>
        <p:blipFill>
          <a:blip r:embed="rId1"/>
          <a:stretch/>
        </p:blipFill>
        <p:spPr>
          <a:xfrm>
            <a:off x="5170320" y="606600"/>
            <a:ext cx="3603960" cy="2703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D:\Биология\7 класс\ЖИВОТНЫЕ\Беспозвоночные\Тип плоские черви\flatworm.jpg"/>
          <p:cNvPicPr/>
          <p:nvPr/>
        </p:nvPicPr>
        <p:blipFill>
          <a:blip r:embed="rId2"/>
          <a:stretch/>
        </p:blipFill>
        <p:spPr>
          <a:xfrm>
            <a:off x="5160960" y="3733920"/>
            <a:ext cx="3916440" cy="293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D:\Биология\7 класс\ЖИВОТНЫЕ\Беспозвоночные\Тип плоские черви\Pseudoceros_dimidiatus.jpg"/>
          <p:cNvPicPr/>
          <p:nvPr/>
        </p:nvPicPr>
        <p:blipFill>
          <a:blip r:embed="rId3"/>
          <a:stretch/>
        </p:blipFill>
        <p:spPr>
          <a:xfrm>
            <a:off x="228600" y="1957320"/>
            <a:ext cx="4327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Утверждения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80880" y="334800"/>
            <a:ext cx="81234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.Все плоские черви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паразиты их насчитывается 25 тыс. видо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2.Двухсторонняя симметрия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3.3-хслойное, уплощенное тело, кожно- мускульный мешок, паренхи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4.Промежутки между органами заполнены жидкостью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5.Пищеварительная(рот-глотка-кишечник у ленточных отсутствуе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6. Нервная система плоских червей -  диффузна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7.Нервная система лестнична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8.Выделительная протонефридии (канальцы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9.Выделительная система плоских червей представлена почками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0.Половая гермафродит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1.  Регенерация характерн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2880" y="1440"/>
            <a:ext cx="3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33520" y="190512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1.Группа характеризует органы пита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2. Группа органы выделения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3.Группа  органы размножения.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4.Нервная систем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1800" y="27000"/>
            <a:ext cx="180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304920" y="1371600"/>
            <a:ext cx="8610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огреть ладони трением, помассировать ушные раковины движениями ладони впере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ад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огреть трением кончики первых трех пальцев, щипцеобразно размять завитки ушей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дергать себя за мочки ушей вниз, за верхушки ушей вверх, за завитки - в стороны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огреть ладони трением, помассировать ушные раковины движениями ладони вперед-назад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ногтевых зон включает легкое надавливание 5-7 раз на каждый ноготь в течение 3 секунд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центр ногтевой пластины в направлении к подушечке пальц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свободный край ногтя в направлении противоположном его рост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 боковые поверхности ногтя по направлению к центр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гибаем свободный край ногтя в сторону ладони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е все 4 раз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бобщить одной фразой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457200" y="1582560"/>
            <a:ext cx="8381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Calibri"/>
                <a:ea typeface="Times New Roman"/>
              </a:rPr>
              <a:t>Ресничные черви (систематическая единица</a:t>
            </a:r>
            <a:r>
              <a:rPr b="0" lang="ru-RU" sz="1800" spc="-1" strike="noStrike">
                <a:solidFill>
                  <a:srgbClr val="292934"/>
                </a:solidFill>
                <a:latin typeface="Calibri"/>
                <a:ea typeface="Times New Roman"/>
              </a:rPr>
              <a:t>)  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Рот, глотка, кишк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Семенники, яичники, протоки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Выделительные отверстия, система канальцев, звездчатые клет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Паренхима, кожно-мускульный мешок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Светочувствительные глазки, органы равновесия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Дыхательная, кровеносная, опорно-двигательная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8. Мозговые ганглии, стволы, перемычки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Вам нужно обобщить перечень слов одной фразой или словом.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52280" y="16002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есничные.   (класс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от, глотка, кишка. (пищеварительная систе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Семенники, яичники, протоки. (половая систе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делительные отверстия, система канальцев, звездчатые клетки. (выделительная система, протонефридии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Паренхима, кожно-мускульный мешок.(внутреннее строение плоских червей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Светочувствительные глазки, органы равновесия. (органы равновесия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Дыхательная, кровеносная, опорно-двигательная. (отсутствует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8. Мозговые ганглии, стволы, перемычки. (нервная систе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Д/З параграф 14 стр 62-68 прочест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И творческое задание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162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Впишите в фигурку все то ,что вы запомнили с урока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20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0:31:54Z</dcterms:created>
  <dc:creator>Asus</dc:creator>
  <dc:description/>
  <dc:language>en-US</dc:language>
  <cp:lastModifiedBy>himiya</cp:lastModifiedBy>
  <dcterms:modified xsi:type="dcterms:W3CDTF">2016-10-21T04:06:3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