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DCF5-D094-40D7-9E9D-FCCDAB0A6B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3D02-0675-4782-8064-16834E7B5F16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030B-1893-4E4B-97C4-C9122E8120FD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C05-693B-43BE-99EE-9C2F3359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276-D4B6-4B89-8FE7-3D549DDD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A9E-CB64-4E22-86BE-F9CBA9D0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CA7-E3BD-4F80-999C-578B6477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3828-4FB2-4F35-A573-B2952A66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B5C6-BCF5-4454-83D9-7B1BE79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EE53-0963-4BD1-B7A1-1FCE54DD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81EB-5DD8-45BF-BF32-E3181D97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A416-785C-41A9-84AB-90677A9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EFAD-0867-4878-86CD-F4D19F0B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CC0C-0985-48DE-9C66-5D3FEB2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D6B-CB27-4F77-96E6-824AB88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ACB4-861F-4415-B4BB-BE623D9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771-41BA-45A7-B40B-2C20D3C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C4E4-CD11-4A2E-A4A5-ED628AAC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CF4D-B8D9-4953-BE8C-A916B739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AD94-BE22-4DF0-AE35-C8328E78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D5DF-1DDF-47F7-A2A4-23CDCFA7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9274-BE9B-4EF0-A2A4-7439BB83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5251-E64E-4421-A63B-63B89C69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2F89-7B25-41AF-8F7A-9784F5BD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8126-9F1E-4539-A953-60D611F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F39-5D9F-4C2A-890B-3B06A0FC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07B1-9547-4323-B5C6-551156B1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1B28-284F-4092-93A8-366BA6D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9639-B86B-48DB-B1F2-AD50D65B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2E19-B810-496A-80A2-3ED9E18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4097-A2B3-49F7-8AC4-EFB5B7F2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618B-8ACF-4277-8368-38AB4DFE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AE6F-1092-4A03-A80C-28553B24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F86D-B7A3-41E1-93FD-BBE09E1C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FB8C-7850-4205-8C47-3D751E97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F4AD-A25E-47D2-B1FC-6B0234AE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90B-0A65-4265-A0D2-1877F571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E001-253B-4DCB-A46C-CB6B5FAE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8687-21FE-47F4-8101-315C2333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0261-2857-48B0-B212-50A50056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2066-76E2-4840-947D-D6DEDF1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2A5AA-6EBD-40B8-B375-BCC1A4B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61526-4E49-4694-AA0B-D9D93E1E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53C24-53AC-4F98-A9A1-04E8D6BA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2FE3-FED3-456C-9BC6-7FC475C8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38436-1F93-49C4-8C73-520522DE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F44B-399D-41D8-AA3F-D9F67F9E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430-DB58-4E55-B20D-6CB8959E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66C2-D282-453E-AC67-8E477066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1F499-3389-4160-BF23-5876DA9E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70D00-55F8-4DA9-909A-8F47B786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CA667-149E-4367-8163-806C55CF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6AB9B-0F96-49EC-8D05-A1A5939C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80D19-8261-4598-8808-BB8F363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7DB44-98BB-4D17-B5A7-D6CF2A00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79DE-FF91-4B72-BECA-C4F910D7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CE6D1-701E-4180-90AA-EF00A05E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B2B10-9C5E-4769-84F1-5E42460A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3CA-AF1B-447C-8475-DF18B789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DFFB-BF99-429E-BD9E-5F647380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3D2-8BBB-45AD-8668-FA7887A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D56-4086-4CA0-B481-9D408214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E00-F88C-444B-A1AE-3B4EAE3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01A5-C470-4530-AAE2-AD5B59DA5E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73CF-74E9-48C3-9D0D-165F770B97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735E-E671-433A-A28D-40905B16C0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5B12-E0F0-4106-BEB5-CD4D3FFD1D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640A-7C1D-4785-A9E3-7F0E4E222C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75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71880"/>
            <a:ext cx="38102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9" name="Picture 2" descr="D:\Биология\7 класс\ЖИВОТНЫЕ\Беспозвоночные\Тип плоские черви\Pseudobiceros-gloriosus6.jpg"/>
          <p:cNvPicPr/>
          <p:nvPr/>
        </p:nvPicPr>
        <p:blipFill>
          <a:blip r:embed="rId1"/>
          <a:stretch/>
        </p:blipFill>
        <p:spPr>
          <a:xfrm>
            <a:off x="5170320" y="606600"/>
            <a:ext cx="3603960" cy="2703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D:\Биология\7 класс\ЖИВОТНЫЕ\Беспозвоночные\Тип плоские черви\flatworm.jpg"/>
          <p:cNvPicPr/>
          <p:nvPr/>
        </p:nvPicPr>
        <p:blipFill>
          <a:blip r:embed="rId2"/>
          <a:stretch/>
        </p:blipFill>
        <p:spPr>
          <a:xfrm>
            <a:off x="5160960" y="3733920"/>
            <a:ext cx="3916440" cy="2935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D:\Биология\7 класс\ЖИВОТНЫЕ\Беспозвоночные\Тип плоские черви\Pseudoceros_dimidiatus.jpg"/>
          <p:cNvPicPr/>
          <p:nvPr/>
        </p:nvPicPr>
        <p:blipFill>
          <a:blip r:embed="rId3"/>
          <a:stretch/>
        </p:blipFill>
        <p:spPr>
          <a:xfrm>
            <a:off x="228600" y="1957320"/>
            <a:ext cx="43275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Утверждения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80880" y="334800"/>
            <a:ext cx="81234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1.Все плоские черви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паразиты их насчитывается 25 тыс. видов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2.Двухсторонняя симметрия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3.3-хслойное, уплощенное тело, кожно- мускульный мешок, паренхим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4.Промежутки между органами заполнены жидкостью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5.Пищеварительная(рот-глотка-кишечник у ленточных отсутствуе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6. Нервная система плоских червей -  диффузна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7.Нервная система лестничная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8.Выделительная протонефридии (канальцы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9293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9.Выделительная система плоских червей представлена почками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10.Половая гермафродит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11.  Регенерация характерн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2880" y="1440"/>
            <a:ext cx="3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34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33520" y="190512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1.Группа характеризует органы питания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2. Группа органы выделения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3.Группа  органы размножения.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34"/>
                </a:solidFill>
                <a:latin typeface="Arial"/>
                <a:ea typeface="Times New Roman"/>
              </a:rPr>
              <a:t>4.Нервная система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ФИЗМИНУТКА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1800" y="27000"/>
            <a:ext cx="1807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304920" y="1371600"/>
            <a:ext cx="8610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зогреть ладони трением, помассировать ушные раковины движениями ладони впере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ад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огреть трением кончики первых трех пальцев, щипцеобразно размять завитки ушей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дергать себя за мочки ушей вниз, за верхушки ушей вверх, за завитки - в стороны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огреть ладони трением, помассировать ушные раковины движениями ладони вперед-назад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ногтевых зон включает легкое надавливание 5-7 раз на каждый ноготь в течение 3 секунд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центр ногтевой пластины в направлении к подушечке пальц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свободный край ногтя в направлении противоположном его рост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На боковые поверхности ногтя по направлению к центр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гибаем свободный край ногтя в сторону ладони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е все 4 раза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бобщить одной фразой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457200" y="1582560"/>
            <a:ext cx="83818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Calibri"/>
                <a:ea typeface="Times New Roman"/>
              </a:rPr>
              <a:t>Ресничные черви (систематическая единица</a:t>
            </a:r>
            <a:r>
              <a:rPr b="0" lang="ru-RU" sz="1800" spc="-1" strike="noStrike">
                <a:solidFill>
                  <a:srgbClr val="292934"/>
                </a:solidFill>
                <a:latin typeface="Calibri"/>
                <a:ea typeface="Times New Roman"/>
              </a:rPr>
              <a:t>)  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Рот, глотка, кишка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Семенники, яичники, протоки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Выделительные отверстия, система канальцев, звездчатые клетк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Паренхима, кожно-мускульный мешок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Светочувствительные глазки, органы равновесия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Times New Roman"/>
              </a:rPr>
              <a:t>Дыхательная, кровеносная, опорно-двигательная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8. Мозговые ганглии, стволы, перемычки</a:t>
            </a: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Вам нужно обобщить перечень слов одной фразой или словом.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152280" y="16002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Ресничные.   (класс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Рот, глотка, кишка. (пищеварительная система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Семенники, яичники, протоки. (половая система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ыделительные отверстия, система канальцев, звездчатые клетки. (выделительная система, протонефридии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Паренхима, кожно-мускульный мешок.(внутреннее строение плоских червей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Светочувствительные глазки, органы равновесия. (органы равновесия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Дыхательная, кровеносная, опорно-двигательная. (отсутствует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8. Мозговые ганглии, стволы, перемычки. (нервная систем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Д/З параграф 14 стр 62-68 прочесть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И творческое задание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162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Впишите в фигурку все то ,что вы запомнили с урока.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3200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0:31:54Z</dcterms:created>
  <dc:creator>Asus</dc:creator>
  <dc:description/>
  <dc:language>en-US</dc:language>
  <cp:lastModifiedBy>himiya</cp:lastModifiedBy>
  <dcterms:modified xsi:type="dcterms:W3CDTF">2016-10-21T04:06:39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