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84A-2A8B-4E55-B75A-3719A120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DD8-CF30-4DAB-B9F1-30AE4AE7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4FE-363C-4591-9A10-ACE48A43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508-3B1A-4776-9B72-FC98C8BF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E3F-CA42-40B6-B9A3-10E94C78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A4E-7991-4453-94B3-DCDC8A3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3B6-50BC-4AC7-99B3-C1FE24F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5E5-F6E3-4F55-89FA-33B324D8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D88-4CAA-490C-BF73-027C0E8A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8FD-FDB3-4C3D-909E-963FD6F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7F6-6227-4454-8103-CC40B66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451-4171-4444-A7C3-A6063BF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4FC-9525-4423-92DB-762D93527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6" t="712" r="0" b="0"/>
          <a:stretch/>
        </p:blipFill>
        <p:spPr>
          <a:xfrm>
            <a:off x="487440" y="561960"/>
            <a:ext cx="8219880" cy="57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38862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1220" r="0" b="0"/>
          <a:stretch/>
        </p:blipFill>
        <p:spPr>
          <a:xfrm>
            <a:off x="411120" y="579600"/>
            <a:ext cx="8321760" cy="577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9680" y="1371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940" t="1084" r="0" b="0"/>
          <a:stretch/>
        </p:blipFill>
        <p:spPr>
          <a:xfrm>
            <a:off x="515880" y="571680"/>
            <a:ext cx="8191440" cy="577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2438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5" t="991" r="945" b="0"/>
          <a:stretch/>
        </p:blipFill>
        <p:spPr>
          <a:xfrm>
            <a:off x="534960" y="596880"/>
            <a:ext cx="8074080" cy="572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24382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n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46" t="496" r="0" b="634"/>
          <a:stretch/>
        </p:blipFill>
        <p:spPr>
          <a:xfrm>
            <a:off x="541440" y="588960"/>
            <a:ext cx="8138880" cy="567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2362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bb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019" t="0" r="0" b="0"/>
          <a:stretch/>
        </p:blipFill>
        <p:spPr>
          <a:xfrm>
            <a:off x="522360" y="533520"/>
            <a:ext cx="8184960" cy="5790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23623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gu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54" t="1089" r="0" b="0"/>
          <a:stretch/>
        </p:blipFill>
        <p:spPr>
          <a:xfrm>
            <a:off x="533520" y="584280"/>
            <a:ext cx="8173800" cy="575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2438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771" t="988" r="0" b="876"/>
          <a:stretch/>
        </p:blipFill>
        <p:spPr>
          <a:xfrm>
            <a:off x="527040" y="590400"/>
            <a:ext cx="8153280" cy="5683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74" t="995" r="0" b="0"/>
          <a:stretch/>
        </p:blipFill>
        <p:spPr>
          <a:xfrm>
            <a:off x="520560" y="611280"/>
            <a:ext cx="8166240" cy="569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666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71" t="414" r="0" b="0"/>
          <a:stretch/>
        </p:blipFill>
        <p:spPr>
          <a:xfrm>
            <a:off x="527040" y="5842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743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m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6" t="885" r="953" b="0"/>
          <a:stretch/>
        </p:blipFill>
        <p:spPr>
          <a:xfrm>
            <a:off x="554040" y="611280"/>
            <a:ext cx="8021520" cy="568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2438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946" t="991" r="0" b="0"/>
          <a:stretch/>
        </p:blipFill>
        <p:spPr>
          <a:xfrm>
            <a:off x="541440" y="596880"/>
            <a:ext cx="8138880" cy="572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45720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93" r="0" b="0"/>
          <a:stretch/>
        </p:blipFill>
        <p:spPr>
          <a:xfrm>
            <a:off x="490680" y="576360"/>
            <a:ext cx="8162640" cy="573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4648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ur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71" t="993" r="0" b="0"/>
          <a:stretch/>
        </p:blipFill>
        <p:spPr>
          <a:xfrm>
            <a:off x="527040" y="604800"/>
            <a:ext cx="815328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53341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eph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71" t="743" r="0" b="0"/>
          <a:stretch/>
        </p:blipFill>
        <p:spPr>
          <a:xfrm>
            <a:off x="527040" y="590400"/>
            <a:ext cx="8153280" cy="572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2666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96" t="1231" r="0" b="0"/>
          <a:stretch/>
        </p:blipFill>
        <p:spPr>
          <a:xfrm>
            <a:off x="487440" y="592200"/>
            <a:ext cx="8219880" cy="574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11430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ip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52:21Z</dcterms:created>
  <dc:creator>User</dc:creator>
  <dc:description/>
  <dc:language>en-US</dc:language>
  <cp:lastModifiedBy>a</cp:lastModifiedBy>
  <dcterms:modified xsi:type="dcterms:W3CDTF">2006-09-18T03:10:23Z</dcterms:modified>
  <cp:revision>3</cp:revision>
  <dc:subject/>
  <dc:title>Slide 1</dc:title>
</cp:coreProperties>
</file>