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F08-56AE-4753-9F45-A42362B2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58C-C932-470B-8C38-295DCC1B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87D-1E38-49FE-9657-0892CC24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C6E-B716-4A50-A650-A05EEE61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DD4-E7EC-420B-A1FF-7D664F7A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BB2-118E-4DA2-887D-98090258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CE6-10B0-4E06-BF15-19897C5C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055-FFFD-415C-A763-348B44C0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2B5-4750-4FF5-9203-3FB23AD8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5E8-71CE-4814-9DC2-C8194CCE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295-8509-43A0-AB77-53DEEBE4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723-CD08-485B-AA6E-D3DD329C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851F-FC5B-4EB1-B35D-EBF8CD631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96" t="712" r="0" b="0"/>
          <a:stretch/>
        </p:blipFill>
        <p:spPr>
          <a:xfrm>
            <a:off x="487440" y="561960"/>
            <a:ext cx="8219880" cy="5776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38862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1220" r="0" b="0"/>
          <a:stretch/>
        </p:blipFill>
        <p:spPr>
          <a:xfrm>
            <a:off x="411120" y="579600"/>
            <a:ext cx="8321760" cy="577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9680" y="13716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r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940" t="1084" r="0" b="0"/>
          <a:stretch/>
        </p:blipFill>
        <p:spPr>
          <a:xfrm>
            <a:off x="515880" y="571680"/>
            <a:ext cx="8191440" cy="5779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243828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945" t="991" r="945" b="0"/>
          <a:stretch/>
        </p:blipFill>
        <p:spPr>
          <a:xfrm>
            <a:off x="534960" y="596880"/>
            <a:ext cx="8074080" cy="5721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24382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n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946" t="496" r="0" b="634"/>
          <a:stretch/>
        </p:blipFill>
        <p:spPr>
          <a:xfrm>
            <a:off x="541440" y="588960"/>
            <a:ext cx="8138880" cy="5673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23623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abb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019" t="0" r="0" b="0"/>
          <a:stretch/>
        </p:blipFill>
        <p:spPr>
          <a:xfrm>
            <a:off x="522360" y="533520"/>
            <a:ext cx="8184960" cy="5790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0720" y="23623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engu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154" t="1089" r="0" b="0"/>
          <a:stretch/>
        </p:blipFill>
        <p:spPr>
          <a:xfrm>
            <a:off x="533520" y="584280"/>
            <a:ext cx="8173800" cy="575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2438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771" t="988" r="0" b="876"/>
          <a:stretch/>
        </p:blipFill>
        <p:spPr>
          <a:xfrm>
            <a:off x="527040" y="590400"/>
            <a:ext cx="8153280" cy="5683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22860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ro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774" t="995" r="0" b="0"/>
          <a:stretch/>
        </p:blipFill>
        <p:spPr>
          <a:xfrm>
            <a:off x="520560" y="611280"/>
            <a:ext cx="8166240" cy="569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2666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71" t="414" r="0" b="0"/>
          <a:stretch/>
        </p:blipFill>
        <p:spPr>
          <a:xfrm>
            <a:off x="527040" y="584280"/>
            <a:ext cx="81532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27432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m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76" t="885" r="953" b="0"/>
          <a:stretch/>
        </p:blipFill>
        <p:spPr>
          <a:xfrm>
            <a:off x="554040" y="611280"/>
            <a:ext cx="8021520" cy="568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2438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946" t="991" r="0" b="0"/>
          <a:stretch/>
        </p:blipFill>
        <p:spPr>
          <a:xfrm>
            <a:off x="541440" y="596880"/>
            <a:ext cx="8138880" cy="572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0720" y="45720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s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493" r="0" b="0"/>
          <a:stretch/>
        </p:blipFill>
        <p:spPr>
          <a:xfrm>
            <a:off x="490680" y="576360"/>
            <a:ext cx="8162640" cy="573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46483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ur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771" t="993" r="0" b="0"/>
          <a:stretch/>
        </p:blipFill>
        <p:spPr>
          <a:xfrm>
            <a:off x="527040" y="604800"/>
            <a:ext cx="8153280" cy="570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53341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eph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771" t="743" r="0" b="0"/>
          <a:stretch/>
        </p:blipFill>
        <p:spPr>
          <a:xfrm>
            <a:off x="527040" y="590400"/>
            <a:ext cx="8153280" cy="572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26668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oril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96" t="1231" r="0" b="0"/>
          <a:stretch/>
        </p:blipFill>
        <p:spPr>
          <a:xfrm>
            <a:off x="487440" y="592200"/>
            <a:ext cx="8219880" cy="574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14600" y="11430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ip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08:52:21Z</dcterms:created>
  <dc:creator>User</dc:creator>
  <dc:description/>
  <dc:language>en-US</dc:language>
  <cp:lastModifiedBy>a</cp:lastModifiedBy>
  <dcterms:modified xsi:type="dcterms:W3CDTF">2006-09-18T03:10:23Z</dcterms:modified>
  <cp:revision>3</cp:revision>
  <dc:subject/>
  <dc:title>Slide 1</dc:title>
</cp:coreProperties>
</file>