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421-7A24-403B-8BC6-A96970C7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F9F-BD1A-48D0-9D88-FF10A282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673A-2EF0-4A2E-90C7-D569FADB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3DC5-1AFA-49A6-AB74-B5693C68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DCD-8A8F-43EF-8F70-3362522B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AD95-7DB8-42E6-A204-897546CA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300F-1C64-4293-AC01-DB7E163D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06EE-AD9B-4D81-A1D7-FBF0197E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11C-0A46-4198-80C0-50F72149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92D4-816F-415C-A718-79994602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ECF1-D4CE-453A-9FEE-B9CE8379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3C7-9664-46B9-8CC0-B97B4E84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9757-3FD8-4B68-B62B-5473B19C0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850" t="745" r="0" b="0"/>
          <a:stretch/>
        </p:blipFill>
        <p:spPr>
          <a:xfrm>
            <a:off x="533520" y="596880"/>
            <a:ext cx="8146800" cy="5708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388620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940" t="951" r="0" b="0"/>
          <a:stretch/>
        </p:blipFill>
        <p:spPr>
          <a:xfrm>
            <a:off x="515880" y="569880"/>
            <a:ext cx="8191440" cy="5775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62320" y="114300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i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766" t="1528" r="0" b="0"/>
          <a:stretch/>
        </p:blipFill>
        <p:spPr>
          <a:xfrm>
            <a:off x="501480" y="609480"/>
            <a:ext cx="8205840" cy="5729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438280" y="137160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u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940" t="984" r="0" b="0"/>
          <a:stretch/>
        </p:blipFill>
        <p:spPr>
          <a:xfrm>
            <a:off x="515880" y="577800"/>
            <a:ext cx="8191440" cy="5761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266688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Zeb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766" t="741" r="0" b="0"/>
          <a:stretch/>
        </p:blipFill>
        <p:spPr>
          <a:xfrm>
            <a:off x="501480" y="582480"/>
            <a:ext cx="8205840" cy="573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14400" y="259092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nak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766" t="988" r="0" b="0"/>
          <a:stretch/>
        </p:blipFill>
        <p:spPr>
          <a:xfrm>
            <a:off x="501480" y="590400"/>
            <a:ext cx="8205840" cy="5734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8080" y="44956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onke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927" t="662" r="0" b="0"/>
          <a:stretch/>
        </p:blipFill>
        <p:spPr>
          <a:xfrm>
            <a:off x="533520" y="585720"/>
            <a:ext cx="8153280" cy="572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0" y="9144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hee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697" t="0" r="0" b="0"/>
          <a:stretch/>
        </p:blipFill>
        <p:spPr>
          <a:xfrm>
            <a:off x="520560" y="533520"/>
            <a:ext cx="8159760" cy="5790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4400" y="228600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Kangaro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600" t="738" r="0" b="875"/>
          <a:stretch/>
        </p:blipFill>
        <p:spPr>
          <a:xfrm>
            <a:off x="512640" y="569880"/>
            <a:ext cx="8167680" cy="5710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243828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o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154" t="848" r="0" b="0"/>
          <a:stretch/>
        </p:blipFill>
        <p:spPr>
          <a:xfrm>
            <a:off x="533520" y="569880"/>
            <a:ext cx="8173800" cy="5769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23623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olph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771" t="738" r="0" b="1420"/>
          <a:stretch/>
        </p:blipFill>
        <p:spPr>
          <a:xfrm>
            <a:off x="527040" y="569880"/>
            <a:ext cx="8153280" cy="567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3000" y="23623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e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850" t="738" r="0" b="738"/>
          <a:stretch/>
        </p:blipFill>
        <p:spPr>
          <a:xfrm>
            <a:off x="533520" y="569880"/>
            <a:ext cx="8146800" cy="5718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14400" y="236232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Koa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766" t="736" r="0" b="0"/>
          <a:stretch/>
        </p:blipFill>
        <p:spPr>
          <a:xfrm>
            <a:off x="501480" y="563400"/>
            <a:ext cx="8205840" cy="5775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22860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a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940" t="979" r="0" b="0"/>
          <a:stretch/>
        </p:blipFill>
        <p:spPr>
          <a:xfrm>
            <a:off x="515880" y="565200"/>
            <a:ext cx="8191440" cy="5786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25909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iraff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422" t="988" r="0" b="0"/>
          <a:stretch/>
        </p:blipFill>
        <p:spPr>
          <a:xfrm>
            <a:off x="473040" y="590400"/>
            <a:ext cx="8234280" cy="573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8080" y="22860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nke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850" t="600" r="0" b="1553"/>
          <a:stretch/>
        </p:blipFill>
        <p:spPr>
          <a:xfrm>
            <a:off x="533520" y="555480"/>
            <a:ext cx="8146800" cy="5693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14400" y="518148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ha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0:30:18Z</dcterms:created>
  <dc:creator>User</dc:creator>
  <dc:description/>
  <dc:language>en-US</dc:language>
  <cp:lastModifiedBy>a</cp:lastModifiedBy>
  <dcterms:modified xsi:type="dcterms:W3CDTF">2006-09-18T03:43:45Z</dcterms:modified>
  <cp:revision>3</cp:revision>
  <dc:subject/>
  <dc:title>Slide 1</dc:title>
</cp:coreProperties>
</file>