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E9E-83C8-4B8F-8A42-F890C71E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7CF-80D4-4744-B9B2-4A1A3A49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50A-2BA4-4C4F-AA66-DE3641F6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C6B-8C82-411B-9A5B-3F785C04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C3C-39DD-473C-84A4-24F8109D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436-3108-4127-AEDC-40F33A65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5E5-0C04-43F7-9997-C408B9F4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AC5-4C2F-4762-9A03-4EAD82D1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946-0565-448B-A080-BABC2474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E24-9517-44DF-AD14-1C9274F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F19-5161-44DB-BF0D-9DA743E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87E-B452-41BC-8D7D-DC2A064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1E56-8183-4109-AB03-6DA3A644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50" t="745" r="0" b="0"/>
          <a:stretch/>
        </p:blipFill>
        <p:spPr>
          <a:xfrm>
            <a:off x="533520" y="596880"/>
            <a:ext cx="8146800" cy="5708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886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940" t="951" r="0" b="0"/>
          <a:stretch/>
        </p:blipFill>
        <p:spPr>
          <a:xfrm>
            <a:off x="515880" y="569880"/>
            <a:ext cx="8191440" cy="577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1143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i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766" t="1528" r="0" b="0"/>
          <a:stretch/>
        </p:blipFill>
        <p:spPr>
          <a:xfrm>
            <a:off x="501480" y="609480"/>
            <a:ext cx="8205840" cy="57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38280" y="13716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0" t="984" r="0" b="0"/>
          <a:stretch/>
        </p:blipFill>
        <p:spPr>
          <a:xfrm>
            <a:off x="515880" y="577800"/>
            <a:ext cx="819144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26668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Zeb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766" t="741" r="0" b="0"/>
          <a:stretch/>
        </p:blipFill>
        <p:spPr>
          <a:xfrm>
            <a:off x="501480" y="582480"/>
            <a:ext cx="8205840" cy="573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2590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n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766" t="988" r="0" b="0"/>
          <a:stretch/>
        </p:blipFill>
        <p:spPr>
          <a:xfrm>
            <a:off x="501480" y="590400"/>
            <a:ext cx="8205840" cy="573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927" t="662" r="0" b="0"/>
          <a:stretch/>
        </p:blipFill>
        <p:spPr>
          <a:xfrm>
            <a:off x="533520" y="585720"/>
            <a:ext cx="81532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9144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697" t="0" r="0" b="0"/>
          <a:stretch/>
        </p:blipFill>
        <p:spPr>
          <a:xfrm>
            <a:off x="520560" y="533520"/>
            <a:ext cx="8159760" cy="579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angaro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600" t="738" r="0" b="875"/>
          <a:stretch/>
        </p:blipFill>
        <p:spPr>
          <a:xfrm>
            <a:off x="512640" y="569880"/>
            <a:ext cx="8167680" cy="571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438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154" t="848" r="0" b="0"/>
          <a:stretch/>
        </p:blipFill>
        <p:spPr>
          <a:xfrm>
            <a:off x="533520" y="569880"/>
            <a:ext cx="8173800" cy="576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2362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olph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1" t="738" r="0" b="1420"/>
          <a:stretch/>
        </p:blipFill>
        <p:spPr>
          <a:xfrm>
            <a:off x="527040" y="569880"/>
            <a:ext cx="8153280" cy="567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e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850" t="738" r="0" b="738"/>
          <a:stretch/>
        </p:blipFill>
        <p:spPr>
          <a:xfrm>
            <a:off x="533520" y="569880"/>
            <a:ext cx="8146800" cy="571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2362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a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66" t="736" r="0" b="0"/>
          <a:stretch/>
        </p:blipFill>
        <p:spPr>
          <a:xfrm>
            <a:off x="501480" y="563400"/>
            <a:ext cx="8205840" cy="577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22860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940" t="979" r="0" b="0"/>
          <a:stretch/>
        </p:blipFill>
        <p:spPr>
          <a:xfrm>
            <a:off x="515880" y="565200"/>
            <a:ext cx="8191440" cy="578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2590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iraf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22" t="988" r="0" b="0"/>
          <a:stretch/>
        </p:blipFill>
        <p:spPr>
          <a:xfrm>
            <a:off x="473040" y="590400"/>
            <a:ext cx="8234280" cy="573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22860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nk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850" t="600" r="0" b="1553"/>
          <a:stretch/>
        </p:blipFill>
        <p:spPr>
          <a:xfrm>
            <a:off x="533520" y="555480"/>
            <a:ext cx="8146800" cy="569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5181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0:30:18Z</dcterms:created>
  <dc:creator>User</dc:creator>
  <dc:description/>
  <dc:language>en-US</dc:language>
  <cp:lastModifiedBy>a</cp:lastModifiedBy>
  <dcterms:modified xsi:type="dcterms:W3CDTF">2006-09-18T03:43:45Z</dcterms:modified>
  <cp:revision>3</cp:revision>
  <dc:subject/>
  <dc:title>Slide 1</dc:title>
</cp:coreProperties>
</file>