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42C-7DB0-4DEC-9CD3-237749C5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A89-746B-4EE5-BC1E-9FB6C21C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A80-9F59-4DF4-A8CA-2B51D97B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65F-E9E4-4F81-AE10-756BBE72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2FF-9F89-498F-A9DF-3BE073D8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A22-0453-43A7-8E8C-6856B6CA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F6B-894B-46CE-954F-296897C6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2C8-51A0-4A68-9549-7C9A7B98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7C6-6101-42BE-AEA4-54B7BE0B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361-805F-47CC-BA2C-63D81E7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846-6C12-4338-8E37-2767AB5D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568-7274-481D-A69F-512209F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83A5-8298-446C-AB18-9EC58A4FB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632448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606" b="0"/>
          <a:stretch/>
        </p:blipFill>
        <p:spPr>
          <a:xfrm>
            <a:off x="504720" y="573120"/>
            <a:ext cx="808524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9360" y="584280"/>
            <a:ext cx="8043840" cy="568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05720" y="24382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689" b="0"/>
          <a:stretch/>
        </p:blipFill>
        <p:spPr>
          <a:xfrm>
            <a:off x="549360" y="590400"/>
            <a:ext cx="7988040" cy="5670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1143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685" b="0"/>
          <a:stretch/>
        </p:blipFill>
        <p:spPr>
          <a:xfrm>
            <a:off x="527040" y="579600"/>
            <a:ext cx="8032680" cy="5692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12952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689" b="0"/>
          <a:stretch/>
        </p:blipFill>
        <p:spPr>
          <a:xfrm>
            <a:off x="549360" y="579600"/>
            <a:ext cx="7988040" cy="5692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1219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8" b="0"/>
          <a:stretch/>
        </p:blipFill>
        <p:spPr>
          <a:xfrm>
            <a:off x="549360" y="584280"/>
            <a:ext cx="7974000" cy="5681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12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b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708" b="0"/>
          <a:stretch/>
        </p:blipFill>
        <p:spPr>
          <a:xfrm>
            <a:off x="527040" y="573120"/>
            <a:ext cx="8031240" cy="5703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35053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n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9360" y="590400"/>
            <a:ext cx="8045280" cy="567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4876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9360" y="590400"/>
            <a:ext cx="8043840" cy="5670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7220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9360" y="579600"/>
            <a:ext cx="8045280" cy="569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66680" y="46483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9360" y="579600"/>
            <a:ext cx="8043840" cy="5692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19920" y="1752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9360" y="608040"/>
            <a:ext cx="8043840" cy="563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44956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645" b="0"/>
          <a:stretch/>
        </p:blipFill>
        <p:spPr>
          <a:xfrm>
            <a:off x="527040" y="573120"/>
            <a:ext cx="8035920" cy="5703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9072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9360" y="601560"/>
            <a:ext cx="8043840" cy="5648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05720" y="1143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4720" y="608040"/>
            <a:ext cx="8134560" cy="563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44197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680" y="568440"/>
            <a:ext cx="799920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086600" y="40384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689" b="0"/>
          <a:stretch/>
        </p:blipFill>
        <p:spPr>
          <a:xfrm>
            <a:off x="549360" y="584280"/>
            <a:ext cx="7988040" cy="5681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34320" y="5105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9360" y="584280"/>
            <a:ext cx="8043840" cy="5681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1520" y="3733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689" b="0"/>
          <a:stretch/>
        </p:blipFill>
        <p:spPr>
          <a:xfrm>
            <a:off x="549360" y="584280"/>
            <a:ext cx="7988040" cy="5681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27432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863" b="0"/>
          <a:stretch/>
        </p:blipFill>
        <p:spPr>
          <a:xfrm>
            <a:off x="527040" y="579600"/>
            <a:ext cx="8018640" cy="569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44956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4:36Z</dcterms:created>
  <dc:creator>User</dc:creator>
  <dc:description/>
  <dc:language>en-US</dc:language>
  <cp:lastModifiedBy>a</cp:lastModifiedBy>
  <dcterms:modified xsi:type="dcterms:W3CDTF">2006-11-17T12:28:21Z</dcterms:modified>
  <cp:revision>11</cp:revision>
  <dc:subject/>
  <dc:title>Slide 1</dc:title>
</cp:coreProperties>
</file>