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2BF-B3A6-40CF-A3B9-D2689FCC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0D4-8637-4C4E-ADE5-C0CDF8AF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AE2-D767-4EB3-9483-CCFAE49A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F94-F4DB-4609-83C2-9DA9876B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3AD-F902-45DC-9EE8-2FFDC6CD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088-2160-46D2-A1E6-5311AD5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7E1-E976-4517-8648-6CE7147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98D-5798-462C-87EC-FC5672F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FB5-E8EE-4DF4-A1E1-91158830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09F-E540-4F89-8D1F-1510B10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314-6540-45E7-9692-15950B3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7CA-C71B-41A7-9C0F-E6D58F4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3FA0-A7DA-4A7C-812B-5B969F8DC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632448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606" b="0"/>
          <a:stretch/>
        </p:blipFill>
        <p:spPr>
          <a:xfrm>
            <a:off x="504720" y="573120"/>
            <a:ext cx="80852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90400"/>
            <a:ext cx="7988040" cy="567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685" b="0"/>
          <a:stretch/>
        </p:blipFill>
        <p:spPr>
          <a:xfrm>
            <a:off x="527040" y="579600"/>
            <a:ext cx="8032680" cy="569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79600"/>
            <a:ext cx="7988040" cy="569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8" b="0"/>
          <a:stretch/>
        </p:blipFill>
        <p:spPr>
          <a:xfrm>
            <a:off x="549360" y="584280"/>
            <a:ext cx="7974000" cy="568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708" b="0"/>
          <a:stretch/>
        </p:blipFill>
        <p:spPr>
          <a:xfrm>
            <a:off x="527040" y="573120"/>
            <a:ext cx="8031240" cy="5703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5280" cy="567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3840" cy="567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5280" cy="569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3840" cy="569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9360" y="608040"/>
            <a:ext cx="8043840" cy="563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645" b="0"/>
          <a:stretch/>
        </p:blipFill>
        <p:spPr>
          <a:xfrm>
            <a:off x="527040" y="573120"/>
            <a:ext cx="8035920" cy="5703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9360" y="601560"/>
            <a:ext cx="8043840" cy="564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720" y="608040"/>
            <a:ext cx="8134560" cy="563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568440"/>
            <a:ext cx="79992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863" b="0"/>
          <a:stretch/>
        </p:blipFill>
        <p:spPr>
          <a:xfrm>
            <a:off x="527040" y="579600"/>
            <a:ext cx="8018640" cy="569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a</cp:lastModifiedBy>
  <dcterms:modified xsi:type="dcterms:W3CDTF">2006-11-17T12:28:21Z</dcterms:modified>
  <cp:revision>11</cp:revision>
  <dc:subject/>
  <dc:title>Slide 1</dc:title>
</cp:coreProperties>
</file>