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247-B074-499C-A41A-9EE0CF9A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818-9A58-4302-AAE7-89FE1AE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44E-AD8A-4074-9A19-BBF077F6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4FD-E891-4F4B-8B1D-7F9FE3A9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57F-27E2-4324-9A9F-31D1E4A1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403-906C-47FB-899C-DE822013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BA9-0F1C-473C-92A8-544D6D0C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8A0-B179-4364-8D15-588244ED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9CB-C5DA-4624-B945-300192E0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29B-76A5-4BD3-8272-C7E6C69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33E-5332-4200-9092-00BA8AD5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0A9-DD77-408D-BCF5-D40D814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3661-B809-42CE-9A49-168D0AA7E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01" b="0"/>
          <a:stretch/>
        </p:blipFill>
        <p:spPr>
          <a:xfrm>
            <a:off x="411120" y="509760"/>
            <a:ext cx="8253360" cy="58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2880" y="64008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28480"/>
            <a:ext cx="8210520" cy="5034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56386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791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t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28480"/>
            <a:ext cx="8210520" cy="5110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5867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034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5715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cil Sharp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808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43200" y="52578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11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5791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lack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952" b="0"/>
          <a:stretch/>
        </p:blipFill>
        <p:spPr>
          <a:xfrm>
            <a:off x="411120" y="528480"/>
            <a:ext cx="8240760" cy="5110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5791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1030" b="0"/>
          <a:stretch/>
        </p:blipFill>
        <p:spPr>
          <a:xfrm>
            <a:off x="411120" y="528480"/>
            <a:ext cx="8234280" cy="5034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57913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952" b="0"/>
          <a:stretch/>
        </p:blipFill>
        <p:spPr>
          <a:xfrm>
            <a:off x="411120" y="509760"/>
            <a:ext cx="8240760" cy="5205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59436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9760"/>
            <a:ext cx="8210520" cy="512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7913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9760"/>
            <a:ext cx="8210520" cy="5205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5867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18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5867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ra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28480"/>
            <a:ext cx="8223120" cy="511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57150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432" b="0"/>
          <a:stretch/>
        </p:blipFill>
        <p:spPr>
          <a:xfrm>
            <a:off x="380880" y="533520"/>
            <a:ext cx="8201160" cy="510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5867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28480"/>
            <a:ext cx="8199360" cy="511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57834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28480"/>
            <a:ext cx="8210520" cy="5110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57913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cis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3:21:51Z</dcterms:created>
  <dc:creator>User</dc:creator>
  <dc:description/>
  <dc:language>en-US</dc:language>
  <cp:lastModifiedBy>a</cp:lastModifiedBy>
  <dcterms:modified xsi:type="dcterms:W3CDTF">2006-09-12T13:00:21Z</dcterms:modified>
  <cp:revision>4</cp:revision>
  <dc:subject/>
  <dc:title>Slide 1</dc:title>
</cp:coreProperties>
</file>