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0E7-C56C-4D01-8D0C-D8A2E809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790-01F7-4DF9-8C68-0222C812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0D8-6A9C-4F16-B1BC-BD6ED8E3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18A-C248-4313-BC32-47E8A09A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B3E-4A8D-43CF-B21B-451EEB31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2E0-06C7-474B-B3BC-A636F95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0A4-F976-410E-93BF-DFE24F57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6C6-D3D5-4F05-ADD7-A6BD0A6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2E2-9D9C-4A3F-957F-9DA6316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C94-859F-4260-ACA7-FEDBBF1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465-65C9-4448-8A1F-EECA609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B80-D9D6-4FBA-8F47-703BCEE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4E6-9B74-476E-8A3A-3FDBA9F4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01" b="0"/>
          <a:stretch/>
        </p:blipFill>
        <p:spPr>
          <a:xfrm>
            <a:off x="411120" y="509760"/>
            <a:ext cx="825336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8480"/>
            <a:ext cx="8210520" cy="503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56386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8480"/>
            <a:ext cx="8210520" cy="511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034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5715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cil Sharp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80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43200" y="52578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11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ack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952" b="0"/>
          <a:stretch/>
        </p:blipFill>
        <p:spPr>
          <a:xfrm>
            <a:off x="411120" y="528480"/>
            <a:ext cx="8240760" cy="511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28480"/>
            <a:ext cx="8234280" cy="5034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57913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952" b="0"/>
          <a:stretch/>
        </p:blipFill>
        <p:spPr>
          <a:xfrm>
            <a:off x="411120" y="509760"/>
            <a:ext cx="8240760" cy="5205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59436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9760"/>
            <a:ext cx="8210520" cy="512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7913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9760"/>
            <a:ext cx="8210520" cy="520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867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18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ra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11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5715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432" b="0"/>
          <a:stretch/>
        </p:blipFill>
        <p:spPr>
          <a:xfrm>
            <a:off x="380880" y="533520"/>
            <a:ext cx="8201160" cy="510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28480"/>
            <a:ext cx="8199360" cy="511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7834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8480"/>
            <a:ext cx="8210520" cy="511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7913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ci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3:21:51Z</dcterms:created>
  <dc:creator>User</dc:creator>
  <dc:description/>
  <dc:language>en-US</dc:language>
  <cp:lastModifiedBy>a</cp:lastModifiedBy>
  <dcterms:modified xsi:type="dcterms:W3CDTF">2006-09-12T13:00:21Z</dcterms:modified>
  <cp:revision>4</cp:revision>
  <dc:subject/>
  <dc:title>Slide 1</dc:title>
</cp:coreProperties>
</file>