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C32-3D59-4C7D-AF21-32FB7DDA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4BA-3DF4-4159-BB54-BD8A85C1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D1A-DCF0-4AC7-B8A4-51ADCE5E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6D2-A8BD-48F4-8053-A474921A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E9C-BC45-4E9B-9006-2200B716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2ED-1129-47C3-8D7C-F991E690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A4D-D1FC-40F2-915D-696649B7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EE6-5BFD-43C8-9E4E-D4DEC5CA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02F-A334-4816-8160-98B2AF6C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43A-722A-4248-A077-D331F542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C5F-53C9-46C6-A7B1-0B3B9C1B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940-16A5-4403-892D-B911AC0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3190-2065-4D67-8FA6-CA8F13F4B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976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64771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91440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33526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4191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nd-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4419720"/>
            <a:ext cx="26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nd- 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133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55627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ndfather and grand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362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5791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 and Daug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1108" b="0"/>
          <a:stretch/>
        </p:blipFill>
        <p:spPr>
          <a:xfrm>
            <a:off x="411120" y="504720"/>
            <a:ext cx="8228160" cy="5846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76920" y="99072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 and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914400"/>
            <a:ext cx="266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 and Daug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91440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 and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1281" b="0"/>
          <a:stretch/>
        </p:blipFill>
        <p:spPr>
          <a:xfrm>
            <a:off x="411120" y="504720"/>
            <a:ext cx="8213760" cy="584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2880" y="8380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030" b="0"/>
          <a:stretch/>
        </p:blipFill>
        <p:spPr>
          <a:xfrm>
            <a:off x="411120" y="504720"/>
            <a:ext cx="8234280" cy="58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3505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1371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209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ug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203" b="0"/>
          <a:stretch/>
        </p:blipFill>
        <p:spPr>
          <a:xfrm>
            <a:off x="411120" y="504720"/>
            <a:ext cx="822024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4724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r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9144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54" b="0"/>
          <a:stretch/>
        </p:blipFill>
        <p:spPr>
          <a:xfrm>
            <a:off x="411120" y="504720"/>
            <a:ext cx="820728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7621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rother and S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4:41:07Z</dcterms:created>
  <dc:creator>User</dc:creator>
  <dc:description/>
  <dc:language>en-US</dc:language>
  <cp:lastModifiedBy>a</cp:lastModifiedBy>
  <dcterms:modified xsi:type="dcterms:W3CDTF">2006-09-12T21:54:05Z</dcterms:modified>
  <cp:revision>4</cp:revision>
  <dc:subject/>
  <dc:title>Slide 1</dc:title>
</cp:coreProperties>
</file>