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751-8CC7-4C85-A1A5-A6E97A55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D72-FFAB-43A5-BD77-BA841D7D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1E5-4138-4F16-9A7F-18F68E8A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EBE-7D85-4E7A-925E-A8BB9660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0C8-8E08-40E5-9DBA-52DE9038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8AD-54DB-4C71-966E-6EAA074E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CA6-2451-4BF3-A5DF-B45AB9D1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62C-AB2A-4C44-AC13-5C17B558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6BB-B93D-4167-8F15-6D7D21B0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21B-DD16-43ED-8FA9-289461A2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2A7-C0F9-411A-AA65-72C6B51F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AEE-7B66-41D7-9F78-490C9C20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030C-8D6A-4BF2-899F-E23FD8884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976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86400" y="64771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91440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33526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4191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rand-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5280" y="4419720"/>
            <a:ext cx="26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rand- f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133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55627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randfather and grand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362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5791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 and Daug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1108" b="0"/>
          <a:stretch/>
        </p:blipFill>
        <p:spPr>
          <a:xfrm>
            <a:off x="411120" y="504720"/>
            <a:ext cx="8228160" cy="5846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876920" y="99072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 and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914400"/>
            <a:ext cx="266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 and Daug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91440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 and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1281" b="0"/>
          <a:stretch/>
        </p:blipFill>
        <p:spPr>
          <a:xfrm>
            <a:off x="411120" y="504720"/>
            <a:ext cx="8213760" cy="5846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2880" y="8380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030" b="0"/>
          <a:stretch/>
        </p:blipFill>
        <p:spPr>
          <a:xfrm>
            <a:off x="411120" y="504720"/>
            <a:ext cx="8234280" cy="58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3505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13716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2209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ug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2743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203" b="0"/>
          <a:stretch/>
        </p:blipFill>
        <p:spPr>
          <a:xfrm>
            <a:off x="411120" y="504720"/>
            <a:ext cx="822024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47242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r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9144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354" b="0"/>
          <a:stretch/>
        </p:blipFill>
        <p:spPr>
          <a:xfrm>
            <a:off x="411120" y="504720"/>
            <a:ext cx="820728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0720" y="7621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rother and S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4:41:07Z</dcterms:created>
  <dc:creator>User</dc:creator>
  <dc:description/>
  <dc:language>en-US</dc:language>
  <cp:lastModifiedBy>a</cp:lastModifiedBy>
  <dcterms:modified xsi:type="dcterms:W3CDTF">2006-09-12T21:54:05Z</dcterms:modified>
  <cp:revision>4</cp:revision>
  <dc:subject/>
  <dc:title>Slide 1</dc:title>
</cp:coreProperties>
</file>