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11D8-B870-4519-B473-5964009D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B03E-7C1D-456A-B36E-2439953E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D001-EF94-4EF2-A519-4BDAEE8A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2478-8AF9-471F-AB27-A12D4502C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8C43-FCFE-4EC8-A445-38544DC3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50F3-F39A-4AE3-93C7-7C964880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79AF-E66C-47DD-922A-05BE4DAD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DC80-850F-4D7D-8BFB-CDC8ADE0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A25D-5AA9-4315-9852-4D58222B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BFD9-A426-4124-AD52-CDB5BD10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0BC-8EAF-405C-A1BF-03345736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68A1-908C-4B54-A006-D2B3CE02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0D47-454B-4F52-84EC-92747B65D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991" b="0"/>
          <a:stretch/>
        </p:blipFill>
        <p:spPr>
          <a:xfrm>
            <a:off x="411120" y="509760"/>
            <a:ext cx="8237520" cy="5846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63244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opyright © 2005 – 2006 MES-Englis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1471" b="0"/>
          <a:stretch/>
        </p:blipFill>
        <p:spPr>
          <a:xfrm>
            <a:off x="411120" y="504720"/>
            <a:ext cx="8197920" cy="5846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38080" y="441972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i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1203" b="0"/>
          <a:stretch/>
        </p:blipFill>
        <p:spPr>
          <a:xfrm>
            <a:off x="411120" y="504720"/>
            <a:ext cx="8220240" cy="5846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715000" y="12193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lee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1281" b="0"/>
          <a:stretch/>
        </p:blipFill>
        <p:spPr>
          <a:xfrm>
            <a:off x="411120" y="504720"/>
            <a:ext cx="8213760" cy="5846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66680" y="449568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38080" y="457200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14400" y="34290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11120" y="504720"/>
            <a:ext cx="8319960" cy="5846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198108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ng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14400" y="41911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1432" b="0"/>
          <a:stretch/>
        </p:blipFill>
        <p:spPr>
          <a:xfrm>
            <a:off x="411120" y="504720"/>
            <a:ext cx="8201160" cy="5846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66680" y="320040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1471" b="0"/>
          <a:stretch/>
        </p:blipFill>
        <p:spPr>
          <a:xfrm>
            <a:off x="411120" y="504720"/>
            <a:ext cx="8197920" cy="5846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6680" y="243828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1471" b="0"/>
          <a:stretch/>
        </p:blipFill>
        <p:spPr>
          <a:xfrm>
            <a:off x="411120" y="504720"/>
            <a:ext cx="8197920" cy="5846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43000" y="259092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1471" b="0"/>
          <a:stretch/>
        </p:blipFill>
        <p:spPr>
          <a:xfrm>
            <a:off x="411120" y="504720"/>
            <a:ext cx="8197920" cy="5846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15000" y="137160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ung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43000" y="502920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ir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4:54:34Z</dcterms:created>
  <dc:creator>User</dc:creator>
  <dc:description/>
  <dc:language>en-US</dc:language>
  <cp:lastModifiedBy>a</cp:lastModifiedBy>
  <dcterms:modified xsi:type="dcterms:W3CDTF">2006-09-12T21:51:37Z</dcterms:modified>
  <cp:revision>4</cp:revision>
  <dc:subject/>
  <dc:title>Slide 1</dc:title>
</cp:coreProperties>
</file>