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D9B-B28D-4CBC-9E56-A0344A88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AB-2523-443C-8DA5-4758F9D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878-3323-4402-8C15-28D68AF9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0FC-68D5-4226-8D6B-A15A651F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940-B889-40A9-820F-299E3655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4E-F006-4AE9-A2FD-8FD82892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D36-86E6-4B04-952A-A5F64CCD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C22-DADB-4078-921A-BADFE47F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21C-EA82-439F-BD2D-8557A50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0F7-97B1-4D24-B244-79044BA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CBB-B866-4264-8B87-E05A73B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468-B745-411A-A45C-0D016FF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EDBE-3C7F-4E8F-84E5-39DC60D1F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991" b="0"/>
          <a:stretch/>
        </p:blipFill>
        <p:spPr>
          <a:xfrm>
            <a:off x="411120" y="509760"/>
            <a:ext cx="823752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63244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44197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203" b="0"/>
          <a:stretch/>
        </p:blipFill>
        <p:spPr>
          <a:xfrm>
            <a:off x="411120" y="504720"/>
            <a:ext cx="822024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5000" y="1219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lee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281" b="0"/>
          <a:stretch/>
        </p:blipFill>
        <p:spPr>
          <a:xfrm>
            <a:off x="411120" y="504720"/>
            <a:ext cx="821376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572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3429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1120" y="504720"/>
            <a:ext cx="831996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9810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g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41911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432" b="0"/>
          <a:stretch/>
        </p:blipFill>
        <p:spPr>
          <a:xfrm>
            <a:off x="411120" y="504720"/>
            <a:ext cx="82011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32004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4382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15000" y="13716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ung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5029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ir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54:34Z</dcterms:created>
  <dc:creator>User</dc:creator>
  <dc:description/>
  <dc:language>en-US</dc:language>
  <cp:lastModifiedBy>a</cp:lastModifiedBy>
  <dcterms:modified xsi:type="dcterms:W3CDTF">2006-09-12T21:51:37Z</dcterms:modified>
  <cp:revision>4</cp:revision>
  <dc:subject/>
  <dc:title>Slide 1</dc:title>
</cp:coreProperties>
</file>