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13D0-987E-4F66-8531-505672D5B3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ак и у других сумчатых, бесшерстный и слепой коаленок рождается чрезвычайно крохотным. Весит он не более 5 грамм, а длина его тела всего 1,5 см. Сразу же после рождения коаленок переползает в сумку матери — пауче, «снабженную» двумя сосками. С 5—6 месяцев коаленок начинает выбираться из сумки и, переселяясь на спину родительницы, проводит там большую часть времени. В дождливую и холодную погоду детеныш вжимается в теплую шерсть матери, а она, крепко обнимая его передними лапами, согревает на своей груди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Эта своеобразная дикая, а точнее сказать, вторично одичавшая собака - единственный хищник в туземной фауне Австралии. Охотится он на кенгуру, домашних овец и другую дич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Он очень мил, этот тупорылый, коротконогий, бесхвостый, покрытый густой шерстью зверь – не то медвежонок, не то кабаненок – нет, ни то, ни другое – просто вомбат. Вомбат готов с вами подружиться и будет следовать за вами, как собака, особенно под вечер: днем он любит подремать. Он даже готов поспать у вас на коленях, если вы ему это позволите, но для этого его надо поднять, а сделать такое сможет не каждый - в 4 года он имеет массу 22 кг, в 15 лет - 40 кг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Это добродушные сумчатые толстяки, длиной до 1 м. Они любят тепло. Питаются исключительно растительной пищей, главным образом травой, которую взрослые зверьки специально разыскивают и приносят детенышам. Едят также корни, молодую кору и даже гриб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омбат - моногам. В случае опасности мать защищает единственного детеныша. Обыкновенный вомбат может жить до 15 лет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ссумы – это небольшие, размером с кошку, австралийские животные. Их довольно часто путают с опоссумами, которые живут в Америке. Отличие очевидно: австралийские опоссумы - это сумчатые животные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ак и большинство австралийского зверья, поссумы ведут ночной образ жизни, увидеть их при солнечном свете почти нереально. Зато ночью их можно запросто встретить во многих городских парках и просто в садах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Некоторые даже заявляют, что поссум - это самый вредный австралийский зверь: по ночам он иногда мешает спать - сопит, шумит, устраивает гнезда под крышами домов и гадит на крыши запаркованных на улице машин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бавно, что за поссумами часто гоняются кошки, причем кошки ведут себя так, как собаки, гоняющее самих кошек. Кошка с грозным фырчаньем гонится за огрызающимся поссумом, который залезает на дерево, после чего звери начинают орать друг на друга - на радость жильцам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вое имя тасманийский дьявол получил за крайне злобный и неуживчивый- даже по отношению со своими сородичам -характер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 нее тонкий слух, но плохое зр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итается муравьями, термитами и ночными насекомыми, а иногда и другими мелкими животными (дождевыми червями и т. п.). Она разоряет муравейники, сдвигает камни, толкая их лапами, даже довольно тяжелые, под которыми скрываются черви и насекомые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траус Эму-вторая по величине птица в мире. У них длинная шея и очень длинные, тонкие ноги. Они могут очень быстро бегать(до 50 км/ч) и могут даже плавать. Это очень любопытное животное. Едят траву, насекомых, плоды и семена. Страусы Эму откладывают тёмно-зелёные яйца (от 5 до 20 яиц), гнездо построено из травы и сорняков на земле, достигает 1м шириной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траусы Эму бегают быстрее лошади, а удар их ноги не слабее удара лошадиного копыта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Родина черных лебедей – Автсралия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Отдыхая, крокодил часто открывает пасть, чтобы дать отдохнуть и своим челюстям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рокодил может прыгать из воды на 2х метровую высоту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ердце крокодила признано самым сложным сердцем на планете (5 камер), его мозг размером всего лишь с грецкий орех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 свою жизнь крокодил может поменять свои 60 зубов до сотни раз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рокодил может совсем ничего не есть целый год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 Австралии крокодилы живут только на теплом севере. Самыми большими и опасными являются породы, живущие в морской воде. В основном, они обитают в реках, которые наполняются морской водой при приливе. Соленоводные крокодилы выплывают в океан в поисках новых рек, чтобы расширить сферу обитания. Так что, если повезет, можно встретить крокодила, загорающего на морском пляже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Акул в австралийских водах много, особенно у Сиднея. Поэтому многие пляжи ограждены металлическими противоакульими сетями, через которые, правда, акулы порой прорываются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ораллы очень яркие и красочные, и на этом фоне серые рыбы очень заметны, поэтому обитатели коралловых рифов имеют, как правило, очень яркую расцветку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Необыкновенное животное. Медлительное и быстрое, доверчивое и боязливое, смирное и… могущее стать опасным…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Есть такая легенда о происхождении имени этого животного: когда европейцы спросили аборигенов, что это за диковинное животное, ответом было слово «кангару», что отнюдь не являлось названием прыгающего существа, а всего лишь выражением непонимания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Есть около 50 видов кенгуру, самые большие – серые и рыжие (ростом 2 метра), а самые маленькие -размером с небольшого кролика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орды у кенгуру длинные, глаза большие, печальные, как у потерявшего мать теленка. Наверно, поэтому австралийцы называют их очень ласково – просто «ру»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енгуру ведут в основном ночной образ жизни, а днем мирно спят где-нибудь под кустом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енгуру – прыгуны, об этом знают все, но не все знают, что они вполне могут претендовать на звание чемпионов по прыжкам в длину и в высоту. Им ничего не стоит перемахнуть через трехметровую изгородь или устроить состязание в беге, участники которого без видимых усилий, удерживая равновесие с помощью тяжелых хвостов, как бы летят над землей, лишь отталкиваясь от нее задними ногами (большой кенгуру может прыгнуть 12 метров в длину!)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 легендах аборигенов говорится, что некогда кенгуру передвигались на четырех ногах, как все животные. Но, столкнувшись с человеком, который охотился на них и, с легкостью догоняя, убивал своим копьем, они решили, что две ноги, пожалуй, лучше, чем четыре. С тех пор, отталкиваясь от земли двумя задними ногами, кенгуру без труда уходят от опасности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вижутся кенгуру очень быстро, в случае опасности – со средней скоростью автомобиля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алыш-кенгуренок появляется на свет величиной с крупную фасолину и, повинуясь инстинкту, ползет в сумку ( у него еще нет даже задних ног). В сумке он растет (не по дням, не  по часам, а по минутам), увеличиваясь за шесть месяцев в две тысячи раз, и только тогда отваживается на первый выход в «открытый космос»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сле этого «джои», так называют австралийцы детенышей кенгуру, еще месяца два не расстается с матерью, отдыхая в ее сумке, продолжая питаться молоком (при этом он все больше дополняет свой рацион травой) и ловко запрыгивая в сумку, когда ему кажется, что ему что-то угрожает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мешно видеть торчащие из сумки длинные ноги уже давно переросшего ясельный возраст «джои», который, испугавшись, ныряет в нее вниз головой. Еще более забавно зрелище «двухголового» кенгуру: опущенная голова пощипывающей травку молодой мамы и высовывающаяся из ее сумки голова малыша, занятого тем же важным делом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Клюв позволяет утконосу ориентироваться под водой, когда его глаза и уши закрыты.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Утконос ведет  ночной образ жизни. Большую часть времени они кормятся на дне своего пруда. При желании могут довольно проворно двигаться и по земле.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По берегам водоема утконосы роют глубокие норы с двумя длинными узкими коридорами, ведущими под воду. Утконос всегда роет себе очень узкие норы, для того чтобы по пути в «спальню» отжимать лишнюю влагу с шерсти. Если же зверек останется мокрым, тогда он может простудиться и даже умереть.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Самое невероятное заключается в том, что это млекопитающее и теплокровное животное откладывает яйца.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Самка откладывает 1-3 яйца в мягкой белой скорлупе и высиживает их. Причем все время высиживания она остается в своей норе, которую предварительно старательно замуровывает, и только нестерпимый голод может заставить ее ненадолго покинуть гнездо. Когда детеныши вылупляются из яиц, мать кормит их молоком, которое выделяется из особых расширенных пор и стекает по ее шерсти, малыши же не сосут, а слизывают вкусные капли.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лово «коала» в переводе с языка аборигенов означает «не испытывающий жажды»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ругое название коалы – сумчатый медведь (Phascolarctos cinereus)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оалы — сумеречные животные. В полусонном состоянии они проводят по 18 часов ежедневно, прячась в кронах эвкалиптов от посторонних глаз. Ночью же они оживляются и отправляются на добычу корма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оала очень чувствительные животные: если они нервничают, то очень быстро теряют вес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оалы живут на эвкалиптовых деревьях. Пахучие листья и молодые побеги эвкалиптов являются главным источником питания коалы, а влага, содержащаяся в них, позволяет коалам неделями и даже месяцами обходиться без воды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Ежедневно коала перебирает около 10 кг листьев, выбирая не более 0,5 кг для еды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Объев все молодые листья и побеги на каком-то одном дереве, коала спускается на землю, но только для того, чтобы перебраться на другое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A6D9-ABCC-42DB-8B57-E32B731B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64BA-E289-4AFD-92A1-B1D63E8B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2BA2-1532-422E-940F-6DB78547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EA1C-3D2A-46D7-9FAB-7A35DFE2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7C63-807E-496C-BD8C-3257955C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9C86-CB95-4F9F-8CFC-7E9376FD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7CD-394A-44A1-A0C8-07A0EA42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C79-6949-4E79-96B8-26E8F67D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8973-5F60-44EC-B9EE-15611C46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64A-1B3F-4746-B02C-9E98D405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ECE-0E65-4213-B32B-75CDDAA1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579-B196-4373-ACAD-815B0814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0F19-D566-4A38-A0FC-91B6722FFE09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Ж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О</a:t>
            </a: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Т</a:t>
            </a:r>
            <a:r>
              <a:rPr b="1" lang="ru-RU" sz="5400" spc="-1" strike="noStrike">
                <a:solidFill>
                  <a:srgbClr val="00cc00"/>
                </a:solidFill>
                <a:latin typeface="Arial"/>
              </a:rPr>
              <a:t>НЫ</a:t>
            </a: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МА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К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Ё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М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Ы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92440" y="1268280"/>
            <a:ext cx="356544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С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А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К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ДИ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Н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ГО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484020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ВО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А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1809" t="2683" r="1809" b="2683"/>
          <a:stretch/>
        </p:blipFill>
        <p:spPr>
          <a:xfrm>
            <a:off x="755640" y="1484280"/>
            <a:ext cx="7635960" cy="50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СУ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33812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ТА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М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Й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КИ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Й 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Д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ВО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1394" t="2382" r="1394" b="2382"/>
          <a:stretch/>
        </p:blipFill>
        <p:spPr>
          <a:xfrm>
            <a:off x="755640" y="2060640"/>
            <a:ext cx="7705800" cy="44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И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Д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Н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1509840"/>
            <a:ext cx="813744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5414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Т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У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Э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МУ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3332160" cy="4537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549360"/>
            <a:ext cx="2735280" cy="19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ПО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ПУ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А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2601" t="2458" r="2601" b="2458"/>
          <a:stretch/>
        </p:blipFill>
        <p:spPr>
          <a:xfrm>
            <a:off x="1908000" y="1125360"/>
            <a:ext cx="5046840" cy="535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Ё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Р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НЫ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Й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БЕ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ДЬ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519" t="2256" r="1519" b="2256"/>
          <a:stretch/>
        </p:blipFill>
        <p:spPr>
          <a:xfrm>
            <a:off x="826920" y="1341360"/>
            <a:ext cx="7632720" cy="50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РО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К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71640" y="1620720"/>
            <a:ext cx="7200720" cy="483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-то остроумно назвал Австралию «чердаком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а», подразумевая место, где хранится всякое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ье. И сказано это было вовсе не в обиду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стралийцам. Ведь прежде всего речь идет о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уне Пятого континента, поскольку таких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ивительных и древнейших существ, как кенгуру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утконос, — невозможно встретить больше нигде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ире. Заметим, впрочем, что на этом «чердаке»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итает еще более 150 видов сумчатых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екопитающих, в их числе — сумчатые мыши,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ки и даже медведи. Хотя миллионы лет назад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были распространены повсеместно и даже в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пе. Но позднее сухопутный мост между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стралией и Юго-Восточной Азией разрушился и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шел под воду, оставив на поверхности лишь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почку островов, именуемых ныне Индонезией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ЛА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Я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У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Л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26920" y="1569960"/>
            <a:ext cx="7274160" cy="47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К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Л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ЛО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ВЫ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РЫ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Б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КИ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008160" cy="4691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492360" y="2637000"/>
            <a:ext cx="4962600" cy="32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КЕ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ГУ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У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3065" t="3780" r="3065" b="3780"/>
          <a:stretch/>
        </p:blipFill>
        <p:spPr>
          <a:xfrm>
            <a:off x="826920" y="1628640"/>
            <a:ext cx="73011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КЕ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ГУ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У 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П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Ы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ГА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2025" t="2825" r="2025" b="2825"/>
          <a:stretch/>
        </p:blipFill>
        <p:spPr>
          <a:xfrm>
            <a:off x="755640" y="1049400"/>
            <a:ext cx="7416720" cy="52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МА 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КЕ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ГУ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У И </a:t>
            </a: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Ё 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М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Ы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355284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У</a:t>
            </a: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Т</a:t>
            </a:r>
            <a:r>
              <a:rPr b="1" lang="ru-RU" sz="5400" spc="-1" strike="noStrike">
                <a:solidFill>
                  <a:srgbClr val="00cc00"/>
                </a:solidFill>
                <a:latin typeface="Arial"/>
              </a:rPr>
              <a:t>КО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809" t="2608" r="1809" b="2608"/>
          <a:stretch/>
        </p:blipFill>
        <p:spPr>
          <a:xfrm>
            <a:off x="971640" y="1484280"/>
            <a:ext cx="7356240" cy="50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К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Л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244" t="1701" r="2244" b="1701"/>
          <a:stretch/>
        </p:blipFill>
        <p:spPr>
          <a:xfrm>
            <a:off x="2556000" y="1197000"/>
            <a:ext cx="4014720" cy="53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К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ЛА 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К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Е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С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шута</cp:lastModifiedBy>
  <dcterms:modified xsi:type="dcterms:W3CDTF">2004-02-02T12:34:41Z</dcterms:modified>
  <cp:revision>33</cp:revision>
  <dc:subject/>
  <dc:title>PowerPoint Presentation</dc:title>
</cp:coreProperties>
</file>