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21BB-FA4F-40F5-A8A8-7FF3A20FAE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ак и у других сумчатых, бесшерстный и слепой коаленок рождается чрезвычайно крохотным. Весит он не более 5 грамм, а длина его тела всего 1,5 см. Сразу же после рождения коаленок переползает в сумку матери — пауче, «снабженную» двумя сосками. С 5—6 месяцев коаленок начинает выбираться из сумки и, переселяясь на спину родительницы, проводит там большую часть времени. В дождливую и холодную погоду детеныш вжимается в теплую шерсть матери, а она, крепко обнимая его передними лапами, согревает на своей груди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Эта своеобразная дикая, а точнее сказать, вторично одичавшая собака - единственный хищник в туземной фауне Австралии. Охотится он на кенгуру, домашних овец и другую дич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н очень мил, этот тупорылый, коротконогий, бесхвостый, покрытый густой шерстью зверь – не то медвежонок, не то кабаненок – нет, ни то, ни другое – просто вомбат. Вомбат готов с вами подружиться и будет следовать за вами, как собака, особенно под вечер: днем он любит подремать. Он даже готов поспать у вас на коленях, если вы ему это позволите, но для этого его надо поднять, а сделать такое сможет не каждый - в 4 года он имеет массу 22 кг, в 15 лет - 40 кг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Это добродушные сумчатые толстяки, длиной до 1 м. Они любят тепло. Питаются исключительно растительной пищей, главным образом травой, которую взрослые зверьки специально разыскивают и приносят детенышам. Едят также корни, молодую кору и даже гри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омбат - моногам. В случае опасности мать защищает единственного детеныша. Обыкновенный вомбат может жить до 15 лет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ссумы – это небольшие, размером с кошку, австралийские животные. Их довольно часто путают с опоссумами, которые живут в Америке. Отличие очевидно: австралийские опоссумы - это сумчатые животные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ак и большинство австралийского зверья, поссумы ведут ночной образ жизни, увидеть их при солнечном свете почти нереально. Зато ночью их можно запросто встретить во многих городских парках и просто в садах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которые даже заявляют, что поссум - это самый вредный австралийский зверь: по ночам он иногда мешает спать - сопит, шумит, устраивает гнезда под крышами домов и гадит на крыши запаркованных на улице маши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бавно, что за поссумами часто гоняются кошки, причем кошки ведут себя так, как собаки, гоняющее самих кошек. Кошка с грозным фырчаньем гонится за огрызающимся поссумом, который залезает на дерево, после чего звери начинают орать друг на друга - на радость жильцам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вое имя тасманийский дьявол получил за крайне злобный и неуживчивый- даже по отношению со своими сородичам -характер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 нее тонкий слух, но плохое зр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итается муравьями, термитами и ночными насекомыми, а иногда и другими мелкими животными (дождевыми червями и т. п.). Она разоряет муравейники, сдвигает камни, толкая их лапами, даже довольно тяжелые, под которыми скрываются черви и насекомые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раус Эму-вторая по величине птица в мире. У них длинная шея и очень длинные, тонкие ноги. Они могут очень быстро бегать(до 50 км/ч) и могут даже плавать. Это очень любопытное животное. Едят траву, насекомых, плоды и семена. Страусы Эму откладывают тёмно-зелёные яйца (от 5 до 20 яиц), гнездо построено из травы и сорняков на земле, достигает 1м шириной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раусы Эму бегают быстрее лошади, а удар их ноги не слабее удара лошадиного копыта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одина черных лебедей – Автсралия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тдыхая, крокодил часто открывает пасть, чтобы дать отдохнуть и своим челюстя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рокодил может прыгать из воды на 2х метровую высоту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ердце крокодила признано самым сложным сердцем на планете (5 камер), его мозг размером всего лишь с грецкий орех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 свою жизнь крокодил может поменять свои 60 зубов до сотни раз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рокодил может совсем ничего не есть целый год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 Австралии крокодилы живут только на теплом севере. Самыми большими и опасными являются породы, живущие в морской воде. В основном, они обитают в реках, которые наполняются морской водой при приливе. Соленоводные крокодилы выплывают в океан в поисках новых рек, чтобы расширить сферу обитания. Так что, если повезет, можно встретить крокодила, загорающего на морском пляже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кул в австралийских водах много, особенно у Сиднея. Поэтому многие пляжи ограждены металлическими противоакульими сетями, через которые, правда, акулы порой прорываются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раллы очень яркие и красочные, и на этом фоне серые рыбы очень заметны, поэтому обитатели коралловых рифов имеют, как правило, очень яркую расцветку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обыкновенное животное. Медлительное и быстрое, доверчивое и боязливое, смирное и… могущее стать опасным…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Есть такая легенда о происхождении имени этого животного: когда европейцы спросили аборигенов, что это за диковинное животное, ответом было слово «кангару», что отнюдь не являлось названием прыгающего существа, а всего лишь выражением непонимания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Есть около 50 видов кенгуру, самые большие – серые и рыжие (ростом 2 метра), а самые маленькие -размером с небольшого кролика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рды у кенгуру длинные, глаза большие, печальные, как у потерявшего мать теленка. Наверно, поэтому австралийцы называют их очень ласково – просто «ру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нгуру ведут в основном ночной образ жизни, а днем мирно спят где-нибудь под кусто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нгуру – прыгуны, об этом знают все, но не все знают, что они вполне могут претендовать на звание чемпионов по прыжкам в длину и в высоту. Им ничего не стоит перемахнуть через трехметровую изгородь или устроить состязание в беге, участники которого без видимых усилий, удерживая равновесие с помощью тяжелых хвостов, как бы летят над землей, лишь отталкиваясь от нее задними ногами (большой кенгуру может прыгнуть 12 метров в длину!)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 легендах аборигенов говорится, что некогда кенгуру передвигались на четырех ногах, как все животные. Но, столкнувшись с человеком, который охотился на них и, с легкостью догоняя, убивал своим копьем, они решили, что две ноги, пожалуй, лучше, чем четыре. С тех пор, отталкиваясь от земли двумя задними ногами, кенгуру без труда уходят от опасности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вижутся кенгуру очень быстро, в случае опасности – со средней скоростью автомобиля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лыш-кенгуренок появляется на свет величиной с крупную фасолину и, повинуясь инстинкту, ползет в сумку ( у него еще нет даже задних ног). В сумке он растет (не по дням, не  по часам, а по минутам), увеличиваясь за шесть месяцев в две тысячи раз, и только тогда отваживается на первый выход в «открытый космос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сле этого «джои», так называют австралийцы детенышей кенгуру, еще месяца два не расстается с матерью, отдыхая в ее сумке, продолжая питаться молоком (при этом он все больше дополняет свой рацион травой) и ловко запрыгивая в сумку, когда ему кажется, что ему что-то угрожает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мешно видеть торчащие из сумки длинные ноги уже давно переросшего ясельный возраст «джои», который, испугавшись, ныряет в нее вниз головой. Еще более забавно зрелище «двухголового» кенгуру: опущенная голова пощипывающей травку молодой мамы и высовывающаяся из ее сумки голова малыша, занятого тем же важным дело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Клюв позволяет утконосу ориентироваться под водой, когда его глаза и уши закрыты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Утконос ведет  ночной образ жизни. Большую часть времени они кормятся на дне своего пруда. При желании могут довольно проворно двигаться и по земле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По берегам водоема утконосы роют глубокие норы с двумя длинными узкими коридорами, ведущими под воду. Утконос всегда роет себе очень узкие норы, для того чтобы по пути в «спальню» отжимать лишнюю влагу с шерсти. Если же зверек останется мокрым, тогда он может простудиться и даже умереть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Самое невероятное заключается в том, что это млекопитающее и теплокровное животное откладывает яйца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Самка откладывает 1-3 яйца в мягкой белой скорлупе и высиживает их. Причем все время высиживания она остается в своей норе, которую предварительно старательно замуровывает, и только нестерпимый голод может заставить ее ненадолго покинуть гнездо. Когда детеныши вылупляются из яиц, мать кормит их молоком, которое выделяется из особых расширенных пор и стекает по ее шерсти, малыши же не сосут, а слизывают вкусные капли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лово «коала» в переводе с языка аборигенов означает «не испытывающий жажды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ругое название коалы – сумчатый медведь (Phascolarctos cinereus)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алы — сумеречные животные. В полусонном состоянии они проводят по 18 часов ежедневно, прячась в кронах эвкалиптов от посторонних глаз. Ночью же они оживляются и отправляются на добычу корма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ала очень чувствительные животные: если они нервничают, то очень быстро теряют вес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алы живут на эвкалиптовых деревьях. Пахучие листья и молодые побеги эвкалиптов являются главным источником питания коалы, а влага, содержащаяся в них, позволяет коалам неделями и даже месяцами обходиться без воды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Ежедневно коала перебирает около 10 кг листьев, выбирая не более 0,5 кг для еды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бъев все молодые листья и побеги на каком-то одном дереве, коала спускается на землю, но только для того, чтобы перебраться на другое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AFD-6D88-479F-8A56-79C3C80C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44D6-63D8-4F35-B5B5-94726E80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073-26D2-408F-83F6-BA3F09BC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6CA-FC1C-4AD0-BCDD-CF42182E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D23-9BA0-4EDC-9040-7DE672AB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CD5-9B4F-4BD4-9728-F2701878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CB2-C301-4208-A677-4E62B9A8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B1E-4CD7-4AEF-ACA8-AAEE6D27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55B-B4FA-46FC-8340-2BF1380D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A12-F767-4866-ACA6-380DACE2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2DF-79CE-4EB3-91B5-665D40DC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9B1-C5F6-494E-BCAE-30C49B85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A7DC-11FC-4E05-ACA6-BFBD908C3C6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Ж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НЫ</a:t>
            </a: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МА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Ы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92440" y="1268280"/>
            <a:ext cx="35654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И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8402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О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809" t="2683" r="1809" b="2683"/>
          <a:stretch/>
        </p:blipFill>
        <p:spPr>
          <a:xfrm>
            <a:off x="755640" y="1484280"/>
            <a:ext cx="763596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У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33812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А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М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Й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КИ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Й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ВО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394" t="2382" r="1394" b="2382"/>
          <a:stretch/>
        </p:blipFill>
        <p:spPr>
          <a:xfrm>
            <a:off x="755640" y="2060640"/>
            <a:ext cx="7705800" cy="44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И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Н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509840"/>
            <a:ext cx="813744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5414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У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Э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МУ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3332160" cy="453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549360"/>
            <a:ext cx="273528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601" t="2458" r="2601" b="2458"/>
          <a:stretch/>
        </p:blipFill>
        <p:spPr>
          <a:xfrm>
            <a:off x="1908000" y="1125360"/>
            <a:ext cx="5046840" cy="53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Ё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Ы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Й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Б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519" t="2256" r="1519" b="2256"/>
          <a:stretch/>
        </p:blipFill>
        <p:spPr>
          <a:xfrm>
            <a:off x="826920" y="1341360"/>
            <a:ext cx="763272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РО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К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71640" y="1620720"/>
            <a:ext cx="7200720" cy="48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-то остроумно назвал Австралию «чердаком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а», подразумевая место, где хранится всяко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ье. И сказано это было вовсе не в обид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тралийцам. Ведь прежде всего речь идет о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уне Пятого континента, поскольку таких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ых и древнейших существ, как кенгур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утконос, — невозможно встретить больше нигд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ире. Заметим, впрочем, что на этом «чердаке»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тает еще более 150 видов сумчатых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екопитающих, в их числе — сумчатые мыши,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ки и даже медведи. Хотя миллионы лет назад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были распространены повсеместно и даже 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. Но позднее сухопутный мост межд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тралией и Юго-Восточной Азией разрушился 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ел под воду, оставив на поверхности лишь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очку островов, именуемых ныне Индонезией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6920" y="1569960"/>
            <a:ext cx="727416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Л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Л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Ы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Ы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К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08160" cy="469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492360" y="2637000"/>
            <a:ext cx="496260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Г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065" t="3780" r="3065" b="3780"/>
          <a:stretch/>
        </p:blipFill>
        <p:spPr>
          <a:xfrm>
            <a:off x="826920" y="1628640"/>
            <a:ext cx="73011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Г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 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А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025" t="2825" r="2025" b="2825"/>
          <a:stretch/>
        </p:blipFill>
        <p:spPr>
          <a:xfrm>
            <a:off x="755640" y="1049400"/>
            <a:ext cx="741672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МА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 И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М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Ы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55284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У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КО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809" t="2608" r="1809" b="2608"/>
          <a:stretch/>
        </p:blipFill>
        <p:spPr>
          <a:xfrm>
            <a:off x="971640" y="1484280"/>
            <a:ext cx="735624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Л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244" t="1701" r="2244" b="1701"/>
          <a:stretch/>
        </p:blipFill>
        <p:spPr>
          <a:xfrm>
            <a:off x="2556000" y="1197000"/>
            <a:ext cx="4014720" cy="53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ЛА 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шута</cp:lastModifiedBy>
  <dcterms:modified xsi:type="dcterms:W3CDTF">2004-02-02T12:34:41Z</dcterms:modified>
  <cp:revision>33</cp:revision>
  <dc:subject/>
  <dc:title>PowerPoint Presentation</dc:title>
</cp:coreProperties>
</file>