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7.jpeg" ContentType="image/jpeg"/>
  <Override PartName="/ppt/media/image10.jpeg" ContentType="image/jpeg"/>
  <Override PartName="/ppt/media/image6.gif" ContentType="image/gif"/>
  <Override PartName="/ppt/media/image9.png" ContentType="image/png"/>
  <Override PartName="/ppt/media/image5.gif" ContentType="image/gif"/>
  <Override PartName="/ppt/media/image11.jpeg" ContentType="image/jpeg"/>
  <Override PartName="/ppt/media/image24.gif" ContentType="image/gif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.jpeg" ContentType="image/jpeg"/>
  <Override PartName="/ppt/media/image22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9AC-8A11-47E4-B051-D05FA153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95B-3E09-4B73-B090-0E39E2DF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2409-659B-4462-B4BC-447226A6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E4FD-C617-4996-894F-17262E69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9B36-BC4D-44AF-B48D-A0B874D5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F97F-A7B3-4F43-ACC5-8C99B18F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D0C8-6585-4187-9B62-3CCA233E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A9F0-97F0-4FB4-9CCB-9B611E6C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0D55-29F4-4C22-AAE3-CB8EA14B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3747600"/>
            <a:ext cx="91425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86D4-9F0D-48B3-B958-9ECA05CE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C8B6-8F28-4B00-A50D-4CDA7848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DF73-C44D-4597-B3D5-2B97AE76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3F7E-0D00-4B6F-A1CC-DBA22055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21B9-69F5-44FB-9A32-BF11E73D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4BD2-2DB3-4222-B3E1-449B598B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EBBF-3A74-498D-B22E-691FF1D9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59A6-9F9C-4C47-AC35-3E1CF546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21CC-535B-424B-A911-4FEA25BF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84C0-FCC6-4097-A45F-B62A0FCA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7FE5-426C-45CC-893D-8CFED9F6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3747600"/>
            <a:ext cx="91425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E52-4F67-4024-826C-5A778F63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EB1-E562-43FA-B92B-750264AF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BF8-631B-45FF-9FC5-B887F988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918E-0F13-49A5-9AB3-87DC10EF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-329040"/>
            <a:ext cx="7466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5675"/>
                </a:solidFill>
                <a:latin typeface="Eras Bold ITC"/>
              </a:rPr>
              <a:t>Click to edit the title text format</a:t>
            </a: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60948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61080"/>
            <a:ext cx="213192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689520"/>
            <a:ext cx="28940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228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FF6C86-E8E7-4109-B535-9021F10947E0}" type="slidenum">
              <a:rPr b="1" lang="ru-RU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-277920" y="914400"/>
            <a:ext cx="2716200" cy="563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747600"/>
            <a:ext cx="9142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5675"/>
                </a:solidFill>
                <a:latin typeface="Eras Bold ITC"/>
              </a:rPr>
              <a:t>Click to edit the title text format</a:t>
            </a: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89520"/>
            <a:ext cx="2131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3720" y="6689520"/>
            <a:ext cx="28940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228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E3DC80-252F-44F9-B61E-2A47CB9F9A4F}" type="slidenum">
              <a:rPr b="0" lang="ru-RU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884760"/>
            <a:ext cx="91440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2323dc"/>
                </a:solidFill>
                <a:latin typeface="Eras Bold ITC"/>
              </a:rPr>
              <a:t>Рабство в Древнем Риме</a:t>
            </a:r>
            <a:endParaRPr b="0" lang="en-US" sz="5400" spc="-1" strike="noStrike">
              <a:solidFill>
                <a:srgbClr val="335675"/>
              </a:solidFill>
              <a:latin typeface="Eras Bold ITC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898720" y="228600"/>
            <a:ext cx="3425760" cy="373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3276720" y="5181480"/>
            <a:ext cx="251460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22160" y="785880"/>
            <a:ext cx="77076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ahoma"/>
              </a:rPr>
              <a:t>Гладиаторы- сильные и ловкие рабы, специально обученные для  битвы  в амфитеатрах. </a:t>
            </a:r>
            <a:endParaRPr b="1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21" name="Рисунок 4" descr="57145_tribune_spartak_i_gladiator.jpg"/>
          <p:cNvPicPr/>
          <p:nvPr/>
        </p:nvPicPr>
        <p:blipFill>
          <a:blip r:embed="rId1"/>
          <a:stretch/>
        </p:blipFill>
        <p:spPr>
          <a:xfrm>
            <a:off x="928800" y="2428920"/>
            <a:ext cx="6572160" cy="4071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"/>
          <p:cNvPicPr/>
          <p:nvPr/>
        </p:nvPicPr>
        <p:blipFill>
          <a:blip r:embed="rId2"/>
          <a:stretch/>
        </p:blipFill>
        <p:spPr>
          <a:xfrm>
            <a:off x="7572240" y="642960"/>
            <a:ext cx="1571760" cy="1704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3840" y="6143760"/>
            <a:ext cx="864396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5675"/>
                </a:solidFill>
                <a:latin typeface="Eras Bold ITC"/>
              </a:rPr>
              <a:t>КОЛИЗЕЙ – САМЫЙ БОЛЬШОЙ АМФИТЕАТР ДРЕВНЕГО РИМА.</a:t>
            </a:r>
            <a:endParaRPr b="0" lang="en-US" sz="20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22160" y="356760"/>
            <a:ext cx="81360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22228b"/>
                </a:solidFill>
                <a:latin typeface="Tahoma"/>
              </a:rPr>
              <a:t>Амфитеатр-  специальное сооружение для зрелищ, гладиаторских игр, в котором места располагались вокруг арены.</a:t>
            </a:r>
            <a:endParaRPr b="1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25" name="Рисунок 3" descr="2.jpg"/>
          <p:cNvPicPr/>
          <p:nvPr/>
        </p:nvPicPr>
        <p:blipFill>
          <a:blip r:embed="rId1"/>
          <a:stretch/>
        </p:blipFill>
        <p:spPr>
          <a:xfrm>
            <a:off x="285840" y="2000160"/>
            <a:ext cx="457200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new7wonder03.jpg"/>
          <p:cNvPicPr/>
          <p:nvPr/>
        </p:nvPicPr>
        <p:blipFill>
          <a:blip r:embed="rId2"/>
          <a:stretch/>
        </p:blipFill>
        <p:spPr>
          <a:xfrm>
            <a:off x="4857840" y="2000160"/>
            <a:ext cx="414324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500076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УДЬБУ ПОБЕЖДЁННОГО РЕШАЛИ ЗРИТЕЛИ.</a:t>
            </a:r>
            <a:br>
              <a:rPr sz="2000"/>
            </a:b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ЕСЛИ ЗРИТЕЛИ ПОДНИМАЛИ КВЕРХУ БОЛЬШОЙ ПАЛЕЦ, РАНЕНОМУ СОХРАНЯЛАСЬ ЖИЗНЬ.</a:t>
            </a:r>
            <a:br>
              <a:rPr sz="2000"/>
            </a:b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ЕСЛИ ОПУСКАЛИ ПАЛЕЦ ВНИЗ - ДОБИВАЛИ ПОБЕЖДЁННОГО.</a:t>
            </a:r>
            <a:br>
              <a:rPr sz="2400"/>
            </a:br>
            <a:br>
              <a:rPr sz="4000"/>
            </a:br>
            <a:endParaRPr b="0" lang="en-US" sz="20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1800" y="357120"/>
            <a:ext cx="82076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4d4d4d"/>
                </a:solidFill>
                <a:latin typeface="Tahoma"/>
              </a:rPr>
              <a:t>Гладиаторы бились до полной победы. Раненый и обессиленный боец бросал оружие  и поднимал левую руку, моля о пощаде.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29" name="Рисунок 4" descr="0016-005-V-Rimskom-amfiteatre.jpg"/>
          <p:cNvPicPr/>
          <p:nvPr/>
        </p:nvPicPr>
        <p:blipFill>
          <a:blip r:embed="rId2"/>
          <a:stretch/>
        </p:blipFill>
        <p:spPr>
          <a:xfrm>
            <a:off x="1071720" y="1857240"/>
            <a:ext cx="657216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2923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640000"/>
                </a:solidFill>
                <a:latin typeface="Eras Bold ITC"/>
              </a:rPr>
              <a:t>ФРАГМЕНТ ИЗ «СПАРТАК»</a:t>
            </a:r>
            <a:br>
              <a:rPr sz="4800"/>
            </a:br>
            <a:endParaRPr b="0" lang="en-US" sz="4800" spc="-1" strike="noStrike">
              <a:solidFill>
                <a:srgbClr val="335675"/>
              </a:solidFill>
              <a:latin typeface="Eras Bold IT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5600" y="3500280"/>
            <a:ext cx="67086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22228b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22228b"/>
                </a:solidFill>
                <a:latin typeface="Arial"/>
                <a:ea typeface="Arial"/>
              </a:rPr>
              <a:t>К ЧЕМУ  ТАКОЕ ПОЛОЖЕНИЕ МОГЛО ПРИВЕСТИ?</a:t>
            </a:r>
            <a:endParaRPr b="0" lang="en-US" sz="40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28840" y="499680"/>
            <a:ext cx="750096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d0d0d"/>
                </a:solidFill>
                <a:latin typeface="Tahoma"/>
              </a:rPr>
              <a:t>Подумайте и объясните римскую пословицу: </a:t>
            </a:r>
            <a:endParaRPr b="1" lang="en-US" sz="3200" spc="-1" strike="noStrike">
              <a:solidFill>
                <a:srgbClr val="4d4d4d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ahoma"/>
              </a:rPr>
              <a:t>«Сколько рабов, столько врагов».</a:t>
            </a:r>
            <a:endParaRPr b="1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0" y="1571760"/>
            <a:ext cx="2357280" cy="5143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"/>
          <p:cNvPicPr/>
          <p:nvPr/>
        </p:nvPicPr>
        <p:blipFill>
          <a:blip r:embed="rId2"/>
          <a:stretch/>
        </p:blipFill>
        <p:spPr>
          <a:xfrm>
            <a:off x="7039080" y="5181480"/>
            <a:ext cx="210492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2160" y="549000"/>
            <a:ext cx="77724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Eras Bold ITC"/>
              </a:rPr>
              <a:t>СЕГОДНЯ  НА  УРОКЕ   Я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16165d"/>
                </a:solidFill>
                <a:latin typeface="Eras Bold ITC"/>
              </a:rPr>
              <a:t>- УЗНАЛ(А)…</a:t>
            </a:r>
            <a:br>
              <a:rPr sz="4000"/>
            </a:br>
            <a:r>
              <a:rPr b="1" lang="ru-RU" sz="4000" spc="-1" strike="noStrike">
                <a:solidFill>
                  <a:srgbClr val="16165d"/>
                </a:solidFill>
                <a:latin typeface="Eras Bold ITC"/>
              </a:rPr>
              <a:t>- ВЫЯСНИЛ(А)…</a:t>
            </a:r>
            <a:br>
              <a:rPr sz="4000"/>
            </a:br>
            <a:r>
              <a:rPr b="1" lang="ru-RU" sz="4000" spc="-1" strike="noStrike">
                <a:solidFill>
                  <a:srgbClr val="16165d"/>
                </a:solidFill>
                <a:latin typeface="Eras Bold ITC"/>
              </a:rPr>
              <a:t>- ПОНЯЛ(А)…</a:t>
            </a:r>
            <a:br>
              <a:rPr sz="4000"/>
            </a:br>
            <a:endParaRPr b="0" lang="en-US" sz="40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777240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262699"/>
                </a:solidFill>
                <a:latin typeface="Tahoma"/>
              </a:rPr>
              <a:t>Домашнее задание:</a:t>
            </a:r>
            <a:endParaRPr b="1" lang="en-US" sz="3600" spc="-1" strike="noStrike">
              <a:solidFill>
                <a:srgbClr val="4d4d4d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4d4d4d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262699"/>
                </a:solidFill>
                <a:latin typeface="Tahoma"/>
              </a:rPr>
              <a:t>Прочитать § 49.</a:t>
            </a:r>
            <a:endParaRPr b="1" lang="en-US" sz="3600" spc="-1" strike="noStrike">
              <a:solidFill>
                <a:srgbClr val="4d4d4d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262699"/>
                </a:solidFill>
                <a:latin typeface="Tahoma"/>
              </a:rPr>
              <a:t>Индивидуальные карточки</a:t>
            </a:r>
            <a:endParaRPr b="1" lang="en-US" sz="36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285840"/>
            <a:ext cx="7467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335675"/>
                </a:solidFill>
                <a:latin typeface="Arial"/>
                <a:ea typeface="Arial"/>
              </a:rPr>
              <a:t>        </a:t>
            </a:r>
            <a:r>
              <a:rPr b="1" lang="ru-RU" sz="4800" spc="-1" strike="noStrike">
                <a:solidFill>
                  <a:srgbClr val="335675"/>
                </a:solidFill>
                <a:latin typeface="Arial"/>
                <a:ea typeface="Arial"/>
              </a:rPr>
              <a:t>План  урока</a:t>
            </a:r>
            <a:endParaRPr b="0" lang="en-US" sz="4800" spc="-1" strike="noStrike">
              <a:solidFill>
                <a:srgbClr val="335675"/>
              </a:solidFill>
              <a:latin typeface="Eras Bold ITC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7269120" y="4419720"/>
            <a:ext cx="1874880" cy="2438280"/>
          </a:xfrm>
          <a:prstGeom prst="rect">
            <a:avLst/>
          </a:prstGeom>
          <a:ln w="0">
            <a:noFill/>
          </a:ln>
        </p:spPr>
      </p:pic>
      <p:sp>
        <p:nvSpPr>
          <p:cNvPr id="88" name="Вертикальный свиток 8"/>
          <p:cNvSpPr/>
          <p:nvPr/>
        </p:nvSpPr>
        <p:spPr>
          <a:xfrm>
            <a:off x="2214720" y="1571760"/>
            <a:ext cx="5072040" cy="4929120"/>
          </a:xfrm>
          <a:prstGeom prst="verticalScroll">
            <a:avLst>
              <a:gd name="adj" fmla="val 125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чники раб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ы в име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ы в богатом до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ладиаторские игры – любимое зрелище  римля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2228b"/>
                </a:solidFill>
                <a:latin typeface="Arial"/>
                <a:ea typeface="Arial"/>
              </a:rPr>
              <a:t>Вспомните, какие источники рабства вы знаете?</a:t>
            </a: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535788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Tahoma"/>
              </a:rPr>
              <a:t>Подумайте какой источник рабства был главным в Древнем Риме? Почему?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cxnSp>
        <p:nvCxnSpPr>
          <p:cNvPr id="91" name="Прямая со стрелкой 6"/>
          <p:cNvCxnSpPr/>
          <p:nvPr/>
        </p:nvCxnSpPr>
        <p:spPr>
          <a:xfrm flipH="1">
            <a:off x="1356840" y="2143080"/>
            <a:ext cx="100080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Прямоугольник 7"/>
          <p:cNvSpPr/>
          <p:nvPr/>
        </p:nvSpPr>
        <p:spPr>
          <a:xfrm>
            <a:off x="357120" y="3244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ство за дол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" name="Прямая со стрелкой 9"/>
          <p:cNvCxnSpPr/>
          <p:nvPr/>
        </p:nvCxnSpPr>
        <p:spPr>
          <a:xfrm flipH="1">
            <a:off x="3642480" y="1999800"/>
            <a:ext cx="7236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Прямоугольник 10"/>
          <p:cNvSpPr/>
          <p:nvPr/>
        </p:nvSpPr>
        <p:spPr>
          <a:xfrm>
            <a:off x="2786040" y="28576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и рабы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Прямая со стрелкой 12"/>
          <p:cNvCxnSpPr/>
          <p:nvPr/>
        </p:nvCxnSpPr>
        <p:spPr>
          <a:xfrm flipH="1">
            <a:off x="4714560" y="2000160"/>
            <a:ext cx="72000" cy="157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Прямоугольник 13"/>
          <p:cNvSpPr/>
          <p:nvPr/>
        </p:nvSpPr>
        <p:spPr>
          <a:xfrm>
            <a:off x="3714840" y="3643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павшие в плен к пират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7" name="Прямая со стрелкой 15"/>
          <p:cNvCxnSpPr/>
          <p:nvPr/>
        </p:nvCxnSpPr>
        <p:spPr>
          <a:xfrm>
            <a:off x="5428080" y="1928880"/>
            <a:ext cx="71532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Прямоугольник 16"/>
          <p:cNvSpPr/>
          <p:nvPr/>
        </p:nvSpPr>
        <p:spPr>
          <a:xfrm>
            <a:off x="5500800" y="29289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еннопл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" name="Прямая со стрелкой 18"/>
          <p:cNvCxnSpPr/>
          <p:nvPr/>
        </p:nvCxnSpPr>
        <p:spPr>
          <a:xfrm>
            <a:off x="6072120" y="1714320"/>
            <a:ext cx="12153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Прямоугольник 19"/>
          <p:cNvSpPr/>
          <p:nvPr/>
        </p:nvSpPr>
        <p:spPr>
          <a:xfrm>
            <a:off x="6858000" y="228600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приговору с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4" descr="C:\Documents and Settings\Ufall\Рабочий стол\разработка\Новая папка\marching%20soldier.gif"/>
          <p:cNvPicPr/>
          <p:nvPr/>
        </p:nvPicPr>
        <p:blipFill>
          <a:blip r:embed="rId2"/>
          <a:stretch/>
        </p:blipFill>
        <p:spPr>
          <a:xfrm>
            <a:off x="7715160" y="3571920"/>
            <a:ext cx="111456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2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Eras Bold ITC"/>
              </a:rPr>
              <a:t>Раб</a:t>
            </a:r>
            <a:r>
              <a:rPr b="1" lang="ru-RU" sz="3600" spc="-1" strike="noStrike">
                <a:solidFill>
                  <a:srgbClr val="c00000"/>
                </a:solidFill>
                <a:latin typeface="Eras Bold ITC"/>
              </a:rPr>
              <a:t> </a:t>
            </a:r>
            <a:r>
              <a:rPr b="1" lang="ru-RU" sz="3600" spc="-1" strike="noStrike">
                <a:solidFill>
                  <a:srgbClr val="262626"/>
                </a:solidFill>
                <a:latin typeface="Eras Bold ITC"/>
              </a:rPr>
              <a:t>–это человек, лишенный всех прав и являющийся полной собственностью владельца.</a:t>
            </a:r>
            <a:br>
              <a:rPr sz="3600"/>
            </a:br>
            <a:r>
              <a:rPr b="1" lang="ru-RU" sz="3600" spc="-1" strike="noStrike" u="sng">
                <a:solidFill>
                  <a:srgbClr val="c00000"/>
                </a:solidFill>
                <a:uFillTx/>
                <a:latin typeface="Eras Bold ITC"/>
              </a:rPr>
              <a:t>Рабовладелец</a:t>
            </a:r>
            <a:r>
              <a:rPr b="1" lang="ru-RU" sz="3600" spc="-1" strike="noStrike">
                <a:solidFill>
                  <a:srgbClr val="c00000"/>
                </a:solidFill>
                <a:latin typeface="Eras Bold ITC"/>
              </a:rPr>
              <a:t> </a:t>
            </a:r>
            <a:r>
              <a:rPr b="1" lang="ru-RU" sz="3600" spc="-1" strike="noStrike">
                <a:solidFill>
                  <a:srgbClr val="0d0d0d"/>
                </a:solidFill>
                <a:latin typeface="Eras Bold ITC"/>
              </a:rPr>
              <a:t>– это хозяин рабов.</a:t>
            </a:r>
            <a:br>
              <a:rPr sz="3600"/>
            </a:br>
            <a:endParaRPr b="0" lang="en-US" sz="3600" spc="-1" strike="noStrike">
              <a:solidFill>
                <a:srgbClr val="335675"/>
              </a:solidFill>
              <a:latin typeface="Eras Bold IT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68580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м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335675"/>
                </a:solidFill>
                <a:latin typeface="Arial"/>
                <a:ea typeface="Arial"/>
              </a:rPr>
              <a:t>– земельное владение богатого человека.</a:t>
            </a:r>
            <a:endParaRPr b="0" lang="en-US" sz="32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57240" y="4142880"/>
            <a:ext cx="714384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Tahoma"/>
              </a:rPr>
              <a:t>Хозяева  называли  рабов «говорящими орудиями»</a:t>
            </a:r>
            <a:endParaRPr b="1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4d4d4d"/>
                </a:solidFill>
                <a:latin typeface="Tahoma"/>
              </a:rPr>
              <a:t>Подумайте, о чём говорит это  название?          </a:t>
            </a:r>
            <a:endParaRPr b="1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Tahoma"/>
              </a:rPr>
              <a:t>                </a:t>
            </a:r>
            <a:endParaRPr b="1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Tahoma"/>
              </a:rPr>
              <a:t>              </a:t>
            </a:r>
            <a:r>
              <a:rPr b="1" lang="ru-RU" sz="1800" spc="-1" strike="noStrike">
                <a:solidFill>
                  <a:srgbClr val="4d4d4d"/>
                </a:solidFill>
                <a:latin typeface="Tahoma"/>
              </a:rPr>
              <a:t>Чем занимались рабы в имении?</a:t>
            </a:r>
            <a:endParaRPr b="1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Tahoma"/>
              </a:rPr>
              <a:t>Выращивали оливки,              Плели корзины, верёвки.</a:t>
            </a:r>
            <a:endParaRPr b="1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Tahoma"/>
              </a:rPr>
              <a:t>        </a:t>
            </a:r>
            <a:r>
              <a:rPr b="1" lang="ru-RU" sz="1800" spc="-1" strike="noStrike">
                <a:solidFill>
                  <a:srgbClr val="4d4d4d"/>
                </a:solidFill>
                <a:latin typeface="Tahoma"/>
              </a:rPr>
              <a:t>виноград</a:t>
            </a:r>
            <a:endParaRPr b="1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05" name="Рисунок 4" descr="1173998536.jpg"/>
          <p:cNvPicPr/>
          <p:nvPr/>
        </p:nvPicPr>
        <p:blipFill>
          <a:blip r:embed="rId2"/>
          <a:stretch/>
        </p:blipFill>
        <p:spPr>
          <a:xfrm>
            <a:off x="1285920" y="1357200"/>
            <a:ext cx="4262400" cy="25005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1_____Morocco.jpg"/>
          <p:cNvPicPr/>
          <p:nvPr/>
        </p:nvPicPr>
        <p:blipFill>
          <a:blip r:embed="rId3"/>
          <a:stretch/>
        </p:blipFill>
        <p:spPr>
          <a:xfrm>
            <a:off x="5429160" y="1357200"/>
            <a:ext cx="3095640" cy="2428920"/>
          </a:xfrm>
          <a:prstGeom prst="rect">
            <a:avLst/>
          </a:prstGeom>
          <a:ln w="0">
            <a:noFill/>
          </a:ln>
        </p:spPr>
      </p:pic>
      <p:cxnSp>
        <p:nvCxnSpPr>
          <p:cNvPr id="107" name="Прямая со стрелкой 7"/>
          <p:cNvCxnSpPr/>
          <p:nvPr/>
        </p:nvCxnSpPr>
        <p:spPr>
          <a:xfrm flipH="1">
            <a:off x="3214440" y="5572080"/>
            <a:ext cx="3578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Прямая со стрелкой 9"/>
          <p:cNvCxnSpPr/>
          <p:nvPr/>
        </p:nvCxnSpPr>
        <p:spPr>
          <a:xfrm>
            <a:off x="6214680" y="5572080"/>
            <a:ext cx="4294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285840"/>
            <a:ext cx="74660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5675"/>
                </a:solidFill>
                <a:latin typeface="Arial"/>
                <a:ea typeface="Arial"/>
              </a:rPr>
              <a:t>Содержание  рабов обходилось очень дёшево</a:t>
            </a:r>
            <a:r>
              <a:rPr b="0" lang="ru-RU" sz="2400" spc="-1" strike="noStrike">
                <a:solidFill>
                  <a:srgbClr val="335675"/>
                </a:solidFill>
                <a:latin typeface="Arial"/>
                <a:ea typeface="Arial"/>
              </a:rPr>
              <a:t>: </a:t>
            </a:r>
            <a:r>
              <a:rPr b="1" lang="ru-RU" sz="2400" spc="-1" strike="noStrike">
                <a:solidFill>
                  <a:srgbClr val="335675"/>
                </a:solidFill>
                <a:latin typeface="Arial"/>
                <a:ea typeface="Arial"/>
              </a:rPr>
              <a:t>-</a:t>
            </a:r>
            <a:r>
              <a:rPr b="0" lang="ru-RU" sz="2400" spc="-1" strike="noStrike">
                <a:solidFill>
                  <a:srgbClr val="335675"/>
                </a:solidFill>
                <a:latin typeface="Arial"/>
                <a:ea typeface="Arial"/>
              </a:rPr>
              <a:t> раз в год рабам выдавали рубаху</a:t>
            </a:r>
            <a:br>
              <a:rPr sz="2400"/>
            </a:br>
            <a:r>
              <a:rPr b="1" lang="ru-RU" sz="2400" spc="-1" strike="noStrike">
                <a:solidFill>
                  <a:srgbClr val="335675"/>
                </a:solidFill>
                <a:latin typeface="Arial"/>
                <a:ea typeface="Arial"/>
              </a:rPr>
              <a:t>- </a:t>
            </a:r>
            <a:r>
              <a:rPr b="0" lang="ru-RU" sz="2400" spc="-1" strike="noStrike">
                <a:solidFill>
                  <a:srgbClr val="335675"/>
                </a:solidFill>
                <a:latin typeface="Arial"/>
                <a:ea typeface="Arial"/>
              </a:rPr>
              <a:t>раз в два года плащ и деревянные сандалии.</a:t>
            </a:r>
            <a:endParaRPr b="0" lang="en-US" sz="24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5560" y="2500200"/>
            <a:ext cx="35002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262626"/>
                </a:solidFill>
                <a:latin typeface="Arial"/>
                <a:ea typeface="Arial"/>
              </a:rPr>
              <a:t>Безнадёжно больных рабов отвозили на остров на реке Тибр, оставляя их там умирать.</a:t>
            </a:r>
            <a:endParaRPr b="1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11" name="Рисунок 7" descr="144987-i_429.jpg"/>
          <p:cNvPicPr/>
          <p:nvPr/>
        </p:nvPicPr>
        <p:blipFill>
          <a:blip r:embed="rId2"/>
          <a:stretch/>
        </p:blipFill>
        <p:spPr>
          <a:xfrm>
            <a:off x="5786280" y="1857240"/>
            <a:ext cx="3000600" cy="471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1800" y="2285640"/>
            <a:ext cx="5278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САМЫХ НЕПОСЛУШНЫХ  ОТПРАВЛЯЛИ В КАМЕНОЛОМНИ  И РУДНИКИ.</a:t>
            </a:r>
            <a:endParaRPr b="0" lang="en-US" sz="2400" spc="-1" strike="noStrike">
              <a:solidFill>
                <a:srgbClr val="335675"/>
              </a:solidFill>
              <a:latin typeface="Eras Bold IT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2160" y="428400"/>
            <a:ext cx="57787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262626"/>
                </a:solidFill>
                <a:latin typeface="Arial"/>
                <a:ea typeface="Arial"/>
              </a:rPr>
              <a:t>За малейшие провинности рабов наказывали:  пороли, держали в оковах.</a:t>
            </a:r>
            <a:endParaRPr b="1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7143840" y="1000080"/>
            <a:ext cx="2000160" cy="56437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" descr="tn.jpg"/>
          <p:cNvPicPr/>
          <p:nvPr/>
        </p:nvPicPr>
        <p:blipFill>
          <a:blip r:embed="rId2"/>
          <a:stretch/>
        </p:blipFill>
        <p:spPr>
          <a:xfrm>
            <a:off x="1143000" y="3643200"/>
            <a:ext cx="442908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13880" y="285840"/>
            <a:ext cx="592956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83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  <a:ea typeface="Arial"/>
              </a:rPr>
              <a:t>Не иметь ни одного раба считалось признаком крайней нищеты. 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  <a:ea typeface="Arial"/>
              </a:rPr>
              <a:t>В домах богатых людей рабов было очень много. 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умайте чем могли заниматься рабы в доме?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бирали помещение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отовили пищу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луживали за столом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ли, танцевали, развлекали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-врач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-библиотекарь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-секретарь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7143840" y="928800"/>
            <a:ext cx="2116080" cy="54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71680" y="428400"/>
            <a:ext cx="40003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22228b"/>
                </a:solidFill>
                <a:latin typeface="Tahoma"/>
              </a:rPr>
              <a:t>Любой раб  был бесправен, считался вещью, которой хозяин мог распорядиться, как пожелает.</a:t>
            </a:r>
            <a:endParaRPr b="1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19" name="Рисунок 3" descr="69tmjcisk2b1ag3f.jpg"/>
          <p:cNvPicPr/>
          <p:nvPr/>
        </p:nvPicPr>
        <p:blipFill>
          <a:blip r:embed="rId2"/>
          <a:stretch/>
        </p:blipFill>
        <p:spPr>
          <a:xfrm>
            <a:off x="5000760" y="1143000"/>
            <a:ext cx="385740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02:38:51Z</dcterms:created>
  <dc:creator>gheka </dc:creator>
  <dc:description/>
  <dc:language>en-US</dc:language>
  <cp:lastModifiedBy>Алеся</cp:lastModifiedBy>
  <dcterms:modified xsi:type="dcterms:W3CDTF">2016-04-02T12:49:49Z</dcterms:modified>
  <cp:revision>90</cp:revision>
  <dc:subject/>
  <dc:title>Silly Mime</dc:title>
</cp:coreProperties>
</file>