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1.jpeg" ContentType="image/jpeg"/>
  <Override PartName="/ppt/media/image24.gif" ContentType="image/gi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214-17FF-4B13-B0FE-4F64DC49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519-96FB-47D8-99E1-AA806105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95-D7BA-47D0-A825-1D4ABFE7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859-1576-407E-9E63-E4509FC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F10-AE9F-4B01-9215-2884152A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4152-C312-491C-BD7F-4E0E32B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408-358E-4FDF-A133-0007992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9DD2-8BFC-4EDE-B649-661F504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564-DF1A-4419-AE7F-A499B049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3747600"/>
            <a:ext cx="91425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0D07-526E-4701-B33A-497B6811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20D-CC64-4ABC-A7E9-184FEC0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078-E41E-48E1-B48E-9A2444E7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423D-3513-4061-A516-065A2B3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1EA-1C65-4E6E-9829-095265A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F74-853B-486B-88BF-FC8774E0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5FE-19F8-4C29-8B21-626DB0C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281-A24A-4416-8CD7-53A5ED0A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107-B4D8-4210-9892-A73382B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33A-7E4D-40D7-9C87-9DA3B6D2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7BE-9C6B-4864-8B40-DC35C23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3747600"/>
            <a:ext cx="91425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856-0900-4C44-B932-97D66C7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ADC-BD1C-42C6-AC75-72EC0D4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1DA-EE3B-496F-A9BB-86D61FD5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A51-B9C5-4427-9F1C-6198D1B1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-329040"/>
            <a:ext cx="7466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5675"/>
                </a:solidFill>
                <a:latin typeface="Eras Bold ITC"/>
              </a:rPr>
              <a:t>Click to edit the title text format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60948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61080"/>
            <a:ext cx="2131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689520"/>
            <a:ext cx="28940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228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1CB9FC-1BC2-4ECC-8FB0-7104B07EB43A}" type="slidenum">
              <a:rPr b="1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277920" y="914400"/>
            <a:ext cx="2716200" cy="563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5675"/>
                </a:solidFill>
                <a:latin typeface="Eras Bold ITC"/>
              </a:rPr>
              <a:t>Click to edit the title text format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89520"/>
            <a:ext cx="2131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689520"/>
            <a:ext cx="28940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228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D6B041-008D-4B22-BAAC-CB388BE04921}" type="slidenum">
              <a:rPr b="0" lang="ru-RU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84760"/>
            <a:ext cx="91440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2323dc"/>
                </a:solidFill>
                <a:latin typeface="Eras Bold ITC"/>
              </a:rPr>
              <a:t>Рабство в Древнем Риме</a:t>
            </a:r>
            <a:endParaRPr b="0" lang="en-US" sz="5400" spc="-1" strike="noStrike">
              <a:solidFill>
                <a:srgbClr val="335675"/>
              </a:solidFill>
              <a:latin typeface="Eras Bold ITC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898720" y="228600"/>
            <a:ext cx="342576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785880"/>
            <a:ext cx="7707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ahoma"/>
              </a:rPr>
              <a:t>Гладиаторы- сильные и ловкие рабы, специально обученные для  битвы  в амфитеатрах. 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1" name="Рисунок 4" descr="57145_tribune_spartak_i_gladiator.jpg"/>
          <p:cNvPicPr/>
          <p:nvPr/>
        </p:nvPicPr>
        <p:blipFill>
          <a:blip r:embed="rId1"/>
          <a:stretch/>
        </p:blipFill>
        <p:spPr>
          <a:xfrm>
            <a:off x="928800" y="2428920"/>
            <a:ext cx="6572160" cy="407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7572240" y="642960"/>
            <a:ext cx="1571760" cy="17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6143760"/>
            <a:ext cx="86439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5675"/>
                </a:solidFill>
                <a:latin typeface="Eras Bold ITC"/>
              </a:rPr>
              <a:t>КОЛИЗЕЙ – САМЫЙ БОЛЬШОЙ АМФИТЕАТР ДРЕВНЕГО РИМА.</a:t>
            </a:r>
            <a:endParaRPr b="0" lang="en-US" sz="2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356760"/>
            <a:ext cx="81360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22228b"/>
                </a:solidFill>
                <a:latin typeface="Tahoma"/>
              </a:rPr>
              <a:t>Амфитеатр-  специальное сооружение для зрелищ, гладиаторских игр, в котором места располагались вокруг арены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5" name="Рисунок 3" descr="2.jpg"/>
          <p:cNvPicPr/>
          <p:nvPr/>
        </p:nvPicPr>
        <p:blipFill>
          <a:blip r:embed="rId1"/>
          <a:stretch/>
        </p:blipFill>
        <p:spPr>
          <a:xfrm>
            <a:off x="285840" y="200016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new7wonder03.jpg"/>
          <p:cNvPicPr/>
          <p:nvPr/>
        </p:nvPicPr>
        <p:blipFill>
          <a:blip r:embed="rId2"/>
          <a:stretch/>
        </p:blipFill>
        <p:spPr>
          <a:xfrm>
            <a:off x="4857840" y="2000160"/>
            <a:ext cx="41432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5000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УДЬБУ ПОБЕЖДЁННОГО РЕШАЛИ ЗРИТЕЛИ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ЕСЛИ ЗРИТЕЛИ ПОДНИМАЛИ КВЕРХУ БОЛЬШОЙ ПАЛЕЦ, РАНЕНОМУ СОХРАНЯЛАСЬ ЖИЗНЬ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ЕСЛИ ОПУСКАЛИ ПАЛЕЦ ВНИЗ - ДОБИВАЛИ ПОБЕЖДЁННОГО.</a:t>
            </a:r>
            <a:br>
              <a:rPr sz="2400"/>
            </a:br>
            <a:br>
              <a:rPr sz="4000"/>
            </a:br>
            <a:endParaRPr b="0" lang="en-US" sz="2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1800" y="357120"/>
            <a:ext cx="82076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Tahoma"/>
              </a:rPr>
              <a:t>Гладиаторы бились до полной победы. Раненый и обессиленный боец бросал оружие  и поднимал левую руку, моля о пощаде.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Рисунок 4" descr="0016-005-V-Rimskom-amfiteatre.jpg"/>
          <p:cNvPicPr/>
          <p:nvPr/>
        </p:nvPicPr>
        <p:blipFill>
          <a:blip r:embed="rId2"/>
          <a:stretch/>
        </p:blipFill>
        <p:spPr>
          <a:xfrm>
            <a:off x="1071720" y="1857240"/>
            <a:ext cx="65721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640000"/>
                </a:solidFill>
                <a:latin typeface="Eras Bold ITC"/>
              </a:rPr>
              <a:t>ФРАГМЕНТ ИЗ «СПАРТАК»</a:t>
            </a:r>
            <a:br>
              <a:rPr sz="4800"/>
            </a:br>
            <a:endParaRPr b="0" lang="en-US" sz="4800" spc="-1" strike="noStrike">
              <a:solidFill>
                <a:srgbClr val="335675"/>
              </a:solidFill>
              <a:latin typeface="Eras Bold IT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3500280"/>
            <a:ext cx="67086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  <a:ea typeface="Arial"/>
              </a:rPr>
              <a:t>К ЧЕМУ  ТАКОЕ ПОЛОЖЕНИЕ МОГЛО ПРИВЕСТИ?</a:t>
            </a:r>
            <a:endParaRPr b="0" lang="en-US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840" y="49968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</a:rPr>
              <a:t>Подумайте и объясните римскую пословицу: </a:t>
            </a:r>
            <a:endParaRPr b="1" lang="en-US" sz="32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</a:rPr>
              <a:t>«Сколько рабов, столько врагов».</a:t>
            </a:r>
            <a:endParaRPr b="1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1571760"/>
            <a:ext cx="235728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7039080" y="5181480"/>
            <a:ext cx="21049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54900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Eras Bold ITC"/>
              </a:rPr>
              <a:t>СЕГОДНЯ  НА  УРОКЕ   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УЗНАЛ(А)…</a:t>
            </a: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ВЫЯСНИЛ(А)…</a:t>
            </a: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ПОНЯЛ(А)…</a:t>
            </a:r>
            <a:br>
              <a:rPr sz="4000"/>
            </a:br>
            <a:endParaRPr b="0" lang="en-US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240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Домашнее задание: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Прочитать § 49.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Индивидуальные карточки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285840"/>
            <a:ext cx="7467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5675"/>
                </a:solidFill>
                <a:latin typeface="Arial"/>
                <a:ea typeface="Arial"/>
              </a:rPr>
              <a:t>        </a:t>
            </a:r>
            <a:r>
              <a:rPr b="1" lang="ru-RU" sz="4800" spc="-1" strike="noStrike">
                <a:solidFill>
                  <a:srgbClr val="335675"/>
                </a:solidFill>
                <a:latin typeface="Arial"/>
                <a:ea typeface="Arial"/>
              </a:rPr>
              <a:t>План  урока</a:t>
            </a:r>
            <a:endParaRPr b="0" lang="en-US" sz="4800" spc="-1" strike="noStrike">
              <a:solidFill>
                <a:srgbClr val="335675"/>
              </a:solidFill>
              <a:latin typeface="Eras Bold ITC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269120" y="4419720"/>
            <a:ext cx="1874880" cy="2438280"/>
          </a:xfrm>
          <a:prstGeom prst="rect">
            <a:avLst/>
          </a:prstGeom>
          <a:ln w="0">
            <a:noFill/>
          </a:ln>
        </p:spPr>
      </p:pic>
      <p:sp>
        <p:nvSpPr>
          <p:cNvPr id="88" name="Вертикальный свиток 8"/>
          <p:cNvSpPr/>
          <p:nvPr/>
        </p:nvSpPr>
        <p:spPr>
          <a:xfrm>
            <a:off x="2214720" y="1571760"/>
            <a:ext cx="5072040" cy="4929120"/>
          </a:xfrm>
          <a:prstGeom prst="verticalScroll">
            <a:avLst>
              <a:gd name="adj" fmla="val 125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и ра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ы в им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ы в богатом д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диаторские игры – любимое зрелище  римл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2228b"/>
                </a:solidFill>
                <a:latin typeface="Arial"/>
                <a:ea typeface="Arial"/>
              </a:rPr>
              <a:t>Вспомните, какие источники рабства вы знаете?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53578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ahoma"/>
              </a:rPr>
              <a:t>Подумайте какой источник рабства был главным в Древнем Риме? Почему?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 flipH="1">
            <a:off x="1356840" y="2143080"/>
            <a:ext cx="10008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Прямоугольник 7"/>
          <p:cNvSpPr/>
          <p:nvPr/>
        </p:nvSpPr>
        <p:spPr>
          <a:xfrm>
            <a:off x="357120" y="3244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ство за дол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Прямая со стрелкой 9"/>
          <p:cNvCxnSpPr/>
          <p:nvPr/>
        </p:nvCxnSpPr>
        <p:spPr>
          <a:xfrm flipH="1">
            <a:off x="3642480" y="1999800"/>
            <a:ext cx="723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Прямоугольник 10"/>
          <p:cNvSpPr/>
          <p:nvPr/>
        </p:nvSpPr>
        <p:spPr>
          <a:xfrm>
            <a:off x="278604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рабы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Прямая со стрелкой 12"/>
          <p:cNvCxnSpPr/>
          <p:nvPr/>
        </p:nvCxnSpPr>
        <p:spPr>
          <a:xfrm flipH="1">
            <a:off x="4714560" y="2000160"/>
            <a:ext cx="7200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Прямоугольник 13"/>
          <p:cNvSpPr/>
          <p:nvPr/>
        </p:nvSpPr>
        <p:spPr>
          <a:xfrm>
            <a:off x="3714840" y="36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авшие в плен к пира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" name="Прямая со стрелкой 15"/>
          <p:cNvCxnSpPr/>
          <p:nvPr/>
        </p:nvCxnSpPr>
        <p:spPr>
          <a:xfrm>
            <a:off x="5428080" y="1928880"/>
            <a:ext cx="71532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Прямоугольник 16"/>
          <p:cNvSpPr/>
          <p:nvPr/>
        </p:nvSpPr>
        <p:spPr>
          <a:xfrm>
            <a:off x="5500800" y="29289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опл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Прямая со стрелкой 18"/>
          <p:cNvCxnSpPr/>
          <p:nvPr/>
        </p:nvCxnSpPr>
        <p:spPr>
          <a:xfrm>
            <a:off x="6072120" y="171432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19"/>
          <p:cNvSpPr/>
          <p:nvPr/>
        </p:nvSpPr>
        <p:spPr>
          <a:xfrm>
            <a:off x="6858000" y="22860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иговору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C:\Documents and Settings\Ufall\Рабочий стол\разработка\Новая папка\marching%20soldier.gif"/>
          <p:cNvPicPr/>
          <p:nvPr/>
        </p:nvPicPr>
        <p:blipFill>
          <a:blip r:embed="rId2"/>
          <a:stretch/>
        </p:blipFill>
        <p:spPr>
          <a:xfrm>
            <a:off x="7715160" y="3571920"/>
            <a:ext cx="11145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2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Eras Bold ITC"/>
              </a:rPr>
              <a:t>Раб</a:t>
            </a:r>
            <a:r>
              <a:rPr b="1" lang="ru-RU" sz="3600" spc="-1" strike="noStrike">
                <a:solidFill>
                  <a:srgbClr val="c00000"/>
                </a:solidFill>
                <a:latin typeface="Eras Bold ITC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Eras Bold ITC"/>
              </a:rPr>
              <a:t>–это человек, лишенный всех прав и являющийся полной собственностью владельца.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Eras Bold ITC"/>
              </a:rPr>
              <a:t>Рабовладелец</a:t>
            </a:r>
            <a:r>
              <a:rPr b="1" lang="ru-RU" sz="3600" spc="-1" strike="noStrike">
                <a:solidFill>
                  <a:srgbClr val="c00000"/>
                </a:solidFill>
                <a:latin typeface="Eras Bold ITC"/>
              </a:rPr>
              <a:t> </a:t>
            </a:r>
            <a:r>
              <a:rPr b="1" lang="ru-RU" sz="3600" spc="-1" strike="noStrike">
                <a:solidFill>
                  <a:srgbClr val="0d0d0d"/>
                </a:solidFill>
                <a:latin typeface="Eras Bold ITC"/>
              </a:rPr>
              <a:t>– это хозяин рабов.</a:t>
            </a:r>
            <a:br>
              <a:rPr sz="3600"/>
            </a:b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м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335675"/>
                </a:solidFill>
                <a:latin typeface="Arial"/>
                <a:ea typeface="Arial"/>
              </a:rPr>
              <a:t>– земельное владение богатого человека.</a:t>
            </a:r>
            <a:endParaRPr b="0" lang="en-US" sz="32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57240" y="4142880"/>
            <a:ext cx="714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Хозяева  называли  рабов «говорящими орудиями»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Подумайте, о чём говорит это  название?          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Чем занимались рабы в имении?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Выращивали оливки,              Плели корзины, верёвки.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виноград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05" name="Рисунок 4" descr="1173998536.jpg"/>
          <p:cNvPicPr/>
          <p:nvPr/>
        </p:nvPicPr>
        <p:blipFill>
          <a:blip r:embed="rId2"/>
          <a:stretch/>
        </p:blipFill>
        <p:spPr>
          <a:xfrm>
            <a:off x="1285920" y="1357200"/>
            <a:ext cx="4262400" cy="250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1_____Morocco.jpg"/>
          <p:cNvPicPr/>
          <p:nvPr/>
        </p:nvPicPr>
        <p:blipFill>
          <a:blip r:embed="rId3"/>
          <a:stretch/>
        </p:blipFill>
        <p:spPr>
          <a:xfrm>
            <a:off x="5429160" y="1357200"/>
            <a:ext cx="309564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7"/>
          <p:cNvCxnSpPr/>
          <p:nvPr/>
        </p:nvCxnSpPr>
        <p:spPr>
          <a:xfrm flipH="1">
            <a:off x="3214440" y="55720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9"/>
          <p:cNvCxnSpPr/>
          <p:nvPr/>
        </p:nvCxnSpPr>
        <p:spPr>
          <a:xfrm>
            <a:off x="6214680" y="557208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85840"/>
            <a:ext cx="74660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Содержание  рабов обходилось очень дёшево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 раз в год рабам выдавали рубаху</a:t>
            </a:r>
            <a:br>
              <a:rPr sz="2400"/>
            </a:b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раз в два года плащ и деревянные сандалии.</a:t>
            </a:r>
            <a:endParaRPr b="0" lang="en-US" sz="24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560" y="2500200"/>
            <a:ext cx="35002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  <a:ea typeface="Arial"/>
              </a:rPr>
              <a:t>Безнадёжно больных рабов отвозили на остров на реке Тибр, оставляя их там умирать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1" name="Рисунок 7" descr="144987-i_429.jpg"/>
          <p:cNvPicPr/>
          <p:nvPr/>
        </p:nvPicPr>
        <p:blipFill>
          <a:blip r:embed="rId2"/>
          <a:stretch/>
        </p:blipFill>
        <p:spPr>
          <a:xfrm>
            <a:off x="5786280" y="1857240"/>
            <a:ext cx="30006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1800" y="2285640"/>
            <a:ext cx="5278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САМЫХ НЕПОСЛУШНЫХ  ОТПРАВЛЯЛИ В КАМЕНОЛОМНИ  И РУДНИКИ.</a:t>
            </a:r>
            <a:endParaRPr b="0" lang="en-US" sz="24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428400"/>
            <a:ext cx="57787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  <a:ea typeface="Arial"/>
              </a:rPr>
              <a:t>За малейшие провинности рабов наказывали:  пороли, держали в оковах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43840" y="1000080"/>
            <a:ext cx="2000160" cy="5643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tn.jpg"/>
          <p:cNvPicPr/>
          <p:nvPr/>
        </p:nvPicPr>
        <p:blipFill>
          <a:blip r:embed="rId2"/>
          <a:stretch/>
        </p:blipFill>
        <p:spPr>
          <a:xfrm>
            <a:off x="1143000" y="3643200"/>
            <a:ext cx="44290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3880" y="285840"/>
            <a:ext cx="59295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3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Не иметь ни одного раба считалось признаком крайней нищеты. 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В домах богатых людей рабов было очень много. 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умайте чем могли заниматься рабы в доме?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бирали помещение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товили пищу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луживали за столом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ли, танцевали, развлекали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врач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библиотекарь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секретарь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43840" y="928800"/>
            <a:ext cx="21160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1680" y="428400"/>
            <a:ext cx="40003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ahoma"/>
              </a:rPr>
              <a:t>Любой раб  был бесправен, считался вещью, которой хозяин мог распорядиться, как пожелает.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9" name="Рисунок 3" descr="69tmjcisk2b1ag3f.jpg"/>
          <p:cNvPicPr/>
          <p:nvPr/>
        </p:nvPicPr>
        <p:blipFill>
          <a:blip r:embed="rId2"/>
          <a:stretch/>
        </p:blipFill>
        <p:spPr>
          <a:xfrm>
            <a:off x="5000760" y="1143000"/>
            <a:ext cx="38574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2:38:51Z</dcterms:created>
  <dc:creator>gheka </dc:creator>
  <dc:description/>
  <dc:language>en-US</dc:language>
  <cp:lastModifiedBy>Алеся</cp:lastModifiedBy>
  <dcterms:modified xsi:type="dcterms:W3CDTF">2016-04-02T12:49:49Z</dcterms:modified>
  <cp:revision>90</cp:revision>
  <dc:subject/>
  <dc:title>Silly Mime</dc:title>
</cp:coreProperties>
</file>