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9.gif" ContentType="image/gif"/>
  <Override PartName="/ppt/media/image9.png" ContentType="image/png"/>
  <Override PartName="/ppt/media/image31.gif" ContentType="image/gif"/>
  <Override PartName="/ppt/media/image25.png" ContentType="image/png"/>
  <Override PartName="/ppt/media/image32.gif" ContentType="image/gif"/>
  <Override PartName="/ppt/media/image12.png" ContentType="image/png"/>
  <Override PartName="/ppt/media/image11.png" ContentType="image/png"/>
  <Override PartName="/ppt/media/image33.gif" ContentType="image/gif"/>
  <Override PartName="/ppt/media/image28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3.png" ContentType="image/png"/>
  <Override PartName="/ppt/media/image1.jpeg" ContentType="image/jpeg"/>
  <Override PartName="/ppt/media/image10.wmf" ContentType="image/x-wmf"/>
  <Override PartName="/ppt/media/image14.gif" ContentType="image/gif"/>
  <Override PartName="/ppt/media/image16.png" ContentType="image/png"/>
  <Override PartName="/ppt/media/image18.jpeg" ContentType="image/jpeg"/>
  <Override PartName="/ppt/media/image15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316-DDEF-4FC5-9D46-C373429D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AA3-3E05-4451-9B76-80AC08D6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29DCA-EB7E-445C-8CCB-4C7674E8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AAB02-3CA3-4391-89BE-6E39DCC0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92521-96B5-4240-9552-0F115B3E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22900-EAA0-4971-9D71-2AF728BB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BA630-57B7-4D6D-9C23-CFCF3C23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C49BC-696D-4F2A-AAC6-78404785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9676E-907B-4430-90FD-E57F8E5B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26DA2-BF8D-4D81-9D78-F1CC4F5F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8C810-DE9D-42BE-939E-8C863A9A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07C32-01F2-4ED3-A80A-0F20FDEF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726-2417-418B-96D7-C7E6718E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1F72C-6320-42DE-8FA5-DA751311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63B33-C733-4ED5-A659-15DA6445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3059B-5686-4F77-BC27-20AB43A1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96465-73FE-475E-B21A-74283088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3B900-386B-42B2-9F6C-B4A9854E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CA08A-A90A-46D3-BF37-273EF4A6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9D7E3-569A-403A-AA73-2DD216B7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9FE38-22E8-4743-86A1-258F4F4A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6ADEB-11A9-4C33-A3A7-044E2043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96397-C42E-4FA5-8691-DA600618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5DB-F379-4D72-8A4E-3D9FEE33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2AF09-B6A2-403B-8379-C5FF4C47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AD35-6808-42B0-B9BF-438A384A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D2C5-9602-44FD-89BE-377465FD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E87F-C63C-4BD5-928F-1CC09CC5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4200-1B28-4A81-AC47-824B8689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6928-1A51-40D4-9CED-22A81409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31CE-3E3E-4765-B1BC-1971FEF6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640F-0562-4622-B617-A06A5C19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6D9-BF76-4D91-A023-30174B3A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62BD-236C-4DB2-95FD-40FB5D70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992A-2642-47A5-8C0A-E319307C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887F-3C48-478E-A1E1-B699FAB0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6C59-D2D0-4DF5-9A7B-1BEB9E43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3F7E-DE05-4BEC-A89C-9D6E920E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91C03-8651-4DC6-A3AB-5C1A84D0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68389-63DF-423E-9BBE-9E131D53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489AC-B139-46A9-BFE6-84BE9F61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83F93-0B52-43EF-870C-D9EB2DE8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BAFC-F247-48E1-9F1D-88C792E4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484-E1E7-4F77-AD68-71F87212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7AA5D-7873-4626-8381-7EAA9F38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791A-150E-49F8-8ABD-2B2F0631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7631F-CD28-473F-BF64-7BEEBFE9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70B52-B283-4B48-9043-F7A5EF2C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016BF-A4E8-47CE-AD09-1E48D35A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0B04-03FC-495A-B22E-69E457CB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4F4B0-5CF2-4071-9D8E-16886EB2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4B24E-32F5-40D5-9D97-4AE8B9F7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C5C0A-9C72-4B8E-B4A2-72C3BBCC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D74A5-D17E-415E-940E-CE92EE6A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1A5-D167-4924-8151-6D2AFEC7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8D5B2-B9CB-405B-8AD3-4DF1A242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AA455-27CD-47C4-ADDD-8F93BA6E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F9B6-B6C7-4655-A732-DA3842CF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F8AA5-376D-4524-A349-0DB11AF4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C6D94-47B1-4A72-AC0D-D5F4EC99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D324E-8E2E-4720-B4C2-D52E929C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37DDD-E99D-43CF-BB06-DDE3DD8B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3681-BF61-4772-9EEC-EDAD4320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13D88-08CC-40C5-92C6-AAF2EFF1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9427B-BA72-454A-9E1D-E7F2F26A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577-1270-4F1B-8196-29D0BBC6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6DF53-39E8-4CAC-8DA2-8B249D35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48575-22E7-488A-BC6B-96B2772B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566FF-3AC9-45D8-8FFD-03E8D9EC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BB89F-3DEB-4CF8-B4D1-343F005D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FD995-C885-47D0-BFD1-7AEC4CDF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012A6-3CD7-4841-AE11-E9EBF2F0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B65E2-7585-4137-85E7-99045B22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A3533-6C44-40A3-95BF-42258325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0C148-2827-47AF-BBA2-EB3477C7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9E0B5-ED9D-454D-A053-24E03FDC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DF9A-E68E-4C46-91DC-17899B28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11A19-E9B0-4558-B803-3FBACB5C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56941-0352-41A2-905D-54AA02B2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7A4F4-A41A-4C48-ADF4-492282B5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3EEA8-36EA-4949-8661-F0D44BB7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3EFF1-618E-4141-9AF3-4A96E6AA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5858A-DF6C-4680-B960-CE7213C8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E6F30-1847-4BB6-A119-6A7CDE57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A389C-9603-4605-82D0-7379BDE0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B73A2-D932-4089-A661-85F29DB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64112-AB27-43B5-9693-91F85D9A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31D-2C4D-46C6-82BB-47F9D76A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30BC8-1735-4360-BF50-6A853A13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3C3F7-E904-4D35-94E9-2838A42A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CDFAE-2042-4C38-A652-26EC9AC6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4631E-B49A-4C3A-B5FF-4BA3B888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16AD1-7708-4E6E-A086-9C11CA26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6A9E9-F712-4BCC-A89C-78A7D22A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20CBE-DA53-44AC-B337-1F2DBB30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67FAE-60AC-4E5F-9DA2-818D32E8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E231C-626F-48C1-9D90-A559F21F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04A58-C33B-4BAD-994F-AF7152D9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DF9-2F04-480D-ACD3-D73A1552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3958E-4705-4936-AE49-F6D8773E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62BC8-A6B1-455C-97A0-BBA2C70A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8CDE7-FE28-4172-9B33-863066F2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8744B-8C42-41A8-A7C0-D23B5AAC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C5024-DFEE-48C0-A50E-A085FCD2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39003-D533-42F7-BF35-710E060F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8E962-6A02-4258-947A-1F2EA54E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73CC8-7879-466A-88EB-F317A8C9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60455-84F4-476C-B943-EDEF1EF2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2BC9C-F571-4DDE-BFD1-42DB976F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6675-67A2-4195-8C39-FD1EE8E2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65EBE-9B20-492C-869E-582FCEC5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C17E5-12D6-493E-B012-F12F5291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9E8FC-BE65-40DE-BCE9-9B8E44F1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02128-DFDA-418B-8D91-DBCD8A85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71E24-D340-46BE-80FB-9D31908E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B7C1D-FF5C-470F-AA5D-21817AC4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EA76E-ECA6-464A-B7FF-963330AC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1BADA-411A-40CD-B27D-F7309287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A20A0-D63D-4A5D-B8EF-598BBF19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F5258-41DE-47E0-BF34-990BF6D4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6099-7DE7-4C87-ADD6-8C53205B5B59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E398-BBA6-4D77-AC90-01080664E6F0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7E6F-4315-4321-BEF5-80A5CE1E3828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E667-D598-4839-8FED-0CBF609FF4B4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EE0E-5FD9-414B-AC62-693BB3AACE3B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1BF2-8824-47FF-88AD-E86907C67EDC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D570-C328-418D-B982-8F05635E8635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7BB8-2484-4E67-9E27-11E8B0251415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AA3E-2569-4D6F-B098-7269286D38CE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EC19-9F67-47B5-8ABC-E5C9DB3DD6DF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karbon%20kislot_ycn2.doc" TargetMode="External"/><Relationship Id="rId2" Type="http://schemas.openxmlformats.org/officeDocument/2006/relationships/hyperlink" Target="file:///karbon%20kislot_ycn2.doc" TargetMode="External"/><Relationship Id="rId3" Type="http://schemas.openxmlformats.org/officeDocument/2006/relationships/hyperlink" Target="file:///karbon%20kislot_ycn2.doc" TargetMode="External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karbon%20kislot.doc" TargetMode="External"/><Relationship Id="rId2" Type="http://schemas.openxmlformats.org/officeDocument/2006/relationships/hyperlink" Target="file:///karbon%20kislot_ycn.doc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1042920" y="134136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В черном ящике находится удивительное, но хорошо вам знакомое вещество. Название этого вещества древними греками отождествлялось с самим представлением о кислом. Нам оно хорошо известно в жидком агрегатном состоянии, но при охлаждении ниже 17 </a:t>
            </a:r>
            <a:r>
              <a:rPr b="1" i="1" lang="ru-RU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 превращается в бесцветные кристаллы, похожие на лед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076720" y="544284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сусная кис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Picture 7" descr="L08p12p03"/>
          <p:cNvPicPr/>
          <p:nvPr/>
        </p:nvPicPr>
        <p:blipFill>
          <a:blip r:embed="rId2"/>
          <a:stretch/>
        </p:blipFill>
        <p:spPr>
          <a:xfrm>
            <a:off x="324000" y="3500280"/>
            <a:ext cx="3666960" cy="274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0" y="1285920"/>
            <a:ext cx="42480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)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В зависимости от природы радикал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●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едельные – </a:t>
            </a:r>
            <a:r>
              <a:rPr b="0" lang="ru-RU" sz="2000" spc="-1" strike="noStrike">
                <a:solidFill>
                  <a:srgbClr val="ff3399"/>
                </a:solidFill>
                <a:latin typeface="Franklin Gothic Book"/>
              </a:rPr>
              <a:t>пропионова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●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епредельные – </a:t>
            </a:r>
            <a:r>
              <a:rPr b="0" lang="ru-RU" sz="2000" spc="-1" strike="noStrike">
                <a:solidFill>
                  <a:srgbClr val="ff3399"/>
                </a:solidFill>
                <a:latin typeface="Franklin Gothic Book"/>
              </a:rPr>
              <a:t>акрилова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●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ароматические – </a:t>
            </a:r>
            <a:r>
              <a:rPr b="0" lang="ru-RU" sz="2000" spc="-1" strike="noStrike">
                <a:solidFill>
                  <a:srgbClr val="ff3399"/>
                </a:solidFill>
                <a:latin typeface="Franklin Gothic Book"/>
              </a:rPr>
              <a:t>бензойная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1" name="Picture 3" descr="все это нужно (10)"/>
          <p:cNvPicPr/>
          <p:nvPr/>
        </p:nvPicPr>
        <p:blipFill>
          <a:blip r:embed="rId1"/>
          <a:stretch/>
        </p:blipFill>
        <p:spPr>
          <a:xfrm>
            <a:off x="4572000" y="1928880"/>
            <a:ext cx="3313080" cy="374472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8"/>
          <p:cNvSpPr/>
          <p:nvPr/>
        </p:nvSpPr>
        <p:spPr>
          <a:xfrm>
            <a:off x="4427640" y="595008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карбоновые кислоты"/>
          <p:cNvPicPr/>
          <p:nvPr/>
        </p:nvPicPr>
        <p:blipFill>
          <a:blip r:embed="rId1"/>
          <a:stretch/>
        </p:blipFill>
        <p:spPr>
          <a:xfrm>
            <a:off x="324000" y="2133720"/>
            <a:ext cx="3384360" cy="37432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все это нужно (6)"/>
          <p:cNvPicPr/>
          <p:nvPr/>
        </p:nvPicPr>
        <p:blipFill>
          <a:blip r:embed="rId2"/>
          <a:stretch/>
        </p:blipFill>
        <p:spPr>
          <a:xfrm>
            <a:off x="3995640" y="981000"/>
            <a:ext cx="4392720" cy="54007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5"/>
          <p:cNvSpPr/>
          <p:nvPr/>
        </p:nvSpPr>
        <p:spPr>
          <a:xfrm>
            <a:off x="0" y="60213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рбоновые кислоты в природ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103320" y="219240"/>
            <a:ext cx="8894520" cy="11397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все это нужно (1)"/>
          <p:cNvPicPr/>
          <p:nvPr/>
        </p:nvPicPr>
        <p:blipFill>
          <a:blip r:embed="rId2"/>
          <a:stretch/>
        </p:blipFill>
        <p:spPr>
          <a:xfrm>
            <a:off x="1357200" y="1928880"/>
            <a:ext cx="6143760" cy="292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Заголовок 1" descr=""/>
          <p:cNvPicPr/>
          <p:nvPr/>
        </p:nvPicPr>
        <p:blipFill>
          <a:blip r:embed="rId1"/>
          <a:stretch/>
        </p:blipFill>
        <p:spPr>
          <a:xfrm>
            <a:off x="480960" y="255600"/>
            <a:ext cx="839484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/>
        </a:graphic>
      </p:graphicFrame>
      <p:sp>
        <p:nvSpPr>
          <p:cNvPr id="501" name="Rectangle 1"/>
          <p:cNvSpPr/>
          <p:nvPr/>
        </p:nvSpPr>
        <p:spPr>
          <a:xfrm>
            <a:off x="500040" y="208944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Низшие карбоновые кислоты –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жидкости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; высшие –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твердые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веще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Чем больш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тносительная молекулярная масса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кислоты, тем меньше е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запах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С увеличением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тносительной молекулярной массы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кислоты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растворимость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уменьшает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Чем больш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тносительная масса кислоты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, тем выш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температура кип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2" name="Picture 2" descr="C:\Мои документы\Мои документы\Презентации\Анимация\f111.gif"/>
          <p:cNvPicPr/>
          <p:nvPr/>
        </p:nvPicPr>
        <p:blipFill>
          <a:blip r:embed="rId2"/>
          <a:stretch/>
        </p:blipFill>
        <p:spPr>
          <a:xfrm>
            <a:off x="3571920" y="5286240"/>
            <a:ext cx="1285920" cy="1000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Franklin Gothic Book"/>
              </a:rPr>
              <a:t>предельные</a:t>
            </a:r>
            <a:r>
              <a:rPr b="1" lang="ru-RU" sz="2000" spc="-1" strike="noStrike">
                <a:solidFill>
                  <a:srgbClr val="0d0d0d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Franklin Gothic Book"/>
              </a:rPr>
              <a:t>одноосновные</a:t>
            </a:r>
            <a:r>
              <a:rPr b="1" lang="ru-RU" sz="2000" spc="-1" strike="noStrike">
                <a:solidFill>
                  <a:srgbClr val="0d0d0d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Franklin Gothic Book"/>
              </a:rPr>
              <a:t>карбоновые</a:t>
            </a:r>
            <a:r>
              <a:rPr b="1" lang="ru-RU" sz="2000" spc="-1" strike="noStrike">
                <a:solidFill>
                  <a:srgbClr val="0d0d0d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Franklin Gothic Book"/>
              </a:rPr>
              <a:t>кислоты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500120" y="3643200"/>
            <a:ext cx="6085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происходит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ерераспределе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лектронно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лотност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арбоксильно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рупп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чем заключается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заимное влияние атом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 молекулах карбоновых кислот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это будет отражаться на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имических свойствах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карбоновых кислот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5" name="Picture 9" descr="все нужное по кислотам (11)"/>
          <p:cNvPicPr/>
          <p:nvPr/>
        </p:nvPicPr>
        <p:blipFill>
          <a:blip r:embed="rId1"/>
          <a:stretch/>
        </p:blipFill>
        <p:spPr>
          <a:xfrm>
            <a:off x="2714760" y="1000080"/>
            <a:ext cx="3132000" cy="237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1365120" y="260280"/>
            <a:ext cx="54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3b14"/>
                </a:solidFill>
                <a:latin typeface="Tahoma"/>
              </a:rPr>
              <a:t>Химические свойства карбоновых кислот</a:t>
            </a:r>
            <a:r>
              <a:rPr b="0" lang="ru-RU" sz="2000" spc="-1" strike="noStrike">
                <a:solidFill>
                  <a:srgbClr val="ffc42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611280" y="857880"/>
            <a:ext cx="6840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Tahoma"/>
                <a:hlinkClick r:id="rId1"/>
              </a:rPr>
              <a:t>Группа 1.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Tahoma"/>
                <a:hlinkClick r:id="rId2"/>
              </a:rPr>
              <a:t>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Tahoma"/>
                <a:hlinkClick r:id="rId3"/>
              </a:rPr>
              <a:t>Исследование химических свойств уксусной кислоты общих со свойствами минеральных кислот. (Взаимодействие с металлами и действие на индикатор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611280" y="1773000"/>
            <a:ext cx="704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Лабораторная рабо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войства уксусной кислоты в сравнении со свойствами соляной кислот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755640" y="3429000"/>
          <a:ext cx="7848720" cy="3260880"/>
        </p:xfrm>
        <a:graphic>
          <a:graphicData uri="http://schemas.openxmlformats.org/drawingml/2006/table">
            <a:tbl>
              <a:tblPr/>
              <a:tblGrid>
                <a:gridCol w="1174680"/>
                <a:gridCol w="698760"/>
                <a:gridCol w="1919160"/>
                <a:gridCol w="1809720"/>
                <a:gridCol w="224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реак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сусная кисло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уксусной кислоты с лакмус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уксусной кислоты с цинк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яная кисло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оляной кислоты с лакмус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оляной кислоты с цинк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0" name="Text Box 165"/>
          <p:cNvSpPr/>
          <p:nvPr/>
        </p:nvSpPr>
        <p:spPr>
          <a:xfrm>
            <a:off x="468360" y="2708280"/>
            <a:ext cx="80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d1f1f"/>
                </a:solidFill>
                <a:latin typeface="Tahoma"/>
              </a:rPr>
              <a:t>Помните о правилах безопас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d1f1f"/>
                </a:solidFill>
                <a:latin typeface="Tahoma"/>
              </a:rPr>
              <a:t>При работе с неорганическими и органическими вещества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ff"/>
                                      </p:to>
                                    </p:animClr>
                                    <p:set>
                                      <p:cBhvr>
                                        <p:cTn id="170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1" name=""/>
          <p:cNvGraphicFramePr/>
          <p:nvPr/>
        </p:nvGraphicFramePr>
        <p:xfrm>
          <a:off x="395280" y="549360"/>
          <a:ext cx="8097840" cy="5288040"/>
        </p:xfrm>
        <a:graphic>
          <a:graphicData uri="http://schemas.openxmlformats.org/drawingml/2006/table">
            <a:tbl>
              <a:tblPr/>
              <a:tblGrid>
                <a:gridCol w="1252440"/>
                <a:gridCol w="814320"/>
                <a:gridCol w="2360880"/>
                <a:gridCol w="1368360"/>
                <a:gridCol w="2301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пы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авнение реа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ксусн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заимодействие уксусной кислоты с порошком оксида маг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заимодействие уксусной кислоты с лакмусом и раствором гидроксида на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лян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заимодействие соляной кислоты с порошком оксида маг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заимодействие соляной кислоты с лакмусом и раствором гидроксида на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 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2" name="Picture 173" descr="j0088542"/>
          <p:cNvPicPr/>
          <p:nvPr/>
        </p:nvPicPr>
        <p:blipFill>
          <a:blip r:embed="rId1"/>
          <a:stretch/>
        </p:blipFill>
        <p:spPr>
          <a:xfrm>
            <a:off x="684360" y="6308640"/>
            <a:ext cx="7704000" cy="3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1220760" y="40464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42f"/>
                </a:solidFill>
                <a:latin typeface="Tahoma"/>
              </a:rPr>
              <a:t>Химические свойства карбоновых кисло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250920" y="9075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руппа 1.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сследование химических свойств уксусной кислоты общих со свойствами минеральных кислот. (Взаимодействие с металлами и действие на индикатор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611280" y="1844280"/>
            <a:ext cx="704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d1f1f"/>
                </a:solidFill>
                <a:latin typeface="Tahoma"/>
              </a:rPr>
              <a:t>Лабораторная рабо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d1f1f"/>
                </a:solidFill>
                <a:latin typeface="Tahoma"/>
              </a:rPr>
              <a:t>Свойства уксусной кислоты в сравнении со свойствами соляной кислот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0" y="3429000"/>
          <a:ext cx="9144000" cy="2803680"/>
        </p:xfrm>
        <a:graphic>
          <a:graphicData uri="http://schemas.openxmlformats.org/drawingml/2006/table">
            <a:tbl>
              <a:tblPr/>
              <a:tblGrid>
                <a:gridCol w="1368360"/>
                <a:gridCol w="816120"/>
                <a:gridCol w="2233440"/>
                <a:gridCol w="2109960"/>
                <a:gridCol w="2616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сусн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уксусной кислоты с лакмус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мус окрасился в красный 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84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уксусной кислоты с цин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еление г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+Zn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(CH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H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Н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Н</a:t>
                      </a:r>
                      <a:r>
                        <a:rPr b="1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ян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оляной кислоты с лакмус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мус окрасился в красный 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59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оляной кислоты с цин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еление г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Cl</a:t>
                      </a:r>
                      <a:r>
                        <a:rPr b="1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Н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Н</a:t>
                      </a:r>
                      <a:r>
                        <a:rPr b="1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Text Box 41"/>
          <p:cNvSpPr/>
          <p:nvPr/>
        </p:nvSpPr>
        <p:spPr>
          <a:xfrm>
            <a:off x="1432080" y="2781360"/>
            <a:ext cx="58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Проверьте правильность заполнения таблиц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0" y="620640"/>
          <a:ext cx="9085320" cy="5443560"/>
        </p:xfrm>
        <a:graphic>
          <a:graphicData uri="http://schemas.openxmlformats.org/drawingml/2006/table">
            <a:tbl>
              <a:tblPr/>
              <a:tblGrid>
                <a:gridCol w="1258920"/>
                <a:gridCol w="1093680"/>
                <a:gridCol w="1662120"/>
                <a:gridCol w="1781280"/>
                <a:gridCol w="328932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реа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сусная кисл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уксусной кислоты с порошком оксида маг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ем постепенное растворение порошка магния в кисло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)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Н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Н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уксусной кислоты с лакмусом и раствором гидроксида ка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добавлении лакмуса к раствору кислоты его окраска изменилась на красную, затем при внесении нескольких капель  щелочи раствор обесцветил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ОН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 Н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яная кисл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оляной кислоты с порошком оксида маг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ем постепенное растворение порошка магния в кисло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Н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Н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оляной кислоты с лакмусом и раствором гидроксида ка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добавлении лакмуса к раствору кислоты его окраска изменилась на красную, затем при внесении нескольких капель  щелочи раствор обесцветил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= КCl 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ОН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 Н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9" name="Text Box 38"/>
          <p:cNvSpPr/>
          <p:nvPr/>
        </p:nvSpPr>
        <p:spPr>
          <a:xfrm>
            <a:off x="1778760" y="189000"/>
            <a:ext cx="57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Tahoma"/>
              </a:rPr>
              <a:t>Проверьте правильность заполнения таблиц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13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2195640" y="1557360"/>
          <a:ext cx="4537080" cy="3960720"/>
        </p:xfrm>
        <a:graphic>
          <a:graphicData uri="http://schemas.openxmlformats.org/drawingml/2006/table">
            <a:tbl>
              <a:tblPr/>
              <a:tblGrid>
                <a:gridCol w="755640"/>
                <a:gridCol w="757080"/>
                <a:gridCol w="755640"/>
                <a:gridCol w="755640"/>
                <a:gridCol w="757440"/>
                <a:gridCol w="7556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2" name="Rectangle 373"/>
          <p:cNvSpPr/>
          <p:nvPr/>
        </p:nvSpPr>
        <p:spPr>
          <a:xfrm>
            <a:off x="2705040" y="187632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ectangle 386"/>
          <p:cNvSpPr/>
          <p:nvPr/>
        </p:nvSpPr>
        <p:spPr>
          <a:xfrm>
            <a:off x="2705040" y="187632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Rectangle 389"/>
          <p:cNvSpPr/>
          <p:nvPr/>
        </p:nvSpPr>
        <p:spPr>
          <a:xfrm>
            <a:off x="2705040" y="187632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ectangle 400"/>
          <p:cNvSpPr/>
          <p:nvPr/>
        </p:nvSpPr>
        <p:spPr>
          <a:xfrm>
            <a:off x="2705040" y="187632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4"/>
          <p:cNvSpPr/>
          <p:nvPr/>
        </p:nvSpPr>
        <p:spPr>
          <a:xfrm>
            <a:off x="3924360" y="1342080"/>
            <a:ext cx="48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В черном ящике находится вещество, которым богаты плоды цитрусовых. В мякоти апельсина его около 2%, в лимоне – 6% из которых и было впервые выделено в 1784 г. К. Шеел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5" name="Picture 5" descr="L30p06p01"/>
          <p:cNvPicPr/>
          <p:nvPr/>
        </p:nvPicPr>
        <p:blipFill>
          <a:blip r:embed="rId2"/>
          <a:stretch/>
        </p:blipFill>
        <p:spPr>
          <a:xfrm>
            <a:off x="395280" y="1989000"/>
            <a:ext cx="3301920" cy="246888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6"/>
          <p:cNvSpPr/>
          <p:nvPr/>
        </p:nvSpPr>
        <p:spPr>
          <a:xfrm>
            <a:off x="2411280" y="5228640"/>
            <a:ext cx="385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монная кис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Picture 7" descr="16-1лимон кис"/>
          <p:cNvPicPr/>
          <p:nvPr/>
        </p:nvPicPr>
        <p:blipFill>
          <a:blip r:embed="rId3"/>
          <a:stretch/>
        </p:blipFill>
        <p:spPr>
          <a:xfrm>
            <a:off x="4284720" y="3357720"/>
            <a:ext cx="4321080" cy="83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13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7" name=""/>
          <p:cNvGraphicFramePr/>
          <p:nvPr/>
        </p:nvGraphicFramePr>
        <p:xfrm>
          <a:off x="2195640" y="1557360"/>
          <a:ext cx="4537080" cy="3960720"/>
        </p:xfrm>
        <a:graphic>
          <a:graphicData uri="http://schemas.openxmlformats.org/drawingml/2006/table">
            <a:tbl>
              <a:tblPr/>
              <a:tblGrid>
                <a:gridCol w="755640"/>
                <a:gridCol w="757080"/>
                <a:gridCol w="755640"/>
                <a:gridCol w="755640"/>
                <a:gridCol w="757440"/>
                <a:gridCol w="7556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Rectangle 3"/>
          <p:cNvSpPr/>
          <p:nvPr/>
        </p:nvSpPr>
        <p:spPr>
          <a:xfrm>
            <a:off x="2705040" y="187632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2705040" y="187632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2705040" y="187632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2705040" y="187632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Line 58"/>
          <p:cNvSpPr/>
          <p:nvPr/>
        </p:nvSpPr>
        <p:spPr>
          <a:xfrm>
            <a:off x="3924360" y="24922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Line 59"/>
          <p:cNvSpPr/>
          <p:nvPr/>
        </p:nvSpPr>
        <p:spPr>
          <a:xfrm>
            <a:off x="3924360" y="2492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Line 60"/>
          <p:cNvSpPr/>
          <p:nvPr/>
        </p:nvSpPr>
        <p:spPr>
          <a:xfrm>
            <a:off x="392436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Line 61"/>
          <p:cNvSpPr/>
          <p:nvPr/>
        </p:nvSpPr>
        <p:spPr>
          <a:xfrm>
            <a:off x="3924360" y="3933720"/>
            <a:ext cx="158436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Line 62"/>
          <p:cNvSpPr/>
          <p:nvPr/>
        </p:nvSpPr>
        <p:spPr>
          <a:xfrm>
            <a:off x="5508720" y="3933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Line 63"/>
          <p:cNvSpPr/>
          <p:nvPr/>
        </p:nvSpPr>
        <p:spPr>
          <a:xfrm>
            <a:off x="550872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Line 64"/>
          <p:cNvSpPr/>
          <p:nvPr/>
        </p:nvSpPr>
        <p:spPr>
          <a:xfrm flipH="1">
            <a:off x="3995280" y="5084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Line 65"/>
          <p:cNvSpPr/>
          <p:nvPr/>
        </p:nvSpPr>
        <p:spPr>
          <a:xfrm>
            <a:off x="3924360" y="249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Rectangle 5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5494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928800" y="1714320"/>
            <a:ext cx="8215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Знаю состав  карбоновых кисло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Знаю названия и классификацию карбоновых кисло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Могу(исходя из электронного строения)объяснить силу кислот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Могу описать физические свойства кисло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Могу сравнить органические и минеральные кислоты по химическим свойства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2" name="Picture 8" descr="a252"/>
          <p:cNvPicPr/>
          <p:nvPr/>
        </p:nvPicPr>
        <p:blipFill>
          <a:blip r:embed="rId2"/>
          <a:stretch/>
        </p:blipFill>
        <p:spPr>
          <a:xfrm>
            <a:off x="0" y="5372280"/>
            <a:ext cx="1200240" cy="148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214200" y="1571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&amp;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0, до стр.192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пр. 2,3 стр.194.              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5" name="Рисунок 7" descr="f067.gif"/>
          <p:cNvPicPr/>
          <p:nvPr/>
        </p:nvPicPr>
        <p:blipFill>
          <a:blip r:embed="rId2"/>
          <a:stretch/>
        </p:blipFill>
        <p:spPr>
          <a:xfrm>
            <a:off x="4286160" y="2714760"/>
            <a:ext cx="2143080" cy="357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WordArt 2"/>
          <p:cNvSpPr txBox="1"/>
          <p:nvPr/>
        </p:nvSpPr>
        <p:spPr>
          <a:xfrm rot="20927400">
            <a:off x="-4320" y="1220400"/>
            <a:ext cx="8675640" cy="37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732000"/>
                </a:gradFill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732000"/>
              </a:gradFill>
              <a:latin typeface="Impact"/>
              <a:ea typeface="Impact"/>
            </a:endParaRPr>
          </a:p>
        </p:txBody>
      </p:sp>
      <p:pic>
        <p:nvPicPr>
          <p:cNvPr id="547" name="Рисунок 2" descr="179.gif"/>
          <p:cNvPicPr/>
          <p:nvPr/>
        </p:nvPicPr>
        <p:blipFill>
          <a:blip r:embed="rId1"/>
          <a:stretch/>
        </p:blipFill>
        <p:spPr>
          <a:xfrm>
            <a:off x="285840" y="1928880"/>
            <a:ext cx="2019240" cy="114300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3" descr="77777777777777777777777777.gif"/>
          <p:cNvPicPr/>
          <p:nvPr/>
        </p:nvPicPr>
        <p:blipFill>
          <a:blip r:embed="rId2"/>
          <a:stretch/>
        </p:blipFill>
        <p:spPr>
          <a:xfrm>
            <a:off x="6929280" y="4643280"/>
            <a:ext cx="1133640" cy="1400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4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5"/>
          <p:cNvSpPr/>
          <p:nvPr/>
        </p:nvSpPr>
        <p:spPr>
          <a:xfrm>
            <a:off x="971640" y="170784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Впервые  эта кислота была получена алхимиком Агриколой, который наблюдал при прокаливании в янтаре похожие на соль белый налет этого вещества, в настоящее время  используется в медицин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2627280" y="3459960"/>
            <a:ext cx="61563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янтарная кис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ОС-С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С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нтарная кис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стоящий подарок для нас. Это естественное вещество, которое присутствует в организме, вырабатывается им. При приёме внутрь не вызывает привыкания и не вызывает особых побочных эффектов, укрепляет иммунитет, усиливает клеточное дыхание, способствует усвоению кислорода клетк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Picture 9" descr="ya_510i"/>
          <p:cNvPicPr/>
          <p:nvPr/>
        </p:nvPicPr>
        <p:blipFill>
          <a:blip r:embed="rId2"/>
          <a:stretch/>
        </p:blipFill>
        <p:spPr>
          <a:xfrm>
            <a:off x="714240" y="3571920"/>
            <a:ext cx="1676520" cy="1571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2"/>
          <p:cNvGrpSpPr/>
          <p:nvPr/>
        </p:nvGrpSpPr>
        <p:grpSpPr>
          <a:xfrm>
            <a:off x="642960" y="2286000"/>
            <a:ext cx="5500080" cy="7286400"/>
            <a:chOff x="642960" y="2286000"/>
            <a:chExt cx="5500080" cy="7286400"/>
          </a:xfrm>
        </p:grpSpPr>
        <p:pic>
          <p:nvPicPr>
            <p:cNvPr id="464" name="Picture 3" descr="FD00403_"/>
            <p:cNvPicPr/>
            <p:nvPr/>
          </p:nvPicPr>
          <p:blipFill>
            <a:blip r:embed="rId2"/>
            <a:stretch/>
          </p:blipFill>
          <p:spPr>
            <a:xfrm>
              <a:off x="642960" y="2286000"/>
              <a:ext cx="1319400" cy="94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5" name="Group 6"/>
            <p:cNvGrpSpPr/>
            <p:nvPr/>
          </p:nvGrpSpPr>
          <p:grpSpPr>
            <a:xfrm>
              <a:off x="5921640" y="8825040"/>
              <a:ext cx="221400" cy="747360"/>
              <a:chOff x="5921640" y="8825040"/>
              <a:chExt cx="221400" cy="747360"/>
            </a:xfrm>
          </p:grpSpPr>
          <p:sp>
            <p:nvSpPr>
              <p:cNvPr id="466" name="Oval 9"/>
              <p:cNvSpPr/>
              <p:nvPr/>
            </p:nvSpPr>
            <p:spPr>
              <a:xfrm rot="5400000">
                <a:off x="5845680" y="9275040"/>
                <a:ext cx="373320" cy="22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" name="Line 10"/>
              <p:cNvSpPr/>
              <p:nvPr/>
            </p:nvSpPr>
            <p:spPr>
              <a:xfrm flipV="1">
                <a:off x="6047280" y="8825040"/>
                <a:ext cx="0" cy="18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68" name="TextBox 11"/>
          <p:cNvSpPr/>
          <p:nvPr/>
        </p:nvSpPr>
        <p:spPr>
          <a:xfrm>
            <a:off x="3563640" y="2428920"/>
            <a:ext cx="537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дицинское антисептическое средство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к вызывает гибель стафилококков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ветственных за воспалительные процесс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лагодаря своим свойствам использует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пищевая добав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4503600" y="5072040"/>
            <a:ext cx="34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твет:  бензойная кисло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5644e"/>
                </a:solidFill>
                <a:uFillTx/>
                <a:latin typeface="Franklin Gothic Medium"/>
              </a:rPr>
              <a:t>КАРБОНОВЫЕ КИСЛОТЫ. ОБЩИЕ СВОЙСТВА КАРБОНОВЫХ КИСЛОТ.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403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d1f1f"/>
                </a:solidFill>
                <a:latin typeface="Franklin Gothic Book"/>
              </a:rPr>
              <a:t>Ум заключается не только в знаниях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d1f1f"/>
                </a:solidFill>
                <a:latin typeface="Franklin Gothic Book"/>
              </a:rPr>
              <a:t>но и в умении применять знания в деле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d1f1f"/>
                </a:solidFill>
                <a:latin typeface="Franklin Gothic Book"/>
              </a:rPr>
              <a:t>Аристотель</a:t>
            </a: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2591640" y="4643280"/>
            <a:ext cx="4431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Tahoma"/>
                <a:hlinkClick r:id="rId1"/>
              </a:rPr>
              <a:t>Методическая разработка уро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Tahoma"/>
                <a:hlinkClick r:id="rId2"/>
              </a:rPr>
              <a:t>Раздаточный материал для учащих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Заголовок 1" descr=""/>
          <p:cNvPicPr/>
          <p:nvPr/>
        </p:nvPicPr>
        <p:blipFill>
          <a:blip r:embed="rId1"/>
          <a:stretch/>
        </p:blipFill>
        <p:spPr>
          <a:xfrm>
            <a:off x="298440" y="298440"/>
            <a:ext cx="8699400" cy="1378080"/>
          </a:xfrm>
          <a:prstGeom prst="rect">
            <a:avLst/>
          </a:prstGeom>
          <a:ln w="0">
            <a:noFill/>
          </a:ln>
        </p:spPr>
      </p:pic>
      <p:sp>
        <p:nvSpPr>
          <p:cNvPr id="474" name="TextBox 2"/>
          <p:cNvSpPr/>
          <p:nvPr/>
        </p:nvSpPr>
        <p:spPr>
          <a:xfrm>
            <a:off x="1928880" y="2357280"/>
            <a:ext cx="235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Box 3"/>
          <p:cNvSpPr/>
          <p:nvPr/>
        </p:nvSpPr>
        <p:spPr>
          <a:xfrm>
            <a:off x="5149080" y="2786040"/>
            <a:ext cx="387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ООС-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СОО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Box 4"/>
          <p:cNvSpPr/>
          <p:nvPr/>
        </p:nvSpPr>
        <p:spPr>
          <a:xfrm>
            <a:off x="631080" y="3786120"/>
            <a:ext cx="304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7" name="Group 2"/>
          <p:cNvGrpSpPr/>
          <p:nvPr/>
        </p:nvGrpSpPr>
        <p:grpSpPr>
          <a:xfrm>
            <a:off x="5214960" y="4857840"/>
            <a:ext cx="928800" cy="1120680"/>
            <a:chOff x="5214960" y="4857840"/>
            <a:chExt cx="928800" cy="1120680"/>
          </a:xfrm>
        </p:grpSpPr>
        <p:sp>
          <p:nvSpPr>
            <p:cNvPr id="478" name="AutoShape 3"/>
            <p:cNvSpPr/>
            <p:nvPr/>
          </p:nvSpPr>
          <p:spPr>
            <a:xfrm rot="5400000">
              <a:off x="5118840" y="4953600"/>
              <a:ext cx="1120680" cy="928800"/>
            </a:xfrm>
            <a:prstGeom prst="hexagon">
              <a:avLst>
                <a:gd name="adj" fmla="val 30165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Oval 4"/>
            <p:cNvSpPr/>
            <p:nvPr/>
          </p:nvSpPr>
          <p:spPr>
            <a:xfrm>
              <a:off x="5447160" y="5166720"/>
              <a:ext cx="464400" cy="44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" name="TextBox 9"/>
          <p:cNvSpPr/>
          <p:nvPr/>
        </p:nvSpPr>
        <p:spPr>
          <a:xfrm>
            <a:off x="5433840" y="442908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57120" y="285480"/>
            <a:ext cx="83930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се карбоновые кислоты имеют</a:t>
            </a:r>
            <a:r>
              <a:rPr b="0" lang="ru-RU" sz="2800" spc="-1" strike="noStrike">
                <a:solidFill>
                  <a:srgbClr val="ff3399"/>
                </a:solidFill>
                <a:latin typeface="Franklin Gothic Book"/>
              </a:rPr>
              <a:t> функциональную группу.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2" name="Picture 3" descr="строение карбоксильной группы"/>
          <p:cNvPicPr/>
          <p:nvPr/>
        </p:nvPicPr>
        <p:blipFill>
          <a:blip r:embed="rId1"/>
          <a:stretch/>
        </p:blipFill>
        <p:spPr>
          <a:xfrm>
            <a:off x="1643040" y="785880"/>
            <a:ext cx="5786640" cy="40719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4"/>
          <p:cNvSpPr/>
          <p:nvPr/>
        </p:nvSpPr>
        <p:spPr>
          <a:xfrm>
            <a:off x="2357280" y="4714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Что называется карбоновыми кислотам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133200" y="244440"/>
            <a:ext cx="8864640" cy="154152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3300"/>
                </a:solidFill>
                <a:latin typeface="Arial Black"/>
              </a:rPr>
              <a:t>С</a:t>
            </a:r>
            <a:r>
              <a:rPr b="1" lang="en-US" sz="3200" spc="-1" strike="noStrike">
                <a:solidFill>
                  <a:srgbClr val="663300"/>
                </a:solidFill>
                <a:latin typeface="Arial Black"/>
              </a:rPr>
              <a:t>n</a:t>
            </a:r>
            <a:r>
              <a:rPr b="1" lang="en-US" sz="6000" spc="-1" strike="noStrike">
                <a:solidFill>
                  <a:srgbClr val="663300"/>
                </a:solidFill>
                <a:latin typeface="Arial Black"/>
              </a:rPr>
              <a:t>H</a:t>
            </a: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663300"/>
                </a:solidFill>
                <a:latin typeface="Arial Black"/>
              </a:rPr>
              <a:t>n+1</a:t>
            </a:r>
            <a:r>
              <a:rPr b="1" lang="en-US" sz="6000" spc="-1" strike="noStrike">
                <a:solidFill>
                  <a:srgbClr val="663300"/>
                </a:solidFill>
                <a:latin typeface="Arial Black"/>
              </a:rPr>
              <a:t>COO</a:t>
            </a:r>
            <a:r>
              <a:rPr b="1" lang="ru-RU" sz="6000" spc="-1" strike="noStrike">
                <a:solidFill>
                  <a:srgbClr val="663300"/>
                </a:solidFill>
                <a:latin typeface="Arial Black"/>
              </a:rPr>
              <a:t>Н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где </a:t>
            </a:r>
            <a:r>
              <a:rPr b="1" lang="en-US" sz="3200" spc="-1" strike="noStrike">
                <a:solidFill>
                  <a:srgbClr val="663300"/>
                </a:solidFill>
                <a:latin typeface="Arial Black"/>
              </a:rPr>
              <a:t>n </a:t>
            </a: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может быть равно нул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6" name="Picture 2" descr="C:\Мои документы\Мои документы\Презентации\Анимация с сайта\2.gif"/>
          <p:cNvPicPr/>
          <p:nvPr/>
        </p:nvPicPr>
        <p:blipFill>
          <a:blip r:embed="rId2"/>
          <a:stretch/>
        </p:blipFill>
        <p:spPr>
          <a:xfrm>
            <a:off x="3643200" y="4500720"/>
            <a:ext cx="1486080" cy="148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 зависимости от числ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карбоксильных групп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●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одноосновны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●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двухосновны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●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многоосновны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9" name="Picture 7" descr="все это нужно (9)"/>
          <p:cNvPicPr/>
          <p:nvPr/>
        </p:nvPicPr>
        <p:blipFill>
          <a:blip r:embed="rId2"/>
          <a:stretch/>
        </p:blipFill>
        <p:spPr>
          <a:xfrm>
            <a:off x="4857840" y="1025640"/>
            <a:ext cx="4103640" cy="58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9:37:08Z</dcterms:created>
  <dc:creator>Home</dc:creator>
  <dc:description/>
  <dc:language>en-US</dc:language>
  <cp:lastModifiedBy>Имя</cp:lastModifiedBy>
  <dcterms:modified xsi:type="dcterms:W3CDTF">2009-02-26T12:36:08Z</dcterms:modified>
  <cp:revision>57</cp:revision>
  <dc:subject/>
  <dc:title>Химические свойства карбоновых кислот</dc:title>
</cp:coreProperties>
</file>