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9.gif" ContentType="image/gif"/>
  <Override PartName="/ppt/media/image9.png" ContentType="image/png"/>
  <Override PartName="/ppt/media/image31.gif" ContentType="image/gif"/>
  <Override PartName="/ppt/media/image25.png" ContentType="image/png"/>
  <Override PartName="/ppt/media/image32.gif" ContentType="image/gif"/>
  <Override PartName="/ppt/media/image12.png" ContentType="image/png"/>
  <Override PartName="/ppt/media/image11.png" ContentType="image/png"/>
  <Override PartName="/ppt/media/image33.gif" ContentType="image/gif"/>
  <Override PartName="/ppt/media/image28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3.png" ContentType="image/png"/>
  <Override PartName="/ppt/media/image1.jpeg" ContentType="image/jpeg"/>
  <Override PartName="/ppt/media/image10.wmf" ContentType="image/x-wmf"/>
  <Override PartName="/ppt/media/image14.gif" ContentType="image/gif"/>
  <Override PartName="/ppt/media/image16.png" ContentType="image/png"/>
  <Override PartName="/ppt/media/image18.jpeg" ContentType="image/jpeg"/>
  <Override PartName="/ppt/media/image15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D38-3827-40A6-9D8E-522DC863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D27-7621-4C23-9E43-505450F0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F2F77-307C-400E-8D0C-2131A94C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E7A0B-953D-489B-9043-F1529C32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07356-EAE5-454A-B883-CB8771EA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D040C-33F8-4661-9D3F-48DA64C0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5BA93-2F89-4B59-ABBB-3FB3E41E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D1ED5-FF99-41E7-94DF-67E69E08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C40D6-B5C8-4836-9AD1-F8E59EE2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B0BB2-3DC2-4461-9417-E4D6AFFB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A5804-5082-4D24-A8DC-22507472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E131A-3629-43FD-BCA7-1A98F2B0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DE5-6B5B-4853-8F66-D3E4F7D9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D99AD-9652-4457-BEB7-C47E33AB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81CB5-07B0-45BD-B109-1DB0A930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42406-8AE0-4E30-B6C4-6CFFCAB1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337DA-BBF0-4FBB-9717-49B66F17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794AC-6D58-4E68-B936-A628F596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AC704-BC40-46AB-90A2-C1C0231A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55979-92D2-4B66-816A-AE076B79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E1163-D6E3-463E-9213-C223568F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728D5-E8EB-4C11-BBFD-BB3BB7CB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AFEB2-7D98-41CD-89BB-54DBE0BB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B32-3C78-4F4E-A813-FCE48477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D6423-383D-4B87-956C-713708B7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6E6F-5A1E-4A15-9CCC-6BA9D6CB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6B53-37CD-4B23-8F18-29369730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3F42-4DC0-4FA5-8A71-17770324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C34F-7252-4457-BC87-7C7A9854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DA55-D2CA-4EB6-A083-978D814A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C0E1-888A-43BF-AFF1-D94EF91C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0AB0-7EF2-4AB5-A509-0FBDAE62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BAB-7B31-46A2-A32E-DE5D3D96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2F28-8CA3-4743-9955-E8DA6B1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E068-3C23-423E-BD98-FE4BEAB4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4928-E295-4EBE-B011-A463C7C0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43EC-34C1-45D2-A6A6-7D5D9AEB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DC5C-CF49-4B24-AD01-305B79BF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4D63-0886-4F74-88BE-A88BD7C9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34925-5ABF-48F4-B4D1-02D95F60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6594-F578-4947-BA39-3319155E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D88D-227E-425F-AD60-D82FAABA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A9F2C-6412-4239-8375-D748C0BE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BA6-FDBD-4A89-9DA5-0F8D7876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029ED-694B-4D7A-9350-955B02BF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7093D-6B1A-4CF1-B428-664750C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3A991-6014-44F7-8C4D-A315FCEC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8051E-16D7-4517-A52B-78734393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83B0-B455-4074-9842-13E05856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2E92-D7C1-42E6-8A01-8B32BF12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06A2D-F786-4C8F-B4B6-A696EE21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7D7D3-0020-4A79-964F-6F68F5CE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2E01C-B60C-4465-B9D3-1E48FF4B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0470-8B00-4223-878D-7F7FC14F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036-9EE3-4612-9C15-17218002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70D9-7EFD-44A8-834D-6D22E0D4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A11C8-D3B1-4D46-A89D-C25FDE9C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ABB80-E56E-43B4-8945-A27FBF12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2DB04-F0A3-46D2-B42A-AA26B7D9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B5D5-0034-453B-9281-5A96DD8B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25C4-5E6C-4ED6-8267-58ED749A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4BF6-23E1-423C-9ADD-07D7AFCC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8DFB3-E947-4595-B952-CC3B1343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AAC12-3993-4166-BAAF-B4EECF29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73298-CABD-4F36-A351-9AE8AA29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A73-BEB0-4BE8-B374-FD21BE5B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5BD58-E2B0-4A02-9E92-E2396683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CF8D6-C511-4739-8DAB-9E923F43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5D97A-6F0C-442A-B5AD-69A080F9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B59A7-F09D-4449-9635-C5442F9D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FDDE-66BA-4BE5-8648-B9F4E379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52544-3FD2-4BED-AE41-97D0E43E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7066E-7918-40E1-871F-A8AA9AA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8B921-4EE5-432E-9282-A67C607F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ECE38-441F-4EA4-B09D-589D5863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35241-C4C1-462A-B1F3-D6BAD1DC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3C3-F04A-4B96-9AC3-E92BF034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22485-A515-4ABF-9219-51B3A80D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E451F-17B0-4133-B727-B35E4F4E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A2620-23AA-4D1D-B204-83006C3B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8045B-B9A7-4442-A868-0D4EB10D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1A97D-DC34-40A7-BFE0-F20E0E4A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342EA-2F9F-4E2D-86A8-F9B6BFC5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17F73-E8E0-4FF6-8E32-D9FD4F1D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168EF-3D69-498B-828F-D5886634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73096-D5CC-4044-91FC-AA4F85AE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5A5B8-DAA6-468A-AAAC-AD2F225C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8F4-D151-4565-88CB-F7334F46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99CB1-A38D-454C-9391-C682BAB9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3452C-ECBA-4ECD-A024-E2C7E2E9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E2991-D9AA-45F0-AAB1-F00C63C7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10F49-162A-4C20-B43E-19FE10DD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2EF5A-6904-48AD-96E6-D62B68D1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C6A44-DAF3-42BC-8CF8-B902551A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EB70E-6681-4CA1-9062-7D1025C7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89DF1-3837-4CAA-AFDF-6894E259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5186C-D8FA-4EA8-986E-0DABE71A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BAC78-E03B-4F0B-A1B0-E8096FA1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3BE-7144-437F-BBBB-77B099A8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8C4EF-4FC5-4C55-9F1B-68E15DEE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D62FC-44E6-4457-B8BA-832E4D76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A6743-892B-4744-B63D-BF056582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547B4-5E71-4568-A817-93E678D8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356CC-E3C7-40FD-A2A7-7BBBD046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CC305-173F-445E-87DD-ABA3BC83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A968C-1BDD-454B-8F76-CB55F532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2F68C-B734-4BAE-A61F-ED664896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C1449-E58A-43BE-8416-0F99543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94B90-14EF-43CA-B792-8FEA7002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938-727D-4D05-A4E6-F406D545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F004A-5619-4CD1-8ECF-09F0758F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E200A-A9BA-4E89-BA6C-BA1C1384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6F509-103E-467B-B5EE-1B750DF5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695A9-713B-4388-BCF3-D9DA0647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C32B9-E23C-46F1-A7B0-96B9531B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A937D-F28E-4592-8900-61CF950B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97D91-1C11-4E48-A838-F3E4BAA0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76379-9E3F-4806-8C8C-912360A3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8FF7D-F060-4ABA-9317-5647794D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6D4CA-FE08-4FD0-9483-A8770333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5564-8ADD-4305-AC14-818CC25DFFE6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7E08-854B-45A7-833D-DA266D73C033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0AB9-555B-49DE-9AFD-40FDA3DB9975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27F8-3AA0-465E-9ACD-1EC9CC292C5F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B1C9-08FE-428C-86F4-BD9B9A6BDB89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F48D-39A1-48C7-B385-EB24D5C0F2F3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50A9-9204-4939-AEA5-2E196A9B53ED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3512-56AF-4E92-B6CA-31B25FBE52ED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8281-FFEE-4383-822C-55BCFF3B78BE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323F-88F0-484D-BF71-E8EDFB2655CF}" type="slidenum">
              <a:rPr b="0" lang="ru-RU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karbon%20kislot_ycn2.doc" TargetMode="External"/><Relationship Id="rId2" Type="http://schemas.openxmlformats.org/officeDocument/2006/relationships/hyperlink" Target="file:///karbon%20kislot_ycn2.doc" TargetMode="External"/><Relationship Id="rId3" Type="http://schemas.openxmlformats.org/officeDocument/2006/relationships/hyperlink" Target="file:///karbon%20kislot_ycn2.doc" TargetMode="External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karbon%20kislot.doc" TargetMode="External"/><Relationship Id="rId2" Type="http://schemas.openxmlformats.org/officeDocument/2006/relationships/hyperlink" Target="file:///karbon%20kislot_ycn.doc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1042920" y="1341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 черном ящике находится удивительное, но хорошо вам знакомое вещество. Название этого вещества древними греками отождествлялось с самим представлением о кислом. Нам оно хорошо известно в жидком агрегатном состоянии, но при охлаждении ниже 17 </a:t>
            </a:r>
            <a:r>
              <a:rPr b="1" i="1" lang="ru-RU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 превращается в бесцветные кристаллы, похожие на лед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076720" y="544284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сусная кис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Picture 7" descr="L08p12p03"/>
          <p:cNvPicPr/>
          <p:nvPr/>
        </p:nvPicPr>
        <p:blipFill>
          <a:blip r:embed="rId2"/>
          <a:stretch/>
        </p:blipFill>
        <p:spPr>
          <a:xfrm>
            <a:off x="324000" y="3500280"/>
            <a:ext cx="3666960" cy="274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0" y="1285920"/>
            <a:ext cx="42480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)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В зависимости от природы радикал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●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едельные – </a:t>
            </a:r>
            <a:r>
              <a:rPr b="0" lang="ru-RU" sz="2000" spc="-1" strike="noStrike">
                <a:solidFill>
                  <a:srgbClr val="ff3399"/>
                </a:solidFill>
                <a:latin typeface="Franklin Gothic Book"/>
              </a:rPr>
              <a:t>пропионова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●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епредельные – </a:t>
            </a:r>
            <a:r>
              <a:rPr b="0" lang="ru-RU" sz="2000" spc="-1" strike="noStrike">
                <a:solidFill>
                  <a:srgbClr val="ff3399"/>
                </a:solidFill>
                <a:latin typeface="Franklin Gothic Book"/>
              </a:rPr>
              <a:t>акрилова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●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ароматические – </a:t>
            </a:r>
            <a:r>
              <a:rPr b="0" lang="ru-RU" sz="2000" spc="-1" strike="noStrike">
                <a:solidFill>
                  <a:srgbClr val="ff3399"/>
                </a:solidFill>
                <a:latin typeface="Franklin Gothic Book"/>
              </a:rPr>
              <a:t>бензойная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1" name="Picture 3" descr="все это нужно (10)"/>
          <p:cNvPicPr/>
          <p:nvPr/>
        </p:nvPicPr>
        <p:blipFill>
          <a:blip r:embed="rId1"/>
          <a:stretch/>
        </p:blipFill>
        <p:spPr>
          <a:xfrm>
            <a:off x="4572000" y="1928880"/>
            <a:ext cx="3313080" cy="374472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8"/>
          <p:cNvSpPr/>
          <p:nvPr/>
        </p:nvSpPr>
        <p:spPr>
          <a:xfrm>
            <a:off x="4427640" y="59500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карбоновые кислоты"/>
          <p:cNvPicPr/>
          <p:nvPr/>
        </p:nvPicPr>
        <p:blipFill>
          <a:blip r:embed="rId1"/>
          <a:stretch/>
        </p:blipFill>
        <p:spPr>
          <a:xfrm>
            <a:off x="324000" y="2133720"/>
            <a:ext cx="3384360" cy="3743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все это нужно (6)"/>
          <p:cNvPicPr/>
          <p:nvPr/>
        </p:nvPicPr>
        <p:blipFill>
          <a:blip r:embed="rId2"/>
          <a:stretch/>
        </p:blipFill>
        <p:spPr>
          <a:xfrm>
            <a:off x="3995640" y="981000"/>
            <a:ext cx="4392720" cy="54007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5"/>
          <p:cNvSpPr/>
          <p:nvPr/>
        </p:nvSpPr>
        <p:spPr>
          <a:xfrm>
            <a:off x="0" y="60213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рбоновые кислоты в природ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103320" y="219240"/>
            <a:ext cx="8894520" cy="11397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все это нужно (1)"/>
          <p:cNvPicPr/>
          <p:nvPr/>
        </p:nvPicPr>
        <p:blipFill>
          <a:blip r:embed="rId2"/>
          <a:stretch/>
        </p:blipFill>
        <p:spPr>
          <a:xfrm>
            <a:off x="1357200" y="1928880"/>
            <a:ext cx="6143760" cy="292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Заголовок 1" descr=""/>
          <p:cNvPicPr/>
          <p:nvPr/>
        </p:nvPicPr>
        <p:blipFill>
          <a:blip r:embed="rId1"/>
          <a:stretch/>
        </p:blipFill>
        <p:spPr>
          <a:xfrm>
            <a:off x="480960" y="255600"/>
            <a:ext cx="839484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/>
        </a:graphic>
      </p:graphicFrame>
      <p:sp>
        <p:nvSpPr>
          <p:cNvPr id="501" name="Rectangle 1"/>
          <p:cNvSpPr/>
          <p:nvPr/>
        </p:nvSpPr>
        <p:spPr>
          <a:xfrm>
            <a:off x="500040" y="208944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Низшие карбоновые кислоты –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жидкости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; высшие –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твердые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веще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Чем больш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тносительная молекулярная масса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кислоты, тем меньше е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пах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С увеличением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тносительной молекулярной массы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кислоты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растворимость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уменьшае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Чем больш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тносительная масса кислоты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, тем выш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температура кип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2" name="Picture 2" descr="C:\Мои документы\Мои документы\Презентации\Анимация\f111.gif"/>
          <p:cNvPicPr/>
          <p:nvPr/>
        </p:nvPicPr>
        <p:blipFill>
          <a:blip r:embed="rId2"/>
          <a:stretch/>
        </p:blipFill>
        <p:spPr>
          <a:xfrm>
            <a:off x="3571920" y="5286240"/>
            <a:ext cx="1285920" cy="100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предельные</a:t>
            </a:r>
            <a:r>
              <a:rPr b="1" lang="ru-RU" sz="2000" spc="-1" strike="noStrike">
                <a:solidFill>
                  <a:srgbClr val="0d0d0d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одноосновные</a:t>
            </a:r>
            <a:r>
              <a:rPr b="1" lang="ru-RU" sz="2000" spc="-1" strike="noStrike">
                <a:solidFill>
                  <a:srgbClr val="0d0d0d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карбоновые</a:t>
            </a:r>
            <a:r>
              <a:rPr b="1" lang="ru-RU" sz="2000" spc="-1" strike="noStrike">
                <a:solidFill>
                  <a:srgbClr val="0d0d0d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кислоты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500120" y="3643200"/>
            <a:ext cx="6085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происходит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ерераспредел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лектронно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лотност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арбоксильно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рупп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чем заключается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заимное влияние атом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 молекулах карбоновых кислот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это будет отражаться н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имических свойства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карбоновых кислот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5" name="Picture 9" descr="все нужное по кислотам (11)"/>
          <p:cNvPicPr/>
          <p:nvPr/>
        </p:nvPicPr>
        <p:blipFill>
          <a:blip r:embed="rId1"/>
          <a:stretch/>
        </p:blipFill>
        <p:spPr>
          <a:xfrm>
            <a:off x="2714760" y="1000080"/>
            <a:ext cx="3132000" cy="237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365120" y="260280"/>
            <a:ext cx="54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3b14"/>
                </a:solidFill>
                <a:latin typeface="Tahoma"/>
              </a:rPr>
              <a:t>Химические свойства карбоновых кислот</a:t>
            </a:r>
            <a:r>
              <a:rPr b="0" lang="ru-RU" sz="2000" spc="-1" strike="noStrike">
                <a:solidFill>
                  <a:srgbClr val="ffc42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611280" y="857880"/>
            <a:ext cx="6840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Tahoma"/>
                <a:hlinkClick r:id="rId1"/>
              </a:rPr>
              <a:t>Группа 1.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Tahoma"/>
                <a:hlinkClick r:id="rId2"/>
              </a:rPr>
              <a:t>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Tahoma"/>
                <a:hlinkClick r:id="rId3"/>
              </a:rPr>
              <a:t>Исследование химических свойств уксусной кислоты общих со свойствами минеральных кислот. (Взаимодействие с металлами и действие на индикатор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611280" y="1773000"/>
            <a:ext cx="704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Лабораторная рабо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войства уксусной кислоты в сравнении со свойствами соляной кислот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55640" y="3429000"/>
          <a:ext cx="7848720" cy="3260880"/>
        </p:xfrm>
        <a:graphic>
          <a:graphicData uri="http://schemas.openxmlformats.org/drawingml/2006/table">
            <a:tbl>
              <a:tblPr/>
              <a:tblGrid>
                <a:gridCol w="1174680"/>
                <a:gridCol w="698760"/>
                <a:gridCol w="1919160"/>
                <a:gridCol w="1809720"/>
                <a:gridCol w="224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реак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сусная кисло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лакмус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цинк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ая кисло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лакмус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цинк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0" name="Text Box 165"/>
          <p:cNvSpPr/>
          <p:nvPr/>
        </p:nvSpPr>
        <p:spPr>
          <a:xfrm>
            <a:off x="468360" y="2708280"/>
            <a:ext cx="80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d1f1f"/>
                </a:solidFill>
                <a:latin typeface="Tahoma"/>
              </a:rPr>
              <a:t>Помните о правилах безопас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d1f1f"/>
                </a:solidFill>
                <a:latin typeface="Tahoma"/>
              </a:rPr>
              <a:t>При работе с неорганическими и органическими вещества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1" name=""/>
          <p:cNvGraphicFramePr/>
          <p:nvPr/>
        </p:nvGraphicFramePr>
        <p:xfrm>
          <a:off x="395280" y="549360"/>
          <a:ext cx="8097840" cy="5288040"/>
        </p:xfrm>
        <a:graphic>
          <a:graphicData uri="http://schemas.openxmlformats.org/drawingml/2006/table">
            <a:tbl>
              <a:tblPr/>
              <a:tblGrid>
                <a:gridCol w="1252440"/>
                <a:gridCol w="814320"/>
                <a:gridCol w="2360880"/>
                <a:gridCol w="1368360"/>
                <a:gridCol w="2301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пы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авнение реа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ксус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порошком оксида маг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лакмусом и раствором гидроксида на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ля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порошком оксида маг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лакмусом и раствором гидроксида на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 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2" name="Picture 173" descr="j0088542"/>
          <p:cNvPicPr/>
          <p:nvPr/>
        </p:nvPicPr>
        <p:blipFill>
          <a:blip r:embed="rId1"/>
          <a:stretch/>
        </p:blipFill>
        <p:spPr>
          <a:xfrm>
            <a:off x="684360" y="6308640"/>
            <a:ext cx="7704000" cy="3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1220760" y="40464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42f"/>
                </a:solidFill>
                <a:latin typeface="Tahoma"/>
              </a:rPr>
              <a:t>Химические свойства карбоновых кисло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250920" y="9075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руппа 1.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следование химических свойств уксусной кислоты общих со свойствами минеральных кислот. (Взаимодействие с металлами и действие на индикатор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611280" y="1844280"/>
            <a:ext cx="704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d1f1f"/>
                </a:solidFill>
                <a:latin typeface="Tahoma"/>
              </a:rPr>
              <a:t>Лабораторная рабо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d1f1f"/>
                </a:solidFill>
                <a:latin typeface="Tahoma"/>
              </a:rPr>
              <a:t>Свойства уксусной кислоты в сравнении со свойствами соляной кислот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0" y="3429000"/>
          <a:ext cx="9144000" cy="2803680"/>
        </p:xfrm>
        <a:graphic>
          <a:graphicData uri="http://schemas.openxmlformats.org/drawingml/2006/table">
            <a:tbl>
              <a:tblPr/>
              <a:tblGrid>
                <a:gridCol w="1368360"/>
                <a:gridCol w="816120"/>
                <a:gridCol w="2233440"/>
                <a:gridCol w="2109960"/>
                <a:gridCol w="2616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сусн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лакмус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мус окрасился в красны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84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цин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ение г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+Zn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(CH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H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Н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Н</a:t>
                      </a: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лакмус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мус окрасился в красны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59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цин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ение г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Н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Н</a:t>
                      </a: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Text Box 41"/>
          <p:cNvSpPr/>
          <p:nvPr/>
        </p:nvSpPr>
        <p:spPr>
          <a:xfrm>
            <a:off x="1432080" y="2781360"/>
            <a:ext cx="58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Проверьте правильность заполнения таблиц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0" y="620640"/>
          <a:ext cx="9085320" cy="5443560"/>
        </p:xfrm>
        <a:graphic>
          <a:graphicData uri="http://schemas.openxmlformats.org/drawingml/2006/table">
            <a:tbl>
              <a:tblPr/>
              <a:tblGrid>
                <a:gridCol w="1258920"/>
                <a:gridCol w="1093680"/>
                <a:gridCol w="1662120"/>
                <a:gridCol w="1781280"/>
                <a:gridCol w="328932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реа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сусная кисл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порошком оксида маг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ем постепенное растворение порошка магния в кисло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)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Н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Н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уксусной кислоты с лакмусом и раствором гидроксида ка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добавлении лакмуса к раствору кислоты его окраска изменилась на красную, затем при внесении нескольких капель  щелочи раствор обесцветил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ОН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 Н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ая кисл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порошком оксида маг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ем постепенное растворение порошка магния в кисло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Н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Н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ляной кислоты с лакмусом и раствором гидроксида ка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добавлении лакмуса к раствору кислоты его окраска изменилась на красную, затем при внесении нескольких капель  щелочи раствор обесцветил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= КCl 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ОН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 Н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9" name="Text Box 38"/>
          <p:cNvSpPr/>
          <p:nvPr/>
        </p:nvSpPr>
        <p:spPr>
          <a:xfrm>
            <a:off x="1778760" y="189000"/>
            <a:ext cx="57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Tahoma"/>
              </a:rPr>
              <a:t>Проверьте правильность заполнения таблиц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2195640" y="1557360"/>
          <a:ext cx="4537080" cy="3960720"/>
        </p:xfrm>
        <a:graphic>
          <a:graphicData uri="http://schemas.openxmlformats.org/drawingml/2006/table">
            <a:tbl>
              <a:tblPr/>
              <a:tblGrid>
                <a:gridCol w="755640"/>
                <a:gridCol w="757080"/>
                <a:gridCol w="755640"/>
                <a:gridCol w="755640"/>
                <a:gridCol w="757440"/>
                <a:gridCol w="7556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Rectangle 373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386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Rectangle 389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400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4"/>
          <p:cNvSpPr/>
          <p:nvPr/>
        </p:nvSpPr>
        <p:spPr>
          <a:xfrm>
            <a:off x="3924360" y="1342080"/>
            <a:ext cx="48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 черном ящике находится вещество, которым богаты плоды цитрусовых. В мякоти апельсина его около 2%, в лимоне – 6% из которых и было впервые выделено в 1784 г. К. Шеел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5" name="Picture 5" descr="L30p06p01"/>
          <p:cNvPicPr/>
          <p:nvPr/>
        </p:nvPicPr>
        <p:blipFill>
          <a:blip r:embed="rId2"/>
          <a:stretch/>
        </p:blipFill>
        <p:spPr>
          <a:xfrm>
            <a:off x="395280" y="1989000"/>
            <a:ext cx="3301920" cy="246888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6"/>
          <p:cNvSpPr/>
          <p:nvPr/>
        </p:nvSpPr>
        <p:spPr>
          <a:xfrm>
            <a:off x="2411280" y="5228640"/>
            <a:ext cx="385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монная кис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Picture 7" descr="16-1лимон кис"/>
          <p:cNvPicPr/>
          <p:nvPr/>
        </p:nvPicPr>
        <p:blipFill>
          <a:blip r:embed="rId3"/>
          <a:stretch/>
        </p:blipFill>
        <p:spPr>
          <a:xfrm>
            <a:off x="4284720" y="3357720"/>
            <a:ext cx="4321080" cy="83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7" name=""/>
          <p:cNvGraphicFramePr/>
          <p:nvPr/>
        </p:nvGraphicFramePr>
        <p:xfrm>
          <a:off x="2195640" y="1557360"/>
          <a:ext cx="4537080" cy="3960720"/>
        </p:xfrm>
        <a:graphic>
          <a:graphicData uri="http://schemas.openxmlformats.org/drawingml/2006/table">
            <a:tbl>
              <a:tblPr/>
              <a:tblGrid>
                <a:gridCol w="755640"/>
                <a:gridCol w="757080"/>
                <a:gridCol w="755640"/>
                <a:gridCol w="755640"/>
                <a:gridCol w="757440"/>
                <a:gridCol w="7556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Rectangle 3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2705040" y="187632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Line 58"/>
          <p:cNvSpPr/>
          <p:nvPr/>
        </p:nvSpPr>
        <p:spPr>
          <a:xfrm>
            <a:off x="3924360" y="2492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Line 59"/>
          <p:cNvSpPr/>
          <p:nvPr/>
        </p:nvSpPr>
        <p:spPr>
          <a:xfrm>
            <a:off x="3924360" y="2492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Line 60"/>
          <p:cNvSpPr/>
          <p:nvPr/>
        </p:nvSpPr>
        <p:spPr>
          <a:xfrm>
            <a:off x="392436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Line 61"/>
          <p:cNvSpPr/>
          <p:nvPr/>
        </p:nvSpPr>
        <p:spPr>
          <a:xfrm>
            <a:off x="3924360" y="3933720"/>
            <a:ext cx="158436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Line 62"/>
          <p:cNvSpPr/>
          <p:nvPr/>
        </p:nvSpPr>
        <p:spPr>
          <a:xfrm>
            <a:off x="5508720" y="3933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Line 63"/>
          <p:cNvSpPr/>
          <p:nvPr/>
        </p:nvSpPr>
        <p:spPr>
          <a:xfrm>
            <a:off x="5508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Line 64"/>
          <p:cNvSpPr/>
          <p:nvPr/>
        </p:nvSpPr>
        <p:spPr>
          <a:xfrm flipH="1">
            <a:off x="3995280" y="5084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Line 65"/>
          <p:cNvSpPr/>
          <p:nvPr/>
        </p:nvSpPr>
        <p:spPr>
          <a:xfrm>
            <a:off x="3924360" y="249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Rectangle 5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5494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928800" y="1714320"/>
            <a:ext cx="8215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Знаю состав  карбоновых кисло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Знаю названия и классификацию карбоновых кисло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Могу(исходя из электронного строения)объяснить силу кислот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Могу описать физические свойства кисло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Могу сравнить органические и минеральные кислоты по химическим свойств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2" name="Picture 8" descr="a252"/>
          <p:cNvPicPr/>
          <p:nvPr/>
        </p:nvPicPr>
        <p:blipFill>
          <a:blip r:embed="rId2"/>
          <a:stretch/>
        </p:blipFill>
        <p:spPr>
          <a:xfrm>
            <a:off x="0" y="5372280"/>
            <a:ext cx="1200240" cy="148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214200" y="1571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&amp;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0, до стр.192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пр. 2,3 стр.194.             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5" name="Рисунок 7" descr="f067.gif"/>
          <p:cNvPicPr/>
          <p:nvPr/>
        </p:nvPicPr>
        <p:blipFill>
          <a:blip r:embed="rId2"/>
          <a:stretch/>
        </p:blipFill>
        <p:spPr>
          <a:xfrm>
            <a:off x="4286160" y="271476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WordArt 2"/>
          <p:cNvSpPr txBox="1"/>
          <p:nvPr/>
        </p:nvSpPr>
        <p:spPr>
          <a:xfrm rot="20927400">
            <a:off x="-4320" y="1220400"/>
            <a:ext cx="8675640" cy="37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732000"/>
                </a:gradFill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732000"/>
              </a:gradFill>
              <a:latin typeface="Impact"/>
              <a:ea typeface="Impact"/>
            </a:endParaRPr>
          </a:p>
        </p:txBody>
      </p:sp>
      <p:pic>
        <p:nvPicPr>
          <p:cNvPr id="547" name="Рисунок 2" descr="179.gif"/>
          <p:cNvPicPr/>
          <p:nvPr/>
        </p:nvPicPr>
        <p:blipFill>
          <a:blip r:embed="rId1"/>
          <a:stretch/>
        </p:blipFill>
        <p:spPr>
          <a:xfrm>
            <a:off x="285840" y="192888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3" descr="77777777777777777777777777.gif"/>
          <p:cNvPicPr/>
          <p:nvPr/>
        </p:nvPicPr>
        <p:blipFill>
          <a:blip r:embed="rId2"/>
          <a:stretch/>
        </p:blipFill>
        <p:spPr>
          <a:xfrm>
            <a:off x="6929280" y="4643280"/>
            <a:ext cx="1133640" cy="1400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5"/>
          <p:cNvSpPr/>
          <p:nvPr/>
        </p:nvSpPr>
        <p:spPr>
          <a:xfrm>
            <a:off x="971640" y="170784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первые  эта кислота была получена алхимиком Агриколой, который наблюдал при прокаливании в янтаре похожие на соль белый налет этого вещества, в настоящее время  используется в медицин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2627280" y="3459960"/>
            <a:ext cx="6156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янтарная кис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ОС-С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С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тарная кис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стоящий подарок для нас. Это естественное вещество, которое присутствует в организме, вырабатывается им. При приёме внутрь не вызывает привыкания и не вызывает особых побочных эффектов, укрепляет иммунитет, усиливает клеточное дыхание, способствует усвоению кислорода клетк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9" descr="ya_510i"/>
          <p:cNvPicPr/>
          <p:nvPr/>
        </p:nvPicPr>
        <p:blipFill>
          <a:blip r:embed="rId2"/>
          <a:stretch/>
        </p:blipFill>
        <p:spPr>
          <a:xfrm>
            <a:off x="714240" y="3571920"/>
            <a:ext cx="1676520" cy="1571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2"/>
          <p:cNvGrpSpPr/>
          <p:nvPr/>
        </p:nvGrpSpPr>
        <p:grpSpPr>
          <a:xfrm>
            <a:off x="642960" y="2286000"/>
            <a:ext cx="5500080" cy="7286400"/>
            <a:chOff x="642960" y="2286000"/>
            <a:chExt cx="5500080" cy="7286400"/>
          </a:xfrm>
        </p:grpSpPr>
        <p:pic>
          <p:nvPicPr>
            <p:cNvPr id="464" name="Picture 3" descr="FD00403_"/>
            <p:cNvPicPr/>
            <p:nvPr/>
          </p:nvPicPr>
          <p:blipFill>
            <a:blip r:embed="rId2"/>
            <a:stretch/>
          </p:blipFill>
          <p:spPr>
            <a:xfrm>
              <a:off x="642960" y="2286000"/>
              <a:ext cx="1319400" cy="9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5" name="Group 6"/>
            <p:cNvGrpSpPr/>
            <p:nvPr/>
          </p:nvGrpSpPr>
          <p:grpSpPr>
            <a:xfrm>
              <a:off x="5921640" y="8825040"/>
              <a:ext cx="221400" cy="747360"/>
              <a:chOff x="5921640" y="8825040"/>
              <a:chExt cx="221400" cy="747360"/>
            </a:xfrm>
          </p:grpSpPr>
          <p:sp>
            <p:nvSpPr>
              <p:cNvPr id="466" name="Oval 9"/>
              <p:cNvSpPr/>
              <p:nvPr/>
            </p:nvSpPr>
            <p:spPr>
              <a:xfrm rot="5400000">
                <a:off x="5845680" y="9275040"/>
                <a:ext cx="373320" cy="22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" name="Line 10"/>
              <p:cNvSpPr/>
              <p:nvPr/>
            </p:nvSpPr>
            <p:spPr>
              <a:xfrm flipV="1">
                <a:off x="6047280" y="8825040"/>
                <a:ext cx="0" cy="18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68" name="TextBox 11"/>
          <p:cNvSpPr/>
          <p:nvPr/>
        </p:nvSpPr>
        <p:spPr>
          <a:xfrm>
            <a:off x="3563640" y="2428920"/>
            <a:ext cx="537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дицинское антисептическое средство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к вызывает гибель стафилококков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ственных за воспалительные процесс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лагодаря своим свойствам использует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пищевая добав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4503600" y="5072040"/>
            <a:ext cx="34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твет:  бензойная кисло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644e"/>
                </a:solidFill>
                <a:uFillTx/>
                <a:latin typeface="Franklin Gothic Medium"/>
              </a:rPr>
              <a:t>КАРБОНОВЫЕ КИСЛОТЫ. ОБЩИЕ СВОЙСТВА КАРБОНОВЫХ КИСЛОТ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d1f1f"/>
                </a:solidFill>
                <a:latin typeface="Franklin Gothic Book"/>
              </a:rPr>
              <a:t>Ум заключается не только в знаниях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d1f1f"/>
                </a:solidFill>
                <a:latin typeface="Franklin Gothic Book"/>
              </a:rPr>
              <a:t>но и в умении применять знания в деле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d1f1f"/>
                </a:solidFill>
                <a:latin typeface="Franklin Gothic Book"/>
              </a:rPr>
              <a:t>Аристотель</a:t>
            </a: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2591640" y="4643280"/>
            <a:ext cx="4431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Tahoma"/>
                <a:hlinkClick r:id="rId1"/>
              </a:rPr>
              <a:t>Методическая разработка уро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Tahoma"/>
                <a:hlinkClick r:id="rId2"/>
              </a:rPr>
              <a:t>Раздаточный материал для учащих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1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8699400" cy="1378080"/>
          </a:xfrm>
          <a:prstGeom prst="rect">
            <a:avLst/>
          </a:prstGeom>
          <a:ln w="0">
            <a:noFill/>
          </a:ln>
        </p:spPr>
      </p:pic>
      <p:sp>
        <p:nvSpPr>
          <p:cNvPr id="474" name="TextBox 2"/>
          <p:cNvSpPr/>
          <p:nvPr/>
        </p:nvSpPr>
        <p:spPr>
          <a:xfrm>
            <a:off x="1928880" y="2357280"/>
            <a:ext cx="23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5149080" y="2786040"/>
            <a:ext cx="387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ООС-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СОО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Box 4"/>
          <p:cNvSpPr/>
          <p:nvPr/>
        </p:nvSpPr>
        <p:spPr>
          <a:xfrm>
            <a:off x="631080" y="3786120"/>
            <a:ext cx="304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7" name="Group 2"/>
          <p:cNvGrpSpPr/>
          <p:nvPr/>
        </p:nvGrpSpPr>
        <p:grpSpPr>
          <a:xfrm>
            <a:off x="5214960" y="4857840"/>
            <a:ext cx="928800" cy="1120680"/>
            <a:chOff x="5214960" y="4857840"/>
            <a:chExt cx="928800" cy="1120680"/>
          </a:xfrm>
        </p:grpSpPr>
        <p:sp>
          <p:nvSpPr>
            <p:cNvPr id="478" name="AutoShape 3"/>
            <p:cNvSpPr/>
            <p:nvPr/>
          </p:nvSpPr>
          <p:spPr>
            <a:xfrm rot="5400000">
              <a:off x="5118840" y="4953600"/>
              <a:ext cx="1120680" cy="928800"/>
            </a:xfrm>
            <a:prstGeom prst="hexagon">
              <a:avLst>
                <a:gd name="adj" fmla="val 30165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Oval 4"/>
            <p:cNvSpPr/>
            <p:nvPr/>
          </p:nvSpPr>
          <p:spPr>
            <a:xfrm>
              <a:off x="5447160" y="5166720"/>
              <a:ext cx="464400" cy="44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" name="TextBox 9"/>
          <p:cNvSpPr/>
          <p:nvPr/>
        </p:nvSpPr>
        <p:spPr>
          <a:xfrm>
            <a:off x="5433840" y="442908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57120" y="285480"/>
            <a:ext cx="83930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се карбоновые кислоты имеют</a:t>
            </a:r>
            <a:r>
              <a:rPr b="0" lang="ru-RU" sz="2800" spc="-1" strike="noStrike">
                <a:solidFill>
                  <a:srgbClr val="ff3399"/>
                </a:solidFill>
                <a:latin typeface="Franklin Gothic Book"/>
              </a:rPr>
              <a:t> функциональную группу.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2" name="Picture 3" descr="строение карбоксильной группы"/>
          <p:cNvPicPr/>
          <p:nvPr/>
        </p:nvPicPr>
        <p:blipFill>
          <a:blip r:embed="rId1"/>
          <a:stretch/>
        </p:blipFill>
        <p:spPr>
          <a:xfrm>
            <a:off x="1643040" y="785880"/>
            <a:ext cx="5786640" cy="40719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4"/>
          <p:cNvSpPr/>
          <p:nvPr/>
        </p:nvSpPr>
        <p:spPr>
          <a:xfrm>
            <a:off x="2357280" y="4714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Что называется карбоновыми кислотам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133200" y="244440"/>
            <a:ext cx="8864640" cy="154152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Arial Black"/>
              </a:rPr>
              <a:t>С</a:t>
            </a:r>
            <a:r>
              <a:rPr b="1" lang="en-US" sz="3200" spc="-1" strike="noStrike">
                <a:solidFill>
                  <a:srgbClr val="663300"/>
                </a:solidFill>
                <a:latin typeface="Arial Black"/>
              </a:rPr>
              <a:t>n</a:t>
            </a:r>
            <a:r>
              <a:rPr b="1" lang="en-US" sz="6000" spc="-1" strike="noStrike">
                <a:solidFill>
                  <a:srgbClr val="663300"/>
                </a:solidFill>
                <a:latin typeface="Arial Black"/>
              </a:rPr>
              <a:t>H</a:t>
            </a: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663300"/>
                </a:solidFill>
                <a:latin typeface="Arial Black"/>
              </a:rPr>
              <a:t>n+1</a:t>
            </a:r>
            <a:r>
              <a:rPr b="1" lang="en-US" sz="6000" spc="-1" strike="noStrike">
                <a:solidFill>
                  <a:srgbClr val="663300"/>
                </a:solidFill>
                <a:latin typeface="Arial Black"/>
              </a:rPr>
              <a:t>COO</a:t>
            </a:r>
            <a:r>
              <a:rPr b="1" lang="ru-RU" sz="6000" spc="-1" strike="noStrike">
                <a:solidFill>
                  <a:srgbClr val="663300"/>
                </a:solidFill>
                <a:latin typeface="Arial Black"/>
              </a:rPr>
              <a:t>Н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где </a:t>
            </a:r>
            <a:r>
              <a:rPr b="1" lang="en-US" sz="3200" spc="-1" strike="noStrike">
                <a:solidFill>
                  <a:srgbClr val="663300"/>
                </a:solidFill>
                <a:latin typeface="Arial Black"/>
              </a:rPr>
              <a:t>n </a:t>
            </a: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может быть равно нул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6" name="Picture 2" descr="C:\Мои документы\Мои документы\Презентации\Анимация с сайта\2.gif"/>
          <p:cNvPicPr/>
          <p:nvPr/>
        </p:nvPicPr>
        <p:blipFill>
          <a:blip r:embed="rId2"/>
          <a:stretch/>
        </p:blipFill>
        <p:spPr>
          <a:xfrm>
            <a:off x="3643200" y="4500720"/>
            <a:ext cx="1486080" cy="148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 зависимости от числ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карбоксильных групп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●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одноосновны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●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двухосновны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●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многоосновны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9" name="Picture 7" descr="все это нужно (9)"/>
          <p:cNvPicPr/>
          <p:nvPr/>
        </p:nvPicPr>
        <p:blipFill>
          <a:blip r:embed="rId2"/>
          <a:stretch/>
        </p:blipFill>
        <p:spPr>
          <a:xfrm>
            <a:off x="4857840" y="1025640"/>
            <a:ext cx="4103640" cy="58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9:37:08Z</dcterms:created>
  <dc:creator>Home</dc:creator>
  <dc:description/>
  <dc:language>en-US</dc:language>
  <cp:lastModifiedBy>Имя</cp:lastModifiedBy>
  <dcterms:modified xsi:type="dcterms:W3CDTF">2009-02-26T12:36:08Z</dcterms:modified>
  <cp:revision>57</cp:revision>
  <dc:subject/>
  <dc:title>Химические свойства карбоновых кислот</dc:title>
</cp:coreProperties>
</file>