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png" ContentType="image/png"/>
  <Override PartName="/ppt/media/image18.jpeg" ContentType="image/jpeg"/>
  <Override PartName="/ppt/media/image3.gif" ContentType="image/gif"/>
  <Override PartName="/ppt/media/image20.jpeg" ContentType="image/jpeg"/>
  <Override PartName="/ppt/media/image19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mage26.wmf" ContentType="image/x-wmf"/>
  <Override PartName="/ppt/media/image14.jpeg" ContentType="image/jpe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E79-5C54-41C6-B5DE-4CB0472D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CB7-4048-4901-BD56-47D433BA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81F-A1E8-4D50-98BD-B96C3C97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D00-4BB4-47A9-8F8E-7C3E9CDE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03A5-92CE-4986-A7D8-BFA4B288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92D5-9143-48DA-B04D-3AB9815A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B469-8EEF-416D-BE62-ECDF3765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BAAF-C6D0-46EF-B12B-512F0C3C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7D98-E446-463F-82EF-71BF3253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7E49-0030-4FD7-A371-A00FDCC7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6947-7E2A-4157-9D97-2E866CAF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DBF-206D-4B0C-9089-3004E536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10B7-3D1A-4B32-BEC0-E5969AF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963D-E0F1-43C7-867C-439F7C2D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A3CE-A0C0-499A-897B-E15924F7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5C7F-43F4-430C-8F7A-EEE50B10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EAEC-3020-417F-A4E4-9636A8B5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EC4C-A2CA-4D29-B2F6-128B1887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9140-83FC-497F-8061-617A9DDD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6202-E861-4487-B9A3-5673917B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0A3E7-43A6-4757-9F58-6A94BAA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D2C2-089E-40FE-9EBB-5FA14881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9D8-EE38-4B16-8BA0-3B5804FC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A361-7CD4-41A0-88F6-85260F44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7765B-CDFF-421C-9B96-D7BA8613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63AF-6577-44B6-B095-71065A85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0761-5982-4422-91DC-53FB98F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6867-9FDB-4841-9ED8-4C78BB40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83E7B-1458-4DAF-AE28-654DA2DB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DB0E-D388-4950-8F69-AFB9881D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ABA-FA55-4A65-9443-210E9B9B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5B2-BF82-4C8F-8F68-1CA2B0BA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08B-AA6C-4F0E-805B-DCD6A547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C46-BE57-4D28-89E6-633F0BC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6CE-B7BE-443D-94FB-3C822926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46A-F5C3-4C7C-8D35-53BE256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DA2A-0BBA-498D-9FE4-47620C2C7F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C34E-5171-4F9E-B2CF-2D90363AA7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2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54" descr="29r1"/>
          <p:cNvPicPr/>
          <p:nvPr/>
        </p:nvPicPr>
        <p:blipFill>
          <a:blip r:embed="rId3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55" descr="fire14"/>
          <p:cNvPicPr/>
          <p:nvPr/>
        </p:nvPicPr>
        <p:blipFill>
          <a:blip r:embed="rId4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56" descr="fire14"/>
          <p:cNvPicPr/>
          <p:nvPr/>
        </p:nvPicPr>
        <p:blipFill>
          <a:blip r:embed="rId5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7" descr="fire14"/>
          <p:cNvPicPr/>
          <p:nvPr/>
        </p:nvPicPr>
        <p:blipFill>
          <a:blip r:embed="rId6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1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24" descr="055"/>
          <p:cNvPicPr/>
          <p:nvPr/>
        </p:nvPicPr>
        <p:blipFill>
          <a:blip r:embed="rId7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7EA1-C330-40BD-A285-6FD6C57518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3716280"/>
            <a:ext cx="777240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зентация к  внеклассному мероприятию «Брейн ринг»</a:t>
            </a:r>
            <a:br>
              <a:rPr sz="3600"/>
            </a:b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для 5-6 классов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images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2576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5009400" y="5453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C:\Documents and Settings\Валентина\Рабочий стол\загруженное (4).jpg"/>
          <p:cNvPicPr/>
          <p:nvPr/>
        </p:nvPicPr>
        <p:blipFill>
          <a:blip r:embed="rId2"/>
          <a:stretch/>
        </p:blipFill>
        <p:spPr>
          <a:xfrm>
            <a:off x="1785960" y="357120"/>
            <a:ext cx="564372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C:\Documents and Settings\Валентина\Рабочий стол\00049998.jpg"/>
          <p:cNvPicPr/>
          <p:nvPr/>
        </p:nvPicPr>
        <p:blipFill>
          <a:blip r:embed="rId2"/>
          <a:stretch/>
        </p:blipFill>
        <p:spPr>
          <a:xfrm>
            <a:off x="785880" y="571680"/>
            <a:ext cx="7691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brein_ring2"/>
          <p:cNvPicPr/>
          <p:nvPr/>
        </p:nvPicPr>
        <p:blipFill>
          <a:blip r:embed="rId1"/>
          <a:stretch/>
        </p:blipFill>
        <p:spPr>
          <a:xfrm>
            <a:off x="-396720" y="0"/>
            <a:ext cx="9324720" cy="69372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218880" y="0"/>
            <a:ext cx="386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ROUND</a:t>
            </a:r>
            <a:br>
              <a:rPr sz="8000"/>
            </a:br>
            <a:r>
              <a:rPr b="0" lang="ru-RU" sz="8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IV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900000" y="5734080"/>
            <a:ext cx="7921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What time is it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Викторина 4 класс_5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mages3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0" y="5516640"/>
            <a:ext cx="8675640" cy="10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 Black"/>
              </a:rPr>
              <a:t>DEMONST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18880" y="0"/>
            <a:ext cx="386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Arial Black"/>
              </a:rPr>
              <a:t>ROUND</a:t>
            </a:r>
            <a:br>
              <a:rPr sz="8000"/>
            </a:br>
            <a:r>
              <a:rPr b="0" lang="ru-RU" sz="8000" spc="-1" strike="noStrike">
                <a:solidFill>
                  <a:srgbClr val="3333cc"/>
                </a:solidFill>
                <a:latin typeface="Arial Black"/>
              </a:rPr>
              <a:t>    </a:t>
            </a:r>
            <a:r>
              <a:rPr b="0" lang="en-US" sz="8000" spc="-1" strike="noStrike">
                <a:solidFill>
                  <a:srgbClr val="3333cc"/>
                </a:solidFill>
                <a:latin typeface="Arial Black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8929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ANK YOU FOR YOUR WORK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image4"/>
          <p:cNvPicPr/>
          <p:nvPr/>
        </p:nvPicPr>
        <p:blipFill>
          <a:blip r:embed="rId1"/>
          <a:stretch/>
        </p:blipFill>
        <p:spPr>
          <a:xfrm>
            <a:off x="1692360" y="3141720"/>
            <a:ext cx="48085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Викторина 4 класс_9"/>
          <p:cNvPicPr/>
          <p:nvPr/>
        </p:nvPicPr>
        <p:blipFill>
          <a:blip r:embed="rId1"/>
          <a:stretch/>
        </p:blipFill>
        <p:spPr>
          <a:xfrm>
            <a:off x="0" y="0"/>
            <a:ext cx="9144000" cy="77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brein_ring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37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43000" y="0"/>
            <a:ext cx="4228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ROUND</a:t>
            </a:r>
            <a:br>
              <a:rPr sz="8800"/>
            </a:br>
            <a:r>
              <a:rPr b="0" lang="ru-RU" sz="8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500120" y="5715000"/>
            <a:ext cx="6769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Warming-u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Викторина 4 класс_16"/>
          <p:cNvPicPr/>
          <p:nvPr/>
        </p:nvPicPr>
        <p:blipFill>
          <a:blip r:embed="rId1"/>
          <a:stretch/>
        </p:blipFill>
        <p:spPr>
          <a:xfrm>
            <a:off x="0" y="0"/>
            <a:ext cx="9144000" cy="78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Викторина 4 класс_18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277164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5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Викторина 4 класс_12"/>
          <p:cNvPicPr/>
          <p:nvPr/>
        </p:nvPicPr>
        <p:blipFill>
          <a:blip r:embed="rId1"/>
          <a:stretch/>
        </p:blipFill>
        <p:spPr>
          <a:xfrm>
            <a:off x="0" y="0"/>
            <a:ext cx="9144000" cy="89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Викторина 4 класс_4"/>
          <p:cNvPicPr/>
          <p:nvPr/>
        </p:nvPicPr>
        <p:blipFill>
          <a:blip r:embed="rId1"/>
          <a:stretch/>
        </p:blipFill>
        <p:spPr>
          <a:xfrm>
            <a:off x="0" y="0"/>
            <a:ext cx="9144000" cy="75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0000"/>
                </a:solidFill>
                <a:latin typeface="Arial"/>
              </a:rPr>
              <a:t>ROUND</a:t>
            </a:r>
            <a:br>
              <a:rPr sz="11700"/>
            </a:br>
            <a:r>
              <a:rPr b="0" lang="en-US" sz="117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C:\Program Files\Common Files\Microsoft Shared\Clipart\cagcat50\BD04897_.WMF"/>
          <p:cNvPicPr/>
          <p:nvPr/>
        </p:nvPicPr>
        <p:blipFill>
          <a:blip r:embed="rId1"/>
          <a:stretch/>
        </p:blipFill>
        <p:spPr>
          <a:xfrm>
            <a:off x="5562720" y="4164120"/>
            <a:ext cx="299088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757800" y="330120"/>
            <a:ext cx="808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Make up as many words as you can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he following let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5" descr="holly"/>
          <p:cNvPicPr/>
          <p:nvPr/>
        </p:nvPicPr>
        <p:blipFill>
          <a:blip r:embed="rId1"/>
          <a:stretch/>
        </p:blipFill>
        <p:spPr>
          <a:xfrm>
            <a:off x="6324480" y="5334120"/>
            <a:ext cx="2264040" cy="9396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1"/>
          <p:cNvSpPr/>
          <p:nvPr/>
        </p:nvSpPr>
        <p:spPr>
          <a:xfrm>
            <a:off x="593280" y="6357960"/>
            <a:ext cx="54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OK AT THE SIDES OF THE C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0000"/>
                </a:solidFill>
                <a:latin typeface="Arial"/>
              </a:rPr>
              <a:t>ROUND</a:t>
            </a:r>
            <a:br>
              <a:rPr sz="11700"/>
            </a:br>
            <a:r>
              <a:rPr b="0" lang="en-US" sz="117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img10"/>
          <p:cNvPicPr/>
          <p:nvPr/>
        </p:nvPicPr>
        <p:blipFill>
          <a:blip r:embed="rId1"/>
          <a:srcRect l="0" t="0" r="59495" b="0"/>
          <a:stretch/>
        </p:blipFill>
        <p:spPr>
          <a:xfrm rot="21060000">
            <a:off x="5724360" y="3860280"/>
            <a:ext cx="2227320" cy="1892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dsc00715"/>
          <p:cNvPicPr/>
          <p:nvPr/>
        </p:nvPicPr>
        <p:blipFill>
          <a:blip r:embed="rId2"/>
          <a:stretch/>
        </p:blipFill>
        <p:spPr>
          <a:xfrm>
            <a:off x="0" y="3743280"/>
            <a:ext cx="2771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 capital of Australia is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  </a:t>
            </a:r>
            <a:r>
              <a:rPr b="0" i="1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elbour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 Sydne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 </a:t>
            </a:r>
            <a:r>
              <a:rPr b="0" i="1" lang="en-US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nberr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908000" y="134136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18880" y="0"/>
            <a:ext cx="386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ROUND</a:t>
            </a:r>
            <a:br>
              <a:rPr sz="8000"/>
            </a:br>
            <a:r>
              <a:rPr b="0" lang="ru-RU" sz="8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 I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187280" y="5734080"/>
            <a:ext cx="741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Guess the wo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371600" y="-20574000"/>
            <a:ext cx="6248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n the 5</a:t>
            </a:r>
            <a:r>
              <a:rPr b="0" lang="en-US" sz="44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th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of November this holiday is celebrated. What holiday is 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04920" y="152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n the 5</a:t>
            </a:r>
            <a:r>
              <a:rPr b="0" lang="en-US" sz="44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th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of November this holiday is celebrated. What holiday is 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llowe’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ast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uy Fawkes Nigh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is is the place where the Prime Minister  lives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4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uckingham Palace</a:t>
            </a:r>
            <a:r>
              <a:rPr b="0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4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№ </a:t>
            </a: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 Downing Street</a:t>
            </a:r>
            <a:r>
              <a:rPr b="0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Tower of Londo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is is a building where the parliament seats, there’s a clock tower with a famous bell in i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11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Houses of Parliament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11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uckingham Palace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. Paul’s Cathedr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t was a fortress, a royal palace and later a prison. It’s a museum now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. Paul’s Cathedral</a:t>
            </a:r>
            <a:r>
              <a:rPr b="0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ower Bridge</a:t>
            </a:r>
            <a:r>
              <a:rPr b="0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Tower of Lond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 official language in the USA is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165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ren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165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merican</a:t>
            </a:r>
            <a:r>
              <a:rPr b="0" lang="ru-RU" sz="6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i="1" lang="en-US" sz="6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glis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Arial"/>
              </a:rPr>
              <a:t>THE </a:t>
            </a:r>
            <a:br>
              <a:rPr sz="10600"/>
            </a:br>
            <a:r>
              <a:rPr b="0" lang="en-US" sz="14200" spc="-1" strike="noStrike">
                <a:solidFill>
                  <a:srgbClr val="ff0000"/>
                </a:solidFill>
                <a:latin typeface="Arial"/>
              </a:rPr>
              <a:t>FINAL</a:t>
            </a:r>
            <a:r>
              <a:rPr b="0" lang="en-US" sz="106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br>
              <a:rPr sz="10600"/>
            </a:br>
            <a:r>
              <a:rPr b="0" lang="en-US" sz="10600" spc="-1" strike="noStrike">
                <a:solidFill>
                  <a:srgbClr val="ff0000"/>
                </a:solidFill>
                <a:latin typeface="Arial"/>
              </a:rPr>
              <a:t>    ROU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Program Files\Common Files\Microsoft Shared\Clipart\cagcat50\PE01562_.wmf"/>
          <p:cNvPicPr/>
          <p:nvPr/>
        </p:nvPicPr>
        <p:blipFill>
          <a:blip r:embed="rId1"/>
          <a:stretch/>
        </p:blipFill>
        <p:spPr>
          <a:xfrm>
            <a:off x="6019920" y="380880"/>
            <a:ext cx="27874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468360" y="476280"/>
          <a:ext cx="8424720" cy="604836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  <a:gridCol w="2808360"/>
              </a:tblGrid>
              <a:tr h="16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a bana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carrot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Thursda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a kitche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flow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a blackboa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co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frog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Black"/>
                          <a:ea typeface="Lucida Sans Unicode"/>
                        </a:rPr>
                        <a:t>a lam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chai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6" name="Picture 34" descr="dsc00715"/>
          <p:cNvPicPr/>
          <p:nvPr/>
        </p:nvPicPr>
        <p:blipFill>
          <a:blip r:embed="rId2"/>
          <a:stretch/>
        </p:blipFill>
        <p:spPr>
          <a:xfrm>
            <a:off x="3348000" y="2205000"/>
            <a:ext cx="2644920" cy="2808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5"/>
          <p:cNvSpPr/>
          <p:nvPr/>
        </p:nvSpPr>
        <p:spPr>
          <a:xfrm>
            <a:off x="1671480" y="24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18880" y="0"/>
            <a:ext cx="386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ROUND</a:t>
            </a:r>
            <a:br>
              <a:rPr sz="8000"/>
            </a:br>
            <a:r>
              <a:rPr b="0" lang="ru-RU" sz="8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II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5943600"/>
            <a:ext cx="8748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IDDLES ABOUT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C:\Documents and Settings\Валентина\Рабочий стол\загруженное.jpg"/>
          <p:cNvPicPr/>
          <p:nvPr/>
        </p:nvPicPr>
        <p:blipFill>
          <a:blip r:embed="rId2"/>
          <a:stretch/>
        </p:blipFill>
        <p:spPr>
          <a:xfrm>
            <a:off x="500040" y="428760"/>
            <a:ext cx="84646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C:\Documents and Settings\Валентина\Рабочий стол\загруженное (1).jpg"/>
          <p:cNvPicPr/>
          <p:nvPr/>
        </p:nvPicPr>
        <p:blipFill>
          <a:blip r:embed="rId2"/>
          <a:stretch/>
        </p:blipFill>
        <p:spPr>
          <a:xfrm>
            <a:off x="1000080" y="642960"/>
            <a:ext cx="750096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Documents and Settings\Валентина\Рабочий стол\загруженное (2).jpg"/>
          <p:cNvPicPr/>
          <p:nvPr/>
        </p:nvPicPr>
        <p:blipFill>
          <a:blip r:embed="rId2"/>
          <a:stretch/>
        </p:blipFill>
        <p:spPr>
          <a:xfrm>
            <a:off x="785880" y="714240"/>
            <a:ext cx="7786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brein_ring2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C:\Documents and Settings\Валентина\Рабочий стол\загруженное (3).jpg"/>
          <p:cNvPicPr/>
          <p:nvPr/>
        </p:nvPicPr>
        <p:blipFill>
          <a:blip r:embed="rId2"/>
          <a:stretch/>
        </p:blipFill>
        <p:spPr>
          <a:xfrm>
            <a:off x="1143000" y="714240"/>
            <a:ext cx="72867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16T17:37:33Z</dcterms:modified>
  <cp:revision>34</cp:revision>
  <dc:subject/>
  <dc:title>PowerPoint Presentation</dc:title>
</cp:coreProperties>
</file>