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852640"/>
            <a:ext cx="705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Impact"/>
                <a:ea typeface="DejaVu Sans"/>
              </a:rPr>
              <a:t> </a:t>
            </a:r>
            <a:r>
              <a:rPr b="1" i="1" lang="ru-RU" sz="3600" spc="-1" strike="noStrike">
                <a:solidFill>
                  <a:srgbClr val="008080"/>
                </a:solidFill>
                <a:latin typeface="Arial"/>
                <a:ea typeface="DejaVu Sans"/>
              </a:rPr>
              <a:t>Д</a:t>
            </a:r>
            <a:r>
              <a:rPr b="1" i="1" lang="ru-RU" sz="3600" spc="-1" strike="noStrike">
                <a:solidFill>
                  <a:srgbClr val="008080"/>
                </a:solidFill>
                <a:latin typeface="Impact"/>
                <a:ea typeface="DejaVu Sans"/>
              </a:rPr>
              <a:t>омашние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 горам, по дола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Ходит шуба и кафтан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51664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                        ягнёнок                  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249084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319120" cy="244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80000" y="3933720"/>
            <a:ext cx="1600200" cy="11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765000"/>
            <a:ext cx="82296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ождём она гу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ипать травку обож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ря» - кри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это шу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конечно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ка                        утята                         селе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2017440" cy="229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637000" cy="331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132000" y="4149720"/>
            <a:ext cx="244800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825800" cy="380844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572000" y="2781360"/>
            <a:ext cx="1584360" cy="287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2200" y="2781360"/>
            <a:ext cx="1731960" cy="2887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625480" y="4005360"/>
            <a:ext cx="151596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4005360"/>
            <a:ext cx="129564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09840" y="5516640"/>
            <a:ext cx="130032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5516640"/>
            <a:ext cx="122400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60280"/>
            <a:ext cx="6458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Что нам д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домашние животны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out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животные называются домашн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60280"/>
            <a:ext cx="7200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Impact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6600cc"/>
                </a:solidFill>
                <a:latin typeface="Impact"/>
                <a:ea typeface="DejaVu San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291280"/>
            <a:ext cx="2050920" cy="156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1873080" cy="174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1871640" cy="144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855800" cy="1871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419640" y="5246640"/>
            <a:ext cx="1944360" cy="1611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564000" y="335772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476280"/>
            <a:ext cx="82296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то такие домашние живот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6828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такие животные, которые содержаться человеком. Он предоставляет им кров и пищу, а они, в свою очередь, приносят человеку пользу, являются либо источником материальных благ и услуг, либо компаньонами, которые скрашивают человеческий дос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367344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620640"/>
            <a:ext cx="82296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дишь - ласк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азнишь - кус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ака                                  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13440" cy="25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8000" y="112536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по железной кры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ит тихо, тише мы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хоту ночью вый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ак днем все вид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спит, а после 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ывается 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51664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                                           кот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165420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0"/>
            <a:ext cx="82296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дная – мычит, сытая – жу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ребятам, молоко даё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297792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5589720"/>
            <a:ext cx="793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                                         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392360" cy="34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1970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ятачком в земле копаюсь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грязной луже искупаюс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084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нья                                     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319280" cy="331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024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981000"/>
            <a:ext cx="82296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еня конюшня –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сти меня овс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ва вьется за спи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гонишься за мн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73720"/>
            <a:ext cx="82296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шадь                 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413080"/>
            <a:ext cx="4572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413080"/>
            <a:ext cx="457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468000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268280"/>
            <a:ext cx="8229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родою, а не стар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огами, а не б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онь, а брык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ят, но не кор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ухом, а не пт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ко дерет, а лаптей не пле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3006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за                   козлёнок                        коз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3829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309" t="0" r="24721" b="0"/>
          <a:stretch/>
        </p:blipFill>
        <p:spPr>
          <a:xfrm>
            <a:off x="3348000" y="3573360"/>
            <a:ext cx="9842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907920"/>
            <a:ext cx="82296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ит, гого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щипнуть меня хо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иду, бо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о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8972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сыня                      гусёнок                 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529080" cy="196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531880" cy="416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1468440" cy="1527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8:31:40Z</dcterms:created>
  <dc:creator>Светлана</dc:creator>
  <dc:description/>
  <cp:keywords/>
  <dc:language>en-US</dc:language>
  <cp:lastModifiedBy>Viktor</cp:lastModifiedBy>
  <dcterms:modified xsi:type="dcterms:W3CDTF">2019-03-10T18:20:32Z</dcterms:modified>
  <cp:revision>39</cp:revision>
  <dc:subject/>
  <dc:title>домашние живо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1</vt:r8>
  </property>
  <property fmtid="{D5CDD505-2E9C-101B-9397-08002B2CF9AE}" pid="6" name="Notes">
    <vt:r8>1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