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C1D-59AF-4680-B4EC-4563FF5D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7C3-CAE6-4F5A-8D32-84D513AA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364-6F6A-4775-8713-839F6ABA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F94-5455-4C22-9BD3-96B4E761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192B3-8799-4818-8BF7-5C5F8F62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2BC58-0C96-429F-B22B-95643856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AEA8C-D5DA-48A2-AD39-41ADAB28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DD272-115C-4334-BC60-2596F72F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6BA92-4520-4DE4-95E9-D5EB91D0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76C2D-7D74-49F1-A357-D695C27A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70A5F-E503-4314-B8A6-6A641EDE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EEB-F4E6-407F-B35D-944F332A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29976-7F68-46D3-B7E8-B0887C5F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EA1C1-40DC-43D0-8B39-BDEFC434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4A55D-54FC-4B3E-A077-041B2188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A644F-C721-4463-AB32-12B16260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D89FD-D395-48E2-ACE2-CB59BAB4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D58E6-44C4-4CA9-B21C-80F285A5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04BB8-E593-4ECC-97DD-A7967323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C937D-8DBF-4118-BF10-BCF29E64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C354-DC1D-4ADE-8E8F-23B899A7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FDA2A-2595-4A8B-9EC8-ECC16F95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DE6-87B5-4F9C-B787-A40C394B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76525-1825-4861-A8B5-4EE9F4D1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DF75-573C-460E-8206-EA28E3F4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E77F-A53C-4531-A01B-F352C302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4EB29-44A3-4546-B8F6-BD425562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A07CD-7A73-4C36-BCBE-574B5C78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F7F95-27B9-4727-A616-7EF37242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95164-0D8A-4491-8EA3-47C13BA1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7F0FB4-2E78-41C1-8ADC-1392E3A8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D4204-2A92-4D3B-B4D3-C31C3A71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9484E1-2801-4E4C-BF92-D924A35D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4F7-7928-499A-B0AC-0F83B7A4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4FA017-122A-4070-9970-D0FCDF5B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6530B3-5DB8-424C-AE66-2338B34A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742786-FFC0-46F3-8882-92C18CFA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50A4E-A68E-4BB9-A441-5843487D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8B9D7-2887-47BB-9797-4A5C92DE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B510B3-299A-4A56-A0FC-D70297E7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F2AC3F-ED35-4F32-8BE0-87C2402B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BC9327-9419-4E3B-9D8E-59EDA01F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8B7F5-950F-40DD-949E-BE3AD7AC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9F0D6-CB65-4793-990A-8B434311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A13-B206-4F9D-825C-8727730F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2CDE3-6B06-42CA-BE8C-E8D9BE53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3889EE-046F-49C1-AF2D-346D12CF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5A6A8-B0F3-4D60-8144-8FA9384B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8E94A-FBB2-48E5-B105-A57FCDF6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EAD18B-A783-41AE-9EEF-4611880F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FCFB8-9074-4D3E-B5A4-A30FFBA7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EC6EE-C9F5-4012-81F1-0704281C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1AC7E-2372-435E-9379-AF667431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0CEF2-7DF3-46FB-8998-86D185D4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1D602-A79A-4FB7-8DA0-1F85D3D4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7BCC-21AF-4BFE-A71B-21528C84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1729A-E374-418F-8C40-B6041615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0DE76-F214-44A9-8D24-7B628DC3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32925-562C-40AA-A100-C3499AEB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2DE5A9-B989-463E-AA57-38D14601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60331-2DC8-46E1-B5D8-A4538E6B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F7C14-3157-42EA-BBB1-90EAE18E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F2D4EA-E761-40AE-A005-26265951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41549-8DAD-465D-8C3F-C068671C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C2F9A-62A6-44A1-9C87-9A454DA9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22022-F03F-413D-B71D-35C14EA7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522-6EF9-4DC3-AACC-9A43ACD4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F5ABC-91EB-4DEC-9EFC-E7BBA2A9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192257-0BD4-4E6D-B950-E5240069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789686-CC89-49A8-92B6-14CEE3B7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4C6-E93D-400E-B8DF-D89D7432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890-FD81-487A-8E7B-6D3E82C4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0DFE-F1D1-450A-AF3D-500A1FEF3721}" type="slidenum">
              <a:rPr b="1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0975-36D5-41C1-97AB-770DAAF34234}" type="slidenum">
              <a:rPr b="1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DB6D-4C60-4D99-AF79-2AED7EBBE8A8}" type="slidenum">
              <a:rPr b="1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B564-7369-4C20-B010-C82D52AF4FC8}" type="slidenum">
              <a:rPr b="1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D747-5B41-44DC-A212-265F7EF99CE9}" type="slidenum">
              <a:rPr b="1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5561-3553-4F21-8290-635DEE4A33A3}" type="slidenum">
              <a:rPr b="1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4"/>
          <p:cNvSpPr/>
          <p:nvPr/>
        </p:nvSpPr>
        <p:spPr>
          <a:xfrm>
            <a:off x="2438280" y="990720"/>
            <a:ext cx="6477120" cy="4724280"/>
          </a:xfrm>
          <a:prstGeom prst="ellipse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a447"/>
                </a:solidFill>
                <a:latin typeface="Arial"/>
              </a:rPr>
              <a:t>Советы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a447"/>
                </a:solidFill>
                <a:latin typeface="Arial"/>
              </a:rPr>
              <a:t>Мудрого Филина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a447"/>
                </a:solidFill>
                <a:latin typeface="Arial"/>
              </a:rPr>
              <a:t>Правила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a447"/>
                </a:solidFill>
                <a:latin typeface="Arial"/>
              </a:rPr>
              <a:t>поведения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a447"/>
                </a:solidFill>
                <a:latin typeface="Arial"/>
              </a:rPr>
              <a:t>на природе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52280" y="0"/>
            <a:ext cx="274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3505320" cy="57913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5029200" y="1676520"/>
            <a:ext cx="3429000" cy="28382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Если дерево одн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 поле возвышается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То стоять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од ним в грозу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Людям запрещается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Если молния в нег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взначай ударит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То живого никого Рядом не оставит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3429000" cy="56386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5257800" y="1828800"/>
            <a:ext cx="2819520" cy="28382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икогда не ешь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знакомых ягод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грибы-поганк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 рот тащить не надо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Голова закружится, Заболит живот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от отравлени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Доктор не спасет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3387600" cy="56386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5638680" y="1219320"/>
            <a:ext cx="2743200" cy="405792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Должны всерьез вы уяснить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Без взрослы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 лес нельзя ходить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едь заблудитьс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так легко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Уйти от дома далек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не найти назад пути..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больше к маме не дойти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3581280" cy="5715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5257800" y="1066680"/>
            <a:ext cx="3352680" cy="503568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Мы попросить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хотим ребят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 трогать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маленьких зверят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в руки никогд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 брать –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х мать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римчится защищать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ока еще малы они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х мама стережет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се дн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3657600" cy="54104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5410080" y="60480"/>
            <a:ext cx="3048120" cy="680220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Если по лесу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с друзьями гуля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на пенечк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змею увидал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То не кричи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 сзывай всех друзей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А отойди сам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одальше скорей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омни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змея начинает кусаться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Если должн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от врагов защищаться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Ты же не станешь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ее обижать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Можешь спокойно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свой путь продолжать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657600" cy="55623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5410080" y="1143000"/>
            <a:ext cx="2819520" cy="405792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ужно всегд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за здоровьем следить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потому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олагается мы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Фрукты и овощи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еред едой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Очень старательно теплой водой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Мытое яблоко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ярче блестит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Да и живот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от него не болит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724280" cy="312444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6"/>
          <p:cNvSpPr/>
          <p:nvPr/>
        </p:nvSpPr>
        <p:spPr>
          <a:xfrm>
            <a:off x="5791320" y="762120"/>
            <a:ext cx="2819160" cy="58874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 распыляй аэрозол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близи открытого огн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От комара или от моли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От паука и от слепня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едь если брызнеш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ты на пламя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Костер взовьетс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до небес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в результате пострадают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Друзья, ты сам... и целый лес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5"/>
          <p:cNvSpPr/>
          <p:nvPr/>
        </p:nvSpPr>
        <p:spPr>
          <a:xfrm>
            <a:off x="228600" y="533520"/>
            <a:ext cx="3886200" cy="36446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есна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В поход спешат ребята!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о знать туристам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юным надо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Чтоб не страдали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звери, птицы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рироду порти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 годится!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019920" y="457200"/>
            <a:ext cx="3124080" cy="421668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С поляны мусор собер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И на костр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его сожгите!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Костер в лесу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 оставляйте –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Песком, землею засыпайте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Чтоб не дымился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 искрил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Беды в лесу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a447"/>
                </a:solidFill>
                <a:latin typeface="Arial"/>
              </a:rPr>
              <a:t>не натворил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90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4-12T01:35:51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