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68B8-3FFF-4172-A006-89B59CDBA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FC4A-293D-4F83-87AB-90C5F8E2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A469-5257-49B9-948A-FE90B6AD8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1236-9577-478C-869D-A16F18E66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C4BD52-218A-4A36-9C71-C72C87BDB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9DA51-69FF-4D00-A288-53CA03D8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9C65A-BCB5-4048-A134-D45E5127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8E69C-C686-4144-82DC-53C64728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DC81B-EE99-48F2-81CD-897020ED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8DF98-F9D2-41FD-B2E5-1C92AC05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F1739-7230-4860-834F-C2764004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1187-4297-414C-A4C9-E1053CAD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841EC-997D-44AA-9332-30B4AB83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C5FA9-C76E-4A4C-A526-C1A4F632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6CA50-9BFB-4CB3-A6C6-3F1B7260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2FE59-9FED-4B54-AB8B-A84A2D521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D38F3-5BEE-451E-9DE1-FDB3B92EE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A8A4E-C0C8-45DC-BD38-DD39AFB21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8D43F-A502-475F-82EB-6CD91075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35EBE-4DDA-4569-9843-37AC44E2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B5310-10C7-4E06-B042-BC72F2DE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38994-071B-4F98-9765-19D380B8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CC66-B6E0-4269-B070-933942F4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30ADC-7256-42AF-B37B-FBEB1C9B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94E73-9D17-4DBB-A490-8F2DF608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AC6F7-2C05-4BAB-B78C-930F10E8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C80AC-6EEF-4BDD-A221-343471A3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0C772-F17D-4CC2-80A4-F1854D5D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5E231-5EA7-4898-9B03-E588CE3AC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DB870-4B52-4426-B4C9-3ED2C32B5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413DA1-8F3C-4A0B-BAF2-18096BEBC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C90965-3A77-4938-A0D2-7A976DDD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49C766-1E63-45A3-B121-8023D2BA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9E6C-0795-4897-A409-11BEE313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2288ED-BDCC-4966-8760-08BA725C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4C1C11-05B2-4DCC-AAFC-71ED3B8E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A7B8DA-3EA1-48DC-AE57-6A5ADAF7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14565C-F618-4D27-92A0-480ECADD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FA5438-F815-43F1-836A-FC47F70C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944B5C-D94C-4B4F-B56C-52C9A9D0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389E73-E742-4DAC-B50C-A67CFBD3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4AFC84-F630-4D23-9552-3B95DE436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5329B7-CCD0-4AD8-B620-F9BC267D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B3A303-825D-4E80-86A0-2E635B378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B291-16DD-4C33-8CDE-1423356C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D51D01-643D-474D-ADBD-07BE9295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7989A4-2B64-4A7F-B61F-66ECC373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F4490D-E35C-4515-A52C-9C302F2E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548139-409E-4B33-82D8-36DB9D1B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A8B778-023E-4819-AFBA-F9AECA55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847C27-DFBC-4955-9BFD-9636DA8A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D7A60C-6326-4485-B7FE-03CEA8FE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6073D6-EEBD-4F95-AB64-8BC335F5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3E7EF1-81D7-4B59-B13B-57DBC709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36DEEF-6D19-436B-81C0-8530535B3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A825-E060-4509-848E-3B948591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3FE1A2-8377-47EF-A7F5-24E9443E3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30099B-BFBD-4119-B4DC-8433E8BFF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FF12F5-F199-4EAF-9974-F1277A28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651D7A-DC5A-4476-9104-92BA5269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1316A1-19CF-4652-B2A0-56A86C15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34FD37-1206-42DF-8454-EB12DEA2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79048F-D8F6-4398-9052-BE4B2961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7D3990-EA1E-467B-A096-D81E64C3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580F7E-EF61-42B8-A38C-FFA56699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3ECAFA-D951-46E3-AB8C-D6D4DD53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D60E-3875-4EB6-B3FE-C2C1B39D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741137-14D5-42C6-A48C-B257DA7A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D30D63-D8D4-4106-A907-A60421B3D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B5B117-8739-4440-8CC4-8C428F25D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41A9-98F6-4F0A-BBDC-B48E54ED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E712-6AA5-4B64-A0D4-DF6F7EE3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DC2F-BCF2-4D94-8068-23A61025D859}" type="slidenum">
              <a:rPr b="1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A8B5-F61C-4B1F-9CD8-7DCEB9195C9D}" type="slidenum">
              <a:rPr b="1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B742-FEC0-4459-BB7A-A80BAABD0670}" type="slidenum">
              <a:rPr b="1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70FB-052D-439B-9D5F-D4A12CFD4471}" type="slidenum">
              <a:rPr b="1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A6F4-488E-47E1-8589-60E35084C7D8}" type="slidenum">
              <a:rPr b="1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3AE0-F0B2-45FE-B2B2-2E7FBDCC992C}" type="slidenum">
              <a:rPr b="1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Oval 4"/>
          <p:cNvSpPr/>
          <p:nvPr/>
        </p:nvSpPr>
        <p:spPr>
          <a:xfrm>
            <a:off x="2438280" y="990720"/>
            <a:ext cx="6477120" cy="4724280"/>
          </a:xfrm>
          <a:prstGeom prst="ellipse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3a447"/>
                </a:solidFill>
                <a:latin typeface="Arial"/>
              </a:rPr>
              <a:t>Советы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3a447"/>
                </a:solidFill>
                <a:latin typeface="Arial"/>
              </a:rPr>
              <a:t>Мудрого Филина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3a447"/>
                </a:solidFill>
                <a:latin typeface="Arial"/>
              </a:rPr>
              <a:t>Правила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3a447"/>
                </a:solidFill>
                <a:latin typeface="Arial"/>
              </a:rPr>
              <a:t>поведения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3a447"/>
                </a:solidFill>
                <a:latin typeface="Arial"/>
              </a:rPr>
              <a:t>на природе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152280" y="0"/>
            <a:ext cx="2748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3505320" cy="579132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5"/>
          <p:cNvSpPr/>
          <p:nvPr/>
        </p:nvSpPr>
        <p:spPr>
          <a:xfrm>
            <a:off x="5029200" y="1676520"/>
            <a:ext cx="3429000" cy="283824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Если дерево одно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В поле возвышается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То стоять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под ним в грозу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Людям запрещается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Если молния в него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Невзначай ударит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То живого никого Рядом не оставит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3429000" cy="563868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5"/>
          <p:cNvSpPr/>
          <p:nvPr/>
        </p:nvSpPr>
        <p:spPr>
          <a:xfrm>
            <a:off x="5257800" y="1828800"/>
            <a:ext cx="2819520" cy="283824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Никогда не ешьт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Незнакомых ягод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И грибы-поганк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В рот тащить не надо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Голова закружится, Заболит живот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И от отравления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Доктор не спасет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3387600" cy="56386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5"/>
          <p:cNvSpPr/>
          <p:nvPr/>
        </p:nvSpPr>
        <p:spPr>
          <a:xfrm>
            <a:off x="5638680" y="1219320"/>
            <a:ext cx="2743200" cy="405792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Должны всерьез вы уяснить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Без взрослых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в лес нельзя ходить!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Ведь заблудиться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так легко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Уйти от дома далеко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И не найти назад пути..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И больше к маме не дойти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3581280" cy="57150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5"/>
          <p:cNvSpPr/>
          <p:nvPr/>
        </p:nvSpPr>
        <p:spPr>
          <a:xfrm>
            <a:off x="5257800" y="1066680"/>
            <a:ext cx="3352680" cy="503568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Мы попросить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хотим ребят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Не трогать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маленьких зверят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И в руки никогда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не брать –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Их мать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примчится защищать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Пока еще малы они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Их мама стережет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все дни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3657600" cy="541044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"/>
          <p:cNvSpPr/>
          <p:nvPr/>
        </p:nvSpPr>
        <p:spPr>
          <a:xfrm>
            <a:off x="5410080" y="60480"/>
            <a:ext cx="3048120" cy="680220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Если по лесу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с друзьями гулял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И на пенечк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змею увидал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То не кричи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не сзывай всех друзей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А отойди сам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подальше скорей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Помни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змея начинает кусаться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Если должн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от врагов защищаться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Ты же не станешь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ее обижать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Можешь спокойно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свой путь продолжать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3657600" cy="556236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5"/>
          <p:cNvSpPr/>
          <p:nvPr/>
        </p:nvSpPr>
        <p:spPr>
          <a:xfrm>
            <a:off x="5410080" y="1143000"/>
            <a:ext cx="2819520" cy="405792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Нужно всегда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за здоровьем следить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И потому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полагается мыт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Фрукты и овощи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перед едой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Очень старательно теплой водой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Мытое яблоко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ярче блестит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Да и живот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от него не болит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5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4724280" cy="312444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6"/>
          <p:cNvSpPr/>
          <p:nvPr/>
        </p:nvSpPr>
        <p:spPr>
          <a:xfrm>
            <a:off x="5791320" y="762120"/>
            <a:ext cx="2819160" cy="588744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Не распыляй аэрозол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Вблизи открытого огн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От комара или от моли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От паука и от слепня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Ведь если брызнеш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ты на пламя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Костер взовьется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до небес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И в результате пострадают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Друзья, ты сам... и целый лес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5"/>
          <p:cNvSpPr/>
          <p:nvPr/>
        </p:nvSpPr>
        <p:spPr>
          <a:xfrm>
            <a:off x="228600" y="533520"/>
            <a:ext cx="3886200" cy="364464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Весна!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В поход спешат ребята!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Но знать туристам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юным надо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Чтоб не страдали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звери, птицы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Природу портит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не годится!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6019920" y="457200"/>
            <a:ext cx="3124080" cy="421668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С поляны мусор соберит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И на костре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его сожгите!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Костер в лесу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не оставляйте –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Песком, землею засыпайте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Чтоб не дымился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не искрил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Беды в лесу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не натворил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3124080" y="2743200"/>
            <a:ext cx="29084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04-12T01:35:51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