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E6A-F469-4589-848B-54770CE4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961-B3DE-447A-8FD2-A60E0A84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385-F6DB-4B51-B27C-2FA14A9D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D84-B5A2-40A4-9063-28DC5B28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B2CC-FB7D-4202-8B0B-ADDB1569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1F9F-87A8-41FF-B613-92E198F5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9EAE-A999-473C-9E4D-1922240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52F1-8101-4C20-9C1C-E73C1D22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25B8-25B0-4168-BFEA-F2EF95EA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543B-1423-455D-A213-4360F09E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4882-2706-416F-946A-582A10C2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B02-1C84-4168-908C-B2087495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2079-2D3B-47E0-8645-EB9F354C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4FCA-4658-4BD9-AD89-16FEA8BD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D782-3F5F-4A26-BF3F-4940879A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A827-E336-4044-9802-D9BE8B0A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119C-3287-46EE-8BC5-653D92DB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ED2-2270-421E-9E1C-5E3A6511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485-0CE9-49B8-9BF1-AC82EF5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D1B-3CA4-4A7D-9DA5-17DD2F8B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A9A-E0C3-477F-BD68-81CAE9AB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9E6-880E-43BE-97E2-0A28FBB8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CD4-8EBD-4B10-9AA6-E98A5F2C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D68-AA63-4D71-96A2-B7861D4C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A83B-D51F-4070-B759-A22BA2CB97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416E-54A2-4F54-9706-E11645FF03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1,5,&#1057;&#1083;&#1072;&#1081;&#1076; 5" TargetMode="External"/><Relationship Id="rId2" Type="http://schemas.openxmlformats.org/officeDocument/2006/relationships/hyperlink" Target="271,15,&#1057;&#1083;&#1072;&#1081;&#1076; 15" TargetMode="External"/><Relationship Id="rId3" Type="http://schemas.openxmlformats.org/officeDocument/2006/relationships/hyperlink" Target="272,10,&#1057;&#1083;&#1072;&#1081;&#1076; 10" TargetMode="External"/><Relationship Id="rId4" Type="http://schemas.openxmlformats.org/officeDocument/2006/relationships/hyperlink" Target="273,11,&#1057;&#1083;&#1072;&#1081;&#1076; 11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8366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Уроки обобщения и систематизации знаний. Их роль в повышении эффективности учебно-воспитательного процесса в шко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0" y="655164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857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НЕСТАНДАРТНЫЕ УРО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0" y="1206360"/>
            <a:ext cx="314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1. Урок-соревнова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1920" y="1989000"/>
            <a:ext cx="31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2. Урок-исследова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7280" y="2637000"/>
            <a:ext cx="309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3. Урок-конференц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7760" y="3429000"/>
            <a:ext cx="265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4. Урок-экскурс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0480" y="4149720"/>
            <a:ext cx="26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5. Урок-дискусс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81360" y="4869000"/>
            <a:ext cx="602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6. Урок - деловая игра, урок – ролевая игр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ПРЕДПОЛАГАЕМЫЙ РЕЗУЛЬТАТ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73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Сформировать знания, умения, навыки в соответствии с требованиями учебных программ (стандар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844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Развить у обучающихся стремление к самовыражению, творческой, самостоятельной деятельности, совершенствование коммуникативного аспекта владения географическим язы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924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Сформировать у лицеистов представление о целостности окружающего мира при его территориальном разнообразии, сложных проблемах, встающих перед человечеством, воспитание патриотизма и культуры к своей стране, к своему краю, своей малой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443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Развить память, воображение, наблюдательность, творческое отношение к подготов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93240" y="5370480"/>
            <a:ext cx="86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. Создание проектов и их презентация (электронный краеведческий журна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401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504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Систематизация, обобщение и закрепление знаний   обучающихся по крупным разделам учебной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368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Определение степени усвоения материала и углубление знаний, умений и навыков по целому разделу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448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Участие в межкультурной коммуникации и готовности личности школьника к самостоятельному совершенствованию по средствам уроков географ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08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Показ роли и значения природы в жизни и хозяйственной деятельности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30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432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Развитие творческих способностей, инициативы и самостоятельности обучающихся на уроках обобщающего повторения и систематизации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349360"/>
            <a:ext cx="923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Развитие познавательного интереса, элементов исследовательской, проектной деятельности на уроках и в ходе совместной подготовки уроков обоб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84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Совершенствование практических умений и навыков в работе  с  учебником, картами различного содержания, дополнительной художественной и научно-популярной литературой, ресурсами Интернет, мультимедийными сред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653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Применение новых форм и приемов обучения для повышения мотивации обучающихся, развития их творчества, инициативности, вовлечение в активный познавательный проце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ПУТИ РЕШ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504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нение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различных форм и методов работы на уроках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Times New Roman"/>
                <a:hlinkClick r:id="rId2"/>
              </a:rPr>
              <a:t>внеклассных мероприят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480" y="270828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Times New Roman"/>
                <a:hlinkClick r:id="rId3"/>
              </a:rPr>
              <a:t>Проведение нестандартных уро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3440" y="350028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Times New Roman"/>
                <a:hlinkClick r:id="rId4"/>
              </a:rPr>
              <a:t>Уровневая дифферен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0920" y="4437000"/>
            <a:ext cx="48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Осуществление межпредметных свя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las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1080" y="765000"/>
            <a:ext cx="42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Уроки в форме соревнований и иг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-22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ТИПОЛОГИЯ ОБОБЩАЮЩИХ УРОКОВ ПО ФОРМЕ ИХ ПРО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05264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конкур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7280" y="126828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турн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9640" y="15573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эстаф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18446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дуэ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41440" y="220500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КВ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8720" y="249228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викто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21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Уроки, основанные на формах, жанрах и методах работы, известных в общественной прак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6720" y="386064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исслед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5280" y="458136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изобретатель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6360" y="422100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анализ первоисточ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6360" y="50133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коммента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7640" y="537372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мозговая ата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360" y="765000"/>
            <a:ext cx="84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Уроки, основанные на нетрадиционной организации учебного матери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1120" y="105264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 мудр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7280" y="148428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откров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1840" y="1844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59320" y="2205000"/>
            <a:ext cx="45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 – «дублер начинает действова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2160" y="2637000"/>
            <a:ext cx="60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Уроки, напоминающие публичные формы общ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5080" y="299736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ресс-конфере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6160" y="32846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бриф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7080" y="357336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аукци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77800" y="39337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бенеф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36360" y="4221000"/>
            <a:ext cx="37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регламентированная дискус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4581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ано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52293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телемо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9500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репорта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4720" y="558972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диа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6000" y="630864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«живая газ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5800" y="48690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стный жур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-22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ТИПОЛОГИЯ ОБОБЩАЮЩИХ УРОКОВ ПО ФОРМЕ ИХ ПРО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60" y="907920"/>
            <a:ext cx="85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. Уроки, основанные на имитации деятельности учреждений и организ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9440" y="119700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след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280" y="155736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атент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3640" y="198900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ченый сов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21000"/>
            <a:ext cx="89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. Уроки, основанные на имитации деятельности при проведении общественно-культурных меро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7640" y="31417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заочная экскур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3573360"/>
            <a:ext cx="29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экскурсия в прош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640" y="400536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утеше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56720" y="436572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рогул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869000"/>
            <a:ext cx="42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 Уроки, опирающиеся на фантаз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200" y="54450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ска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602136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сюрпр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-22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ТИПОЛОГИЯ ОБОБЩАЮЩИХ УРОКОВ ПО ФОРМЕ ИХ ПРО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2160" y="83664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. Использование на уроке традиционных форм внеклассной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1440" y="119700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спектак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98920" y="1628640"/>
            <a:ext cx="32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«следствие ведут знато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7080" y="20606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дис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25080" y="249228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брейн-р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1800" y="3213000"/>
            <a:ext cx="69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. Трансформация традиционных способов организации ур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9080" y="37162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лекция-парад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6360" y="414972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арный 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15280" y="458136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экспресс-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1280" y="50133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защита оце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7280" y="544500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консуль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2200" y="595008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практик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67280" y="630864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семин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-22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ТИПОЛОГИЯ ОБОБЩАЮЩИХ УРОКОВ ПО ФОРМЕ ИХ ПРО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1144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ВНЕКЛАССНЫЕ МЕРОПРИЯТ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12536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ff99"/>
                </a:solidFill>
                <a:latin typeface="Times New Roman"/>
              </a:rPr>
              <a:t>Неделя географии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0" y="191628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священие в географы – 6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760" y="2637000"/>
            <a:ext cx="68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еографический концерт «Путешествие по рекам» - 8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6760" y="3500280"/>
            <a:ext cx="49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еографическая игра «Показуха» - 7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41800" y="4437000"/>
            <a:ext cx="47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рейн-ринг «Наш дом – планета Земля»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8520" y="5300640"/>
            <a:ext cx="370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кологический калейдоско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совместное заседание кружк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10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6:40:34Z</dcterms:created>
  <dc:creator>Customer</dc:creator>
  <dc:description/>
  <dc:language>en-US</dc:language>
  <cp:lastModifiedBy>Customer</cp:lastModifiedBy>
  <dcterms:modified xsi:type="dcterms:W3CDTF">2008-02-24T16:43:52Z</dcterms:modified>
  <cp:revision>1</cp:revision>
  <dc:subject/>
  <dc:title>Слайд 1</dc:title>
</cp:coreProperties>
</file>