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7E29-4221-49F1-B8EB-DCAE4E806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47FA-29FE-4164-81DE-1D7C4447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4C70-0660-40FA-AD35-46E76C0CA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B0EB-6F9C-428E-B831-27F0BE343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6B50-4B97-4196-A997-6497FD3B8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0B6C-B6CC-4B1E-9BB7-C607D221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EBFA-AE91-43BF-8771-2EACC360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C17F-91CD-4FA2-B7CB-45E166A6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3A72-6389-4903-ACA3-4F3C8380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CEA7-F95F-4059-BFCE-2F9B06CE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3654-8BE4-40F7-9EDC-13F7C0B4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2044-90DF-4E88-8494-88161DFC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BE03-C6E9-43F2-BFDD-BF468AA0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AFBF-C802-4217-B6F4-F8FCC3F8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D761-AEF1-4ADF-B973-C7D4457E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5A59-F550-49CC-AB0A-3247FC24B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5DFC-B974-4754-B05E-ACA51B5D9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C1F1-EF81-44C2-8EEA-F5304FE4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154D-2A89-4CFC-A8B4-F08A08A6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22D4-8B1A-47BA-B7E6-32EE5D97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9B71-ED8D-4147-ADF0-D8E032C6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A310-466D-4DAA-9F26-30630168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3DD5-8601-46EF-A93A-9A5D8464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83E3-A945-4987-A9E4-6815ECA3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6897-52D5-4930-9A89-5514194B1F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A1A2-4250-40AA-A4B5-D1B3EBBE00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261,5,&#1057;&#1083;&#1072;&#1081;&#1076; 5" TargetMode="External"/><Relationship Id="rId2" Type="http://schemas.openxmlformats.org/officeDocument/2006/relationships/hyperlink" Target="271,15,&#1057;&#1083;&#1072;&#1081;&#1076; 15" TargetMode="External"/><Relationship Id="rId3" Type="http://schemas.openxmlformats.org/officeDocument/2006/relationships/hyperlink" Target="272,10,&#1057;&#1083;&#1072;&#1081;&#1076; 10" TargetMode="External"/><Relationship Id="rId4" Type="http://schemas.openxmlformats.org/officeDocument/2006/relationships/hyperlink" Target="273,11,&#1057;&#1083;&#1072;&#1081;&#1076; 11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83664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00"/>
                </a:solidFill>
                <a:latin typeface="Times New Roman"/>
              </a:rPr>
              <a:t>Уроки обобщения и систематизации знаний. Их роль в повышении эффективности учебно-воспитательного процесса в школ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0" y="655164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2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1857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Times New Roman"/>
              </a:rPr>
              <a:t>НЕСТАНДАРТНЫЕ УРОК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840" y="1206360"/>
            <a:ext cx="3140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1. Урок-соревнование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91920" y="1989000"/>
            <a:ext cx="3134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2. Урок-исследование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187280" y="2637000"/>
            <a:ext cx="3090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3. Урок-конференция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697760" y="3429000"/>
            <a:ext cx="2654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4. Урок-экскурсия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0480" y="4149720"/>
            <a:ext cx="2676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5. Урок-дискуссия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781360" y="4869000"/>
            <a:ext cx="6020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6. Урок - деловая игра, урок – ролевая игр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74872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10800" y="4093"/>
                </a:moveTo>
                <a:lnTo>
                  <a:pt x="13376" y="6704"/>
                </a:lnTo>
                <a:lnTo>
                  <a:pt x="13376" y="4963"/>
                </a:lnTo>
                <a:lnTo>
                  <a:pt x="15152" y="4963"/>
                </a:lnTo>
                <a:lnTo>
                  <a:pt x="15152" y="8479"/>
                </a:lnTo>
                <a:lnTo>
                  <a:pt x="17763" y="11056"/>
                </a:lnTo>
                <a:lnTo>
                  <a:pt x="16109" y="11056"/>
                </a:lnTo>
                <a:lnTo>
                  <a:pt x="16109" y="18245"/>
                </a:lnTo>
                <a:lnTo>
                  <a:pt x="5491" y="18245"/>
                </a:lnTo>
                <a:lnTo>
                  <a:pt x="5491" y="11056"/>
                </a:lnTo>
                <a:lnTo>
                  <a:pt x="3837" y="11056"/>
                </a:lnTo>
                <a:close/>
              </a:path>
              <a:path fill="darkenLess" w="21600" h="22111">
                <a:moveTo>
                  <a:pt x="13376" y="6704"/>
                </a:moveTo>
                <a:lnTo>
                  <a:pt x="13376" y="4963"/>
                </a:lnTo>
                <a:lnTo>
                  <a:pt x="15152" y="4963"/>
                </a:lnTo>
                <a:lnTo>
                  <a:pt x="15152" y="8479"/>
                </a:lnTo>
                <a:close/>
              </a:path>
              <a:path fill="darkenLess" w="21600" h="22111">
                <a:moveTo>
                  <a:pt x="9877" y="14554"/>
                </a:moveTo>
                <a:lnTo>
                  <a:pt x="11723" y="14554"/>
                </a:lnTo>
                <a:lnTo>
                  <a:pt x="11723" y="18245"/>
                </a:lnTo>
                <a:lnTo>
                  <a:pt x="16109" y="18245"/>
                </a:lnTo>
                <a:lnTo>
                  <a:pt x="16109" y="11056"/>
                </a:lnTo>
                <a:lnTo>
                  <a:pt x="5491" y="11056"/>
                </a:lnTo>
                <a:lnTo>
                  <a:pt x="5491" y="18245"/>
                </a:lnTo>
                <a:lnTo>
                  <a:pt x="9877" y="18245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5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18900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3300"/>
                </a:solidFill>
                <a:latin typeface="Times New Roman"/>
              </a:rPr>
              <a:t>ПРЕДПОЛАГАЕМЫЙ РЕЗУЛЬТАТ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10731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. Сформировать знания, умения, навыки в соответствии с требованиями учебных программ (стандар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184464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. Развить у обучающихся стремление к самовыражению, творческой, самостоятельной деятельности, совершенствование коммуникативного аспекта владения географическим язык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292428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. Сформировать у лицеистов представление о целостности окружающего мира при его территориальном разнообразии, сложных проблемах, встающих перед человечеством, воспитание патриотизма и культуры к своей стране, к своему краю, своей малой Роди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44370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. Развить память, воображение, наблюдательность, творческое отношение к подготов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-93240" y="5370480"/>
            <a:ext cx="861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. Создание проектов и их презентация (электронный краеведческий журнал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5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4017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ЦЕ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5048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. Систематизация, обобщение и закрепление знаний   обучающихся по крупным разделам учебной программ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3684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. Определение степени усвоения материала и углубление знаний, умений и навыков по целому разделу программ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448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. Участие в межкультурной коммуникации и готовности личности школьника к самостоятельному совершенствованию по средствам уроков географ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508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. Показ роли и значения природы в жизни и хозяйственной деятельности чел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330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ЗАДАЧ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432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. Развитие творческих способностей, инициативы и самостоятельности обучающихся на уроках обобщающего повторения и систематизации зна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2349360"/>
            <a:ext cx="923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. Развитие познавательного интереса, элементов исследовательской, проектной деятельности на уроках и в ходе совместной подготовки уроков обобщ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328464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 Совершенствование практических умений и навыков в работе  с  учебником, картами различного содержания, дополнительной художественной и научно-популярной литературой, ресурсами Интернет, мультимедийными средств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46530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. Применение новых форм и приемов обучения для повышения мотивации обучающихся, развития их творчества, инициативности, вовлечение в активный познавательный процес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40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ПУТИ РЕШ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5048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рименение </a:t>
            </a:r>
            <a:r>
              <a:rPr b="0" lang="en-US" sz="2000" spc="-1" strike="noStrike" u="sng">
                <a:solidFill>
                  <a:srgbClr val="99ff99"/>
                </a:solidFill>
                <a:uFillTx/>
                <a:latin typeface="Times New Roman"/>
                <a:hlinkClick r:id="rId1"/>
              </a:rPr>
              <a:t>различных форм и методов работы на уроках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и </a:t>
            </a:r>
            <a:r>
              <a:rPr b="0" lang="en-US" sz="2000" spc="-1" strike="noStrike" u="sng">
                <a:solidFill>
                  <a:srgbClr val="99ff99"/>
                </a:solidFill>
                <a:uFillTx/>
                <a:latin typeface="Times New Roman"/>
                <a:hlinkClick r:id="rId2"/>
              </a:rPr>
              <a:t>внеклассных мероприятия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7480" y="2708280"/>
            <a:ext cx="42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000" spc="-1" strike="noStrike" u="sng">
                <a:solidFill>
                  <a:srgbClr val="99ff99"/>
                </a:solidFill>
                <a:uFillTx/>
                <a:latin typeface="Times New Roman"/>
                <a:hlinkClick r:id="rId3"/>
              </a:rPr>
              <a:t>Проведение нестандартных уро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73440" y="3500280"/>
            <a:ext cx="35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en-US" sz="2000" spc="-1" strike="noStrike" u="sng">
                <a:solidFill>
                  <a:srgbClr val="99ff99"/>
                </a:solidFill>
                <a:uFillTx/>
                <a:latin typeface="Times New Roman"/>
                <a:hlinkClick r:id="rId4"/>
              </a:rPr>
              <a:t>Уровневая дифференци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30920" y="4437000"/>
            <a:ext cx="48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. Осуществление межпредметных связ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lastslide"/>
          </p:cNvPr>
          <p:cNvSpPr/>
          <p:nvPr/>
        </p:nvSpPr>
        <p:spPr>
          <a:xfrm>
            <a:off x="8532720" y="6381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6852" y="3794"/>
                </a:moveTo>
                <a:lnTo>
                  <a:pt x="20865" y="10800"/>
                </a:lnTo>
                <a:lnTo>
                  <a:pt x="6852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-1080" y="765000"/>
            <a:ext cx="427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. Уроки в форме соревнований и иг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-22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Times New Roman"/>
              </a:rPr>
              <a:t>ТИПОЛОГИЯ ОБОБЩАЮЩИХ УРОКОВ ПО ФОРМЕ ИХ ПРОВЕДЕ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5280" y="105264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конкур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7280" y="1268280"/>
            <a:ext cx="10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турни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59640" y="155736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эстафе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835280" y="184464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дуэ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341440" y="2205000"/>
            <a:ext cx="8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КВ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8720" y="249228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виктор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32130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. Уроки, основанные на формах, жанрах и методах работы, известных в общественной практи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6720" y="3860640"/>
            <a:ext cx="180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исслед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15280" y="458136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изобретатель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56360" y="4221000"/>
            <a:ext cx="30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анализ первоисточни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76360" y="50133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комментар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07640" y="5373720"/>
            <a:ext cx="193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мозговая ата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64612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-360" y="765000"/>
            <a:ext cx="845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. Уроки, основанные на нетрадиционной организации учебного материа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1120" y="105264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урок мудр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27280" y="148428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откров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01840" y="184464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урок-бл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59320" y="2205000"/>
            <a:ext cx="452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урок – «дублер начинает действовать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-2160" y="2637000"/>
            <a:ext cx="60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. Уроки, напоминающие публичные формы общ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5080" y="2997360"/>
            <a:ext cx="24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пресс-конферен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86160" y="3284640"/>
            <a:ext cx="12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брифин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17080" y="3573360"/>
            <a:ext cx="12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аукцио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77800" y="3933720"/>
            <a:ext cx="12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бенефи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36360" y="4221000"/>
            <a:ext cx="37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регламентированная дискусс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24000" y="458136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панора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71640" y="52293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телемос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95008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репорта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04720" y="5589720"/>
            <a:ext cx="106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диало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36000" y="630864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«живая газет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85800" y="4869000"/>
            <a:ext cx="199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устный журна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-22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Times New Roman"/>
              </a:rPr>
              <a:t>ТИПОЛОГИЯ ОБОБЩАЮЩИХ УРОКОВ ПО ФОРМЕ ИХ ПРОВЕДЕ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160" y="907920"/>
            <a:ext cx="851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. Уроки, основанные на имитации деятельности учреждений и организа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9440" y="119700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следств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71280" y="1557360"/>
            <a:ext cx="20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патентное бюр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403640" y="1989000"/>
            <a:ext cx="17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ученый сов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21000"/>
            <a:ext cx="898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. Уроки, основанные на имитации деятельности при проведении общественно-культурных мероприят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7640" y="31417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заочная экскурс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42920" y="3573360"/>
            <a:ext cx="293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экскурсия в прошл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35640" y="4005360"/>
            <a:ext cx="172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путешеств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56720" y="436572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прогул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4869000"/>
            <a:ext cx="42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 Уроки, опирающиеся на фантаз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0200" y="544500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урок-сказ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185840" y="6021360"/>
            <a:ext cx="185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урок-сюрпри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-22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Times New Roman"/>
              </a:rPr>
              <a:t>ТИПОЛОГИЯ ОБОБЩАЮЩИХ УРОКОВ ПО ФОРМЕ ИХ ПРОВЕДЕ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-2160" y="83664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8. Использование на уроке традиционных форм внеклассной рабо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1440" y="119700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спектак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98920" y="1628640"/>
            <a:ext cx="323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«следствие ведут знаток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77080" y="2060640"/>
            <a:ext cx="10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диспу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25080" y="2492280"/>
            <a:ext cx="15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брейн-рин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-1800" y="3213000"/>
            <a:ext cx="69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. Трансформация традиционных способов организации уро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69080" y="3716280"/>
            <a:ext cx="21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лекция-парадок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6360" y="4149720"/>
            <a:ext cx="18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парный опро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115280" y="4581360"/>
            <a:ext cx="19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экспресс-опро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31280" y="5013360"/>
            <a:ext cx="252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урок-защита оцен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547280" y="5445000"/>
            <a:ext cx="24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урок-консульт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62200" y="5950080"/>
            <a:ext cx="20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урок-практику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267280" y="6308640"/>
            <a:ext cx="182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урок-семина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2499" y="3837"/>
                </a:moveTo>
                <a:lnTo>
                  <a:pt x="15075" y="6448"/>
                </a:ln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lnTo>
                  <a:pt x="19462" y="10800"/>
                </a:lnTo>
                <a:lnTo>
                  <a:pt x="17808" y="10800"/>
                </a:lnTo>
                <a:lnTo>
                  <a:pt x="17808" y="17989"/>
                </a:lnTo>
                <a:lnTo>
                  <a:pt x="7190" y="17989"/>
                </a:lnTo>
                <a:lnTo>
                  <a:pt x="7190" y="10800"/>
                </a:lnTo>
                <a:lnTo>
                  <a:pt x="5536" y="10800"/>
                </a:lnTo>
                <a:close/>
              </a:path>
              <a:path fill="darkenLess" w="24998" h="21600">
                <a:moveTo>
                  <a:pt x="15075" y="6448"/>
                </a:move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close/>
              </a:path>
              <a:path fill="darkenLess" w="24998" h="21600">
                <a:moveTo>
                  <a:pt x="11577" y="14299"/>
                </a:moveTo>
                <a:lnTo>
                  <a:pt x="13422" y="14299"/>
                </a:lnTo>
                <a:lnTo>
                  <a:pt x="13422" y="17989"/>
                </a:lnTo>
                <a:lnTo>
                  <a:pt x="17808" y="17989"/>
                </a:lnTo>
                <a:lnTo>
                  <a:pt x="17808" y="10800"/>
                </a:lnTo>
                <a:lnTo>
                  <a:pt x="7190" y="10800"/>
                </a:lnTo>
                <a:lnTo>
                  <a:pt x="7190" y="17989"/>
                </a:lnTo>
                <a:lnTo>
                  <a:pt x="115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-22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Times New Roman"/>
              </a:rPr>
              <a:t>ТИПОЛОГИЯ ОБОБЩАЮЩИХ УРОКОВ ПО ФОРМЕ ИХ ПРОВЕДЕ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11448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Times New Roman"/>
              </a:rPr>
              <a:t>ВНЕКЛАССНЫЕ МЕРОПРИЯТ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112536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99ff99"/>
                </a:solidFill>
                <a:latin typeface="Times New Roman"/>
              </a:rPr>
              <a:t>Неделя географии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20" y="191628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освящение в географы – 6 класс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68760" y="2637000"/>
            <a:ext cx="685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Географический концерт «Путешествие по рекам» - 8 класс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56760" y="3500280"/>
            <a:ext cx="49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Географическая игра «Показуха» - 7 класс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141800" y="4437000"/>
            <a:ext cx="47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Брейн-ринг «Наш дом – планета Земля» -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 класс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438520" y="5300640"/>
            <a:ext cx="370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Экологический калейдоскоп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совместное заседание кружков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10 класс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2499" y="3837"/>
                </a:moveTo>
                <a:lnTo>
                  <a:pt x="15075" y="6448"/>
                </a:ln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lnTo>
                  <a:pt x="19462" y="10800"/>
                </a:lnTo>
                <a:lnTo>
                  <a:pt x="17808" y="10800"/>
                </a:lnTo>
                <a:lnTo>
                  <a:pt x="17808" y="17989"/>
                </a:lnTo>
                <a:lnTo>
                  <a:pt x="7190" y="17989"/>
                </a:lnTo>
                <a:lnTo>
                  <a:pt x="7190" y="10800"/>
                </a:lnTo>
                <a:lnTo>
                  <a:pt x="5536" y="10800"/>
                </a:lnTo>
                <a:close/>
              </a:path>
              <a:path fill="darkenLess" w="24998" h="21600">
                <a:moveTo>
                  <a:pt x="15075" y="6448"/>
                </a:move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close/>
              </a:path>
              <a:path fill="darkenLess" w="24998" h="21600">
                <a:moveTo>
                  <a:pt x="11577" y="14299"/>
                </a:moveTo>
                <a:lnTo>
                  <a:pt x="13422" y="14299"/>
                </a:lnTo>
                <a:lnTo>
                  <a:pt x="13422" y="17989"/>
                </a:lnTo>
                <a:lnTo>
                  <a:pt x="17808" y="17989"/>
                </a:lnTo>
                <a:lnTo>
                  <a:pt x="17808" y="10800"/>
                </a:lnTo>
                <a:lnTo>
                  <a:pt x="7190" y="10800"/>
                </a:lnTo>
                <a:lnTo>
                  <a:pt x="7190" y="17989"/>
                </a:lnTo>
                <a:lnTo>
                  <a:pt x="115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8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16:40:34Z</dcterms:created>
  <dc:creator>Customer</dc:creator>
  <dc:description/>
  <dc:language>en-US</dc:language>
  <cp:lastModifiedBy>Customer</cp:lastModifiedBy>
  <dcterms:modified xsi:type="dcterms:W3CDTF">2008-02-24T16:43:52Z</dcterms:modified>
  <cp:revision>1</cp:revision>
  <dc:subject/>
  <dc:title>Слайд 1</dc:title>
</cp:coreProperties>
</file>