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dt" idx="1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ftr" idx="1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 type="sldNum" idx="1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9786A-F616-4A29-BE48-9F36F30FDC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50ABF2-10D8-4C96-9AAB-52B11D7D68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258AF-F01A-40C0-B918-903D07EE70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98783-C656-494D-82E2-EAF5E05159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C4999E-81CC-4B39-A181-85BF76510E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67153-804D-4D1F-ACA6-DF58B15A31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E5007-3252-412A-9CA1-EBBD8F4462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7258C-F614-4B52-BFBF-20BFAD7A40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E9993-FCA1-4C11-B396-E1577221F0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C2701-61FD-449E-99BB-48770C9B25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67131C-1DFD-4E5A-96CC-8100DDFC0B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48B85F-1400-44CB-9070-397F45AD92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7AAAA-C7B0-4978-967F-D435F0FEFA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3480F-F51D-4A17-A2EC-4AE81D32D7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84080-2B0E-403A-8732-EE3E96FD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EF67B-46E7-4023-8AEC-20BE3D0E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2B571-832E-418C-B8E4-0F8A66A050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EFDE-DF23-459D-B970-90617D566F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C5C7-8463-48B4-A61C-4B70083B7B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745E-0CC9-4020-A938-2025B841BA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D0E9-0942-4C91-992E-7DB82D8076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8A06-3386-4426-B9D7-049FC28B89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F8E0-4F48-402F-8636-24A6B040F3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FE9E-C9E5-46A7-987E-D2F98EF5BA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756E5-06B4-4693-A0A1-F34154E5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10BB-61D3-49C8-958C-58A918FDE1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D52E-53AE-4F01-9DF0-240E9DFF8E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BE85-BE5B-47AF-9131-55E3AC79A8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7377-4E7A-48CC-A904-667D4BD465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A7B3-435C-4207-985A-3FC5794719D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B5E68-32AB-4745-98DD-427C58FA6A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80607-62BA-4822-BBA6-83F79120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DCDCC-4BBE-4DCE-9613-544522A9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B0AA8-570C-4143-A5A8-82407CFF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CD1F4-5DC7-44B8-B5EC-B55B6A4A6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0C68C-5DD9-4D6C-940D-73D3885F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B1E9D-37DB-4324-AA3E-47FC9CC2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C7994-7378-4C0E-AA7A-E9518282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83E16-D7BB-4178-A28F-9E0C51AA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25E18-2ADE-45BF-8CBF-8B299D2D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5C65F-B92C-48E0-9094-484C3095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D425F-BE85-43F0-889C-1D6F4725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60786-20B6-4377-B7C0-465BB16690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6D2E6B-E1D9-4F0B-B569-BE9E94B862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843B03-4EB0-473B-A00B-248FA7AE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72EE97-C650-4D9F-AFB0-75A583C3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1A6C5-7E1B-43EF-AEC1-0286F9F1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181EE8-0BF5-4931-9D26-C29BAD57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4FD2F1-6327-4897-ACB3-81022CDDB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88B741-8D44-4C2A-B07E-8BF4577BC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54EC0D-C71D-44EE-BB33-2B299187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892093-4911-4CBA-BFE4-229368E1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68255F-568E-4C71-BD17-558CB896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92C599-2B1C-48D0-8396-344EC8FA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68C4DA-EC4A-47E9-988C-912E1F83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3C358D-E55D-472D-B303-1B9A1196C1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BB5B6-A6B1-49B9-96F4-C363242340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100A1-8AAC-4F28-A944-C2A956A81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D2938-BEA1-4222-A946-523B7AAD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99513-E716-4D6A-AEF3-A0B151BB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D0EE1-E188-4A9F-ABE8-FBC4D890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50D20-9E53-45AA-8D20-3EE09A26B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DBFB2-36C8-4CD3-9636-E294B8FCC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6B9FD-5CFE-48FA-A873-7D11EB72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367B0-B918-458E-8329-8D32BBBD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01B7F-C3A6-43DA-91C5-725D9F73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36E2D-91EA-4618-A07C-09603CAA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EC8B7-E8A3-451C-A619-4173A7D0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71C16-4BC4-4FC3-8826-AB636E38C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FF2FB-F202-4F09-90D6-61B9FD9054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B76F3D-7620-4A25-BC76-D018B47F34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C7F32A-A080-47D5-99A0-59B356E4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BA95BE-2A83-4A95-9775-C529F77D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8A3F54-BDDE-417E-8086-770B3DCF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0518E1-A73D-4A13-A839-7DCC9B743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44E15E-3ACB-444E-B7CE-3BB79831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59E294-4494-49CD-9665-6BC2400C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4267E4-464F-4398-978D-4369AEB7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83C8FF-0336-4D9D-BA97-5DABF692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6B83D-8249-44DA-9E93-29340C80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28EB2E-A2CE-4072-B1C4-A5626C25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2B38E7-863A-44E6-AFFD-5A4E3240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2DF7CA-6F60-40CB-8F99-9DD9D57092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36B987-0859-4B8C-BE8C-0356E4CEF8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964620-93D8-4818-BCEA-9BEC1510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74C02B-480D-424B-BD36-9376415F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6CE4A4-E4B1-4881-A9FB-852112B8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41FB0A-C8EA-4381-A5B2-670B89D14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423376-C9FF-4342-A2B1-AA5A3263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4338A9-6275-44A9-9B02-F516467B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3523E-FCBA-4E3D-9548-0250846D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4F7D32-6FB6-4027-A567-BEC7F19B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1ED3B4-DFDC-4E42-8491-46D32B89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C83A7C-DAAB-4D50-A8F5-CD8F652E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125047-2D03-4996-8FC8-E69E69C4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1AF314-51A4-462C-9E32-780132FC74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0F4F2-A032-47BD-82D8-037389BE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776916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Образец подзаголов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5164200" y="6249600"/>
            <a:ext cx="37828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7.5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3990600" y="6249600"/>
            <a:ext cx="115884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DEAE20-C5B9-4807-BDA2-1226E381A38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28800"/>
            <a:ext cx="686736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440" y="1828800"/>
            <a:ext cx="3768840" cy="360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4610160" y="1828800"/>
            <a:ext cx="3771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3020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Для правки структуры щелкните мыш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SimSun"/>
              </a:rPr>
              <a:t>Втор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3840" indent="-28584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SimSun"/>
              </a:rPr>
              <a:t>Трети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5480" indent="-21420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SimSun"/>
              </a:rPr>
              <a:t>Четверты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SimSun"/>
              </a:rPr>
              <a:t>Пяты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SimSun"/>
              </a:rPr>
              <a:t>Шест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SimSun"/>
              </a:rPr>
              <a:t>Седьм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SimSun"/>
              </a:rPr>
              <a:t>Восьм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488"/>
              </a:spcBef>
              <a:buClr>
                <a:srgbClr val="31b6fd"/>
              </a:buClr>
              <a:buFont typeface="Symbol" charset="2"/>
              <a:buChar char="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Девятый уровень структурыОбразец тек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Bef>
                <a:spcPts val="437"/>
              </a:spcBef>
              <a:buClr>
                <a:srgbClr val="31b6fd"/>
              </a:buClr>
              <a:buFont typeface="Symbol" charset="2"/>
              <a:buChar char="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  <a:ea typeface="SimSun"/>
              </a:rPr>
              <a:t>Второй уровен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93840" indent="-28584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  <a:ea typeface="SimSun"/>
              </a:rPr>
              <a:t>Трети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25480" indent="-21420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  <a:ea typeface="SimSun"/>
              </a:rPr>
              <a:t>Четверты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  <a:ea typeface="SimSun"/>
              </a:rPr>
              <a:t>Пя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4610160" y="3733920"/>
            <a:ext cx="3771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3020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Для правки структуры щелкните мыш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SimSun"/>
              </a:rPr>
              <a:t>Втор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3840" indent="-28584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SimSun"/>
              </a:rPr>
              <a:t>Трети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5480" indent="-21420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SimSun"/>
              </a:rPr>
              <a:t>Четверты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SimSun"/>
              </a:rPr>
              <a:t>Пяты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SimSun"/>
              </a:rPr>
              <a:t>Шест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SimSun"/>
              </a:rPr>
              <a:t>Седьм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SimSun"/>
              </a:rPr>
              <a:t>Восьм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488"/>
              </a:spcBef>
              <a:buClr>
                <a:srgbClr val="31b6fd"/>
              </a:buClr>
              <a:buFont typeface="Symbol" charset="2"/>
              <a:buChar char="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Девятый уровень структурыОбразец тек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Bef>
                <a:spcPts val="437"/>
              </a:spcBef>
              <a:buClr>
                <a:srgbClr val="31b6fd"/>
              </a:buClr>
              <a:buFont typeface="Symbol" charset="2"/>
              <a:buChar char="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  <a:ea typeface="SimSun"/>
              </a:rPr>
              <a:t>Второй уровен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93840" indent="-28584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  <a:ea typeface="SimSun"/>
              </a:rPr>
              <a:t>Трети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25480" indent="-21420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  <a:ea typeface="SimSun"/>
              </a:rPr>
              <a:t>Четверты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  <a:ea typeface="SimSun"/>
              </a:rPr>
              <a:t>Пя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3"/>
          </p:nvPr>
        </p:nvSpPr>
        <p:spPr>
          <a:xfrm>
            <a:off x="67179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d6ec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94B3D38-6AD8-4BA8-84AE-1C986094731E}" type="slidenum">
              <a:rPr b="0" lang="ru-RU" sz="2400" spc="-1" strike="noStrike">
                <a:solidFill>
                  <a:srgbClr val="d6ecff"/>
                </a:solidFill>
                <a:latin typeface="Candar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7784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720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7.5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5"/>
          </p:nvPr>
        </p:nvSpPr>
        <p:spPr>
          <a:xfrm>
            <a:off x="6553080" y="6356160"/>
            <a:ext cx="2130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DC32AFC-B5E6-4E8C-8D74-09602A3BB34B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1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871200" y="2674440"/>
            <a:ext cx="740556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31896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18960" indent="-318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318960" indent="-318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318960" indent="-318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318960" indent="-318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318960" indent="-318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318960" indent="-318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6840" y="294840"/>
            <a:ext cx="8226360" cy="13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6"/>
          </p:nvPr>
        </p:nvSpPr>
        <p:spPr>
          <a:xfrm>
            <a:off x="5164200" y="6249960"/>
            <a:ext cx="37828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d6ec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6ecff"/>
                </a:solidFill>
                <a:latin typeface="Candara"/>
              </a:rPr>
              <a:t>17.5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7"/>
          </p:nvPr>
        </p:nvSpPr>
        <p:spPr>
          <a:xfrm>
            <a:off x="3990600" y="6249600"/>
            <a:ext cx="11588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2400" spc="-1" strike="noStrike">
                <a:solidFill>
                  <a:srgbClr val="d6ec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14F3F93-F07F-41E1-BF9C-524CFC4AE65C}" type="slidenum">
              <a:rPr b="0" lang="ru-RU" sz="2400" spc="-1" strike="noStrike">
                <a:solidFill>
                  <a:srgbClr val="d6ecff"/>
                </a:solidFill>
                <a:latin typeface="Candar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7784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8"/>
          </p:nvPr>
        </p:nvSpPr>
        <p:spPr>
          <a:xfrm>
            <a:off x="45720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7.5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160"/>
            <a:ext cx="2130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7ABA2FD-823F-434A-AAD7-4B9CD06BB7E2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92080" y="4103640"/>
            <a:ext cx="5483160" cy="19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792080" y="5366880"/>
            <a:ext cx="5483160" cy="76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0"/>
          </p:nvPr>
        </p:nvSpPr>
        <p:spPr>
          <a:xfrm>
            <a:off x="45720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7.5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1"/>
          </p:nvPr>
        </p:nvSpPr>
        <p:spPr>
          <a:xfrm>
            <a:off x="6553080" y="6356160"/>
            <a:ext cx="2130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D5B800D-4143-4D11-A347-AD4E186FFDF5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0" y="6611760"/>
            <a:ext cx="14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e6e0ec"/>
                </a:solidFill>
                <a:latin typeface="Mistral"/>
              </a:rPr>
              <a:t>© Фокина Лидия Петровна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857160" y="214200"/>
            <a:ext cx="8072640" cy="6429600"/>
          </a:xfrm>
          <a:prstGeom prst="rect">
            <a:avLst/>
          </a:prstGeom>
          <a:solidFill>
            <a:srgbClr val="ffffff"/>
          </a:solidFill>
          <a:ln w="38160">
            <a:solidFill>
              <a:srgbClr val="dbeef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3"/>
          <p:cNvGrpSpPr/>
          <p:nvPr/>
        </p:nvGrpSpPr>
        <p:grpSpPr>
          <a:xfrm>
            <a:off x="357120" y="1000080"/>
            <a:ext cx="926640" cy="212760"/>
            <a:chOff x="357120" y="1000080"/>
            <a:chExt cx="926640" cy="212760"/>
          </a:xfrm>
        </p:grpSpPr>
        <p:sp>
          <p:nvSpPr>
            <p:cNvPr id="256" name="Oval 4"/>
            <p:cNvSpPr/>
            <p:nvPr/>
          </p:nvSpPr>
          <p:spPr>
            <a:xfrm>
              <a:off x="1028880" y="1015560"/>
              <a:ext cx="254880" cy="179640"/>
            </a:xfrm>
            <a:prstGeom prst="ellipse">
              <a:avLst/>
            </a:prstGeom>
            <a:noFill/>
            <a:ln w="2556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Oval 5"/>
            <p:cNvSpPr/>
            <p:nvPr/>
          </p:nvSpPr>
          <p:spPr>
            <a:xfrm>
              <a:off x="357120" y="1015560"/>
              <a:ext cx="254880" cy="179640"/>
            </a:xfrm>
            <a:prstGeom prst="ellipse">
              <a:avLst/>
            </a:prstGeom>
            <a:noFill/>
            <a:ln w="2556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Oval 6"/>
            <p:cNvSpPr/>
            <p:nvPr/>
          </p:nvSpPr>
          <p:spPr>
            <a:xfrm>
              <a:off x="1074960" y="1049040"/>
              <a:ext cx="161640" cy="114840"/>
            </a:xfrm>
            <a:prstGeom prst="ellipse">
              <a:avLst/>
            </a:prstGeom>
            <a:noFill/>
            <a:ln w="25560">
              <a:solidFill>
                <a:srgbClr val="e6e0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Oval 7"/>
            <p:cNvSpPr/>
            <p:nvPr/>
          </p:nvSpPr>
          <p:spPr>
            <a:xfrm>
              <a:off x="402840" y="1049040"/>
              <a:ext cx="161640" cy="114840"/>
            </a:xfrm>
            <a:prstGeom prst="ellipse">
              <a:avLst/>
            </a:prstGeom>
            <a:noFill/>
            <a:ln w="25560">
              <a:solidFill>
                <a:srgbClr val="e6e0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Oval 8"/>
            <p:cNvSpPr/>
            <p:nvPr/>
          </p:nvSpPr>
          <p:spPr>
            <a:xfrm>
              <a:off x="472680" y="1000080"/>
              <a:ext cx="695520" cy="212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Group 9"/>
          <p:cNvGrpSpPr/>
          <p:nvPr/>
        </p:nvGrpSpPr>
        <p:grpSpPr>
          <a:xfrm>
            <a:off x="357120" y="1658880"/>
            <a:ext cx="926640" cy="212760"/>
            <a:chOff x="357120" y="1658880"/>
            <a:chExt cx="926640" cy="212760"/>
          </a:xfrm>
        </p:grpSpPr>
        <p:sp>
          <p:nvSpPr>
            <p:cNvPr id="262" name="Oval 10"/>
            <p:cNvSpPr/>
            <p:nvPr/>
          </p:nvSpPr>
          <p:spPr>
            <a:xfrm>
              <a:off x="1028880" y="1674360"/>
              <a:ext cx="254880" cy="179640"/>
            </a:xfrm>
            <a:prstGeom prst="ellipse">
              <a:avLst/>
            </a:prstGeom>
            <a:noFill/>
            <a:ln w="2556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Oval 11"/>
            <p:cNvSpPr/>
            <p:nvPr/>
          </p:nvSpPr>
          <p:spPr>
            <a:xfrm>
              <a:off x="357120" y="1674360"/>
              <a:ext cx="254880" cy="179640"/>
            </a:xfrm>
            <a:prstGeom prst="ellipse">
              <a:avLst/>
            </a:prstGeom>
            <a:noFill/>
            <a:ln w="2556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Oval 12"/>
            <p:cNvSpPr/>
            <p:nvPr/>
          </p:nvSpPr>
          <p:spPr>
            <a:xfrm>
              <a:off x="1074960" y="1707840"/>
              <a:ext cx="161640" cy="114840"/>
            </a:xfrm>
            <a:prstGeom prst="ellipse">
              <a:avLst/>
            </a:prstGeom>
            <a:noFill/>
            <a:ln w="25560">
              <a:solidFill>
                <a:srgbClr val="e6e0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Oval 13"/>
            <p:cNvSpPr/>
            <p:nvPr/>
          </p:nvSpPr>
          <p:spPr>
            <a:xfrm>
              <a:off x="402840" y="1707840"/>
              <a:ext cx="161640" cy="114840"/>
            </a:xfrm>
            <a:prstGeom prst="ellipse">
              <a:avLst/>
            </a:prstGeom>
            <a:noFill/>
            <a:ln w="25560">
              <a:solidFill>
                <a:srgbClr val="e6e0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Oval 14"/>
            <p:cNvSpPr/>
            <p:nvPr/>
          </p:nvSpPr>
          <p:spPr>
            <a:xfrm>
              <a:off x="472680" y="1658880"/>
              <a:ext cx="695520" cy="212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Group 15"/>
          <p:cNvGrpSpPr/>
          <p:nvPr/>
        </p:nvGrpSpPr>
        <p:grpSpPr>
          <a:xfrm>
            <a:off x="357120" y="2317680"/>
            <a:ext cx="926640" cy="212760"/>
            <a:chOff x="357120" y="2317680"/>
            <a:chExt cx="926640" cy="212760"/>
          </a:xfrm>
        </p:grpSpPr>
        <p:sp>
          <p:nvSpPr>
            <p:cNvPr id="268" name="Oval 16"/>
            <p:cNvSpPr/>
            <p:nvPr/>
          </p:nvSpPr>
          <p:spPr>
            <a:xfrm>
              <a:off x="1028880" y="2333160"/>
              <a:ext cx="254880" cy="179280"/>
            </a:xfrm>
            <a:prstGeom prst="ellipse">
              <a:avLst/>
            </a:prstGeom>
            <a:noFill/>
            <a:ln w="2556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Oval 17"/>
            <p:cNvSpPr/>
            <p:nvPr/>
          </p:nvSpPr>
          <p:spPr>
            <a:xfrm>
              <a:off x="357120" y="2333160"/>
              <a:ext cx="254880" cy="179280"/>
            </a:xfrm>
            <a:prstGeom prst="ellipse">
              <a:avLst/>
            </a:prstGeom>
            <a:noFill/>
            <a:ln w="2556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Oval 18"/>
            <p:cNvSpPr/>
            <p:nvPr/>
          </p:nvSpPr>
          <p:spPr>
            <a:xfrm>
              <a:off x="1074960" y="2366280"/>
              <a:ext cx="161640" cy="114840"/>
            </a:xfrm>
            <a:prstGeom prst="ellipse">
              <a:avLst/>
            </a:prstGeom>
            <a:noFill/>
            <a:ln w="25560">
              <a:solidFill>
                <a:srgbClr val="e6e0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Oval 19"/>
            <p:cNvSpPr/>
            <p:nvPr/>
          </p:nvSpPr>
          <p:spPr>
            <a:xfrm>
              <a:off x="402840" y="2366280"/>
              <a:ext cx="161640" cy="114840"/>
            </a:xfrm>
            <a:prstGeom prst="ellipse">
              <a:avLst/>
            </a:prstGeom>
            <a:noFill/>
            <a:ln w="25560">
              <a:solidFill>
                <a:srgbClr val="e6e0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Oval 20"/>
            <p:cNvSpPr/>
            <p:nvPr/>
          </p:nvSpPr>
          <p:spPr>
            <a:xfrm>
              <a:off x="472680" y="2317680"/>
              <a:ext cx="695520" cy="212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Group 21"/>
          <p:cNvGrpSpPr/>
          <p:nvPr/>
        </p:nvGrpSpPr>
        <p:grpSpPr>
          <a:xfrm>
            <a:off x="357120" y="2976480"/>
            <a:ext cx="926640" cy="212760"/>
            <a:chOff x="357120" y="2976480"/>
            <a:chExt cx="926640" cy="212760"/>
          </a:xfrm>
        </p:grpSpPr>
        <p:sp>
          <p:nvSpPr>
            <p:cNvPr id="274" name="Oval 22"/>
            <p:cNvSpPr/>
            <p:nvPr/>
          </p:nvSpPr>
          <p:spPr>
            <a:xfrm>
              <a:off x="1028880" y="2991960"/>
              <a:ext cx="254880" cy="179280"/>
            </a:xfrm>
            <a:prstGeom prst="ellipse">
              <a:avLst/>
            </a:prstGeom>
            <a:noFill/>
            <a:ln w="2556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Oval 23"/>
            <p:cNvSpPr/>
            <p:nvPr/>
          </p:nvSpPr>
          <p:spPr>
            <a:xfrm>
              <a:off x="357120" y="2991960"/>
              <a:ext cx="254880" cy="179280"/>
            </a:xfrm>
            <a:prstGeom prst="ellipse">
              <a:avLst/>
            </a:prstGeom>
            <a:noFill/>
            <a:ln w="2556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Oval 24"/>
            <p:cNvSpPr/>
            <p:nvPr/>
          </p:nvSpPr>
          <p:spPr>
            <a:xfrm>
              <a:off x="1074960" y="3025080"/>
              <a:ext cx="161640" cy="114840"/>
            </a:xfrm>
            <a:prstGeom prst="ellipse">
              <a:avLst/>
            </a:prstGeom>
            <a:noFill/>
            <a:ln w="25560">
              <a:solidFill>
                <a:srgbClr val="e6e0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Oval 25"/>
            <p:cNvSpPr/>
            <p:nvPr/>
          </p:nvSpPr>
          <p:spPr>
            <a:xfrm>
              <a:off x="402840" y="3025080"/>
              <a:ext cx="161640" cy="114840"/>
            </a:xfrm>
            <a:prstGeom prst="ellipse">
              <a:avLst/>
            </a:prstGeom>
            <a:noFill/>
            <a:ln w="25560">
              <a:solidFill>
                <a:srgbClr val="e6e0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Oval 26"/>
            <p:cNvSpPr/>
            <p:nvPr/>
          </p:nvSpPr>
          <p:spPr>
            <a:xfrm>
              <a:off x="472680" y="2976480"/>
              <a:ext cx="695520" cy="212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Group 27"/>
          <p:cNvGrpSpPr/>
          <p:nvPr/>
        </p:nvGrpSpPr>
        <p:grpSpPr>
          <a:xfrm>
            <a:off x="357120" y="3635280"/>
            <a:ext cx="926640" cy="212760"/>
            <a:chOff x="357120" y="3635280"/>
            <a:chExt cx="926640" cy="212760"/>
          </a:xfrm>
        </p:grpSpPr>
        <p:sp>
          <p:nvSpPr>
            <p:cNvPr id="280" name="Oval 28"/>
            <p:cNvSpPr/>
            <p:nvPr/>
          </p:nvSpPr>
          <p:spPr>
            <a:xfrm>
              <a:off x="1028880" y="3650760"/>
              <a:ext cx="254880" cy="179280"/>
            </a:xfrm>
            <a:prstGeom prst="ellipse">
              <a:avLst/>
            </a:prstGeom>
            <a:noFill/>
            <a:ln w="2556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Oval 29"/>
            <p:cNvSpPr/>
            <p:nvPr/>
          </p:nvSpPr>
          <p:spPr>
            <a:xfrm>
              <a:off x="357120" y="3650760"/>
              <a:ext cx="254880" cy="179280"/>
            </a:xfrm>
            <a:prstGeom prst="ellipse">
              <a:avLst/>
            </a:prstGeom>
            <a:noFill/>
            <a:ln w="2556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30"/>
            <p:cNvSpPr/>
            <p:nvPr/>
          </p:nvSpPr>
          <p:spPr>
            <a:xfrm>
              <a:off x="1074960" y="3683880"/>
              <a:ext cx="161640" cy="114840"/>
            </a:xfrm>
            <a:prstGeom prst="ellipse">
              <a:avLst/>
            </a:prstGeom>
            <a:noFill/>
            <a:ln w="25560">
              <a:solidFill>
                <a:srgbClr val="e6e0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Oval 31"/>
            <p:cNvSpPr/>
            <p:nvPr/>
          </p:nvSpPr>
          <p:spPr>
            <a:xfrm>
              <a:off x="402840" y="3683880"/>
              <a:ext cx="161640" cy="114840"/>
            </a:xfrm>
            <a:prstGeom prst="ellipse">
              <a:avLst/>
            </a:prstGeom>
            <a:noFill/>
            <a:ln w="25560">
              <a:solidFill>
                <a:srgbClr val="e6e0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Oval 32"/>
            <p:cNvSpPr/>
            <p:nvPr/>
          </p:nvSpPr>
          <p:spPr>
            <a:xfrm>
              <a:off x="472680" y="3635280"/>
              <a:ext cx="695520" cy="212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Group 33"/>
          <p:cNvGrpSpPr/>
          <p:nvPr/>
        </p:nvGrpSpPr>
        <p:grpSpPr>
          <a:xfrm>
            <a:off x="357120" y="4294080"/>
            <a:ext cx="926640" cy="212760"/>
            <a:chOff x="357120" y="4294080"/>
            <a:chExt cx="926640" cy="212760"/>
          </a:xfrm>
        </p:grpSpPr>
        <p:sp>
          <p:nvSpPr>
            <p:cNvPr id="286" name="Oval 34"/>
            <p:cNvSpPr/>
            <p:nvPr/>
          </p:nvSpPr>
          <p:spPr>
            <a:xfrm>
              <a:off x="1028880" y="4309560"/>
              <a:ext cx="254880" cy="179280"/>
            </a:xfrm>
            <a:prstGeom prst="ellipse">
              <a:avLst/>
            </a:prstGeom>
            <a:noFill/>
            <a:ln w="2556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35"/>
            <p:cNvSpPr/>
            <p:nvPr/>
          </p:nvSpPr>
          <p:spPr>
            <a:xfrm>
              <a:off x="357120" y="4309560"/>
              <a:ext cx="254880" cy="179280"/>
            </a:xfrm>
            <a:prstGeom prst="ellipse">
              <a:avLst/>
            </a:prstGeom>
            <a:noFill/>
            <a:ln w="2556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36"/>
            <p:cNvSpPr/>
            <p:nvPr/>
          </p:nvSpPr>
          <p:spPr>
            <a:xfrm>
              <a:off x="1074960" y="4342680"/>
              <a:ext cx="161640" cy="114840"/>
            </a:xfrm>
            <a:prstGeom prst="ellipse">
              <a:avLst/>
            </a:prstGeom>
            <a:noFill/>
            <a:ln w="25560">
              <a:solidFill>
                <a:srgbClr val="e6e0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Oval 37"/>
            <p:cNvSpPr/>
            <p:nvPr/>
          </p:nvSpPr>
          <p:spPr>
            <a:xfrm>
              <a:off x="402840" y="4342680"/>
              <a:ext cx="161640" cy="114840"/>
            </a:xfrm>
            <a:prstGeom prst="ellipse">
              <a:avLst/>
            </a:prstGeom>
            <a:noFill/>
            <a:ln w="25560">
              <a:solidFill>
                <a:srgbClr val="e6e0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8"/>
            <p:cNvSpPr/>
            <p:nvPr/>
          </p:nvSpPr>
          <p:spPr>
            <a:xfrm>
              <a:off x="472680" y="4294080"/>
              <a:ext cx="695520" cy="212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1" name="Group 39"/>
          <p:cNvGrpSpPr/>
          <p:nvPr/>
        </p:nvGrpSpPr>
        <p:grpSpPr>
          <a:xfrm>
            <a:off x="357120" y="4952880"/>
            <a:ext cx="926640" cy="212760"/>
            <a:chOff x="357120" y="4952880"/>
            <a:chExt cx="926640" cy="212760"/>
          </a:xfrm>
        </p:grpSpPr>
        <p:sp>
          <p:nvSpPr>
            <p:cNvPr id="292" name="Oval 40"/>
            <p:cNvSpPr/>
            <p:nvPr/>
          </p:nvSpPr>
          <p:spPr>
            <a:xfrm>
              <a:off x="1028880" y="4968360"/>
              <a:ext cx="254880" cy="179280"/>
            </a:xfrm>
            <a:prstGeom prst="ellipse">
              <a:avLst/>
            </a:prstGeom>
            <a:noFill/>
            <a:ln w="2556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41"/>
            <p:cNvSpPr/>
            <p:nvPr/>
          </p:nvSpPr>
          <p:spPr>
            <a:xfrm>
              <a:off x="357120" y="4968360"/>
              <a:ext cx="254880" cy="179280"/>
            </a:xfrm>
            <a:prstGeom prst="ellipse">
              <a:avLst/>
            </a:prstGeom>
            <a:noFill/>
            <a:ln w="2556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42"/>
            <p:cNvSpPr/>
            <p:nvPr/>
          </p:nvSpPr>
          <p:spPr>
            <a:xfrm>
              <a:off x="1074960" y="5001480"/>
              <a:ext cx="161640" cy="114840"/>
            </a:xfrm>
            <a:prstGeom prst="ellipse">
              <a:avLst/>
            </a:prstGeom>
            <a:noFill/>
            <a:ln w="25560">
              <a:solidFill>
                <a:srgbClr val="e6e0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3"/>
            <p:cNvSpPr/>
            <p:nvPr/>
          </p:nvSpPr>
          <p:spPr>
            <a:xfrm>
              <a:off x="402840" y="5001480"/>
              <a:ext cx="161640" cy="114840"/>
            </a:xfrm>
            <a:prstGeom prst="ellipse">
              <a:avLst/>
            </a:prstGeom>
            <a:noFill/>
            <a:ln w="25560">
              <a:solidFill>
                <a:srgbClr val="e6e0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4"/>
            <p:cNvSpPr/>
            <p:nvPr/>
          </p:nvSpPr>
          <p:spPr>
            <a:xfrm>
              <a:off x="472680" y="4952880"/>
              <a:ext cx="695520" cy="212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7" name="Group 45"/>
          <p:cNvGrpSpPr/>
          <p:nvPr/>
        </p:nvGrpSpPr>
        <p:grpSpPr>
          <a:xfrm>
            <a:off x="357120" y="6270480"/>
            <a:ext cx="926640" cy="212760"/>
            <a:chOff x="357120" y="6270480"/>
            <a:chExt cx="926640" cy="212760"/>
          </a:xfrm>
        </p:grpSpPr>
        <p:sp>
          <p:nvSpPr>
            <p:cNvPr id="298" name="Oval 46"/>
            <p:cNvSpPr/>
            <p:nvPr/>
          </p:nvSpPr>
          <p:spPr>
            <a:xfrm>
              <a:off x="1028880" y="6286320"/>
              <a:ext cx="254880" cy="178920"/>
            </a:xfrm>
            <a:prstGeom prst="ellipse">
              <a:avLst/>
            </a:prstGeom>
            <a:noFill/>
            <a:ln w="2556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7"/>
            <p:cNvSpPr/>
            <p:nvPr/>
          </p:nvSpPr>
          <p:spPr>
            <a:xfrm>
              <a:off x="357120" y="6286320"/>
              <a:ext cx="254880" cy="178920"/>
            </a:xfrm>
            <a:prstGeom prst="ellipse">
              <a:avLst/>
            </a:prstGeom>
            <a:noFill/>
            <a:ln w="2556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8"/>
            <p:cNvSpPr/>
            <p:nvPr/>
          </p:nvSpPr>
          <p:spPr>
            <a:xfrm>
              <a:off x="1074960" y="6319080"/>
              <a:ext cx="161640" cy="114840"/>
            </a:xfrm>
            <a:prstGeom prst="ellipse">
              <a:avLst/>
            </a:prstGeom>
            <a:noFill/>
            <a:ln w="25560">
              <a:solidFill>
                <a:srgbClr val="e6e0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9"/>
            <p:cNvSpPr/>
            <p:nvPr/>
          </p:nvSpPr>
          <p:spPr>
            <a:xfrm>
              <a:off x="402840" y="6319080"/>
              <a:ext cx="161640" cy="114840"/>
            </a:xfrm>
            <a:prstGeom prst="ellipse">
              <a:avLst/>
            </a:prstGeom>
            <a:noFill/>
            <a:ln w="25560">
              <a:solidFill>
                <a:srgbClr val="e6e0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50"/>
            <p:cNvSpPr/>
            <p:nvPr/>
          </p:nvSpPr>
          <p:spPr>
            <a:xfrm>
              <a:off x="472680" y="6270480"/>
              <a:ext cx="695520" cy="212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" name="Group 51"/>
          <p:cNvGrpSpPr/>
          <p:nvPr/>
        </p:nvGrpSpPr>
        <p:grpSpPr>
          <a:xfrm>
            <a:off x="357120" y="5611680"/>
            <a:ext cx="926640" cy="212760"/>
            <a:chOff x="357120" y="5611680"/>
            <a:chExt cx="926640" cy="212760"/>
          </a:xfrm>
        </p:grpSpPr>
        <p:sp>
          <p:nvSpPr>
            <p:cNvPr id="304" name="Oval 52"/>
            <p:cNvSpPr/>
            <p:nvPr/>
          </p:nvSpPr>
          <p:spPr>
            <a:xfrm>
              <a:off x="1028880" y="5627160"/>
              <a:ext cx="254880" cy="179280"/>
            </a:xfrm>
            <a:prstGeom prst="ellipse">
              <a:avLst/>
            </a:prstGeom>
            <a:noFill/>
            <a:ln w="2556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3"/>
            <p:cNvSpPr/>
            <p:nvPr/>
          </p:nvSpPr>
          <p:spPr>
            <a:xfrm>
              <a:off x="357120" y="5627160"/>
              <a:ext cx="254880" cy="179280"/>
            </a:xfrm>
            <a:prstGeom prst="ellipse">
              <a:avLst/>
            </a:prstGeom>
            <a:noFill/>
            <a:ln w="2556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4"/>
            <p:cNvSpPr/>
            <p:nvPr/>
          </p:nvSpPr>
          <p:spPr>
            <a:xfrm>
              <a:off x="1074960" y="5660280"/>
              <a:ext cx="161640" cy="114840"/>
            </a:xfrm>
            <a:prstGeom prst="ellipse">
              <a:avLst/>
            </a:prstGeom>
            <a:noFill/>
            <a:ln w="25560">
              <a:solidFill>
                <a:srgbClr val="e6e0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5"/>
            <p:cNvSpPr/>
            <p:nvPr/>
          </p:nvSpPr>
          <p:spPr>
            <a:xfrm>
              <a:off x="402840" y="5660280"/>
              <a:ext cx="161640" cy="114840"/>
            </a:xfrm>
            <a:prstGeom prst="ellipse">
              <a:avLst/>
            </a:prstGeom>
            <a:noFill/>
            <a:ln w="25560">
              <a:solidFill>
                <a:srgbClr val="e6e0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6"/>
            <p:cNvSpPr/>
            <p:nvPr/>
          </p:nvSpPr>
          <p:spPr>
            <a:xfrm>
              <a:off x="472680" y="5611680"/>
              <a:ext cx="695520" cy="212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9" name="Group 57"/>
          <p:cNvGrpSpPr/>
          <p:nvPr/>
        </p:nvGrpSpPr>
        <p:grpSpPr>
          <a:xfrm>
            <a:off x="357120" y="341280"/>
            <a:ext cx="926640" cy="212760"/>
            <a:chOff x="357120" y="341280"/>
            <a:chExt cx="926640" cy="212760"/>
          </a:xfrm>
        </p:grpSpPr>
        <p:sp>
          <p:nvSpPr>
            <p:cNvPr id="310" name="Oval 58"/>
            <p:cNvSpPr/>
            <p:nvPr/>
          </p:nvSpPr>
          <p:spPr>
            <a:xfrm>
              <a:off x="1028880" y="356760"/>
              <a:ext cx="254880" cy="179640"/>
            </a:xfrm>
            <a:prstGeom prst="ellipse">
              <a:avLst/>
            </a:prstGeom>
            <a:noFill/>
            <a:ln w="2556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9"/>
            <p:cNvSpPr/>
            <p:nvPr/>
          </p:nvSpPr>
          <p:spPr>
            <a:xfrm>
              <a:off x="357120" y="356760"/>
              <a:ext cx="254880" cy="179640"/>
            </a:xfrm>
            <a:prstGeom prst="ellipse">
              <a:avLst/>
            </a:prstGeom>
            <a:noFill/>
            <a:ln w="2556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60"/>
            <p:cNvSpPr/>
            <p:nvPr/>
          </p:nvSpPr>
          <p:spPr>
            <a:xfrm>
              <a:off x="1074960" y="390240"/>
              <a:ext cx="161640" cy="114840"/>
            </a:xfrm>
            <a:prstGeom prst="ellipse">
              <a:avLst/>
            </a:prstGeom>
            <a:noFill/>
            <a:ln w="25560">
              <a:solidFill>
                <a:srgbClr val="e6e0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61"/>
            <p:cNvSpPr/>
            <p:nvPr/>
          </p:nvSpPr>
          <p:spPr>
            <a:xfrm>
              <a:off x="402840" y="390240"/>
              <a:ext cx="161640" cy="114840"/>
            </a:xfrm>
            <a:prstGeom prst="ellipse">
              <a:avLst/>
            </a:prstGeom>
            <a:noFill/>
            <a:ln w="25560">
              <a:solidFill>
                <a:srgbClr val="e6e0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62"/>
            <p:cNvSpPr/>
            <p:nvPr/>
          </p:nvSpPr>
          <p:spPr>
            <a:xfrm>
              <a:off x="472680" y="341280"/>
              <a:ext cx="695520" cy="212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dt" idx="12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7.5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6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ldNum" idx="13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4FB4D69-9273-4EAC-84B7-CBB1E758C3E7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ing.com/images/search?q=&#1082;&#1072;&#1088;&#1090;&#1080;&#1085;&#1082;&#1080;+&#1072;&#1083;&#1084;&#1072;&#1079;&#1086;&#1074;&amp;view=detailv2&amp;adlt=strict&amp;id=60FF6A38E059CE686B26628BFE2A08E9AA72E537&amp;selectedIndex=126&amp;ccid=%2BLId3H1T&amp;simid=608053347329575613&amp;thid=OIP.Mf8b21ddc7d53e0d03d04c2c524a3d82aH1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AutoShape 1"/>
          <p:cNvSpPr/>
          <p:nvPr/>
        </p:nvSpPr>
        <p:spPr>
          <a:xfrm>
            <a:off x="1441440" y="360360"/>
            <a:ext cx="7018200" cy="180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28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1106640" y="360360"/>
            <a:ext cx="756900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Алмазы в жизни чело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2484360" y="2349360"/>
            <a:ext cx="561492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Comic Sans MS"/>
              </a:rPr>
              <a:t>Автор: ученица 3 В класс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Comic Sans MS"/>
              </a:rPr>
              <a:t>школы №28 г. Саранск, республика Мордов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Arial"/>
              </a:rPr>
              <a:t>Синицына Анастас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Comic Sans MS"/>
              </a:rPr>
              <a:t>Руководитель: Юртайкина О.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оугольник 5"/>
          <p:cNvSpPr/>
          <p:nvPr/>
        </p:nvSpPr>
        <p:spPr>
          <a:xfrm>
            <a:off x="0" y="6669000"/>
            <a:ext cx="1332000" cy="189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11" descr="http://d3mlntcv38ck9k.cloudfront.net/content/konspekt_image/13017/81a9bcf4c35858ae55762b60b8a14d52.jpg"/>
          <p:cNvPicPr/>
          <p:nvPr/>
        </p:nvPicPr>
        <p:blipFill>
          <a:blip r:embed="rId1"/>
          <a:stretch/>
        </p:blipFill>
        <p:spPr>
          <a:xfrm>
            <a:off x="3651120" y="4552920"/>
            <a:ext cx="3279960" cy="297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AutoShape 1"/>
          <p:cNvSpPr/>
          <p:nvPr/>
        </p:nvSpPr>
        <p:spPr>
          <a:xfrm>
            <a:off x="901800" y="360360"/>
            <a:ext cx="7920000" cy="107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28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mic Sans MS"/>
              </a:rPr>
              <a:t>Звезды и бриллиан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Прямоугольник 3"/>
          <p:cNvSpPr/>
          <p:nvPr/>
        </p:nvSpPr>
        <p:spPr>
          <a:xfrm>
            <a:off x="1332000" y="1566720"/>
            <a:ext cx="482436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 u="sng">
                <a:solidFill>
                  <a:srgbClr val="3333cc"/>
                </a:solidFill>
                <a:uFillTx/>
                <a:latin typeface="Comic Sans MS"/>
              </a:rPr>
              <a:t>Мэрилин Монр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Comic Sans MS"/>
              </a:rPr>
              <a:t>В  сиянии бриллиантов  Мэрилин Монро становилась настоящей богиней красоты. Знаменитая реплика: «Лучшие друзья девушек – бриллианты», – принадлежит героине Монро из фильма «Джентльмены предпочитают блондинок»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 u="sng">
                <a:solidFill>
                  <a:srgbClr val="3333cc"/>
                </a:solidFill>
                <a:uFillTx/>
                <a:latin typeface="Comic Sans MS"/>
              </a:rPr>
              <a:t>Элизабет Тейло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Comic Sans MS"/>
              </a:rPr>
              <a:t>Для великой актрисы бриллианты и изумруды по баснословным ценам – не просто милое дамское пристрастие, а, можно сказать, вторая профессия. Долгое время лучшие ювелирные дома мира изготавливали для Элизабет Тейлор уникальные украшения. Актриса сама делала эскизы, выбирала камни. А потом основала собственный дом Taylor Jewelry, который выпускает ювелирные коллекции от Тейлор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Прямоугольник 4"/>
          <p:cNvSpPr/>
          <p:nvPr/>
        </p:nvSpPr>
        <p:spPr>
          <a:xfrm>
            <a:off x="0" y="6669000"/>
            <a:ext cx="1332000" cy="189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Прямоугольник 3"/>
          <p:cNvSpPr/>
          <p:nvPr/>
        </p:nvSpPr>
        <p:spPr>
          <a:xfrm>
            <a:off x="9396360" y="5373720"/>
            <a:ext cx="4608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10" descr="http://tse4.mm.bing.net/th?id=OIP.Ma0e8b2e1cc5740a9d757e9bc0086591fo1&amp;pid=15.1"/>
          <p:cNvPicPr/>
          <p:nvPr/>
        </p:nvPicPr>
        <p:blipFill>
          <a:blip r:embed="rId1"/>
          <a:stretch/>
        </p:blipFill>
        <p:spPr>
          <a:xfrm>
            <a:off x="6156360" y="1481040"/>
            <a:ext cx="25002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AutoShape 1"/>
          <p:cNvSpPr/>
          <p:nvPr/>
        </p:nvSpPr>
        <p:spPr>
          <a:xfrm>
            <a:off x="901800" y="360360"/>
            <a:ext cx="7920000" cy="107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28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mic Sans MS"/>
              </a:rPr>
              <a:t>Звезды и бриллиан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Прямоугольник 3"/>
          <p:cNvSpPr/>
          <p:nvPr/>
        </p:nvSpPr>
        <p:spPr>
          <a:xfrm>
            <a:off x="1332000" y="1566720"/>
            <a:ext cx="3816360" cy="40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 u="sng">
                <a:solidFill>
                  <a:srgbClr val="3333cc"/>
                </a:solidFill>
                <a:uFillTx/>
                <a:latin typeface="Comic Sans MS"/>
              </a:rPr>
              <a:t>Кейт Уинсл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Comic Sans MS"/>
              </a:rPr>
              <a:t>Роза, героиня Кейт Уинслет в блокбастере «Титаник», долгие годы хранит реликвию – бриллиантовый кулон «Сердце океана». Это его она так эффектно бросает в воду в конце фильма, словно навсегда прощаясь с любимы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 u="sng">
                <a:solidFill>
                  <a:srgbClr val="3333cc"/>
                </a:solidFill>
                <a:uFillTx/>
                <a:latin typeface="Comic Sans MS"/>
              </a:rPr>
              <a:t>Мадон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Comic Sans MS"/>
              </a:rPr>
              <a:t>Мадонна – страстная поклонница бриллиантов, особенно из коллекций ювелирного дома Chopard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Прямоугольник 4"/>
          <p:cNvSpPr/>
          <p:nvPr/>
        </p:nvSpPr>
        <p:spPr>
          <a:xfrm>
            <a:off x="0" y="6669000"/>
            <a:ext cx="1332000" cy="189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Прямоугольник 3"/>
          <p:cNvSpPr/>
          <p:nvPr/>
        </p:nvSpPr>
        <p:spPr>
          <a:xfrm>
            <a:off x="9396360" y="5373720"/>
            <a:ext cx="4608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Picture 4" descr="http://au74.ru/media/redactor/13_1.png"/>
          <p:cNvPicPr/>
          <p:nvPr/>
        </p:nvPicPr>
        <p:blipFill>
          <a:blip r:embed="rId1"/>
          <a:stretch/>
        </p:blipFill>
        <p:spPr>
          <a:xfrm>
            <a:off x="5662440" y="4048200"/>
            <a:ext cx="31276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"/>
          <p:cNvSpPr/>
          <p:nvPr/>
        </p:nvSpPr>
        <p:spPr>
          <a:xfrm>
            <a:off x="1441440" y="2060640"/>
            <a:ext cx="71280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Благодаря своим уникальным свойствам алмаз используют не только в ювелирных украшениях, но так же широко применяют в науке и технике.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Причем большая часть из добываемых алмазов как раз идет на последние две сферы применения этого минерала. В основном это очень мелкие или дефектные камни, не имеющие ювелирной ценности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AutoShape 2"/>
          <p:cNvSpPr/>
          <p:nvPr/>
        </p:nvSpPr>
        <p:spPr>
          <a:xfrm>
            <a:off x="1403280" y="260280"/>
            <a:ext cx="7272360" cy="1081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28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1728720" y="276120"/>
            <a:ext cx="6840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АЛМАЗЫ В ПРОМЫШЛЕН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1"/>
          <p:cNvSpPr/>
          <p:nvPr/>
        </p:nvSpPr>
        <p:spPr>
          <a:xfrm>
            <a:off x="1403280" y="3500280"/>
            <a:ext cx="424836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Прямоугольник 6"/>
          <p:cNvSpPr/>
          <p:nvPr/>
        </p:nvSpPr>
        <p:spPr>
          <a:xfrm>
            <a:off x="0" y="6669000"/>
            <a:ext cx="1332000" cy="189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Picture 15" descr="http://www.zolotopro.ru/postimages/Rough_diamond.jpg"/>
          <p:cNvPicPr/>
          <p:nvPr/>
        </p:nvPicPr>
        <p:blipFill>
          <a:blip r:embed="rId1"/>
          <a:stretch/>
        </p:blipFill>
        <p:spPr>
          <a:xfrm>
            <a:off x="3127320" y="3913200"/>
            <a:ext cx="3584520" cy="38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AutoShape 1"/>
          <p:cNvSpPr/>
          <p:nvPr/>
        </p:nvSpPr>
        <p:spPr>
          <a:xfrm>
            <a:off x="1476360" y="360360"/>
            <a:ext cx="7199280" cy="107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28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2"/>
          <p:cNvSpPr/>
          <p:nvPr/>
        </p:nvSpPr>
        <p:spPr>
          <a:xfrm>
            <a:off x="1619280" y="1628640"/>
            <a:ext cx="6913440" cy="21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1. Алмаз является самым твердым природным материалом известным на Земл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2. О твёрдости алмаза ходят легенды. Рассказывают, что однажды под гидравлический пресс положили алмаз и кусок стали, начали сжимать, и когда сила давления стала критической, алмаз вошёл в сталь, как нож в масл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3. Алмаз проводит тепло в 5 раз быстрее, чем медь и именно поэтому он кажется холодным на ощуп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4. Чистый алмаз является самым прозрачным из известных материалов. Он пропускает видимый, ультрафиолетовый и инфракрасный св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5. Алмаз может быть и проводником и изолятором, поэтому он может пропускать электрический ток или н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6. Алмаз может остаться целым в среде, которая разрушит другие материалы. Он может выдержать большие физические, химические и радиоактивные воздейств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7. Если алмаз поместить внутрь человеческого тела, он не будет вызывать иммунной реакции.</a:t>
            </a:r>
            <a:r>
              <a:rPr b="1" lang="ru-RU" sz="2300" spc="-1" strike="noStrike">
                <a:solidFill>
                  <a:srgbClr val="3333cc"/>
                </a:solidFill>
                <a:latin typeface="Comic Sans MS"/>
              </a:rPr>
              <a:t>    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1619280" y="393840"/>
            <a:ext cx="7056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Comic Sans MS"/>
              </a:rPr>
              <a:t>Уникальные свойства алмаза, которые использует современная наука и промышленность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Прямоугольник 7"/>
          <p:cNvSpPr/>
          <p:nvPr/>
        </p:nvSpPr>
        <p:spPr>
          <a:xfrm>
            <a:off x="0" y="6669000"/>
            <a:ext cx="1332000" cy="189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AutoShape 1"/>
          <p:cNvSpPr/>
          <p:nvPr/>
        </p:nvSpPr>
        <p:spPr>
          <a:xfrm>
            <a:off x="1258920" y="620640"/>
            <a:ext cx="7418520" cy="1050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28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Comic Sans MS"/>
              </a:rPr>
              <a:t>Медиц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Прямоугольник 6"/>
          <p:cNvSpPr/>
          <p:nvPr/>
        </p:nvSpPr>
        <p:spPr>
          <a:xfrm>
            <a:off x="0" y="6669000"/>
            <a:ext cx="1332000" cy="189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10"/>
          <p:cNvSpPr/>
          <p:nvPr/>
        </p:nvSpPr>
        <p:spPr>
          <a:xfrm>
            <a:off x="1116000" y="1862640"/>
            <a:ext cx="7450200" cy="16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Алмазные лезвия скальпелей имеют сверхтонкие края, что уменьшает ширину разрезов, это очень важное свойство для современной хирургии. Плюс такие лезвия остаются острыми гораздо дольше, чем стальные. Алмазы также применяются в лазерных устройствах для прижигания разрезов и ра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Picture 12" descr="http://tse1.mm.bing.net/th?id=OIP.M522e68c94c7bdf6085b14dfd534e6ac2o0&amp;pid=15.1"/>
          <p:cNvPicPr/>
          <p:nvPr/>
        </p:nvPicPr>
        <p:blipFill>
          <a:blip r:embed="rId1"/>
          <a:stretch/>
        </p:blipFill>
        <p:spPr>
          <a:xfrm>
            <a:off x="3571920" y="3524400"/>
            <a:ext cx="3127320" cy="41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1"/>
          <p:cNvSpPr/>
          <p:nvPr/>
        </p:nvSpPr>
        <p:spPr>
          <a:xfrm>
            <a:off x="2133720" y="1268280"/>
            <a:ext cx="58323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Кристалл алмаза может позволить нескольким сигналам на разных частотах пройти одновременно по кабелю. Это дает возможность использовать его в области телекоммуникаций. Кроме того алмаз способен выдерживать высокое напряжение и изменение температур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AutoShape 2"/>
          <p:cNvSpPr/>
          <p:nvPr/>
        </p:nvSpPr>
        <p:spPr>
          <a:xfrm>
            <a:off x="901800" y="360360"/>
            <a:ext cx="7920000" cy="765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28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Телекоммуник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Прямоугольник 4"/>
          <p:cNvSpPr/>
          <p:nvPr/>
        </p:nvSpPr>
        <p:spPr>
          <a:xfrm>
            <a:off x="0" y="6669000"/>
            <a:ext cx="1332000" cy="189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9" name="Picture 11" descr="http://tse1.mm.bing.net/th?&amp;id=OIP.Md666196b318c3f88c4b8d0da9ced0f8co0&amp;w=297&amp;h=228&amp;c=0&amp;pid=1.9&amp;rs=0&amp;p=0&amp;url=http%3A%2F%2Fzolotopro.ru%2Fnews.php%3Fnewsid%3D187"/>
          <p:cNvPicPr/>
          <p:nvPr/>
        </p:nvPicPr>
        <p:blipFill>
          <a:blip r:embed="rId1"/>
          <a:stretch/>
        </p:blipFill>
        <p:spPr>
          <a:xfrm>
            <a:off x="3492360" y="4022640"/>
            <a:ext cx="3116520" cy="33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Прямоугольник 2"/>
          <p:cNvSpPr/>
          <p:nvPr/>
        </p:nvSpPr>
        <p:spPr>
          <a:xfrm>
            <a:off x="1042920" y="1557360"/>
            <a:ext cx="6267600" cy="44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Comic Sans MS"/>
              </a:rPr>
              <a:t>Электро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Тепло проходит через алмаз гораздо быстрее, чем через медь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Comic Sans MS"/>
              </a:rPr>
              <a:t>Нау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Алмазные окна обеспечивают защиту в некоторых научных экспериментах, например в испытаниях с использованием кислот или расплавленной пластмассы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Comic Sans MS"/>
              </a:rPr>
              <a:t>Горное де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Алмазное бурение – это наиболее эффективный и экономичный способ бурения горных пород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Comic Sans MS"/>
              </a:rPr>
              <a:t>Промышл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Из-за своей необычной твердости алмаз прочно занял место в промышленности, не одно современное производство не обходится без алмазных инструментов: сверил, фрез, резцов, шлифовальных кругов, стеклорезов 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AutoShape 2"/>
          <p:cNvSpPr/>
          <p:nvPr/>
        </p:nvSpPr>
        <p:spPr>
          <a:xfrm>
            <a:off x="901800" y="360360"/>
            <a:ext cx="7920000" cy="107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28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7878de"/>
                </a:solidFill>
                <a:latin typeface="Comic Sans MS"/>
              </a:rPr>
              <a:t>Другие отрасл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Прямоугольник 4"/>
          <p:cNvSpPr/>
          <p:nvPr/>
        </p:nvSpPr>
        <p:spPr>
          <a:xfrm>
            <a:off x="0" y="6669000"/>
            <a:ext cx="1332000" cy="189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9" descr="http://tse1.mm.bing.net/th?&amp;id=OIP.Mc1915c81dcb0d9db19b51bd1a55e506do0&amp;w=300&amp;h=176&amp;c=0&amp;pid=1.9&amp;rs=0&amp;p=0&amp;url=http%3A%2F%2Ffreemarket.kiev.ua%2Fmessage%2F380824-almaznyj-instrument-dlya-promyshlennosti.html"/>
          <p:cNvPicPr/>
          <p:nvPr/>
        </p:nvPicPr>
        <p:blipFill>
          <a:blip r:embed="rId1"/>
          <a:stretch/>
        </p:blipFill>
        <p:spPr>
          <a:xfrm>
            <a:off x="6097680" y="4992840"/>
            <a:ext cx="28573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Прямоугольник 2"/>
          <p:cNvSpPr/>
          <p:nvPr/>
        </p:nvSpPr>
        <p:spPr>
          <a:xfrm>
            <a:off x="1332000" y="1557360"/>
            <a:ext cx="730224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Таким образом, алмазы «красной нитью» проходят через всю историю человечества. В них влюблялись, им поклонялись, из-за них сходили с ума, убивали, разрушали семьи, империи и царства…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Магия бриллиантов – древняя и таинственная сила, неподвластная человеку. Неслучайно бриллианты называли царями камней, камнями богов, осколками далеких небесных свети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Многие столетия алмаз считался самым твердым минералом на планете. Древние китайцы несколько тысяч лет назад даже использовали алмаз для полировки церемониальных топоров, которые в свою очередь изготавливались из корун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AutoShape 2"/>
          <p:cNvSpPr/>
          <p:nvPr/>
        </p:nvSpPr>
        <p:spPr>
          <a:xfrm>
            <a:off x="901800" y="360360"/>
            <a:ext cx="7920000" cy="107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28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Заключение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Прямоугольник 2"/>
          <p:cNvSpPr/>
          <p:nvPr/>
        </p:nvSpPr>
        <p:spPr>
          <a:xfrm>
            <a:off x="9144000" y="3716280"/>
            <a:ext cx="41054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Прямоугольник 5"/>
          <p:cNvSpPr/>
          <p:nvPr/>
        </p:nvSpPr>
        <p:spPr>
          <a:xfrm>
            <a:off x="0" y="6669000"/>
            <a:ext cx="1332000" cy="189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AutoShape 1"/>
          <p:cNvSpPr/>
          <p:nvPr/>
        </p:nvSpPr>
        <p:spPr>
          <a:xfrm>
            <a:off x="1405080" y="260280"/>
            <a:ext cx="7343640" cy="1081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28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2"/>
          <p:cNvSpPr/>
          <p:nvPr/>
        </p:nvSpPr>
        <p:spPr>
          <a:xfrm>
            <a:off x="1405080" y="277920"/>
            <a:ext cx="734364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omic Sans MS"/>
              </a:rPr>
              <a:t>Вывод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3"/>
          <p:cNvSpPr/>
          <p:nvPr/>
        </p:nvSpPr>
        <p:spPr>
          <a:xfrm>
            <a:off x="1332000" y="1773360"/>
            <a:ext cx="74880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Однако прогресс не стоит на месте и в 2005 году Наталья Дубровинская с коллегами из Университета Гейдельберга благодаря нанотехнологиям и новейшим материалам смогла создать вещество, на 11% превышающее по твердости алмаз. Новый материал получил название  «гипералмаз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А сколько открытий еще предстоит сделать, ведь алмазы, как носители уникальной твердости и других интересных свойств, до сих пор являются объектами пристального внимания учен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Comic Sans MS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1332000" y="4797360"/>
            <a:ext cx="5040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Прямоугольник 6"/>
          <p:cNvSpPr/>
          <p:nvPr/>
        </p:nvSpPr>
        <p:spPr>
          <a:xfrm>
            <a:off x="0" y="6669000"/>
            <a:ext cx="1332000" cy="189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3"/>
          <p:cNvSpPr/>
          <p:nvPr/>
        </p:nvSpPr>
        <p:spPr>
          <a:xfrm>
            <a:off x="1332000" y="2421000"/>
            <a:ext cx="74880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omic Sans MS"/>
              </a:rPr>
              <a:t>Спасибо за внимание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1332000" y="4797360"/>
            <a:ext cx="5040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Прямоугольник 6"/>
          <p:cNvSpPr/>
          <p:nvPr/>
        </p:nvSpPr>
        <p:spPr>
          <a:xfrm>
            <a:off x="0" y="6669000"/>
            <a:ext cx="1332000" cy="189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1"/>
          <p:cNvSpPr/>
          <p:nvPr/>
        </p:nvSpPr>
        <p:spPr>
          <a:xfrm>
            <a:off x="1452600" y="504720"/>
            <a:ext cx="727236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40000"/>
              </a:lnSpc>
              <a:spcBef>
                <a:spcPts val="488"/>
              </a:spcBef>
              <a:tabLst>
                <a:tab algn="l" pos="0"/>
                <a:tab algn="l" pos="271440"/>
                <a:tab algn="l" pos="376200"/>
                <a:tab algn="l" pos="825480"/>
                <a:tab algn="l" pos="1274760"/>
                <a:tab algn="l" pos="1724040"/>
                <a:tab algn="l" pos="2173320"/>
                <a:tab algn="l" pos="2622600"/>
                <a:tab algn="l" pos="3071880"/>
                <a:tab algn="l" pos="3521160"/>
                <a:tab algn="l" pos="3970440"/>
                <a:tab algn="l" pos="4419720"/>
                <a:tab algn="l" pos="4869000"/>
                <a:tab algn="l" pos="5318280"/>
                <a:tab algn="l" pos="5767560"/>
                <a:tab algn="l" pos="6216480"/>
                <a:tab algn="l" pos="6665760"/>
                <a:tab algn="l" pos="7115040"/>
                <a:tab algn="l" pos="7564320"/>
                <a:tab algn="l" pos="8013600"/>
                <a:tab algn="l" pos="8462880"/>
                <a:tab algn="l" pos="8912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1258920" y="3551400"/>
            <a:ext cx="4284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40000"/>
              </a:lnSpc>
              <a:spcBef>
                <a:spcPts val="488"/>
              </a:spcBef>
              <a:tabLst>
                <a:tab algn="l" pos="0"/>
                <a:tab algn="l" pos="271440"/>
                <a:tab algn="l" pos="376200"/>
                <a:tab algn="l" pos="825480"/>
                <a:tab algn="l" pos="1274760"/>
                <a:tab algn="l" pos="1724040"/>
                <a:tab algn="l" pos="2173320"/>
                <a:tab algn="l" pos="2622600"/>
                <a:tab algn="l" pos="3071880"/>
                <a:tab algn="l" pos="3521160"/>
                <a:tab algn="l" pos="3970440"/>
                <a:tab algn="l" pos="4419720"/>
                <a:tab algn="l" pos="4869000"/>
                <a:tab algn="l" pos="5318280"/>
                <a:tab algn="l" pos="5767560"/>
                <a:tab algn="l" pos="6216480"/>
                <a:tab algn="l" pos="6665760"/>
                <a:tab algn="l" pos="7115040"/>
                <a:tab algn="l" pos="7564320"/>
                <a:tab algn="l" pos="8013600"/>
                <a:tab algn="l" pos="8462880"/>
                <a:tab algn="l" pos="8912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Прямоугольник 1"/>
          <p:cNvSpPr/>
          <p:nvPr/>
        </p:nvSpPr>
        <p:spPr>
          <a:xfrm>
            <a:off x="0" y="6669000"/>
            <a:ext cx="1332000" cy="189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1362240" y="950400"/>
            <a:ext cx="669744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Алмаз - это, пожалуй, самый популярный и самый драгоценный камень в мире. Он состоит из чистого углерода (до 99,8%), а также содержит небольшие примеси различных химических элемен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10" descr="almaz1"/>
          <p:cNvPicPr/>
          <p:nvPr/>
        </p:nvPicPr>
        <p:blipFill>
          <a:blip r:embed="rId1"/>
          <a:stretch/>
        </p:blipFill>
        <p:spPr>
          <a:xfrm>
            <a:off x="2700360" y="3716280"/>
            <a:ext cx="3262320" cy="34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Прямоугольник 2"/>
          <p:cNvSpPr/>
          <p:nvPr/>
        </p:nvSpPr>
        <p:spPr>
          <a:xfrm>
            <a:off x="1403280" y="1700280"/>
            <a:ext cx="7345440" cy="44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Алмазы появились задолго до нашей эры. Считается, что своим возрастом он может потягаться с самой нашей планетой. Однако о происхождении и возрасте алмазов до сих пор нет точных научных данных. Ученые придерживаются разных гипотез. Большинство склоняются к тому, что алмазы образуются в земной коре на глубине более 200 км. Только благодаря извержениям вулканов, алмазы переносятся на глубины, досягаемые человеком. Средний возраст любого алмаза — около полутора миллиардов л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Испокон веков этот непревзойденный камень окутан легендами и мифами. Его родиной считают Индию. Именно здесь найдены такие знаменитые алмазы, как «Кох-и-Нор», «Регент», «Орлов», «Шах». Почти два тысячелетия Индия была единственным источником алмаз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AutoShape 1"/>
          <p:cNvSpPr/>
          <p:nvPr/>
        </p:nvSpPr>
        <p:spPr>
          <a:xfrm>
            <a:off x="1403280" y="360360"/>
            <a:ext cx="7272360" cy="107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28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История камн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Прямоугольник 5"/>
          <p:cNvSpPr/>
          <p:nvPr/>
        </p:nvSpPr>
        <p:spPr>
          <a:xfrm>
            <a:off x="0" y="6669000"/>
            <a:ext cx="1332000" cy="189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AutoShape 2"/>
          <p:cNvSpPr/>
          <p:nvPr/>
        </p:nvSpPr>
        <p:spPr>
          <a:xfrm>
            <a:off x="1187280" y="549360"/>
            <a:ext cx="7418520" cy="287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28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1258920" y="404640"/>
            <a:ext cx="712944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Гипотеза исследования: я предположила, что  алмазы играют в жизни людей не только декоративную рол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AutoShape 1"/>
          <p:cNvSpPr/>
          <p:nvPr/>
        </p:nvSpPr>
        <p:spPr>
          <a:xfrm>
            <a:off x="2195640" y="3645000"/>
            <a:ext cx="5832360" cy="14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28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Цель проекта: изучить значение алмазо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Прямоугольник 6"/>
          <p:cNvSpPr/>
          <p:nvPr/>
        </p:nvSpPr>
        <p:spPr>
          <a:xfrm>
            <a:off x="0" y="6669000"/>
            <a:ext cx="1332000" cy="189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1"/>
          <p:cNvSpPr/>
          <p:nvPr/>
        </p:nvSpPr>
        <p:spPr>
          <a:xfrm>
            <a:off x="1547640" y="476280"/>
            <a:ext cx="7345440" cy="62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Объект исследования</a:t>
            </a: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: </a:t>
            </a:r>
            <a:r>
              <a:rPr b="1" lang="ru-RU" sz="3000" spc="-1" strike="noStrike">
                <a:solidFill>
                  <a:srgbClr val="004586"/>
                </a:solidFill>
                <a:latin typeface="Comic Sans MS"/>
              </a:rPr>
              <a:t>драгоценный камень - алма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Предмет исследования</a:t>
            </a: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: полезные качества данного камн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Задачи: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1 Изучить информацию о данном драгоценном камн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2 Выявить полезные для человека свойства алмаз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3 Сделать выводы о роли алмазов в жизни люде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Прямоугольник 6"/>
          <p:cNvSpPr/>
          <p:nvPr/>
        </p:nvSpPr>
        <p:spPr>
          <a:xfrm>
            <a:off x="0" y="6669000"/>
            <a:ext cx="1332000" cy="189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Прямоугольник 2"/>
          <p:cNvSpPr/>
          <p:nvPr/>
        </p:nvSpPr>
        <p:spPr>
          <a:xfrm>
            <a:off x="1619280" y="1773360"/>
            <a:ext cx="6408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AutoShape 1"/>
          <p:cNvSpPr/>
          <p:nvPr/>
        </p:nvSpPr>
        <p:spPr>
          <a:xfrm>
            <a:off x="1403280" y="360360"/>
            <a:ext cx="7272360" cy="107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28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АЛМАЗ - СИМВОЛ ВЛ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Прямоугольник 4"/>
          <p:cNvSpPr/>
          <p:nvPr/>
        </p:nvSpPr>
        <p:spPr>
          <a:xfrm>
            <a:off x="0" y="6669000"/>
            <a:ext cx="1332000" cy="189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1365120" y="1637280"/>
            <a:ext cx="7274160" cy="18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Comic Sans MS"/>
              </a:rPr>
              <a:t>Тысячи лет назад индийцы не только знали про алмазы, но уже добывали их, украшали алмазами орнаменты и ювелирные изделия, умели оценивать кристаллы алмаза и обменивали их на товары и золото. В те времена камни еще не научились обрабатывать, хранились они в своем первозданном виде в хранилищах богатейших людей страны, символизируя власть и положение в обществ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Picture 10" descr="http://tse1.mm.bing.net/th?&amp;id=OIP.Mf8b21ddc7d53e0d03d04c2c524a3d82aH1&amp;w=213&amp;h=299&amp;c=0&amp;pid=1.9&amp;rs=0&amp;p=0&amp;url=http%3A%2F%2Ffashion.telegraph.co.uk%2Fnews-features%2FTMG9229257%2FQueens-Diamond-Jubilee-A-diamond-exhibition-to-open-at-Buckingham-Palace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29080" y="3438360"/>
            <a:ext cx="2633760" cy="44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Прямоугольник 2"/>
          <p:cNvSpPr/>
          <p:nvPr/>
        </p:nvSpPr>
        <p:spPr>
          <a:xfrm>
            <a:off x="1619280" y="1773360"/>
            <a:ext cx="6408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AutoShape 1"/>
          <p:cNvSpPr/>
          <p:nvPr/>
        </p:nvSpPr>
        <p:spPr>
          <a:xfrm>
            <a:off x="1436760" y="333360"/>
            <a:ext cx="7272360" cy="107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28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АЛМАЗ «Орлов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Прямоугольник 4"/>
          <p:cNvSpPr/>
          <p:nvPr/>
        </p:nvSpPr>
        <p:spPr>
          <a:xfrm>
            <a:off x="0" y="6669000"/>
            <a:ext cx="1332000" cy="189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1436760" y="1774440"/>
            <a:ext cx="5118120" cy="44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Comic Sans MS"/>
              </a:rPr>
              <a:t>Интересную историю имеет всемирно известный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 </a:t>
            </a: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алмаз «Орлов»</a:t>
            </a:r>
            <a:r>
              <a:rPr b="0" lang="ru-RU" sz="1800" spc="-1" strike="noStrike">
                <a:solidFill>
                  <a:srgbClr val="3333cc"/>
                </a:solidFill>
                <a:latin typeface="Comic Sans MS"/>
              </a:rPr>
              <a:t>. Алмаз был обнаружен в начале XVII в. В Индии. Изначально он весил около 300 карат. Согласно одной из легенд, этот камень был одним из алмазов, служивших глазами статуи Брамы. Затем он принадлежал Надир-шаху. После его падения алмаз попал в Амстердам, где был куплен у армянского купца Лазарева за 400 тысяч рублей графом Григорием Орловым и подарен императрице Екатерине II. Теперь он украшает хранящийся в Алмазном фонде России Императорский скипетр. Алмаз огранен в виде высокой «индийской розы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Picture 13" descr="http://tse3.mm.bing.net/th?id=OIP.Mbec105129b23ba146609a4cd8bc8646co0&amp;pid=15.1"/>
          <p:cNvPicPr/>
          <p:nvPr/>
        </p:nvPicPr>
        <p:blipFill>
          <a:blip r:embed="rId1"/>
          <a:stretch/>
        </p:blipFill>
        <p:spPr>
          <a:xfrm>
            <a:off x="6205680" y="3638520"/>
            <a:ext cx="260352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AutoShape 1"/>
          <p:cNvSpPr/>
          <p:nvPr/>
        </p:nvSpPr>
        <p:spPr>
          <a:xfrm>
            <a:off x="901800" y="360360"/>
            <a:ext cx="7920000" cy="107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28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1260360" y="360360"/>
            <a:ext cx="6840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МАГИЧЕСКИЕ СВОЙСТВА АЛМА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1547640" y="1844640"/>
            <a:ext cx="56167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271440"/>
                <a:tab algn="l" pos="376200"/>
                <a:tab algn="l" pos="825480"/>
                <a:tab algn="l" pos="1274760"/>
                <a:tab algn="l" pos="1724040"/>
                <a:tab algn="l" pos="2173320"/>
                <a:tab algn="l" pos="2622600"/>
                <a:tab algn="l" pos="3071880"/>
                <a:tab algn="l" pos="3521160"/>
                <a:tab algn="l" pos="3970440"/>
                <a:tab algn="l" pos="4419720"/>
                <a:tab algn="l" pos="4869000"/>
                <a:tab algn="l" pos="5318280"/>
                <a:tab algn="l" pos="5767560"/>
                <a:tab algn="l" pos="6216480"/>
                <a:tab algn="l" pos="6665760"/>
                <a:tab algn="l" pos="7115040"/>
                <a:tab algn="l" pos="7564320"/>
                <a:tab algn="l" pos="8013600"/>
                <a:tab algn="l" pos="8462880"/>
                <a:tab algn="l" pos="8912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0070c0"/>
                </a:solidFill>
                <a:latin typeface="Comic Sans MS"/>
              </a:rPr>
              <a:t>       </a:t>
            </a: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В далекие времена, когда алмазы добывались исключительно в Индии, им приписывались мистические свойства. Чаще всего они использовались как атрибуты религиозных обрядов. Ими украшали талисманы, обереги и статуи индийских бог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3"/>
          <p:cNvSpPr/>
          <p:nvPr/>
        </p:nvSpPr>
        <p:spPr>
          <a:xfrm>
            <a:off x="1042920" y="4022640"/>
            <a:ext cx="518652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271440"/>
                <a:tab algn="l" pos="376200"/>
                <a:tab algn="l" pos="825480"/>
                <a:tab algn="l" pos="1274760"/>
                <a:tab algn="l" pos="1724040"/>
                <a:tab algn="l" pos="2173320"/>
                <a:tab algn="l" pos="2622600"/>
                <a:tab algn="l" pos="3071880"/>
                <a:tab algn="l" pos="3521160"/>
                <a:tab algn="l" pos="3970440"/>
                <a:tab algn="l" pos="4419720"/>
                <a:tab algn="l" pos="4869000"/>
                <a:tab algn="l" pos="5318280"/>
                <a:tab algn="l" pos="5767560"/>
                <a:tab algn="l" pos="6216480"/>
                <a:tab algn="l" pos="6665760"/>
                <a:tab algn="l" pos="7115040"/>
                <a:tab algn="l" pos="7564320"/>
                <a:tab algn="l" pos="8013600"/>
                <a:tab algn="l" pos="8462880"/>
                <a:tab algn="l" pos="8912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В Европе так же верили в магические свойства камня. Считалось, что алмаз делает своего владельца непобедимым в бою. Еще одно из бесчисленных свойств, приписываемых алмазу - способность приносить удачу. Алмаз также всегда считался камнем победите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Прямоугольник 6"/>
          <p:cNvSpPr/>
          <p:nvPr/>
        </p:nvSpPr>
        <p:spPr>
          <a:xfrm>
            <a:off x="0" y="6669000"/>
            <a:ext cx="1332000" cy="189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Picture 11" descr="http://zoloto14k.com/images/iskusstvennye-dragotsennye-kamni%206.jpeg"/>
          <p:cNvPicPr/>
          <p:nvPr/>
        </p:nvPicPr>
        <p:blipFill>
          <a:blip r:embed="rId1"/>
          <a:stretch/>
        </p:blipFill>
        <p:spPr>
          <a:xfrm>
            <a:off x="6076800" y="2498760"/>
            <a:ext cx="2970360" cy="55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AutoShape 1"/>
          <p:cNvSpPr/>
          <p:nvPr/>
        </p:nvSpPr>
        <p:spPr>
          <a:xfrm>
            <a:off x="900000" y="360360"/>
            <a:ext cx="7920000" cy="1197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28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ЮВЕЛИРНЫЕ УКРАШ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2"/>
          <p:cNvSpPr/>
          <p:nvPr/>
        </p:nvSpPr>
        <p:spPr>
          <a:xfrm>
            <a:off x="1332000" y="1844640"/>
            <a:ext cx="518472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И в наши дни бриллианты не потеряли своей привлека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Наиболее распространенный способ, которым обрабатывают алмазы сегодня, называется бриллиантовой огранк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Прямоугольник 4"/>
          <p:cNvSpPr/>
          <p:nvPr/>
        </p:nvSpPr>
        <p:spPr>
          <a:xfrm>
            <a:off x="0" y="6669000"/>
            <a:ext cx="1332000" cy="189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10" descr="http://tse2.mm.bing.net/th?id=OIP.M8a1b67e8aa79e8c08173a8b9193609d5H0&amp;w=226&amp;h=148&amp;c=7&amp;rs=1&amp;qlt=90&amp;o=4&amp;url=http%3a%2f%2fwww.si.edu%2fEncyclopedia_SI%2fnmnh%2fhope.htm&amp;pid=1.1"/>
          <p:cNvPicPr/>
          <p:nvPr/>
        </p:nvPicPr>
        <p:blipFill>
          <a:blip r:embed="rId1"/>
          <a:stretch/>
        </p:blipFill>
        <p:spPr>
          <a:xfrm>
            <a:off x="3011400" y="3524400"/>
            <a:ext cx="3870360" cy="3698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абинет 306</dc:creator>
  <dc:description/>
  <dc:language>en-US</dc:language>
  <cp:lastModifiedBy>Samsung</cp:lastModifiedBy>
  <cp:lastPrinted>2015-12-16T09:54:50Z</cp:lastPrinted>
  <dcterms:modified xsi:type="dcterms:W3CDTF">2019-03-10T15:48:32Z</dcterms:modified>
  <cp:revision>40</cp:revision>
  <dc:subject/>
  <dc:title>Презентация PowerPoint</dc:title>
</cp:coreProperties>
</file>