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dt" idx="1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1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1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4E47F-E9EC-4F97-911E-91FF479804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8550B-FFC8-4DDA-94A8-97A55F0529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AF1BA-1F09-4010-80FE-CA3FC0E942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790B9-C02D-4FA4-8B66-8E6E9831E0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D0F8A-3817-4850-A934-711C891A26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D973D-E227-4DD7-B530-E68F2C1F09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C7831-9CBE-45F0-A53B-E5CBF60351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F0C81-331E-4A2B-BDA0-2E3F552A87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7EDA2-BEAB-4CD3-A680-33BF4C55E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9473A-3B61-4C45-9625-085EED5AA1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69309-7AF2-47F8-812C-D964D11757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8122A-AB7A-4F1F-A325-A8E21B6214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CFCAB-E419-4D28-8A56-9DE3FAA526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928F-7105-4EB9-B1C1-AA0B9136B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4BAF-E4A7-4049-818F-3D60B9A7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1FFC9-D3AC-4888-A0B6-F981BF0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E1C2-4875-43CA-BE96-2C919F0DD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C1B-1826-43A9-98E8-F47666A202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567-61FB-4FCC-A0A0-9283D31E4F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824-671A-4608-9FFE-3CEC74B82E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AE0-FA24-4741-9AAD-5E72E9295A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536-CFC8-49DE-A548-3C9294AAB5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EA7-BE30-488F-AD28-039DF3884D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D3A-21CB-401D-9BAE-33676A9FD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79AF-A9E1-44C2-9DB3-E4E51569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982-6073-476A-A4B5-93C41D24D1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2D8-F26D-4E6C-85BC-0692393A7D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3D8-20D7-4494-BC49-DDFFA26D22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025-0321-466B-B6AE-6D874527FA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075-4E84-4452-8DEE-AD383E31F3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A371B-F39B-45A9-A496-944B52B7A3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73C37-80FE-45D9-93F4-ED481A73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E5572-8984-4FB8-8581-3F49BDD0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12E9D-C9CD-4903-A88B-355C9FC4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52B8D-491D-4F21-B9CB-A100CAEE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D0CD-69CC-4ABE-81D1-24C976E1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32CBB-2129-48E1-A3DD-31B4EB58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94D7E-511C-4025-A3AB-0D536C35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BECB5-E8E2-4E24-A3DC-7B7BE681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88CA7-BD2D-4A0D-9188-F79B1A85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22B6B-100A-46C3-BFFB-95AAB9C0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36526-CA7D-4860-86A3-4FCB909A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99C10-BBD3-4D77-B312-541A3B5303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66C462-7EE1-494E-A380-EB09E4029F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DFEF1-A734-419E-B49C-3A54826E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560DA-7E13-49F8-88E0-5A1C4342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A7F0-80D5-4283-88C5-EB0328FC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F830E-FC03-4A95-AA98-1510E0CB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BBD95-6F83-4AC2-B422-E860228C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561673-C17E-4823-9A1E-6E99F371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DC0AD-DB78-4786-8782-FE5FFB7D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B4833-98C9-4840-BC7F-4445AEDE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B22FE-7A2D-4E9E-890F-81B452B3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D725C-4333-4291-8C7B-83D9E1CD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B9F28-25D7-4FA0-9A42-52475368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66974-E193-45C2-8320-FD4A6337A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23EE-CC89-4C81-B0A7-F3CEF04067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60FA-4F31-4088-9899-85722329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65B8-96D1-4783-937B-968C579C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06D7-9536-43C8-B91D-4FA14C1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8C70-B2F3-4AFC-BCCD-ACFDFDE2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1C01-F73B-4EEE-8154-06911F94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1114-E031-4B58-BC21-65E97D0F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E334-9A0C-44D0-9BF0-22A0839A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B5CB-58BD-4134-923F-B4B75CE7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C17C-FBE1-4D85-917F-95097860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55E8-FBAB-46A7-9D34-7BD1AEF9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05F5-6D91-4C00-8173-2E81186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29F8-E4F5-4718-9E2D-37B85727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8A8B-73F7-4802-9191-0BB9131351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1485E-D932-4C0C-B841-1AA85289C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3071E-A8D5-40CC-BDF5-4F2FE688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BFE64-0BAA-43C8-9D23-0902831F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22C87-EAC4-4FC2-957B-36826892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0FAD7-8806-4E1B-8B0A-6AC169E6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712F3-7C4F-40E3-868E-F28A2DFA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DE3C1-F8C5-406D-9A8E-FE49FDC3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FC0F2-ACA5-4F8D-B3F1-065A1839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BF6A5-697A-4B70-9B83-2CECC4DB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87B6-7E3A-4805-B0A4-8CA4BB84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05D2E-42FA-4C18-9AB9-5CCA3D08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460C3-770D-4E9A-8756-BCCDF52D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5622C-A339-40CF-B2AB-160FA36D86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6FDCE8-659A-47D5-91B2-5DCCF8564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71C13F-BEA2-4464-BDAF-34D9B44F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987936-8143-431B-97C4-E022A690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C99803-7077-4CC3-9783-B8330F66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C3C961-1C0A-4438-A411-3D5FA905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3E4DA3-1F09-48A7-BFE7-C97338D1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04279B-315B-462C-8C10-E5263504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9777-CE17-4BAD-8F3C-CF105680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EB1C63-015C-4C97-B7DC-F5F37314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4B2515-28D9-4F71-81B5-27C9B39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A27FC4-FA32-4100-A3AF-166CC484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F6675-8116-4188-8DC5-6D7F8DC5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CE779F-CCEC-40E9-8ACB-5F4DA511C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6BE0-8EC1-4A0B-8EB7-488F5C21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7691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Образец подзагол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164200" y="6249600"/>
            <a:ext cx="3782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990600" y="6249600"/>
            <a:ext cx="11588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CF1BD-51F1-482A-AFD6-9E02039842D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28800"/>
            <a:ext cx="686736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1828800"/>
            <a:ext cx="3768840" cy="360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1016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Четве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488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437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  <a:ea typeface="SimSun"/>
              </a:rPr>
              <a:t>Второй урове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  <a:ea typeface="SimSun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SimSun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61016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Четве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488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437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  <a:ea typeface="SimSun"/>
              </a:rPr>
              <a:t>Второй урове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  <a:ea typeface="SimSun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SimSun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67179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d6ec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D6BBA9-0249-4585-85E2-BFC1E50AE165}" type="slidenum">
              <a:rPr b="0" lang="ru-RU" sz="2400" spc="-1" strike="noStrike">
                <a:solidFill>
                  <a:srgbClr val="d6ecff"/>
                </a:solidFill>
                <a:latin typeface="Candar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7784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98A48A-65F9-4E69-8D5B-FD7BEBFBE62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871200" y="2674440"/>
            <a:ext cx="740556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189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6840" y="294840"/>
            <a:ext cx="82263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6"/>
          </p:nvPr>
        </p:nvSpPr>
        <p:spPr>
          <a:xfrm>
            <a:off x="5164200" y="6249960"/>
            <a:ext cx="3782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d6ec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andara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7"/>
          </p:nvPr>
        </p:nvSpPr>
        <p:spPr>
          <a:xfrm>
            <a:off x="3990600" y="6249600"/>
            <a:ext cx="1158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d6ec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0B9A0C3-33CE-4B55-80B3-F037E227DD9A}" type="slidenum">
              <a:rPr b="0" lang="ru-RU" sz="2400" spc="-1" strike="noStrike">
                <a:solidFill>
                  <a:srgbClr val="d6ecff"/>
                </a:solidFill>
                <a:latin typeface="Candar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7784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8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89083E-9EA2-43A4-8378-616365FD854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080" y="4103640"/>
            <a:ext cx="5483160" cy="19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792080" y="5366880"/>
            <a:ext cx="5483160" cy="76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20EF08-D682-417C-8521-AE7726CDF1E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6611760"/>
            <a:ext cx="14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e6e0ec"/>
                </a:solidFill>
                <a:latin typeface="Mistral"/>
              </a:rPr>
              <a:t>© Фокина Лидия Петровна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857160" y="214200"/>
            <a:ext cx="8072640" cy="6429600"/>
          </a:xfrm>
          <a:prstGeom prst="rect">
            <a:avLst/>
          </a:prstGeom>
          <a:solidFill>
            <a:srgbClr val="ffffff"/>
          </a:solidFill>
          <a:ln w="38160">
            <a:solidFill>
              <a:srgbClr val="dbeef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357120" y="1000080"/>
            <a:ext cx="926640" cy="212760"/>
            <a:chOff x="357120" y="1000080"/>
            <a:chExt cx="926640" cy="212760"/>
          </a:xfrm>
        </p:grpSpPr>
        <p:sp>
          <p:nvSpPr>
            <p:cNvPr id="256" name="Oval 4"/>
            <p:cNvSpPr/>
            <p:nvPr/>
          </p:nvSpPr>
          <p:spPr>
            <a:xfrm>
              <a:off x="1028880" y="10155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5"/>
            <p:cNvSpPr/>
            <p:nvPr/>
          </p:nvSpPr>
          <p:spPr>
            <a:xfrm>
              <a:off x="357120" y="10155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6"/>
            <p:cNvSpPr/>
            <p:nvPr/>
          </p:nvSpPr>
          <p:spPr>
            <a:xfrm>
              <a:off x="1074960" y="10490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7"/>
            <p:cNvSpPr/>
            <p:nvPr/>
          </p:nvSpPr>
          <p:spPr>
            <a:xfrm>
              <a:off x="402840" y="10490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472680" y="10000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9"/>
          <p:cNvGrpSpPr/>
          <p:nvPr/>
        </p:nvGrpSpPr>
        <p:grpSpPr>
          <a:xfrm>
            <a:off x="357120" y="1658880"/>
            <a:ext cx="926640" cy="212760"/>
            <a:chOff x="357120" y="1658880"/>
            <a:chExt cx="926640" cy="212760"/>
          </a:xfrm>
        </p:grpSpPr>
        <p:sp>
          <p:nvSpPr>
            <p:cNvPr id="262" name="Oval 10"/>
            <p:cNvSpPr/>
            <p:nvPr/>
          </p:nvSpPr>
          <p:spPr>
            <a:xfrm>
              <a:off x="1028880" y="16743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11"/>
            <p:cNvSpPr/>
            <p:nvPr/>
          </p:nvSpPr>
          <p:spPr>
            <a:xfrm>
              <a:off x="357120" y="16743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2"/>
            <p:cNvSpPr/>
            <p:nvPr/>
          </p:nvSpPr>
          <p:spPr>
            <a:xfrm>
              <a:off x="1074960" y="17078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>
              <a:off x="402840" y="17078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4"/>
            <p:cNvSpPr/>
            <p:nvPr/>
          </p:nvSpPr>
          <p:spPr>
            <a:xfrm>
              <a:off x="472680" y="16588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15"/>
          <p:cNvGrpSpPr/>
          <p:nvPr/>
        </p:nvGrpSpPr>
        <p:grpSpPr>
          <a:xfrm>
            <a:off x="357120" y="2317680"/>
            <a:ext cx="926640" cy="212760"/>
            <a:chOff x="357120" y="2317680"/>
            <a:chExt cx="926640" cy="212760"/>
          </a:xfrm>
        </p:grpSpPr>
        <p:sp>
          <p:nvSpPr>
            <p:cNvPr id="268" name="Oval 16"/>
            <p:cNvSpPr/>
            <p:nvPr/>
          </p:nvSpPr>
          <p:spPr>
            <a:xfrm>
              <a:off x="1028880" y="23331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7"/>
            <p:cNvSpPr/>
            <p:nvPr/>
          </p:nvSpPr>
          <p:spPr>
            <a:xfrm>
              <a:off x="357120" y="23331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18"/>
            <p:cNvSpPr/>
            <p:nvPr/>
          </p:nvSpPr>
          <p:spPr>
            <a:xfrm>
              <a:off x="1074960" y="23662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9"/>
            <p:cNvSpPr/>
            <p:nvPr/>
          </p:nvSpPr>
          <p:spPr>
            <a:xfrm>
              <a:off x="402840" y="23662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0"/>
            <p:cNvSpPr/>
            <p:nvPr/>
          </p:nvSpPr>
          <p:spPr>
            <a:xfrm>
              <a:off x="472680" y="23176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Group 21"/>
          <p:cNvGrpSpPr/>
          <p:nvPr/>
        </p:nvGrpSpPr>
        <p:grpSpPr>
          <a:xfrm>
            <a:off x="357120" y="2976480"/>
            <a:ext cx="926640" cy="212760"/>
            <a:chOff x="357120" y="2976480"/>
            <a:chExt cx="926640" cy="212760"/>
          </a:xfrm>
        </p:grpSpPr>
        <p:sp>
          <p:nvSpPr>
            <p:cNvPr id="274" name="Oval 22"/>
            <p:cNvSpPr/>
            <p:nvPr/>
          </p:nvSpPr>
          <p:spPr>
            <a:xfrm>
              <a:off x="1028880" y="29919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>
              <a:off x="357120" y="29919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>
              <a:off x="1074960" y="30250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25"/>
            <p:cNvSpPr/>
            <p:nvPr/>
          </p:nvSpPr>
          <p:spPr>
            <a:xfrm>
              <a:off x="402840" y="30250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26"/>
            <p:cNvSpPr/>
            <p:nvPr/>
          </p:nvSpPr>
          <p:spPr>
            <a:xfrm>
              <a:off x="472680" y="29764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Group 27"/>
          <p:cNvGrpSpPr/>
          <p:nvPr/>
        </p:nvGrpSpPr>
        <p:grpSpPr>
          <a:xfrm>
            <a:off x="357120" y="3635280"/>
            <a:ext cx="926640" cy="212760"/>
            <a:chOff x="357120" y="3635280"/>
            <a:chExt cx="926640" cy="212760"/>
          </a:xfrm>
        </p:grpSpPr>
        <p:sp>
          <p:nvSpPr>
            <p:cNvPr id="280" name="Oval 28"/>
            <p:cNvSpPr/>
            <p:nvPr/>
          </p:nvSpPr>
          <p:spPr>
            <a:xfrm>
              <a:off x="1028880" y="36507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29"/>
            <p:cNvSpPr/>
            <p:nvPr/>
          </p:nvSpPr>
          <p:spPr>
            <a:xfrm>
              <a:off x="357120" y="36507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30"/>
            <p:cNvSpPr/>
            <p:nvPr/>
          </p:nvSpPr>
          <p:spPr>
            <a:xfrm>
              <a:off x="1074960" y="36838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31"/>
            <p:cNvSpPr/>
            <p:nvPr/>
          </p:nvSpPr>
          <p:spPr>
            <a:xfrm>
              <a:off x="402840" y="36838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32"/>
            <p:cNvSpPr/>
            <p:nvPr/>
          </p:nvSpPr>
          <p:spPr>
            <a:xfrm>
              <a:off x="472680" y="36352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33"/>
          <p:cNvGrpSpPr/>
          <p:nvPr/>
        </p:nvGrpSpPr>
        <p:grpSpPr>
          <a:xfrm>
            <a:off x="357120" y="4294080"/>
            <a:ext cx="926640" cy="212760"/>
            <a:chOff x="357120" y="4294080"/>
            <a:chExt cx="926640" cy="212760"/>
          </a:xfrm>
        </p:grpSpPr>
        <p:sp>
          <p:nvSpPr>
            <p:cNvPr id="286" name="Oval 34"/>
            <p:cNvSpPr/>
            <p:nvPr/>
          </p:nvSpPr>
          <p:spPr>
            <a:xfrm>
              <a:off x="1028880" y="43095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5"/>
            <p:cNvSpPr/>
            <p:nvPr/>
          </p:nvSpPr>
          <p:spPr>
            <a:xfrm>
              <a:off x="357120" y="43095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6"/>
            <p:cNvSpPr/>
            <p:nvPr/>
          </p:nvSpPr>
          <p:spPr>
            <a:xfrm>
              <a:off x="1074960" y="43426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7"/>
            <p:cNvSpPr/>
            <p:nvPr/>
          </p:nvSpPr>
          <p:spPr>
            <a:xfrm>
              <a:off x="402840" y="43426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8"/>
            <p:cNvSpPr/>
            <p:nvPr/>
          </p:nvSpPr>
          <p:spPr>
            <a:xfrm>
              <a:off x="472680" y="42940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39"/>
          <p:cNvGrpSpPr/>
          <p:nvPr/>
        </p:nvGrpSpPr>
        <p:grpSpPr>
          <a:xfrm>
            <a:off x="357120" y="4952880"/>
            <a:ext cx="926640" cy="212760"/>
            <a:chOff x="357120" y="4952880"/>
            <a:chExt cx="926640" cy="212760"/>
          </a:xfrm>
        </p:grpSpPr>
        <p:sp>
          <p:nvSpPr>
            <p:cNvPr id="292" name="Oval 40"/>
            <p:cNvSpPr/>
            <p:nvPr/>
          </p:nvSpPr>
          <p:spPr>
            <a:xfrm>
              <a:off x="1028880" y="49683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41"/>
            <p:cNvSpPr/>
            <p:nvPr/>
          </p:nvSpPr>
          <p:spPr>
            <a:xfrm>
              <a:off x="357120" y="49683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42"/>
            <p:cNvSpPr/>
            <p:nvPr/>
          </p:nvSpPr>
          <p:spPr>
            <a:xfrm>
              <a:off x="1074960" y="50014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3"/>
            <p:cNvSpPr/>
            <p:nvPr/>
          </p:nvSpPr>
          <p:spPr>
            <a:xfrm>
              <a:off x="402840" y="50014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4"/>
            <p:cNvSpPr/>
            <p:nvPr/>
          </p:nvSpPr>
          <p:spPr>
            <a:xfrm>
              <a:off x="472680" y="49528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57120" y="6270480"/>
            <a:ext cx="926640" cy="212760"/>
            <a:chOff x="357120" y="6270480"/>
            <a:chExt cx="926640" cy="212760"/>
          </a:xfrm>
        </p:grpSpPr>
        <p:sp>
          <p:nvSpPr>
            <p:cNvPr id="298" name="Oval 46"/>
            <p:cNvSpPr/>
            <p:nvPr/>
          </p:nvSpPr>
          <p:spPr>
            <a:xfrm>
              <a:off x="1028880" y="6286320"/>
              <a:ext cx="254880" cy="17892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7"/>
            <p:cNvSpPr/>
            <p:nvPr/>
          </p:nvSpPr>
          <p:spPr>
            <a:xfrm>
              <a:off x="357120" y="6286320"/>
              <a:ext cx="254880" cy="17892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8"/>
            <p:cNvSpPr/>
            <p:nvPr/>
          </p:nvSpPr>
          <p:spPr>
            <a:xfrm>
              <a:off x="1074960" y="63190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9"/>
            <p:cNvSpPr/>
            <p:nvPr/>
          </p:nvSpPr>
          <p:spPr>
            <a:xfrm>
              <a:off x="402840" y="63190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50"/>
            <p:cNvSpPr/>
            <p:nvPr/>
          </p:nvSpPr>
          <p:spPr>
            <a:xfrm>
              <a:off x="472680" y="62704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51"/>
          <p:cNvGrpSpPr/>
          <p:nvPr/>
        </p:nvGrpSpPr>
        <p:grpSpPr>
          <a:xfrm>
            <a:off x="357120" y="5611680"/>
            <a:ext cx="926640" cy="212760"/>
            <a:chOff x="357120" y="5611680"/>
            <a:chExt cx="926640" cy="212760"/>
          </a:xfrm>
        </p:grpSpPr>
        <p:sp>
          <p:nvSpPr>
            <p:cNvPr id="304" name="Oval 52"/>
            <p:cNvSpPr/>
            <p:nvPr/>
          </p:nvSpPr>
          <p:spPr>
            <a:xfrm>
              <a:off x="1028880" y="56271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3"/>
            <p:cNvSpPr/>
            <p:nvPr/>
          </p:nvSpPr>
          <p:spPr>
            <a:xfrm>
              <a:off x="357120" y="5627160"/>
              <a:ext cx="254880" cy="17928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4"/>
            <p:cNvSpPr/>
            <p:nvPr/>
          </p:nvSpPr>
          <p:spPr>
            <a:xfrm>
              <a:off x="1074960" y="56602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5"/>
            <p:cNvSpPr/>
            <p:nvPr/>
          </p:nvSpPr>
          <p:spPr>
            <a:xfrm>
              <a:off x="402840" y="566028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6"/>
            <p:cNvSpPr/>
            <p:nvPr/>
          </p:nvSpPr>
          <p:spPr>
            <a:xfrm>
              <a:off x="472680" y="56116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Group 57"/>
          <p:cNvGrpSpPr/>
          <p:nvPr/>
        </p:nvGrpSpPr>
        <p:grpSpPr>
          <a:xfrm>
            <a:off x="357120" y="341280"/>
            <a:ext cx="926640" cy="212760"/>
            <a:chOff x="357120" y="341280"/>
            <a:chExt cx="926640" cy="212760"/>
          </a:xfrm>
        </p:grpSpPr>
        <p:sp>
          <p:nvSpPr>
            <p:cNvPr id="310" name="Oval 58"/>
            <p:cNvSpPr/>
            <p:nvPr/>
          </p:nvSpPr>
          <p:spPr>
            <a:xfrm>
              <a:off x="1028880" y="3567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9"/>
            <p:cNvSpPr/>
            <p:nvPr/>
          </p:nvSpPr>
          <p:spPr>
            <a:xfrm>
              <a:off x="357120" y="356760"/>
              <a:ext cx="254880" cy="179640"/>
            </a:xfrm>
            <a:prstGeom prst="ellipse">
              <a:avLst/>
            </a:prstGeom>
            <a:noFill/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60"/>
            <p:cNvSpPr/>
            <p:nvPr/>
          </p:nvSpPr>
          <p:spPr>
            <a:xfrm>
              <a:off x="1074960" y="3902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61"/>
            <p:cNvSpPr/>
            <p:nvPr/>
          </p:nvSpPr>
          <p:spPr>
            <a:xfrm>
              <a:off x="402840" y="390240"/>
              <a:ext cx="161640" cy="114840"/>
            </a:xfrm>
            <a:prstGeom prst="ellipse">
              <a:avLst/>
            </a:prstGeom>
            <a:noFill/>
            <a:ln w="25560">
              <a:solidFill>
                <a:srgbClr val="e6e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62"/>
            <p:cNvSpPr/>
            <p:nvPr/>
          </p:nvSpPr>
          <p:spPr>
            <a:xfrm>
              <a:off x="472680" y="341280"/>
              <a:ext cx="695520" cy="21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dt" idx="12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.5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Num" idx="1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602163-C39A-47D4-906F-588D8A2DFB1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ing.com/images/search?q=&#1082;&#1072;&#1088;&#1090;&#1080;&#1085;&#1082;&#1080;+&#1072;&#1083;&#1084;&#1072;&#1079;&#1086;&#1074;&amp;view=detailv2&amp;adlt=strict&amp;id=60FF6A38E059CE686B26628BFE2A08E9AA72E537&amp;selectedIndex=126&amp;ccid=%2BLId3H1T&amp;simid=608053347329575613&amp;thid=OIP.Mf8b21ddc7d53e0d03d04c2c524a3d82aH1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1"/>
          <p:cNvSpPr/>
          <p:nvPr/>
        </p:nvSpPr>
        <p:spPr>
          <a:xfrm>
            <a:off x="1441440" y="360360"/>
            <a:ext cx="701820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06640" y="360360"/>
            <a:ext cx="7569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Алмазы в жизни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484360" y="2349360"/>
            <a:ext cx="56149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mic Sans MS"/>
              </a:rPr>
              <a:t>Автор: ученица 3 В класс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mic Sans MS"/>
              </a:rPr>
              <a:t>школы №28 г. Саранск, республика Мордов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Синицына Анастас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mic Sans MS"/>
              </a:rPr>
              <a:t>Руководитель: Юртайкина О.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11" descr="http://d3mlntcv38ck9k.cloudfront.net/content/konspekt_image/13017/81a9bcf4c35858ae55762b60b8a14d52.jpg"/>
          <p:cNvPicPr/>
          <p:nvPr/>
        </p:nvPicPr>
        <p:blipFill>
          <a:blip r:embed="rId1"/>
          <a:stretch/>
        </p:blipFill>
        <p:spPr>
          <a:xfrm>
            <a:off x="3651120" y="4552920"/>
            <a:ext cx="327996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AutoShape 1"/>
          <p:cNvSpPr/>
          <p:nvPr/>
        </p:nvSpPr>
        <p:spPr>
          <a:xfrm>
            <a:off x="901800" y="36036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Звезды и бриллиа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1332000" y="1566720"/>
            <a:ext cx="48243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Comic Sans MS"/>
              </a:rPr>
              <a:t>Мэрилин Монр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Comic Sans MS"/>
              </a:rPr>
              <a:t>В  сиянии бриллиантов  Мэрилин Монро становилась настоящей богиней красоты. Знаменитая реплика: «Лучшие друзья девушек – бриллианты», – принадлежит героине Монро из фильма «Джентльмены предпочитают блондинок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Comic Sans MS"/>
              </a:rPr>
              <a:t>Элизабет Тейл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Comic Sans MS"/>
              </a:rPr>
              <a:t>Для великой актрисы бриллианты и изумруды по баснословным ценам – не просто милое дамское пристрастие, а, можно сказать, вторая профессия. Долгое время лучшие ювелирные дома мира изготавливали для Элизабет Тейлор уникальные украшения. Актриса сама делала эскизы, выбирала камни. А потом основала собственный дом Taylor Jewelry, который выпускает ювелирные коллекции от Тейло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9396360" y="5373720"/>
            <a:ext cx="4608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10" descr="http://tse4.mm.bing.net/th?id=OIP.Ma0e8b2e1cc5740a9d757e9bc0086591fo1&amp;pid=15.1"/>
          <p:cNvPicPr/>
          <p:nvPr/>
        </p:nvPicPr>
        <p:blipFill>
          <a:blip r:embed="rId1"/>
          <a:stretch/>
        </p:blipFill>
        <p:spPr>
          <a:xfrm>
            <a:off x="6156360" y="1481040"/>
            <a:ext cx="25002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901800" y="36036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Звезды и бриллиа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1332000" y="1566720"/>
            <a:ext cx="38163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Comic Sans MS"/>
              </a:rPr>
              <a:t>Кейт Уинс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Comic Sans MS"/>
              </a:rPr>
              <a:t>Роза, героиня Кейт Уинслет в блокбастере «Титаник», долгие годы хранит реликвию – бриллиантовый кулон «Сердце океана». Это его она так эффектно бросает в воду в конце фильма, словно навсегда прощаясь с любим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Comic Sans MS"/>
              </a:rPr>
              <a:t>Мадон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Comic Sans MS"/>
              </a:rPr>
              <a:t>Мадонна – страстная поклонница бриллиантов, особенно из коллекций ювелирного дома Chopard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396360" y="5373720"/>
            <a:ext cx="4608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4" descr="http://au74.ru/media/redactor/13_1.png"/>
          <p:cNvPicPr/>
          <p:nvPr/>
        </p:nvPicPr>
        <p:blipFill>
          <a:blip r:embed="rId1"/>
          <a:stretch/>
        </p:blipFill>
        <p:spPr>
          <a:xfrm>
            <a:off x="5662440" y="4048200"/>
            <a:ext cx="3127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441440" y="2060640"/>
            <a:ext cx="7128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Благодаря своим уникальным свойствам алмаз используют не только в ювелирных украшениях, но так же широко применяют в науке и технике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Причем большая часть из добываемых алмазов как раз идет на последние две сферы применения этого минерала. В основном это очень мелкие или дефектные камни, не имеющие ювелирной ценности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2"/>
          <p:cNvSpPr/>
          <p:nvPr/>
        </p:nvSpPr>
        <p:spPr>
          <a:xfrm>
            <a:off x="1403280" y="260280"/>
            <a:ext cx="7272360" cy="10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728720" y="276120"/>
            <a:ext cx="68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Ы В ПРОМЫШЛ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"/>
          <p:cNvSpPr/>
          <p:nvPr/>
        </p:nvSpPr>
        <p:spPr>
          <a:xfrm>
            <a:off x="1403280" y="3500280"/>
            <a:ext cx="4248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15" descr="http://www.zolotopro.ru/postimages/Rough_diamond.jpg"/>
          <p:cNvPicPr/>
          <p:nvPr/>
        </p:nvPicPr>
        <p:blipFill>
          <a:blip r:embed="rId1"/>
          <a:stretch/>
        </p:blipFill>
        <p:spPr>
          <a:xfrm>
            <a:off x="3127320" y="3913200"/>
            <a:ext cx="35845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1"/>
          <p:cNvSpPr/>
          <p:nvPr/>
        </p:nvSpPr>
        <p:spPr>
          <a:xfrm>
            <a:off x="1476360" y="360360"/>
            <a:ext cx="719928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1619280" y="1628640"/>
            <a:ext cx="691344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1. Алмаз является самым твердым природным материалом известным на Зем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2. О твёрдости алмаза ходят легенды. Рассказывают, что однажды под гидравлический пресс положили алмаз и кусок стали, начали сжимать, и когда сила давления стала критической, алмаз вошёл в сталь, как нож в мас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3. Алмаз проводит тепло в 5 раз быстрее, чем медь и именно поэтому он кажется холодным на ощуп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4. Чистый алмаз является самым прозрачным из известных материалов. Он пропускает видимый, ультрафиолетовый и инфракрасный св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5. Алмаз может быть и проводником и изолятором, поэтому он может пропускать электрический ток или 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6. Алмаз может остаться целым в среде, которая разрушит другие материалы. Он может выдержать большие физические, химические и радиоактивные воздейств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7. Если алмаз поместить внутрь человеческого тела, он не будет вызывать иммунной реакции.</a:t>
            </a:r>
            <a:r>
              <a:rPr b="1" lang="ru-RU" sz="2300" spc="-1" strike="noStrike">
                <a:solidFill>
                  <a:srgbClr val="3333cc"/>
                </a:solidFill>
                <a:latin typeface="Comic Sans MS"/>
              </a:rPr>
              <a:t>  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619280" y="393840"/>
            <a:ext cx="7056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omic Sans MS"/>
              </a:rPr>
              <a:t>Уникальные свойства алмаза, которые использует современная наука и промышленно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7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AutoShape 1"/>
          <p:cNvSpPr/>
          <p:nvPr/>
        </p:nvSpPr>
        <p:spPr>
          <a:xfrm>
            <a:off x="1258920" y="620640"/>
            <a:ext cx="7418520" cy="1050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Медиц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1116000" y="1862640"/>
            <a:ext cx="745020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ные лезвия скальпелей имеют сверхтонкие края, что уменьшает ширину разрезов, это очень важное свойство для современной хирургии. Плюс такие лезвия остаются острыми гораздо дольше, чем стальные. Алмазы также применяются в лазерных устройствах для прижигания разрезов и р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2" descr="http://tse1.mm.bing.net/th?id=OIP.M522e68c94c7bdf6085b14dfd534e6ac2o0&amp;pid=15.1"/>
          <p:cNvPicPr/>
          <p:nvPr/>
        </p:nvPicPr>
        <p:blipFill>
          <a:blip r:embed="rId1"/>
          <a:stretch/>
        </p:blipFill>
        <p:spPr>
          <a:xfrm>
            <a:off x="3571920" y="3524400"/>
            <a:ext cx="312732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2133720" y="1268280"/>
            <a:ext cx="583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Кристалл алмаза может позволить нескольким сигналам на разных частотах пройти одновременно по кабелю. Это дает возможность использовать его в области телекоммуникаций. Кроме того алмаз способен выдерживать высокое напряжение и изменение темпера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2"/>
          <p:cNvSpPr/>
          <p:nvPr/>
        </p:nvSpPr>
        <p:spPr>
          <a:xfrm>
            <a:off x="901800" y="360360"/>
            <a:ext cx="7920000" cy="765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Телекоммун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11" descr="http://tse1.mm.bing.net/th?&amp;id=OIP.Md666196b318c3f88c4b8d0da9ced0f8co0&amp;w=297&amp;h=228&amp;c=0&amp;pid=1.9&amp;rs=0&amp;p=0&amp;url=http%3A%2F%2Fzolotopro.ru%2Fnews.php%3Fnewsid%3D187"/>
          <p:cNvPicPr/>
          <p:nvPr/>
        </p:nvPicPr>
        <p:blipFill>
          <a:blip r:embed="rId1"/>
          <a:stretch/>
        </p:blipFill>
        <p:spPr>
          <a:xfrm>
            <a:off x="3492360" y="4022640"/>
            <a:ext cx="311652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2"/>
          <p:cNvSpPr/>
          <p:nvPr/>
        </p:nvSpPr>
        <p:spPr>
          <a:xfrm>
            <a:off x="1042920" y="1557360"/>
            <a:ext cx="626760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Электро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Тепло проходит через алмаз гораздо быстрее, чем через медь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ные окна обеспечивают защиту в некоторых научных экспериментах, например в испытаниях с использованием кислот или расплавленной пластмассы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Горное де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ное бурение – это наиболее эффективный и экономичный способ бурения горных пород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Из-за своей необычной твердости алмаз прочно занял место в промышленности, не одно современное производство не обходится без алмазных инструментов: сверил, фрез, резцов, шлифовальных кругов, стеклорезов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2"/>
          <p:cNvSpPr/>
          <p:nvPr/>
        </p:nvSpPr>
        <p:spPr>
          <a:xfrm>
            <a:off x="901800" y="36036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878de"/>
                </a:solidFill>
                <a:latin typeface="Comic Sans MS"/>
              </a:rPr>
              <a:t>Другие отрас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9" descr="http://tse1.mm.bing.net/th?&amp;id=OIP.Mc1915c81dcb0d9db19b51bd1a55e506do0&amp;w=300&amp;h=176&amp;c=0&amp;pid=1.9&amp;rs=0&amp;p=0&amp;url=http%3A%2F%2Ffreemarket.kiev.ua%2Fmessage%2F380824-almaznyj-instrument-dlya-promyshlennosti.html"/>
          <p:cNvPicPr/>
          <p:nvPr/>
        </p:nvPicPr>
        <p:blipFill>
          <a:blip r:embed="rId1"/>
          <a:stretch/>
        </p:blipFill>
        <p:spPr>
          <a:xfrm>
            <a:off x="6097680" y="4992840"/>
            <a:ext cx="2857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1332000" y="1557360"/>
            <a:ext cx="730224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Таким образом, алмазы «красной нитью» проходят через всю историю человечества. В них влюблялись, им поклонялись, из-за них сходили с ума, убивали, разрушали семьи, империи и царства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Магия бриллиантов – древняя и таинственная сила, неподвластная человеку. Неслучайно бриллианты называли царями камней, камнями богов, осколками далеких небесных свети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Многие столетия алмаз считался самым твердым минералом на планете. Древние китайцы несколько тысяч лет назад даже использовали алмаз для полировки церемониальных топоров, которые в свою очередь изготавливались из корун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901800" y="36036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Заключени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9144000" y="3716280"/>
            <a:ext cx="4105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5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1"/>
          <p:cNvSpPr/>
          <p:nvPr/>
        </p:nvSpPr>
        <p:spPr>
          <a:xfrm>
            <a:off x="1405080" y="260280"/>
            <a:ext cx="7343640" cy="10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1405080" y="277920"/>
            <a:ext cx="73436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Вывод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332000" y="1773360"/>
            <a:ext cx="748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Однако прогресс не стоит на месте и в 2005 году Наталья Дубровинская с коллегами из Университета Гейдельберга благодаря нанотехнологиям и новейшим материалам смогла создать вещество, на 11% превышающее по твердости алмаз. Новый материал получил название  «гипералма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 сколько открытий еще предстоит сделать, ведь алмазы, как носители уникальной твердости и других интересных свойств, до сих пор являются объектами пристального внимания уче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1332000" y="4797360"/>
            <a:ext cx="504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"/>
          <p:cNvSpPr/>
          <p:nvPr/>
        </p:nvSpPr>
        <p:spPr>
          <a:xfrm>
            <a:off x="1332000" y="2421000"/>
            <a:ext cx="748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omic Sans MS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332000" y="4797360"/>
            <a:ext cx="504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452600" y="504720"/>
            <a:ext cx="72723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0000"/>
              </a:lnSpc>
              <a:spcBef>
                <a:spcPts val="488"/>
              </a:spcBef>
              <a:tabLst>
                <a:tab algn="l" pos="0"/>
                <a:tab algn="l" pos="271440"/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58920" y="3551400"/>
            <a:ext cx="4284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40000"/>
              </a:lnSpc>
              <a:spcBef>
                <a:spcPts val="488"/>
              </a:spcBef>
              <a:tabLst>
                <a:tab algn="l" pos="0"/>
                <a:tab algn="l" pos="271440"/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1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362240" y="950400"/>
            <a:ext cx="669744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Алмаз - это, пожалуй, самый популярный и самый драгоценный камень в мире. Он состоит из чистого углерода (до 99,8%), а также содержит небольшие примеси различных химических эле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10" descr="almaz1"/>
          <p:cNvPicPr/>
          <p:nvPr/>
        </p:nvPicPr>
        <p:blipFill>
          <a:blip r:embed="rId1"/>
          <a:stretch/>
        </p:blipFill>
        <p:spPr>
          <a:xfrm>
            <a:off x="2700360" y="3716280"/>
            <a:ext cx="3262320" cy="34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2"/>
          <p:cNvSpPr/>
          <p:nvPr/>
        </p:nvSpPr>
        <p:spPr>
          <a:xfrm>
            <a:off x="1403280" y="1700280"/>
            <a:ext cx="734544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ы появились задолго до нашей эры. Считается, что своим возрастом он может потягаться с самой нашей планетой. Однако о происхождении и возрасте алмазов до сих пор нет точных научных данных. Ученые придерживаются разных гипотез. Большинство склоняются к тому, что алмазы образуются в земной коре на глубине более 200 км. Только благодаря извержениям вулканов, алмазы переносятся на глубины, досягаемые человеком. Средний возраст любого алмаза — около полутора миллиардов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Испокон веков этот непревзойденный камень окутан легендами и мифами. Его родиной считают Индию. Именно здесь найдены такие знаменитые алмазы, как «Кох-и-Нор», «Регент», «Орлов», «Шах». Почти два тысячелетия Индия была единственным источником алмаз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1"/>
          <p:cNvSpPr/>
          <p:nvPr/>
        </p:nvSpPr>
        <p:spPr>
          <a:xfrm>
            <a:off x="1403280" y="360360"/>
            <a:ext cx="727236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История кам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5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"/>
          <p:cNvSpPr/>
          <p:nvPr/>
        </p:nvSpPr>
        <p:spPr>
          <a:xfrm>
            <a:off x="1187280" y="549360"/>
            <a:ext cx="7418520" cy="28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1258920" y="404640"/>
            <a:ext cx="71294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Гипотеза исследования: я предположила, что  алмазы играют в жизни людей не только декоративную рол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"/>
          <p:cNvSpPr/>
          <p:nvPr/>
        </p:nvSpPr>
        <p:spPr>
          <a:xfrm>
            <a:off x="2195640" y="3645000"/>
            <a:ext cx="583236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Цель проекта: изучить значение алмаз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1547640" y="476280"/>
            <a:ext cx="734544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Объект исследования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: </a:t>
            </a:r>
            <a:r>
              <a:rPr b="1" lang="ru-RU" sz="3000" spc="-1" strike="noStrike">
                <a:solidFill>
                  <a:srgbClr val="004586"/>
                </a:solidFill>
                <a:latin typeface="Comic Sans MS"/>
              </a:rPr>
              <a:t>драгоценный камень - алма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Предмет исследования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: полезные качества данного кам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Задачи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1 Изучить информацию о данном драгоценном камн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2 Выявить полезные для человека свойства алмаз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3 Сделать выводы о роли алмазов в жизни люд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2"/>
          <p:cNvSpPr/>
          <p:nvPr/>
        </p:nvSpPr>
        <p:spPr>
          <a:xfrm>
            <a:off x="1619280" y="1773360"/>
            <a:ext cx="6408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1"/>
          <p:cNvSpPr/>
          <p:nvPr/>
        </p:nvSpPr>
        <p:spPr>
          <a:xfrm>
            <a:off x="1403280" y="360360"/>
            <a:ext cx="727236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АЛМАЗ - СИМВОЛ В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365120" y="1637280"/>
            <a:ext cx="72741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Тысячи лет назад индийцы не только знали про алмазы, но уже добывали их, украшали алмазами орнаменты и ювелирные изделия, умели оценивать кристаллы алмаза и обменивали их на товары и золото. В те времена камни еще не научились обрабатывать, хранились они в своем первозданном виде в хранилищах богатейших людей страны, символизируя власть и положение в обще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10" descr="http://tse1.mm.bing.net/th?&amp;id=OIP.Mf8b21ddc7d53e0d03d04c2c524a3d82aH1&amp;w=213&amp;h=299&amp;c=0&amp;pid=1.9&amp;rs=0&amp;p=0&amp;url=http%3A%2F%2Ffashion.telegraph.co.uk%2Fnews-features%2FTMG9229257%2FQueens-Diamond-Jubilee-A-diamond-exhibition-to-open-at-Buckingham-Palace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29080" y="3438360"/>
            <a:ext cx="26337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2"/>
          <p:cNvSpPr/>
          <p:nvPr/>
        </p:nvSpPr>
        <p:spPr>
          <a:xfrm>
            <a:off x="1619280" y="1773360"/>
            <a:ext cx="6408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1"/>
          <p:cNvSpPr/>
          <p:nvPr/>
        </p:nvSpPr>
        <p:spPr>
          <a:xfrm>
            <a:off x="1436760" y="333360"/>
            <a:ext cx="727236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АЛМАЗ «Ор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1436760" y="1774440"/>
            <a:ext cx="511812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Интересную историю имеет всемирно известный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алмаз «Орлов»</a:t>
            </a: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. Алмаз был обнаружен в начале XVII в. В Индии. Изначально он весил около 300 карат. Согласно одной из легенд, этот камень был одним из алмазов, служивших глазами статуи Брамы. Затем он принадлежал Надир-шаху. После его падения алмаз попал в Амстердам, где был куплен у армянского купца Лазарева за 400 тысяч рублей графом Григорием Орловым и подарен императрице Екатерине II. Теперь он украшает хранящийся в Алмазном фонде России Императорский скипетр. Алмаз огранен в виде высокой «индийской роз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13" descr="http://tse3.mm.bing.net/th?id=OIP.Mbec105129b23ba146609a4cd8bc8646co0&amp;pid=15.1"/>
          <p:cNvPicPr/>
          <p:nvPr/>
        </p:nvPicPr>
        <p:blipFill>
          <a:blip r:embed="rId1"/>
          <a:stretch/>
        </p:blipFill>
        <p:spPr>
          <a:xfrm>
            <a:off x="6205680" y="3638520"/>
            <a:ext cx="26035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1"/>
          <p:cNvSpPr/>
          <p:nvPr/>
        </p:nvSpPr>
        <p:spPr>
          <a:xfrm>
            <a:off x="901800" y="36036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1260360" y="360360"/>
            <a:ext cx="68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МАГИЧЕСКИЕ СВОЙСТВА АЛМ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547640" y="1844640"/>
            <a:ext cx="5616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271440"/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omic Sans MS"/>
              </a:rPr>
              <a:t>       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В далекие времена, когда алмазы добывались исключительно в Индии, им приписывались мистические свойства. Чаще всего они использовались как атрибуты религиозных обрядов. Ими украшали талисманы, обереги и статуи индийских бог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1042920" y="4022640"/>
            <a:ext cx="51865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271440"/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В Европе так же верили в магические свойства камня. Считалось, что алмаз делает своего владельца непобедимым в бою. Еще одно из бесчисленных свойств, приписываемых алмазу - способность приносить удачу. Алмаз также всегда считался камнем побе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6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11" descr="http://zoloto14k.com/images/iskusstvennye-dragotsennye-kamni%206.jpeg"/>
          <p:cNvPicPr/>
          <p:nvPr/>
        </p:nvPicPr>
        <p:blipFill>
          <a:blip r:embed="rId1"/>
          <a:stretch/>
        </p:blipFill>
        <p:spPr>
          <a:xfrm>
            <a:off x="6076800" y="2498760"/>
            <a:ext cx="2970360" cy="55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1"/>
          <p:cNvSpPr/>
          <p:nvPr/>
        </p:nvSpPr>
        <p:spPr>
          <a:xfrm>
            <a:off x="900000" y="360360"/>
            <a:ext cx="7920000" cy="1197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ЮВЕЛИРНЫЕ УКР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1332000" y="1844640"/>
            <a:ext cx="518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И в наши дни бриллианты не потеряли своей привлека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Наиболее распространенный способ, которым обрабатывают алмазы сегодня, называется бриллиантовой огран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0" y="6669000"/>
            <a:ext cx="1332000" cy="189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0" descr="http://tse2.mm.bing.net/th?id=OIP.M8a1b67e8aa79e8c08173a8b9193609d5H0&amp;w=226&amp;h=148&amp;c=7&amp;rs=1&amp;qlt=90&amp;o=4&amp;url=http%3a%2f%2fwww.si.edu%2fEncyclopedia_SI%2fnmnh%2fhope.htm&amp;pid=1.1"/>
          <p:cNvPicPr/>
          <p:nvPr/>
        </p:nvPicPr>
        <p:blipFill>
          <a:blip r:embed="rId1"/>
          <a:stretch/>
        </p:blipFill>
        <p:spPr>
          <a:xfrm>
            <a:off x="3011400" y="3524400"/>
            <a:ext cx="3870360" cy="369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бинет 306</dc:creator>
  <dc:description/>
  <dc:language>en-US</dc:language>
  <cp:lastModifiedBy>Samsung</cp:lastModifiedBy>
  <cp:lastPrinted>2015-12-16T09:54:50Z</cp:lastPrinted>
  <dcterms:modified xsi:type="dcterms:W3CDTF">2019-03-10T15:48:32Z</dcterms:modified>
  <cp:revision>40</cp:revision>
  <dc:subject/>
  <dc:title>Презентация PowerPoint</dc:title>
</cp:coreProperties>
</file>