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D03-4CEA-481F-9D66-33CF81745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B22-4B98-4EF6-A2FB-0013D2C7B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2CD-E280-4561-A49C-B2D5A3949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D692-7DAB-4946-96A9-51CABA0E4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9CB4-8929-49ED-8F3E-CCA2BE8EF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CBAC-5509-4AA1-B1F3-FF7B5A8F2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86C-DFA5-46CF-96BB-9E0D68A8C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777-1D44-4903-B8C4-331F30ABE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9EB-CF29-47CA-ABAE-2D9CEE365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C73-2D56-4B34-87D1-4A3167A34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6AC-1CF3-4D30-B62A-1F220A071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E6A-3B34-49D9-9723-9873324D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AB4-DE48-466B-8F8F-993BB8D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F0B-7B30-4CC3-B7CB-261CCE53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B35-8F5A-48F0-8FD6-F17B77E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75AC-225E-446B-8C0C-0A5D33AC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C6B-701C-43B6-A14D-9D057BEF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E7B-E6DE-4E37-8826-202951D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92B5-FF4B-4789-9B65-441D360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DA9-08E9-4D06-91D9-439144C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40AD-8A8A-47B0-AFD3-6E5372D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02A-DCB1-4E25-9C7C-EFB5C31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D90-CBA3-47E5-A852-87FB07FC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2AC-BE0B-4C4B-8B4A-1D2E321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923B-E277-403B-ACA2-55DB068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7BC-251D-43DD-9FC7-88CECE4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A97-8FF1-4D4A-ADA1-63EC7A0C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77C4-CB5F-4ACA-B709-1CFE6A5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6D-BE7F-4AD4-8D51-C804E0F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686-2EBF-4FB6-A02C-A6F93A6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06F-FEEC-4B00-A0B3-3F915CA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242-CB46-4018-95AE-5C19A1A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DBE-ADCF-4247-86F9-5E89A7F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321-2016-4064-8D7F-F826100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68F-FB28-48B7-B3A3-F49F0C7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AA56-24F7-44BB-A0FF-548483CC1D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80F8-531F-4DC0-A6A7-9D5D071E7F5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9680" y="1857240"/>
            <a:ext cx="82868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Ю О я Б я С ю Т э В Ю Е Ю Н я Н э И ю я К э И э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714320" y="3928680"/>
            <a:ext cx="6143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собственники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8429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аво собственности рассматривается как составная часть системы прав человека, как то, что государство должно гарантировать человеку</a:t>
            </a:r>
            <a:endParaRPr b="0" lang="en-US" sz="25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4760" y="2187360"/>
            <a:ext cx="8488440" cy="3941640"/>
          </a:xfrm>
          <a:prstGeom prst="rect">
            <a:avLst/>
          </a:prstGeom>
          <a:noFill/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469800" indent="-4698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нституция РФ ст. 3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1. Право частной собственности охраняется закон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2. Каждый вправе иметь имущество в собственности, владеть, пользоваться и распоряжаться им как единолично, так и совместно с другими лиц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3. Никто не может быть лишен своего имущества иначе как по решению суда. Принудительное отчуждение имущества для государственных нужд может быть произведено только при условии предварительного и равноценного возмещ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3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4. Право наследования гарантируетс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577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убъекты и объекты собственности</a:t>
            </a:r>
            <a:endParaRPr b="0" lang="en-US" sz="33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1680" y="1535040"/>
            <a:ext cx="822492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убъекты соб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кты соб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66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1093680" y="2598840"/>
            <a:ext cx="705024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это физические или юридические лица, владеющие ресурсами или факторами производства, т.е. собственник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979560" y="5062680"/>
            <a:ext cx="633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это то, чем владеет собственник и результаты производства – благ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Задание. Вставь пропущенные слова в предложения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сё имущество твоей семьи: мебель, телевизор, одежда, холодильник, бытовая техника и т.д., которые используются для организации жизни, представляет собой ……………………………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магазин, который открыл папа, является …………......................собствен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сё, что принадлежит государству – земля, недра, леса, многие поликлиники, школы, жилые дома и другое – это ………………………………..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если собственность принадлежит городу, она называется ………………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20000"/>
                </a:solidFill>
                <a:uFillTx/>
                <a:latin typeface="Times New Roman"/>
              </a:rPr>
              <a:t>Проверь себ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сё имущество твоей семьи: мебель, телевизор, одежда, холодильник, бытовая техника и т.д., которые используются для организации жизни, представляет соб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магазин, который открыл папа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всё, что принадлежит государству – земля, недра, леса, многие поликлиники, школы, жилые дома и другое –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если собственность принадлежит городу, она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2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Задание 2.      Из перечня различных объектов собственности, приведенного в таблице, необходимо выбрать и отметить (+) те, которые, могут быть в личной (частной), гос и муниц. собственности.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0"/>
          <a:ext cx="9144000" cy="7170840"/>
        </p:xfrm>
        <a:graphic>
          <a:graphicData uri="http://schemas.openxmlformats.org/drawingml/2006/table">
            <a:tbl>
              <a:tblPr/>
              <a:tblGrid>
                <a:gridCol w="4357800"/>
                <a:gridCol w="1571400"/>
                <a:gridCol w="1643040"/>
                <a:gridCol w="1571760"/>
              </a:tblGrid>
              <a:tr h="64548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объ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сударствен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ая соб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Обу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Жил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Садоводческое хозя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Земельный уча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Ископ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Л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Валю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Автомоби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Запове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Детская площа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Железные дор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Драгоц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жизненную ситу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Гражданин А. является владельцем своего жилья, а гражданин Б. своё жильё аренду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те права и обязанности  гражданина А. и Б. относительно их жил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5867280" y="3141720"/>
            <a:ext cx="30258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1844640"/>
            <a:ext cx="4032360" cy="35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400032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Какое право иллюстрирует этот 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Отец подарил сыну кварти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35280" y="1828440"/>
            <a:ext cx="32511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4643280" y="364500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42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5724360" y="3357720"/>
            <a:ext cx="2808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84360" y="1916280"/>
            <a:ext cx="3387600" cy="41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856880"/>
            <a:ext cx="32576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Какое право иллюстрирует данный 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Гражданин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660000"/>
                </a:solidFill>
                <a:uFillTx/>
                <a:latin typeface="Times New Roman"/>
              </a:rPr>
              <a:t>проживает в купленной им кварти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4640" y="3428640"/>
            <a:ext cx="2706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Пра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поль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211640" y="393372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66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571680"/>
            <a:ext cx="712008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928800" y="2143080"/>
            <a:ext cx="76438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язи с угоном автомобиля, которому в период незаконного владения (до возвращения собственнику) был нанесен существенный вред (помят корпус, сломаны тормоза), суд принял решение о сумме возмещения ущерба, которую должен получить законный владелец от виновного в понесенных имущественных потер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1360" y="642960"/>
            <a:ext cx="711972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1071720" y="2500200"/>
            <a:ext cx="71197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разводе супругов суд рассмотрел вопрос о разделе имущества, находящегося в общем влад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Times New Roman"/>
              </a:rPr>
              <a:t>Юридическое содержание права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83220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062160" y="19162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аво соб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92920" y="44766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вла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165840" y="306864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поль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5025240" y="45086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imes New Roman"/>
              </a:rPr>
              <a:t>Право распо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1908000" y="2421000"/>
            <a:ext cx="122400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85928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6659640" y="2349360"/>
            <a:ext cx="108108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571680"/>
            <a:ext cx="712008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туативная задач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28760" y="2214720"/>
            <a:ext cx="814392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ое жилищное управление обратилось в суд с иском к гражданин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, требуя освободить самовольно занятую им квартиру. Суд удовлетворил иск, одновременно возложив на граждани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бязанность возместить судебные издержки ист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Субъекты права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02560" y="2062080"/>
            <a:ext cx="25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Физически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(граждане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75560" y="3141720"/>
            <a:ext cx="33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Юридически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(фирмы, предприят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80240" y="4294080"/>
            <a:ext cx="3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Государст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Субъекты 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24000" y="5661000"/>
            <a:ext cx="34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Муниципальные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435640" y="2349360"/>
            <a:ext cx="327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Част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(индивидуальная и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коллективна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458680" y="4076640"/>
            <a:ext cx="293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Государств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5450760" y="5589720"/>
            <a:ext cx="285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Муницип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соб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3348000" y="2492280"/>
            <a:ext cx="2087640" cy="28908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5"/>
          <p:cNvSpPr/>
          <p:nvPr/>
        </p:nvSpPr>
        <p:spPr>
          <a:xfrm flipV="1">
            <a:off x="3492360" y="2923920"/>
            <a:ext cx="1943280" cy="64908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3492360" y="4581360"/>
            <a:ext cx="180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3348000" y="6093000"/>
            <a:ext cx="194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6"/>
          <p:cNvSpPr/>
          <p:nvPr/>
        </p:nvSpPr>
        <p:spPr>
          <a:xfrm>
            <a:off x="5580000" y="5084640"/>
            <a:ext cx="3024360" cy="100836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5"/>
          <p:cNvSpPr/>
          <p:nvPr/>
        </p:nvSpPr>
        <p:spPr>
          <a:xfrm>
            <a:off x="5580000" y="3500280"/>
            <a:ext cx="3095640" cy="86544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5219640" y="2276640"/>
            <a:ext cx="3745080" cy="647640"/>
          </a:xfrm>
          <a:prstGeom prst="rect">
            <a:avLst/>
          </a:pr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250920" y="6093000"/>
            <a:ext cx="4033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250920" y="5084640"/>
            <a:ext cx="3384360" cy="72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250920" y="4508640"/>
            <a:ext cx="403200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50920" y="3933720"/>
            <a:ext cx="295272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250920" y="3429000"/>
            <a:ext cx="10810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0920" y="2852640"/>
            <a:ext cx="18730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50920" y="2349360"/>
            <a:ext cx="115236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9280" y="177336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бъекты собств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50920" y="2349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50920" y="285264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Пред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79280" y="342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50920" y="3933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редства транспор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24000" y="4508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Ядерное и химическое оруж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14720" y="5060880"/>
            <a:ext cx="305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Объекты культурного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исторического наслед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24000" y="602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1111"/>
                </a:solidFill>
                <a:uFillTx/>
                <a:latin typeface="Times New Roman"/>
              </a:rPr>
              <a:t>Имущество вооруженных с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5219640" y="229716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Частная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864760" y="3500280"/>
            <a:ext cx="25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Государств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5508720" y="5157720"/>
            <a:ext cx="29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Муницип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1547640" y="2565360"/>
            <a:ext cx="3456000" cy="0"/>
          </a:xfrm>
          <a:prstGeom prst="line">
            <a:avLst/>
          </a:prstGeom>
          <a:ln cap="rnd" w="57240">
            <a:solidFill>
              <a:srgbClr val="29292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1476360" y="2565360"/>
            <a:ext cx="4032360" cy="1224000"/>
          </a:xfrm>
          <a:prstGeom prst="line">
            <a:avLst/>
          </a:prstGeom>
          <a:ln cap="rnd" w="572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1547640" y="2565360"/>
            <a:ext cx="3888000" cy="2664000"/>
          </a:xfrm>
          <a:prstGeom prst="line">
            <a:avLst/>
          </a:prstGeom>
          <a:ln cap="rnd" w="572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2195640" y="2636640"/>
            <a:ext cx="2881080" cy="431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2195640" y="3068640"/>
            <a:ext cx="3240000" cy="79200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2195640" y="306864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2124000" y="2997360"/>
            <a:ext cx="3384720" cy="2447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4"/>
          <p:cNvSpPr/>
          <p:nvPr/>
        </p:nvSpPr>
        <p:spPr>
          <a:xfrm flipV="1">
            <a:off x="1403280" y="2852280"/>
            <a:ext cx="3673440" cy="79236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1403280" y="3645000"/>
            <a:ext cx="3960720" cy="288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1403280" y="3645000"/>
            <a:ext cx="4105440" cy="1944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 flipV="1">
            <a:off x="3203640" y="2781000"/>
            <a:ext cx="1944720" cy="143964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 flipV="1">
            <a:off x="3203640" y="4076280"/>
            <a:ext cx="2160360" cy="14436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3203640" y="4292640"/>
            <a:ext cx="2376360" cy="151272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 flipV="1">
            <a:off x="4284720" y="4005360"/>
            <a:ext cx="1224000" cy="79200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2"/>
          <p:cNvSpPr/>
          <p:nvPr/>
        </p:nvSpPr>
        <p:spPr>
          <a:xfrm>
            <a:off x="3635280" y="54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 flipV="1">
            <a:off x="3635280" y="4076280"/>
            <a:ext cx="1800360" cy="136836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4"/>
          <p:cNvSpPr/>
          <p:nvPr/>
        </p:nvSpPr>
        <p:spPr>
          <a:xfrm flipV="1">
            <a:off x="4284720" y="4076640"/>
            <a:ext cx="1224000" cy="2232000"/>
          </a:xfrm>
          <a:prstGeom prst="line">
            <a:avLst/>
          </a:prstGeom>
          <a:ln w="7632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41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501040" cy="124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д/з</a:t>
            </a:r>
            <a:br>
              <a:rPr sz="9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граф 19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166 «проверь себя» №1- №5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167 №5</a:t>
            </a:r>
            <a:br>
              <a:rPr sz="3200"/>
            </a:b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Проработать статьи ГК 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РФ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СОСТАВИТЬ ПЛАН СТАТЕЙ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о!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136600" y="6008760"/>
            <a:ext cx="445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14200" y="4429080"/>
            <a:ext cx="8715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ьте на вопрос: «Является ли остров со всей живой и неживой природой собственностью Робинзона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6880" y="293760"/>
            <a:ext cx="7377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бъекты права собств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15" name="Organization Chart 5"/>
          <p:cNvGrpSpPr/>
          <p:nvPr/>
        </p:nvGrpSpPr>
        <p:grpSpPr>
          <a:xfrm>
            <a:off x="457200" y="1141560"/>
            <a:ext cx="8225280" cy="5292360"/>
            <a:chOff x="457200" y="1141560"/>
            <a:chExt cx="8225280" cy="5292360"/>
          </a:xfrm>
        </p:grpSpPr>
        <p:cxnSp>
          <p:nvCxnSpPr>
            <p:cNvPr id="116" name="_s28676"/>
            <p:cNvCxnSpPr>
              <a:stCxn id="117" idx="3"/>
              <a:endCxn id="118" idx="2"/>
            </p:cNvCxnSpPr>
            <p:nvPr/>
          </p:nvCxnSpPr>
          <p:spPr>
            <a:xfrm flipV="1">
              <a:off x="5392440" y="1896840"/>
              <a:ext cx="822960" cy="4159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8677"/>
            <p:cNvCxnSpPr>
              <a:stCxn id="120" idx="3"/>
              <a:endCxn id="118" idx="2"/>
            </p:cNvCxnSpPr>
            <p:nvPr/>
          </p:nvCxnSpPr>
          <p:spPr>
            <a:xfrm flipV="1">
              <a:off x="5392440" y="1897200"/>
              <a:ext cx="822960" cy="302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8678"/>
            <p:cNvCxnSpPr>
              <a:stCxn id="122" idx="3"/>
              <a:endCxn id="118" idx="2"/>
            </p:cNvCxnSpPr>
            <p:nvPr/>
          </p:nvCxnSpPr>
          <p:spPr>
            <a:xfrm flipV="1">
              <a:off x="5392440" y="1897200"/>
              <a:ext cx="822960" cy="189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8679"/>
            <p:cNvCxnSpPr>
              <a:stCxn id="124" idx="3"/>
              <a:endCxn id="118" idx="2"/>
            </p:cNvCxnSpPr>
            <p:nvPr/>
          </p:nvCxnSpPr>
          <p:spPr>
            <a:xfrm flipV="1">
              <a:off x="5392440" y="1897200"/>
              <a:ext cx="822960" cy="75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8680"/>
            <p:cNvSpPr/>
            <p:nvPr/>
          </p:nvSpPr>
          <p:spPr>
            <a:xfrm>
              <a:off x="3747240" y="1141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бственн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28681"/>
            <p:cNvSpPr/>
            <p:nvPr/>
          </p:nvSpPr>
          <p:spPr>
            <a:xfrm>
              <a:off x="457200" y="2275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изические лица 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ждане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28682"/>
            <p:cNvSpPr/>
            <p:nvPr/>
          </p:nvSpPr>
          <p:spPr>
            <a:xfrm>
              <a:off x="457200" y="3409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Юридические лиц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организации, предприятия, фирмы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8683"/>
            <p:cNvSpPr/>
            <p:nvPr/>
          </p:nvSpPr>
          <p:spPr>
            <a:xfrm>
              <a:off x="457200" y="454356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8684"/>
            <p:cNvSpPr/>
            <p:nvPr/>
          </p:nvSpPr>
          <p:spPr>
            <a:xfrm>
              <a:off x="457200" y="5677920"/>
              <a:ext cx="4935240" cy="75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ганы местног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моуправл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3771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ы собств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Схема 3" descr=""/>
          <p:cNvPicPr/>
          <p:nvPr/>
        </p:nvPicPr>
        <p:blipFill>
          <a:blip r:embed="rId1"/>
          <a:stretch/>
        </p:blipFill>
        <p:spPr>
          <a:xfrm>
            <a:off x="1494000" y="1646280"/>
            <a:ext cx="61131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rganization Chart 6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919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9"/>
          <p:cNvSpPr/>
          <p:nvPr/>
        </p:nvSpPr>
        <p:spPr>
          <a:xfrm>
            <a:off x="6400800" y="1600200"/>
            <a:ext cx="523800" cy="1109520"/>
          </a:xfrm>
          <a:custGeom>
            <a:avLst/>
            <a:gdLst>
              <a:gd name="textAreaLeft" fmla="*/ 0 w 523800"/>
              <a:gd name="textAreaRight" fmla="*/ 189000 w 523800"/>
              <a:gd name="textAreaTop" fmla="*/ 28800 h 1109520"/>
              <a:gd name="textAreaBottom" fmla="*/ 1080720 h 11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6858000" y="1012680"/>
            <a:ext cx="2286000" cy="979560"/>
          </a:xfrm>
          <a:prstGeom prst="wedgeRectCallout">
            <a:avLst>
              <a:gd name="adj1" fmla="val -61027"/>
              <a:gd name="adj2" fmla="val 10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4" descr="Кнституция Рф"/>
          <p:cNvPicPr/>
          <p:nvPr/>
        </p:nvPicPr>
        <p:blipFill>
          <a:blip r:embed="rId2"/>
          <a:stretch/>
        </p:blipFill>
        <p:spPr>
          <a:xfrm>
            <a:off x="6662880" y="2774880"/>
            <a:ext cx="2176200" cy="2874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5"/>
          <p:cNvSpPr/>
          <p:nvPr/>
        </p:nvSpPr>
        <p:spPr>
          <a:xfrm>
            <a:off x="568440" y="193680"/>
            <a:ext cx="868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713880"/>
            <a:ext cx="744192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ущественные отнош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7" descr="npspicturenps37249183"/>
          <p:cNvPicPr/>
          <p:nvPr/>
        </p:nvPicPr>
        <p:blipFill>
          <a:blip r:embed="rId1"/>
          <a:stretch/>
        </p:blipFill>
        <p:spPr>
          <a:xfrm>
            <a:off x="5214960" y="1857240"/>
            <a:ext cx="2443320" cy="16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1520" y="3625920"/>
            <a:ext cx="8224920" cy="2874960"/>
          </a:xfrm>
          <a:prstGeom prst="rect">
            <a:avLst/>
          </a:prstGeom>
          <a:noFill/>
          <a:ln w="9360">
            <a:solidFill>
              <a:srgbClr val="420000"/>
            </a:solidFill>
            <a:round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Имущественные отношени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отношения между людьми, возникающие по поводу имущества и  материальных благ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снове имущественных отношений леж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719280" y="3381480"/>
            <a:ext cx="7967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f_10628648"/>
          <p:cNvPicPr/>
          <p:nvPr/>
        </p:nvPicPr>
        <p:blipFill>
          <a:blip r:embed="rId2"/>
          <a:stretch/>
        </p:blipFill>
        <p:spPr>
          <a:xfrm>
            <a:off x="1285920" y="1857240"/>
            <a:ext cx="2357280" cy="16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Прямоугольник 1"/>
          <p:cNvSpPr/>
          <p:nvPr/>
        </p:nvSpPr>
        <p:spPr>
          <a:xfrm>
            <a:off x="1665360" y="5715000"/>
            <a:ext cx="56833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 на соб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4280" y="92844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о собств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3840" y="3929040"/>
            <a:ext cx="855684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Право собствен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совокуп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в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рм, которые закрепляют, регулируют и охраняют состояние принадлежности материальных благ конкретным людям – собственник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часы"/>
          <p:cNvPicPr/>
          <p:nvPr/>
        </p:nvPicPr>
        <p:blipFill>
          <a:blip r:embed="rId1"/>
          <a:stretch/>
        </p:blipFill>
        <p:spPr>
          <a:xfrm>
            <a:off x="3652920" y="2286000"/>
            <a:ext cx="1306440" cy="11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5" descr="Телефон"/>
          <p:cNvPicPr/>
          <p:nvPr/>
        </p:nvPicPr>
        <p:blipFill>
          <a:blip r:embed="rId2"/>
          <a:stretch/>
        </p:blipFill>
        <p:spPr>
          <a:xfrm rot="20501400">
            <a:off x="6651720" y="2128320"/>
            <a:ext cx="1065240" cy="152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thumb_medium_SWFPrew"/>
          <p:cNvPicPr/>
          <p:nvPr/>
        </p:nvPicPr>
        <p:blipFill>
          <a:blip r:embed="rId3"/>
          <a:stretch/>
        </p:blipFill>
        <p:spPr>
          <a:xfrm>
            <a:off x="1152360" y="2286000"/>
            <a:ext cx="1239840" cy="10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российском гражданском праве традиционным является представление о праве собственности как о совокупности, «триаде» трех правомочий:</a:t>
            </a:r>
            <a:endParaRPr b="0" lang="en-US" sz="25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4" name="Organization Chart 5"/>
          <p:cNvGrpSpPr/>
          <p:nvPr/>
        </p:nvGrpSpPr>
        <p:grpSpPr>
          <a:xfrm>
            <a:off x="73080" y="2122560"/>
            <a:ext cx="9070560" cy="4570920"/>
            <a:chOff x="73080" y="2122560"/>
            <a:chExt cx="9070560" cy="4570920"/>
          </a:xfrm>
        </p:grpSpPr>
        <p:cxnSp>
          <p:nvCxnSpPr>
            <p:cNvPr id="145" name="_s27652"/>
            <p:cNvCxnSpPr>
              <a:stCxn id="146" idx="0"/>
              <a:endCxn id="147" idx="2"/>
            </p:cNvCxnSpPr>
            <p:nvPr/>
          </p:nvCxnSpPr>
          <p:spPr>
            <a:xfrm flipV="1">
              <a:off x="7677000" y="4978800"/>
              <a:ext cx="352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7653"/>
            <p:cNvCxnSpPr>
              <a:stCxn id="149" idx="0"/>
              <a:endCxn id="150" idx="2"/>
            </p:cNvCxnSpPr>
            <p:nvPr/>
          </p:nvCxnSpPr>
          <p:spPr>
            <a:xfrm flipH="1" flipV="1">
              <a:off x="4571280" y="4978800"/>
              <a:ext cx="640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7654"/>
            <p:cNvCxnSpPr>
              <a:stCxn id="152" idx="0"/>
              <a:endCxn id="153" idx="2"/>
            </p:cNvCxnSpPr>
            <p:nvPr/>
          </p:nvCxnSpPr>
          <p:spPr>
            <a:xfrm flipV="1">
              <a:off x="1533240" y="4978800"/>
              <a:ext cx="741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7655"/>
            <p:cNvCxnSpPr>
              <a:stCxn id="147" idx="0"/>
              <a:endCxn id="155" idx="2"/>
            </p:cNvCxnSpPr>
            <p:nvPr/>
          </p:nvCxnSpPr>
          <p:spPr>
            <a:xfrm flipV="1" rot="16200000">
              <a:off x="5857200" y="1978200"/>
              <a:ext cx="572040" cy="314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7656"/>
            <p:cNvCxnSpPr>
              <a:stCxn id="150" idx="0"/>
              <a:endCxn id="155" idx="2"/>
            </p:cNvCxnSpPr>
            <p:nvPr/>
          </p:nvCxnSpPr>
          <p:spPr>
            <a:xfrm flipV="1">
              <a:off x="4571640" y="3264480"/>
              <a:ext cx="39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27657"/>
            <p:cNvCxnSpPr>
              <a:stCxn id="153" idx="0"/>
              <a:endCxn id="155" idx="2"/>
            </p:cNvCxnSpPr>
            <p:nvPr/>
          </p:nvCxnSpPr>
          <p:spPr>
            <a:xfrm flipH="1" flipV="1" rot="5400000">
              <a:off x="2804760" y="2073960"/>
              <a:ext cx="572040" cy="2962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7658"/>
            <p:cNvSpPr/>
            <p:nvPr/>
          </p:nvSpPr>
          <p:spPr>
            <a:xfrm>
              <a:off x="3200040" y="2122560"/>
              <a:ext cx="27432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Триада» ГК РФ:</a:t>
              </a: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27659"/>
            <p:cNvSpPr/>
            <p:nvPr/>
          </p:nvSpPr>
          <p:spPr>
            <a:xfrm>
              <a:off x="291960" y="3836520"/>
              <a:ext cx="263808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Влад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27660"/>
            <p:cNvSpPr/>
            <p:nvPr/>
          </p:nvSpPr>
          <p:spPr>
            <a:xfrm>
              <a:off x="3200040" y="3836520"/>
              <a:ext cx="27432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Распоряж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7661"/>
            <p:cNvSpPr/>
            <p:nvPr/>
          </p:nvSpPr>
          <p:spPr>
            <a:xfrm>
              <a:off x="6286680" y="3836520"/>
              <a:ext cx="285696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Пользова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7662"/>
            <p:cNvSpPr/>
            <p:nvPr/>
          </p:nvSpPr>
          <p:spPr>
            <a:xfrm>
              <a:off x="73080" y="5550840"/>
              <a:ext cx="292680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актическое обладани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анным имуществом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крепленно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юридически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7663"/>
            <p:cNvSpPr/>
            <p:nvPr/>
          </p:nvSpPr>
          <p:spPr>
            <a:xfrm>
              <a:off x="3200040" y="5550840"/>
              <a:ext cx="287352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зможность изменять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остояние, назначение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адлеж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мущества (продавать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арить, менять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27664"/>
            <p:cNvSpPr/>
            <p:nvPr/>
          </p:nvSpPr>
          <p:spPr>
            <a:xfrm>
              <a:off x="6216120" y="5550840"/>
              <a:ext cx="2927520" cy="1142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цесс извлеч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лезных свойст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 данного имущест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Picture 22" descr="ГК"/>
          <p:cNvPicPr/>
          <p:nvPr/>
        </p:nvPicPr>
        <p:blipFill>
          <a:blip r:embed="rId1"/>
          <a:stretch/>
        </p:blipFill>
        <p:spPr>
          <a:xfrm>
            <a:off x="7072200" y="1870200"/>
            <a:ext cx="1276560" cy="15588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g02"/>
          <p:cNvPicPr/>
          <p:nvPr/>
        </p:nvPicPr>
        <p:blipFill>
          <a:blip r:embed="rId1"/>
          <a:stretch/>
        </p:blipFill>
        <p:spPr>
          <a:xfrm>
            <a:off x="633240" y="1920960"/>
            <a:ext cx="79012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6:23Z</dcterms:created>
  <dc:creator>Tosh</dc:creator>
  <dc:description/>
  <dc:language>en-US</dc:language>
  <cp:lastModifiedBy>ЛЮ</cp:lastModifiedBy>
  <dcterms:modified xsi:type="dcterms:W3CDTF">2016-01-10T07:15:11Z</dcterms:modified>
  <cp:revision>27</cp:revision>
  <dc:subject/>
  <dc:title>Практикум для урока «Собственность»</dc:title>
</cp:coreProperties>
</file>