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7BDD-2992-4532-8308-2065F87DC4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40F6-93F7-4369-AAFA-E3F241FD75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5AA3-249A-4FF0-BD51-E9E651853F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A204-5EFE-4497-BC6A-C7A133AE34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3C17-E8AF-40FD-8A06-48317D581D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96F0-BF11-49D9-A0B6-D1919F579B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E97A-DE24-4EC0-B624-CB2E601C75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5B0D-48A4-49DD-BCCE-5AF3F1ECB0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F3A1-07E5-40C2-A4F9-E7FAD1E07C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9598-629C-40C7-8970-BDFDDC318D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69D9-3413-4374-89F9-CCB66C8537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D26C-4C11-49C9-897C-D27FB7D8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F841-0E98-4676-85D4-367F30E6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CEE1-9B73-4630-8D15-FB9E8E1E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2FDC-84F2-415B-987C-966006B5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1746-29E6-49B9-94D4-0ECDDA24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3979-98FA-4634-8881-14E7D397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CE2B-B10D-4DA3-8D6B-F426A7BA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FEDA-9379-4ACF-B2E4-AC667E33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253F-CCBF-4561-AB18-3B59405A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91A3-A25B-4D4F-B14D-C9293BC3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CCA6-DFDA-4A3A-B11A-E323CAD8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6A19-AC9B-4A42-BBA0-A343F386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4386-3951-43CC-AD44-D29A674C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D93A-E9F8-4AF7-846B-A62B29AA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9446-4934-4089-A4A7-F0B615F5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EEC1-D6E9-4850-AF02-A6DD4C34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DF4F-5714-4B60-9CF7-1D254147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01E5-01CF-4600-8B41-A3A6C377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75A0-73E0-4ED7-BF04-292AE342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EF0E-3F9B-4C70-BBDC-FC74C18C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4BDD-D15E-466C-B59F-49C9D39F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45F6-757C-455A-A472-649A70DE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40CA-1363-481B-84A5-81199973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CFEC-0A88-4D66-B1FE-192E940D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63B5-3E0E-4C43-9882-BC59E5EA16C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5503-F15A-4598-B81A-01C4DAB9BC13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9680" y="1857240"/>
            <a:ext cx="82868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Ю О я Б я С ю Т э В Ю Е Ю Н я Н э И ю я К э И ээ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714320" y="3928680"/>
            <a:ext cx="61434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20000"/>
                </a:solidFill>
                <a:latin typeface="Times New Roman"/>
              </a:rPr>
              <a:t>собственники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400" y="500040"/>
            <a:ext cx="8429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Право собственности рассматривается как составная часть системы прав человека, как то, что государство должно гарантировать человеку</a:t>
            </a:r>
            <a:endParaRPr b="0" lang="en-US" sz="25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94760" y="2187360"/>
            <a:ext cx="8488440" cy="3941640"/>
          </a:xfrm>
          <a:prstGeom prst="rect">
            <a:avLst/>
          </a:prstGeom>
          <a:noFill/>
          <a:ln w="9360">
            <a:solidFill>
              <a:srgbClr val="000066"/>
            </a:solidFill>
            <a:round/>
          </a:ln>
        </p:spPr>
        <p:txBody>
          <a:bodyPr anchor="t">
            <a:normAutofit/>
          </a:bodyPr>
          <a:p>
            <a:pPr marL="469800" indent="-469800">
              <a:lnSpc>
                <a:spcPct val="83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онституция РФ ст. 35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3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1. Право частной собственности охраняется законо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3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2. Каждый вправе иметь имущество в собственности, владеть, пользоваться и распоряжаться им как единолично, так и совместно с другими лицам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3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3. Никто не может быть лишен своего имущества иначе как по решению суда. Принудительное отчуждение имущества для государственных нужд может быть произведено только при условии предварительного и равноценного возмеще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3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4. Право наследования гарантируетс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14240" y="785880"/>
            <a:ext cx="757728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Субъекты и объекты собственности</a:t>
            </a:r>
            <a:endParaRPr b="0" lang="en-US" sz="33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91680" y="1535040"/>
            <a:ext cx="8224920" cy="40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8120" indent="-318960">
              <a:buClr>
                <a:srgbClr val="6600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убъекты собств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buClr>
                <a:srgbClr val="6600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buClr>
                <a:srgbClr val="6600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бъекты собств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– 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buClr>
                <a:srgbClr val="6600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1"/>
          <p:cNvSpPr/>
          <p:nvPr/>
        </p:nvSpPr>
        <p:spPr>
          <a:xfrm>
            <a:off x="1093680" y="2598840"/>
            <a:ext cx="7050240" cy="16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- это физические или юридические лица, владеющие ресурсами или факторами производства, т.е. собственник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979560" y="5062680"/>
            <a:ext cx="633564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- это то, чем владеет собственник и результаты производства – блага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Задание. Вставь пропущенные слова в предложения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всё имущество твоей семьи: мебель, телевизор, одежда, холодильник, бытовая техника и т.д., которые используются для организации жизни, представляет собой …………………………… собственн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магазин, который открыл папа, является …………......................собственностью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всё, что принадлежит государству – земля, недра, леса, многие поликлиники, школы, жилые дома и другое – это ………………………………..собственн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если собственность принадлежит городу, она называется …………………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4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420000"/>
                </a:solidFill>
                <a:uFillTx/>
                <a:latin typeface="Times New Roman"/>
              </a:rPr>
              <a:t>Проверь себя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всё имущество твоей семьи: мебель, телевизор, одежда, холодильник, бытовая техника и т.д., которые используются для организации жизни, представляет соб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чну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бственн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магазин, который открыл папа, явля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аст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бственностью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всё, что принадлежит государству – земля, недра, леса, многие поликлиники, школы, жилые дома и другое – эт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сударствен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бственн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если собственность принадлежит городу, она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униципаль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25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Задание 2.      Из перечня различных объектов собственности, приведенного в таблице, необходимо выбрать и отметить (+) те, которые, могут быть в личной (частной), гос и муниц. собственности. 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0"/>
          <a:ext cx="9144000" cy="7170840"/>
        </p:xfrm>
        <a:graphic>
          <a:graphicData uri="http://schemas.openxmlformats.org/drawingml/2006/table">
            <a:tbl>
              <a:tblPr/>
              <a:tblGrid>
                <a:gridCol w="4357800"/>
                <a:gridCol w="1571400"/>
                <a:gridCol w="1643040"/>
                <a:gridCol w="1571760"/>
              </a:tblGrid>
              <a:tr h="645480"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 объ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чная собств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сударственная собств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ниципальная собств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Проду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Одеж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Обув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Жиль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Садоводческое хозяй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Земельный участ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Ископа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Ле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Валю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 Автомобил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Заповед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Детская площад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.Железные доро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Драгоц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задача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ссмотрите жизненную ситуацию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Гражданин А. является владельцем своего жилья, а гражданин Б. своё жильё арендует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авните права и обязанности  гражданина А. и Б. относительно их жиль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0"/>
          <p:cNvSpPr/>
          <p:nvPr/>
        </p:nvSpPr>
        <p:spPr>
          <a:xfrm>
            <a:off x="5867280" y="3141720"/>
            <a:ext cx="302580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468360" y="1844640"/>
            <a:ext cx="4032360" cy="35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актическое задани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400032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292929"/>
                </a:solidFill>
                <a:latin typeface="Times New Roman"/>
              </a:rPr>
              <a:t>Какое право иллюстрирует этот пример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20000"/>
                </a:solidFill>
                <a:uFillTx/>
                <a:latin typeface="Times New Roman"/>
              </a:rPr>
              <a:t>Отец подарил сыну квартир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435280" y="1828440"/>
            <a:ext cx="325116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поря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4643280" y="3645000"/>
            <a:ext cx="1081080" cy="215640"/>
          </a:xfrm>
          <a:prstGeom prst="rightArrow">
            <a:avLst>
              <a:gd name="adj1" fmla="val 50000"/>
              <a:gd name="adj2" fmla="val 125334"/>
            </a:avLst>
          </a:prstGeom>
          <a:solidFill>
            <a:srgbClr val="42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5724360" y="3357720"/>
            <a:ext cx="280836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84360" y="1916280"/>
            <a:ext cx="3387600" cy="4155840"/>
          </a:xfrm>
          <a:prstGeom prst="rect">
            <a:avLst/>
          </a:prstGeom>
          <a:solidFill>
            <a:srgbClr val="ffffff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Практическое задани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2680" y="1856880"/>
            <a:ext cx="325764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1c1c1c"/>
                </a:solidFill>
                <a:latin typeface="Times New Roman"/>
              </a:rPr>
              <a:t>Какое право иллюстрирует данный приме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00"/>
                </a:solidFill>
                <a:uFillTx/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   </a:t>
            </a:r>
            <a:r>
              <a:rPr b="1" lang="ru-RU" sz="2800" spc="-1" strike="noStrike" u="sng">
                <a:solidFill>
                  <a:srgbClr val="660000"/>
                </a:solidFill>
                <a:uFillTx/>
                <a:latin typeface="Times New Roman"/>
              </a:rPr>
              <a:t>Гражданин</a:t>
            </a: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660000"/>
                </a:solidFill>
                <a:uFillTx/>
                <a:latin typeface="Times New Roman"/>
              </a:rPr>
              <a:t>проживает в купленной им квартир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4640" y="3428640"/>
            <a:ext cx="2706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Прав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польз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4211640" y="3933720"/>
            <a:ext cx="1368360" cy="216000"/>
          </a:xfrm>
          <a:prstGeom prst="rightArrow">
            <a:avLst>
              <a:gd name="adj1" fmla="val 50000"/>
              <a:gd name="adj2" fmla="val 158375"/>
            </a:avLst>
          </a:prstGeom>
          <a:solidFill>
            <a:srgbClr val="66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4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571680"/>
            <a:ext cx="7120080" cy="104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итуативная задача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2136600" y="6008760"/>
            <a:ext cx="4459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Прямоугольник 2"/>
          <p:cNvSpPr/>
          <p:nvPr/>
        </p:nvSpPr>
        <p:spPr>
          <a:xfrm>
            <a:off x="928800" y="2143080"/>
            <a:ext cx="7643880" cy="40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вязи с угоном автомобиля, которому в период незаконного владения (до возвращения собственнику) был нанесен существенный вред (помят корпус, сломаны тормоза), суд принял решение о сумме возмещения ущерба, которую должен получить законный владелец от виновного в понесенных имущественных потер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71360" y="642960"/>
            <a:ext cx="7119720" cy="104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итуативная задача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136600" y="6008760"/>
            <a:ext cx="4459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Прямоугольник 2"/>
          <p:cNvSpPr/>
          <p:nvPr/>
        </p:nvSpPr>
        <p:spPr>
          <a:xfrm>
            <a:off x="1071720" y="2500200"/>
            <a:ext cx="7119720" cy="28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разводе супругов суд рассмотрел вопрос о разделе имущества, находящегося в общем владени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00"/>
                </a:solidFill>
                <a:latin typeface="Times New Roman"/>
              </a:rPr>
              <a:t>Юридическое содержание права собственности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832200" y="208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3062160" y="191628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Право собств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592920" y="4476600"/>
            <a:ext cx="27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Times New Roman"/>
              </a:rPr>
              <a:t>Право вла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3165840" y="3068640"/>
            <a:ext cx="33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Times New Roman"/>
              </a:rPr>
              <a:t>Право поль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5025240" y="450864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Times New Roman"/>
              </a:rPr>
              <a:t>Право распоря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2"/>
          <p:cNvSpPr/>
          <p:nvPr/>
        </p:nvSpPr>
        <p:spPr>
          <a:xfrm flipH="1">
            <a:off x="1908000" y="2421000"/>
            <a:ext cx="122400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3"/>
          <p:cNvSpPr/>
          <p:nvPr/>
        </p:nvSpPr>
        <p:spPr>
          <a:xfrm>
            <a:off x="485928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4"/>
          <p:cNvSpPr/>
          <p:nvPr/>
        </p:nvSpPr>
        <p:spPr>
          <a:xfrm>
            <a:off x="6659640" y="2349360"/>
            <a:ext cx="1081080" cy="215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571680"/>
            <a:ext cx="7120080" cy="104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итуативная задача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136600" y="6008760"/>
            <a:ext cx="4459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Прямоугольник 2"/>
          <p:cNvSpPr/>
          <p:nvPr/>
        </p:nvSpPr>
        <p:spPr>
          <a:xfrm>
            <a:off x="428760" y="2214720"/>
            <a:ext cx="814392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йонное жилищное управление обратилось в суд с иском к гражданину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., требуя освободить самовольно занятую им квартиру. Суд удовлетворил иск, одновременно возложив на гражданин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. обязанность возместить судебные издержки истц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Субъекты права собственности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502560" y="2062080"/>
            <a:ext cx="259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00"/>
                </a:solidFill>
                <a:uFillTx/>
                <a:latin typeface="Times New Roman"/>
              </a:rPr>
              <a:t>Физические л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00"/>
                </a:solidFill>
                <a:uFillTx/>
                <a:latin typeface="Times New Roman"/>
              </a:rPr>
              <a:t>(граждане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75560" y="3141720"/>
            <a:ext cx="334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00"/>
                </a:solidFill>
                <a:uFillTx/>
                <a:latin typeface="Times New Roman"/>
              </a:rPr>
              <a:t>Юридические л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00"/>
                </a:solidFill>
                <a:uFillTx/>
                <a:latin typeface="Times New Roman"/>
              </a:rPr>
              <a:t>(фирмы, предприят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480240" y="4294080"/>
            <a:ext cx="319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00"/>
                </a:solidFill>
                <a:uFillTx/>
                <a:latin typeface="Times New Roman"/>
              </a:rPr>
              <a:t>Государство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00"/>
                </a:solidFill>
                <a:uFillTx/>
                <a:latin typeface="Times New Roman"/>
              </a:rPr>
              <a:t>Субъекты Федер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324000" y="5661000"/>
            <a:ext cx="34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00"/>
                </a:solidFill>
                <a:uFillTx/>
                <a:latin typeface="Times New Roman"/>
              </a:rPr>
              <a:t>Муниципальные 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5435640" y="2349360"/>
            <a:ext cx="3278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Част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Собствен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(индивидуальная и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коллективна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5458680" y="4076640"/>
            <a:ext cx="293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Times New Roman"/>
              </a:rPr>
              <a:t>Государствен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92929"/>
                </a:solidFill>
                <a:latin typeface="Times New Roman"/>
              </a:rPr>
              <a:t>собствен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5450760" y="5589720"/>
            <a:ext cx="285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Times New Roman"/>
              </a:rPr>
              <a:t>Муниципаль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92929"/>
                </a:solidFill>
                <a:latin typeface="Times New Roman"/>
              </a:rPr>
              <a:t>собствен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4"/>
          <p:cNvSpPr/>
          <p:nvPr/>
        </p:nvSpPr>
        <p:spPr>
          <a:xfrm>
            <a:off x="3348000" y="2492280"/>
            <a:ext cx="2087640" cy="289080"/>
          </a:xfrm>
          <a:prstGeom prst="line">
            <a:avLst/>
          </a:prstGeom>
          <a:ln cap="rnd" w="57240">
            <a:solidFill>
              <a:srgbClr val="29292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5"/>
          <p:cNvSpPr/>
          <p:nvPr/>
        </p:nvSpPr>
        <p:spPr>
          <a:xfrm flipV="1">
            <a:off x="3492360" y="2923920"/>
            <a:ext cx="1943280" cy="649080"/>
          </a:xfrm>
          <a:prstGeom prst="line">
            <a:avLst/>
          </a:prstGeom>
          <a:ln cap="rnd" w="57240">
            <a:solidFill>
              <a:srgbClr val="29292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6"/>
          <p:cNvSpPr/>
          <p:nvPr/>
        </p:nvSpPr>
        <p:spPr>
          <a:xfrm>
            <a:off x="3492360" y="4581360"/>
            <a:ext cx="180036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7"/>
          <p:cNvSpPr/>
          <p:nvPr/>
        </p:nvSpPr>
        <p:spPr>
          <a:xfrm>
            <a:off x="3348000" y="6093000"/>
            <a:ext cx="19447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6"/>
          <p:cNvSpPr/>
          <p:nvPr/>
        </p:nvSpPr>
        <p:spPr>
          <a:xfrm>
            <a:off x="5580000" y="5084640"/>
            <a:ext cx="3024360" cy="1008360"/>
          </a:xfrm>
          <a:prstGeom prst="rect">
            <a:avLst/>
          </a:prstGeom>
          <a:solidFill>
            <a:srgbClr val="99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5"/>
          <p:cNvSpPr/>
          <p:nvPr/>
        </p:nvSpPr>
        <p:spPr>
          <a:xfrm>
            <a:off x="5580000" y="3500280"/>
            <a:ext cx="3095640" cy="865440"/>
          </a:xfrm>
          <a:prstGeom prst="rect">
            <a:avLst/>
          </a:prstGeom>
          <a:solidFill>
            <a:srgbClr val="99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4"/>
          <p:cNvSpPr/>
          <p:nvPr/>
        </p:nvSpPr>
        <p:spPr>
          <a:xfrm>
            <a:off x="5219640" y="2276640"/>
            <a:ext cx="3745080" cy="647640"/>
          </a:xfrm>
          <a:prstGeom prst="rect">
            <a:avLst/>
          </a:prstGeom>
          <a:solidFill>
            <a:srgbClr val="99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0"/>
          <p:cNvSpPr/>
          <p:nvPr/>
        </p:nvSpPr>
        <p:spPr>
          <a:xfrm>
            <a:off x="250920" y="6093000"/>
            <a:ext cx="4033800" cy="431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250920" y="5084640"/>
            <a:ext cx="3384360" cy="720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8"/>
          <p:cNvSpPr/>
          <p:nvPr/>
        </p:nvSpPr>
        <p:spPr>
          <a:xfrm>
            <a:off x="250920" y="4508640"/>
            <a:ext cx="4032000" cy="360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250920" y="3933720"/>
            <a:ext cx="2952720" cy="3589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5"/>
          <p:cNvSpPr/>
          <p:nvPr/>
        </p:nvSpPr>
        <p:spPr>
          <a:xfrm>
            <a:off x="250920" y="3429000"/>
            <a:ext cx="1081080" cy="360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0920" y="2852640"/>
            <a:ext cx="1873080" cy="360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50920" y="2349360"/>
            <a:ext cx="1152360" cy="3589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Практическое задани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79280" y="1773360"/>
            <a:ext cx="40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Объекты собствен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250920" y="23493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92929"/>
                </a:solidFill>
                <a:uFillTx/>
                <a:latin typeface="Times New Roman"/>
              </a:rPr>
              <a:t>Зем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50920" y="285264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92929"/>
                </a:solidFill>
                <a:uFillTx/>
                <a:latin typeface="Times New Roman"/>
              </a:rPr>
              <a:t>Предприят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179280" y="342900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92929"/>
                </a:solidFill>
                <a:uFillTx/>
                <a:latin typeface="Times New Roman"/>
              </a:rPr>
              <a:t>Зд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250920" y="393372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редства транспор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324000" y="450864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11111"/>
                </a:solidFill>
                <a:uFillTx/>
                <a:latin typeface="Times New Roman"/>
              </a:rPr>
              <a:t>Ядерное и химическое оруж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414720" y="5060880"/>
            <a:ext cx="305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11111"/>
                </a:solidFill>
                <a:uFillTx/>
                <a:latin typeface="Times New Roman"/>
              </a:rPr>
              <a:t>Объекты культурного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11111"/>
                </a:solidFill>
                <a:uFillTx/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111111"/>
                </a:solidFill>
                <a:uFillTx/>
                <a:latin typeface="Times New Roman"/>
              </a:rPr>
              <a:t>исторического наслед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324000" y="602136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11111"/>
                </a:solidFill>
                <a:uFillTx/>
                <a:latin typeface="Times New Roman"/>
              </a:rPr>
              <a:t>Имущество вооруженных с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21"/>
          <p:cNvSpPr/>
          <p:nvPr/>
        </p:nvSpPr>
        <p:spPr>
          <a:xfrm>
            <a:off x="5219640" y="2297160"/>
            <a:ext cx="42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Частная собстве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2"/>
          <p:cNvSpPr/>
          <p:nvPr/>
        </p:nvSpPr>
        <p:spPr>
          <a:xfrm>
            <a:off x="5864760" y="3500280"/>
            <a:ext cx="254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Государстве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собстве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5508720" y="5157720"/>
            <a:ext cx="29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Муниципаль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собстве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7"/>
          <p:cNvSpPr/>
          <p:nvPr/>
        </p:nvSpPr>
        <p:spPr>
          <a:xfrm>
            <a:off x="1547640" y="2565360"/>
            <a:ext cx="3456000" cy="0"/>
          </a:xfrm>
          <a:prstGeom prst="line">
            <a:avLst/>
          </a:prstGeom>
          <a:ln cap="rnd" w="57240">
            <a:solidFill>
              <a:srgbClr val="29292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28"/>
          <p:cNvSpPr/>
          <p:nvPr/>
        </p:nvSpPr>
        <p:spPr>
          <a:xfrm>
            <a:off x="1476360" y="2565360"/>
            <a:ext cx="4032360" cy="1224000"/>
          </a:xfrm>
          <a:prstGeom prst="line">
            <a:avLst/>
          </a:prstGeom>
          <a:ln cap="rnd" w="57240">
            <a:solidFill>
              <a:srgbClr val="1c1c1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9"/>
          <p:cNvSpPr/>
          <p:nvPr/>
        </p:nvSpPr>
        <p:spPr>
          <a:xfrm>
            <a:off x="1547640" y="2565360"/>
            <a:ext cx="3888000" cy="2664000"/>
          </a:xfrm>
          <a:prstGeom prst="line">
            <a:avLst/>
          </a:prstGeom>
          <a:ln cap="rnd" w="57240">
            <a:solidFill>
              <a:srgbClr val="1c1c1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30"/>
          <p:cNvSpPr/>
          <p:nvPr/>
        </p:nvSpPr>
        <p:spPr>
          <a:xfrm flipV="1">
            <a:off x="2195640" y="2636640"/>
            <a:ext cx="2881080" cy="431640"/>
          </a:xfrm>
          <a:prstGeom prst="line">
            <a:avLst/>
          </a:prstGeom>
          <a:ln cap="rnd" w="5724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31"/>
          <p:cNvSpPr/>
          <p:nvPr/>
        </p:nvSpPr>
        <p:spPr>
          <a:xfrm>
            <a:off x="2195640" y="3068640"/>
            <a:ext cx="3240000" cy="792000"/>
          </a:xfrm>
          <a:prstGeom prst="line">
            <a:avLst/>
          </a:prstGeom>
          <a:ln cap="rnd" w="5724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2"/>
          <p:cNvSpPr/>
          <p:nvPr/>
        </p:nvSpPr>
        <p:spPr>
          <a:xfrm>
            <a:off x="2195640" y="306864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33"/>
          <p:cNvSpPr/>
          <p:nvPr/>
        </p:nvSpPr>
        <p:spPr>
          <a:xfrm>
            <a:off x="2124000" y="2997360"/>
            <a:ext cx="3384720" cy="2447640"/>
          </a:xfrm>
          <a:prstGeom prst="line">
            <a:avLst/>
          </a:prstGeom>
          <a:ln cap="rnd" w="5724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34"/>
          <p:cNvSpPr/>
          <p:nvPr/>
        </p:nvSpPr>
        <p:spPr>
          <a:xfrm flipV="1">
            <a:off x="1403280" y="2852280"/>
            <a:ext cx="3673440" cy="792360"/>
          </a:xfrm>
          <a:prstGeom prst="line">
            <a:avLst/>
          </a:prstGeom>
          <a:ln cap="rnd" w="5724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35"/>
          <p:cNvSpPr/>
          <p:nvPr/>
        </p:nvSpPr>
        <p:spPr>
          <a:xfrm>
            <a:off x="1403280" y="3645000"/>
            <a:ext cx="3960720" cy="288720"/>
          </a:xfrm>
          <a:prstGeom prst="line">
            <a:avLst/>
          </a:prstGeom>
          <a:ln cap="rnd" w="5724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36"/>
          <p:cNvSpPr/>
          <p:nvPr/>
        </p:nvSpPr>
        <p:spPr>
          <a:xfrm>
            <a:off x="1403280" y="3645000"/>
            <a:ext cx="4105440" cy="1944720"/>
          </a:xfrm>
          <a:prstGeom prst="line">
            <a:avLst/>
          </a:prstGeom>
          <a:ln cap="rnd" w="5724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37"/>
          <p:cNvSpPr/>
          <p:nvPr/>
        </p:nvSpPr>
        <p:spPr>
          <a:xfrm flipV="1">
            <a:off x="3203640" y="2781000"/>
            <a:ext cx="1944720" cy="1439640"/>
          </a:xfrm>
          <a:prstGeom prst="line">
            <a:avLst/>
          </a:prstGeom>
          <a:ln cap="rnd" w="5724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38"/>
          <p:cNvSpPr/>
          <p:nvPr/>
        </p:nvSpPr>
        <p:spPr>
          <a:xfrm flipV="1">
            <a:off x="3203640" y="4076280"/>
            <a:ext cx="2160360" cy="144360"/>
          </a:xfrm>
          <a:prstGeom prst="line">
            <a:avLst/>
          </a:prstGeom>
          <a:ln cap="rnd" w="5724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39"/>
          <p:cNvSpPr/>
          <p:nvPr/>
        </p:nvSpPr>
        <p:spPr>
          <a:xfrm>
            <a:off x="3203640" y="4292640"/>
            <a:ext cx="2376360" cy="1512720"/>
          </a:xfrm>
          <a:prstGeom prst="line">
            <a:avLst/>
          </a:prstGeom>
          <a:ln cap="rnd" w="5724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40"/>
          <p:cNvSpPr/>
          <p:nvPr/>
        </p:nvSpPr>
        <p:spPr>
          <a:xfrm flipV="1">
            <a:off x="4284720" y="4005360"/>
            <a:ext cx="1224000" cy="792000"/>
          </a:xfrm>
          <a:prstGeom prst="line">
            <a:avLst/>
          </a:prstGeom>
          <a:ln w="76320">
            <a:solidFill>
              <a:srgbClr val="4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42"/>
          <p:cNvSpPr/>
          <p:nvPr/>
        </p:nvSpPr>
        <p:spPr>
          <a:xfrm>
            <a:off x="3635280" y="5445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43"/>
          <p:cNvSpPr/>
          <p:nvPr/>
        </p:nvSpPr>
        <p:spPr>
          <a:xfrm flipV="1">
            <a:off x="3635280" y="4076280"/>
            <a:ext cx="1800360" cy="1368360"/>
          </a:xfrm>
          <a:prstGeom prst="line">
            <a:avLst/>
          </a:prstGeom>
          <a:ln w="76320">
            <a:solidFill>
              <a:srgbClr val="4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44"/>
          <p:cNvSpPr/>
          <p:nvPr/>
        </p:nvSpPr>
        <p:spPr>
          <a:xfrm flipV="1">
            <a:off x="4284720" y="4076640"/>
            <a:ext cx="1224000" cy="2232000"/>
          </a:xfrm>
          <a:prstGeom prst="line">
            <a:avLst/>
          </a:prstGeom>
          <a:ln w="76320">
            <a:solidFill>
              <a:srgbClr val="4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9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4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2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2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2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2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641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3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3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7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5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2999880"/>
            <a:ext cx="8501040" cy="124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д/з</a:t>
            </a:r>
            <a:br>
              <a:rPr sz="9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раграф 19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 166 «проверь себя» №1- №5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 167 №5</a:t>
            </a:r>
            <a:br>
              <a:rPr sz="3200"/>
            </a:br>
            <a:r>
              <a:rPr b="0" lang="ru-RU" sz="3200" spc="-1" strike="noStrike" u="sng">
                <a:solidFill>
                  <a:srgbClr val="420000"/>
                </a:solidFill>
                <a:uFillTx/>
                <a:latin typeface="Times New Roman"/>
              </a:rPr>
              <a:t>Проработать статьи ГК </a:t>
            </a: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РФ </a:t>
            </a:r>
            <a:br>
              <a:rPr sz="3200"/>
            </a:b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СОСТАВИТЬ ПЛАН СТАТЕЙ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сьменно!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136600" y="6008760"/>
            <a:ext cx="4459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214200" y="4429080"/>
            <a:ext cx="87156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ветьте на вопрос: «Является ли остров со всей живой и неживой природой собственностью Робинзона?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6880" y="293760"/>
            <a:ext cx="73771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убъекты права собственности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grpSp>
        <p:nvGrpSpPr>
          <p:cNvPr id="115" name="Organization Chart 5"/>
          <p:cNvGrpSpPr/>
          <p:nvPr/>
        </p:nvGrpSpPr>
        <p:grpSpPr>
          <a:xfrm>
            <a:off x="457200" y="1141560"/>
            <a:ext cx="8225280" cy="5292360"/>
            <a:chOff x="457200" y="1141560"/>
            <a:chExt cx="8225280" cy="5292360"/>
          </a:xfrm>
        </p:grpSpPr>
        <p:cxnSp>
          <p:nvCxnSpPr>
            <p:cNvPr id="116" name="_s28676"/>
            <p:cNvCxnSpPr>
              <a:stCxn id="117" idx="3"/>
              <a:endCxn id="118" idx="2"/>
            </p:cNvCxnSpPr>
            <p:nvPr/>
          </p:nvCxnSpPr>
          <p:spPr>
            <a:xfrm flipV="1">
              <a:off x="5392440" y="1896840"/>
              <a:ext cx="822960" cy="4159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28677"/>
            <p:cNvCxnSpPr>
              <a:stCxn id="120" idx="3"/>
              <a:endCxn id="118" idx="2"/>
            </p:cNvCxnSpPr>
            <p:nvPr/>
          </p:nvCxnSpPr>
          <p:spPr>
            <a:xfrm flipV="1">
              <a:off x="5392440" y="1897200"/>
              <a:ext cx="822960" cy="3024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28678"/>
            <p:cNvCxnSpPr>
              <a:stCxn id="122" idx="3"/>
              <a:endCxn id="118" idx="2"/>
            </p:cNvCxnSpPr>
            <p:nvPr/>
          </p:nvCxnSpPr>
          <p:spPr>
            <a:xfrm flipV="1">
              <a:off x="5392440" y="1897200"/>
              <a:ext cx="822960" cy="1890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28679"/>
            <p:cNvCxnSpPr>
              <a:stCxn id="124" idx="3"/>
              <a:endCxn id="118" idx="2"/>
            </p:cNvCxnSpPr>
            <p:nvPr/>
          </p:nvCxnSpPr>
          <p:spPr>
            <a:xfrm flipV="1">
              <a:off x="5392440" y="1897200"/>
              <a:ext cx="822960" cy="756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28680"/>
            <p:cNvSpPr/>
            <p:nvPr/>
          </p:nvSpPr>
          <p:spPr>
            <a:xfrm>
              <a:off x="3747240" y="1141560"/>
              <a:ext cx="4935240" cy="75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обственник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_s28681"/>
            <p:cNvSpPr/>
            <p:nvPr/>
          </p:nvSpPr>
          <p:spPr>
            <a:xfrm>
              <a:off x="457200" y="2275560"/>
              <a:ext cx="4935240" cy="75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изические лица (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раждане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_s28682"/>
            <p:cNvSpPr/>
            <p:nvPr/>
          </p:nvSpPr>
          <p:spPr>
            <a:xfrm>
              <a:off x="457200" y="3409560"/>
              <a:ext cx="4935240" cy="75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Юридические лиц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(организации, предприятия, фирмы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28683"/>
            <p:cNvSpPr/>
            <p:nvPr/>
          </p:nvSpPr>
          <p:spPr>
            <a:xfrm>
              <a:off x="457200" y="4543560"/>
              <a:ext cx="4935240" cy="75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Государств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28684"/>
            <p:cNvSpPr/>
            <p:nvPr/>
          </p:nvSpPr>
          <p:spPr>
            <a:xfrm>
              <a:off x="457200" y="5677920"/>
              <a:ext cx="4935240" cy="75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рганы местного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амоуправл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28800" y="713880"/>
            <a:ext cx="737712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ормы собственности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6" name="Схема 3" descr=""/>
          <p:cNvPicPr/>
          <p:nvPr/>
        </p:nvPicPr>
        <p:blipFill>
          <a:blip r:embed="rId1"/>
          <a:stretch/>
        </p:blipFill>
        <p:spPr>
          <a:xfrm>
            <a:off x="1494000" y="1646280"/>
            <a:ext cx="611316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Organization Chart 6" descr=""/>
          <p:cNvPicPr/>
          <p:nvPr/>
        </p:nvPicPr>
        <p:blipFill>
          <a:blip r:embed="rId1"/>
          <a:stretch/>
        </p:blipFill>
        <p:spPr>
          <a:xfrm>
            <a:off x="-12600" y="-12600"/>
            <a:ext cx="9169200" cy="691992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19"/>
          <p:cNvSpPr/>
          <p:nvPr/>
        </p:nvSpPr>
        <p:spPr>
          <a:xfrm>
            <a:off x="6400800" y="1600200"/>
            <a:ext cx="523800" cy="1109520"/>
          </a:xfrm>
          <a:custGeom>
            <a:avLst/>
            <a:gdLst>
              <a:gd name="textAreaLeft" fmla="*/ 0 w 523800"/>
              <a:gd name="textAreaRight" fmla="*/ 189000 w 523800"/>
              <a:gd name="textAreaTop" fmla="*/ 28800 h 1109520"/>
              <a:gd name="textAreaBottom" fmla="*/ 1080720 h 11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6858000" y="1012680"/>
            <a:ext cx="2286000" cy="979560"/>
          </a:xfrm>
          <a:prstGeom prst="wedgeRectCallout">
            <a:avLst>
              <a:gd name="adj1" fmla="val -61027"/>
              <a:gd name="adj2" fmla="val 101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аст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ствен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4" descr="Кнституция Рф"/>
          <p:cNvPicPr/>
          <p:nvPr/>
        </p:nvPicPr>
        <p:blipFill>
          <a:blip r:embed="rId2"/>
          <a:stretch/>
        </p:blipFill>
        <p:spPr>
          <a:xfrm>
            <a:off x="6662880" y="2774880"/>
            <a:ext cx="2176200" cy="28749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25"/>
          <p:cNvSpPr/>
          <p:nvPr/>
        </p:nvSpPr>
        <p:spPr>
          <a:xfrm>
            <a:off x="568440" y="193680"/>
            <a:ext cx="868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1720" y="713880"/>
            <a:ext cx="7441920" cy="73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мущественные отношения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3" name="Picture 7" descr="npspicturenps37249183"/>
          <p:cNvPicPr/>
          <p:nvPr/>
        </p:nvPicPr>
        <p:blipFill>
          <a:blip r:embed="rId1"/>
          <a:stretch/>
        </p:blipFill>
        <p:spPr>
          <a:xfrm>
            <a:off x="5214960" y="1857240"/>
            <a:ext cx="2443320" cy="169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1520" y="3625920"/>
            <a:ext cx="8224920" cy="2874960"/>
          </a:xfrm>
          <a:prstGeom prst="rect">
            <a:avLst/>
          </a:prstGeom>
          <a:noFill/>
          <a:ln w="9360">
            <a:solidFill>
              <a:srgbClr val="420000"/>
            </a:solidFill>
            <a:round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66"/>
                </a:solidFill>
                <a:uFillTx/>
                <a:latin typeface="Times New Roman"/>
              </a:rPr>
              <a:t>Имущественные отношения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это отношения между людьми, возникающие по поводу имущества и  материальных благ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основе имущественных отношений лежи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719280" y="3381480"/>
            <a:ext cx="79675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8" descr="f_10628648"/>
          <p:cNvPicPr/>
          <p:nvPr/>
        </p:nvPicPr>
        <p:blipFill>
          <a:blip r:embed="rId2"/>
          <a:stretch/>
        </p:blipFill>
        <p:spPr>
          <a:xfrm>
            <a:off x="1285920" y="1857240"/>
            <a:ext cx="2357280" cy="167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7" name="Прямоугольник 1"/>
          <p:cNvSpPr/>
          <p:nvPr/>
        </p:nvSpPr>
        <p:spPr>
          <a:xfrm>
            <a:off x="1665360" y="5715000"/>
            <a:ext cx="568332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аво на собствен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4280" y="928440"/>
            <a:ext cx="64008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аво собственности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13840" y="3929040"/>
            <a:ext cx="8556840" cy="22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algn="ctr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66"/>
                </a:solidFill>
                <a:uFillTx/>
                <a:latin typeface="Times New Roman"/>
              </a:rPr>
              <a:t>Право собственност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это совокупност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авовы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орм, которые закрепляют, регулируют и охраняют состояние принадлежности материальных благ конкретным людям – собственник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часы"/>
          <p:cNvPicPr/>
          <p:nvPr/>
        </p:nvPicPr>
        <p:blipFill>
          <a:blip r:embed="rId1"/>
          <a:stretch/>
        </p:blipFill>
        <p:spPr>
          <a:xfrm>
            <a:off x="3652920" y="2286000"/>
            <a:ext cx="1306440" cy="113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1" name="Picture 5" descr="Телефон"/>
          <p:cNvPicPr/>
          <p:nvPr/>
        </p:nvPicPr>
        <p:blipFill>
          <a:blip r:embed="rId2"/>
          <a:stretch/>
        </p:blipFill>
        <p:spPr>
          <a:xfrm rot="20501400">
            <a:off x="6651720" y="2128320"/>
            <a:ext cx="1065240" cy="1527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thumb_medium_SWFPrew"/>
          <p:cNvPicPr/>
          <p:nvPr/>
        </p:nvPicPr>
        <p:blipFill>
          <a:blip r:embed="rId3"/>
          <a:stretch/>
        </p:blipFill>
        <p:spPr>
          <a:xfrm>
            <a:off x="1152360" y="2286000"/>
            <a:ext cx="1239840" cy="10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В российском гражданском праве традиционным является представление о праве собственности как о совокупности, «триаде» трех правомочий:</a:t>
            </a:r>
            <a:endParaRPr b="0" lang="en-US" sz="2500" spc="-1" strike="noStrike">
              <a:solidFill>
                <a:srgbClr val="420000"/>
              </a:solidFill>
              <a:latin typeface="Times New Roman"/>
            </a:endParaRPr>
          </a:p>
        </p:txBody>
      </p:sp>
      <p:grpSp>
        <p:nvGrpSpPr>
          <p:cNvPr id="144" name="Organization Chart 5"/>
          <p:cNvGrpSpPr/>
          <p:nvPr/>
        </p:nvGrpSpPr>
        <p:grpSpPr>
          <a:xfrm>
            <a:off x="73080" y="2122560"/>
            <a:ext cx="9070560" cy="4570920"/>
            <a:chOff x="73080" y="2122560"/>
            <a:chExt cx="9070560" cy="4570920"/>
          </a:xfrm>
        </p:grpSpPr>
        <p:cxnSp>
          <p:nvCxnSpPr>
            <p:cNvPr id="145" name="_s27652"/>
            <p:cNvCxnSpPr>
              <a:stCxn id="146" idx="0"/>
              <a:endCxn id="147" idx="2"/>
            </p:cNvCxnSpPr>
            <p:nvPr/>
          </p:nvCxnSpPr>
          <p:spPr>
            <a:xfrm flipV="1">
              <a:off x="7677000" y="4978800"/>
              <a:ext cx="35280" cy="572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" name="_s27653"/>
            <p:cNvCxnSpPr>
              <a:stCxn id="149" idx="0"/>
              <a:endCxn id="150" idx="2"/>
            </p:cNvCxnSpPr>
            <p:nvPr/>
          </p:nvCxnSpPr>
          <p:spPr>
            <a:xfrm flipH="1" flipV="1">
              <a:off x="4571280" y="4978800"/>
              <a:ext cx="64080" cy="572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27654"/>
            <p:cNvCxnSpPr>
              <a:stCxn id="152" idx="0"/>
              <a:endCxn id="153" idx="2"/>
            </p:cNvCxnSpPr>
            <p:nvPr/>
          </p:nvCxnSpPr>
          <p:spPr>
            <a:xfrm flipV="1">
              <a:off x="1533240" y="4978800"/>
              <a:ext cx="74160" cy="572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27655"/>
            <p:cNvCxnSpPr>
              <a:stCxn id="147" idx="0"/>
              <a:endCxn id="155" idx="2"/>
            </p:cNvCxnSpPr>
            <p:nvPr/>
          </p:nvCxnSpPr>
          <p:spPr>
            <a:xfrm flipV="1" rot="16200000">
              <a:off x="5857200" y="1978200"/>
              <a:ext cx="572040" cy="3144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27656"/>
            <p:cNvCxnSpPr>
              <a:stCxn id="150" idx="0"/>
              <a:endCxn id="155" idx="2"/>
            </p:cNvCxnSpPr>
            <p:nvPr/>
          </p:nvCxnSpPr>
          <p:spPr>
            <a:xfrm flipV="1">
              <a:off x="4571640" y="3264480"/>
              <a:ext cx="3960" cy="572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27657"/>
            <p:cNvCxnSpPr>
              <a:stCxn id="153" idx="0"/>
              <a:endCxn id="155" idx="2"/>
            </p:cNvCxnSpPr>
            <p:nvPr/>
          </p:nvCxnSpPr>
          <p:spPr>
            <a:xfrm flipH="1" flipV="1" rot="5400000">
              <a:off x="2804760" y="2073960"/>
              <a:ext cx="572040" cy="2962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5" name="_s27658"/>
            <p:cNvSpPr/>
            <p:nvPr/>
          </p:nvSpPr>
          <p:spPr>
            <a:xfrm>
              <a:off x="3200040" y="2122560"/>
              <a:ext cx="2743200" cy="1142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«</a:t>
              </a:r>
              <a:r>
                <a:rPr b="1" lang="ru-RU" sz="2500" spc="-1" strike="noStrike">
                  <a:solidFill>
                    <a:srgbClr val="000000"/>
                  </a:solidFill>
                  <a:latin typeface="Arial"/>
                </a:rPr>
                <a:t>Триада» ГК РФ:</a:t>
              </a: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_s27659"/>
            <p:cNvSpPr/>
            <p:nvPr/>
          </p:nvSpPr>
          <p:spPr>
            <a:xfrm>
              <a:off x="291960" y="3836520"/>
              <a:ext cx="2638080" cy="1142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Arial"/>
                </a:rPr>
                <a:t>Владение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_s27660"/>
            <p:cNvSpPr/>
            <p:nvPr/>
          </p:nvSpPr>
          <p:spPr>
            <a:xfrm>
              <a:off x="3200040" y="3836520"/>
              <a:ext cx="2743200" cy="1142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Arial"/>
                </a:rPr>
                <a:t>Распоряжение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_s27661"/>
            <p:cNvSpPr/>
            <p:nvPr/>
          </p:nvSpPr>
          <p:spPr>
            <a:xfrm>
              <a:off x="6286680" y="3836520"/>
              <a:ext cx="2856960" cy="1142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Arial"/>
                </a:rPr>
                <a:t>Пользование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_s27662"/>
            <p:cNvSpPr/>
            <p:nvPr/>
          </p:nvSpPr>
          <p:spPr>
            <a:xfrm>
              <a:off x="73080" y="5550840"/>
              <a:ext cx="2926800" cy="1142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Фактическое обладание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данным имуществом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закрепленное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юридически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_s27663"/>
            <p:cNvSpPr/>
            <p:nvPr/>
          </p:nvSpPr>
          <p:spPr>
            <a:xfrm>
              <a:off x="3200040" y="5550840"/>
              <a:ext cx="2873520" cy="1142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озможность изменять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остояние, назначение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инадлежност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мущества (продавать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дарить, менять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_s27664"/>
            <p:cNvSpPr/>
            <p:nvPr/>
          </p:nvSpPr>
          <p:spPr>
            <a:xfrm>
              <a:off x="6216120" y="5550840"/>
              <a:ext cx="2927520" cy="1142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оцесс извлечен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лезных свойств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з данного имуществ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8" name="Picture 22" descr="ГК"/>
          <p:cNvPicPr/>
          <p:nvPr/>
        </p:nvPicPr>
        <p:blipFill>
          <a:blip r:embed="rId1"/>
          <a:stretch/>
        </p:blipFill>
        <p:spPr>
          <a:xfrm>
            <a:off x="7072200" y="1870200"/>
            <a:ext cx="1276560" cy="15588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img02"/>
          <p:cNvPicPr/>
          <p:nvPr/>
        </p:nvPicPr>
        <p:blipFill>
          <a:blip r:embed="rId1"/>
          <a:stretch/>
        </p:blipFill>
        <p:spPr>
          <a:xfrm>
            <a:off x="633240" y="1920960"/>
            <a:ext cx="79012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0:16:23Z</dcterms:created>
  <dc:creator>Tosh</dc:creator>
  <dc:description/>
  <dc:language>en-US</dc:language>
  <cp:lastModifiedBy>ЛЮ</cp:lastModifiedBy>
  <dcterms:modified xsi:type="dcterms:W3CDTF">2016-01-10T07:15:11Z</dcterms:modified>
  <cp:revision>27</cp:revision>
  <dc:subject/>
  <dc:title>Практикум для урока «Собственность»</dc:title>
</cp:coreProperties>
</file>