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842-D4F1-4E5D-8AFF-65953B54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CCB-63FF-45C8-8388-90141EA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ED3-98EA-43B1-8A41-A6057A63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9A4-0D6A-44CC-839D-FAFF2109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0D7E-BFA2-44B7-ADBF-F4239D7C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85A-1F2D-42F0-B3DA-23D038B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CF7-3A2B-410B-955B-A17E27E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5E1A-D6E5-4FE3-A31D-D3C0BE24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B826-D26A-4B7F-A0C2-AE8F0F3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842-6985-4951-A980-CFD2C58D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1C31-59EF-480B-9FC1-9E65F4A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9D6-0AA5-4A66-BF6D-72BE013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0634-2000-4CDB-9AB4-05B4E0F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0C38-BA52-4939-A488-EFAE965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18F-B27E-4248-A269-40345067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4E1F-E28D-4166-B338-ED4B1C2E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BF4-E736-4CE9-B290-F509A052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C0A-02F2-4EC8-BE06-EFD31A6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238-ADF0-4251-9BB7-8F087C36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C16-F7EA-4288-ADC0-321DC25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87F-310C-4289-9670-602E558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EC0-43C2-484B-B5CA-ED672074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C48-24A9-4BEB-9AA7-006D72D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91F-471E-465D-909E-FB3F543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025-26EB-41D3-8871-C66773A6B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4F41-F849-4CCF-A474-268522AEE9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7"/>
          <p:cNvSpPr/>
          <p:nvPr/>
        </p:nvSpPr>
        <p:spPr>
          <a:xfrm>
            <a:off x="3276720" y="4797360"/>
            <a:ext cx="2519280" cy="714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58920" y="1197000"/>
            <a:ext cx="66610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по русскому язык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ca4"/>
                </a:solidFill>
                <a:latin typeface="Verdana"/>
              </a:rPr>
              <a:t>3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060560" y="5680080"/>
            <a:ext cx="7021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8" descr="b176e9f63801t"/>
          <p:cNvPicPr/>
          <p:nvPr/>
        </p:nvPicPr>
        <p:blipFill>
          <a:blip r:embed="rId1"/>
          <a:srcRect l="0" t="0" r="0" b="6103"/>
          <a:stretch/>
        </p:blipFill>
        <p:spPr>
          <a:xfrm>
            <a:off x="6715080" y="3786120"/>
            <a:ext cx="1986120" cy="238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newy68.gif"/>
          <p:cNvPicPr/>
          <p:nvPr/>
        </p:nvPicPr>
        <p:blipFill>
          <a:blip r:embed="rId2"/>
          <a:stretch/>
        </p:blipFill>
        <p:spPr>
          <a:xfrm>
            <a:off x="214200" y="0"/>
            <a:ext cx="221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Скругленный прямоугольник 1"/>
          <p:cNvSpPr/>
          <p:nvPr/>
        </p:nvSpPr>
        <p:spPr>
          <a:xfrm>
            <a:off x="2700360" y="2708280"/>
            <a:ext cx="2414520" cy="9316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рне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324000" y="4581360"/>
            <a:ext cx="2089080" cy="93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нже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3"/>
          <p:cNvSpPr/>
          <p:nvPr/>
        </p:nvSpPr>
        <p:spPr>
          <a:xfrm>
            <a:off x="6156360" y="1628640"/>
            <a:ext cx="2089080" cy="930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428920" y="857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берите глаго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8" descr="5285b88dfccf"/>
          <p:cNvPicPr/>
          <p:nvPr/>
        </p:nvPicPr>
        <p:blipFill>
          <a:blip r:embed="rId2"/>
          <a:stretch/>
        </p:blipFill>
        <p:spPr>
          <a:xfrm>
            <a:off x="3500280" y="4286160"/>
            <a:ext cx="1835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2500200" y="928800"/>
            <a:ext cx="49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берите им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существительно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Скругленный прямоугольник 2"/>
          <p:cNvSpPr/>
          <p:nvPr/>
        </p:nvSpPr>
        <p:spPr>
          <a:xfrm>
            <a:off x="3286080" y="2928960"/>
            <a:ext cx="2222640" cy="1076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льц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3"/>
          <p:cNvSpPr/>
          <p:nvPr/>
        </p:nvSpPr>
        <p:spPr>
          <a:xfrm>
            <a:off x="6072120" y="2928960"/>
            <a:ext cx="1884600" cy="1076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611280" y="2924280"/>
            <a:ext cx="1944720" cy="1081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е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gbook01.gif"/>
          <p:cNvPicPr/>
          <p:nvPr/>
        </p:nvPicPr>
        <p:blipFill>
          <a:blip r:embed="rId2"/>
          <a:stretch/>
        </p:blipFill>
        <p:spPr>
          <a:xfrm>
            <a:off x="3276720" y="4941720"/>
            <a:ext cx="271440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28600" y="720360"/>
            <a:ext cx="73375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eorgia"/>
                <a:ea typeface="Arial"/>
              </a:rPr>
              <a:t>Результаты  тес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21120" y="2131560"/>
            <a:ext cx="378288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рно: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2556000" y="5661000"/>
            <a:ext cx="3870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Время: 0 мин. 20 с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3635280" y="4005360"/>
            <a:ext cx="2016360" cy="720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63360">
            <a:solidFill>
              <a:srgbClr val="77777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овторить т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Скругленный прямоугольник 5" hidden="1"/>
          <p:cNvSpPr/>
          <p:nvPr/>
        </p:nvSpPr>
        <p:spPr>
          <a:xfrm>
            <a:off x="3564000" y="4941720"/>
            <a:ext cx="216036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50000">
                <a:srgbClr val="669933"/>
              </a:gs>
              <a:gs pos="100000">
                <a:srgbClr val="336600"/>
              </a:gs>
            </a:gsLst>
            <a:lin ang="5400000"/>
          </a:gradFill>
          <a:ln w="63360">
            <a:solidFill>
              <a:srgbClr val="77777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Работа над ошиб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281760" y="63086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ыхода – нажмит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404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Часть речи, которая обозначает предм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3348000" y="2852640"/>
            <a:ext cx="2438280" cy="129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684360" y="2852640"/>
            <a:ext cx="2303280" cy="12193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6000840" y="2857680"/>
            <a:ext cx="2201760" cy="1143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гол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5" descr="stars_18.gif"/>
          <p:cNvPicPr/>
          <p:nvPr/>
        </p:nvPicPr>
        <p:blipFill>
          <a:blip r:embed="rId1"/>
          <a:stretch/>
        </p:blipFill>
        <p:spPr>
          <a:xfrm>
            <a:off x="285840" y="57168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gbook01.gif"/>
          <p:cNvPicPr/>
          <p:nvPr/>
        </p:nvPicPr>
        <p:blipFill>
          <a:blip r:embed="rId2"/>
          <a:stretch/>
        </p:blipFill>
        <p:spPr>
          <a:xfrm>
            <a:off x="3419640" y="5229360"/>
            <a:ext cx="271440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stars_18.gif"/>
          <p:cNvPicPr/>
          <p:nvPr/>
        </p:nvPicPr>
        <p:blipFill>
          <a:blip r:embed="rId1"/>
          <a:stretch/>
        </p:blipFill>
        <p:spPr>
          <a:xfrm>
            <a:off x="324000" y="333360"/>
            <a:ext cx="1771560" cy="1438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39640" y="47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Часть речи, которая обозначает признак предм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3492360" y="2492280"/>
            <a:ext cx="2337120" cy="1077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6300720" y="2492280"/>
            <a:ext cx="2448000" cy="1214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642960" y="2500200"/>
            <a:ext cx="2400120" cy="1143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8" descr="5285b88dfccf"/>
          <p:cNvPicPr/>
          <p:nvPr/>
        </p:nvPicPr>
        <p:blipFill>
          <a:blip r:embed="rId2"/>
          <a:stretch/>
        </p:blipFill>
        <p:spPr>
          <a:xfrm>
            <a:off x="3357720" y="4071960"/>
            <a:ext cx="195552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4996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Часть речи, которая обозначает действие предм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611280" y="2997360"/>
            <a:ext cx="2727360" cy="1079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3571920" y="3071880"/>
            <a:ext cx="2573280" cy="1077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6372360" y="3068640"/>
            <a:ext cx="2447640" cy="114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j0301360"/>
          <p:cNvPicPr/>
          <p:nvPr/>
        </p:nvPicPr>
        <p:blipFill>
          <a:blip r:embed="rId1"/>
          <a:stretch/>
        </p:blipFill>
        <p:spPr>
          <a:xfrm>
            <a:off x="3780000" y="4581360"/>
            <a:ext cx="1731960" cy="18147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stars_18.gif"/>
          <p:cNvPicPr/>
          <p:nvPr/>
        </p:nvPicPr>
        <p:blipFill>
          <a:blip r:embed="rId2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7168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На какие вопрос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вечают имена прилагатель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3429000" y="2571840"/>
            <a:ext cx="241452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й? Какая?Како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и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642960" y="2538360"/>
            <a:ext cx="227340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то? Чт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6286680" y="2571840"/>
            <a:ext cx="23032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ть? Что с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7" descr="gbook01.gif"/>
          <p:cNvPicPr/>
          <p:nvPr/>
        </p:nvPicPr>
        <p:blipFill>
          <a:blip r:embed="rId1"/>
          <a:stretch/>
        </p:blipFill>
        <p:spPr>
          <a:xfrm>
            <a:off x="3500280" y="4714920"/>
            <a:ext cx="3114720" cy="1305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stars_18.gif"/>
          <p:cNvPicPr/>
          <p:nvPr/>
        </p:nvPicPr>
        <p:blipFill>
          <a:blip r:embed="rId2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26028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На какие вопрос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вечают имена существитель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2987640" y="2349360"/>
            <a:ext cx="2374920" cy="1563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? Ч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971640" y="4724280"/>
            <a:ext cx="2476440" cy="15796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? Какая?Како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6084720" y="4724280"/>
            <a:ext cx="2376720" cy="1605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ть? Что с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gbook01.gif"/>
          <p:cNvPicPr/>
          <p:nvPr/>
        </p:nvPicPr>
        <p:blipFill>
          <a:blip r:embed="rId2"/>
          <a:stretch/>
        </p:blipFill>
        <p:spPr>
          <a:xfrm>
            <a:off x="3564000" y="5084640"/>
            <a:ext cx="2714400" cy="11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00040" y="50004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На какие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вечают глагол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250920" y="522936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делать? Что сдел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2484360" y="386064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то? Чт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5435640" y="2492280"/>
            <a:ext cx="242892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?Какой? Как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Рисунок 6" descr="gbook01.gif"/>
          <p:cNvPicPr/>
          <p:nvPr/>
        </p:nvPicPr>
        <p:blipFill>
          <a:blip r:embed="rId1"/>
          <a:stretch/>
        </p:blipFill>
        <p:spPr>
          <a:xfrm>
            <a:off x="4211640" y="5013360"/>
            <a:ext cx="2714760" cy="11365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stars_18.gif"/>
          <p:cNvPicPr/>
          <p:nvPr/>
        </p:nvPicPr>
        <p:blipFill>
          <a:blip r:embed="rId2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329920" y="71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берите им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прилагательно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324000" y="5013360"/>
            <a:ext cx="2089080" cy="100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3"/>
          <p:cNvSpPr/>
          <p:nvPr/>
        </p:nvSpPr>
        <p:spPr>
          <a:xfrm>
            <a:off x="1908000" y="2708280"/>
            <a:ext cx="2089440" cy="936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з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Скругленный прямоугольник 4"/>
          <p:cNvSpPr/>
          <p:nvPr/>
        </p:nvSpPr>
        <p:spPr>
          <a:xfrm>
            <a:off x="5580000" y="4437000"/>
            <a:ext cx="2089080" cy="933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в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gbook01.gif"/>
          <p:cNvPicPr/>
          <p:nvPr/>
        </p:nvPicPr>
        <p:blipFill>
          <a:blip r:embed="rId2"/>
          <a:stretch/>
        </p:blipFill>
        <p:spPr>
          <a:xfrm>
            <a:off x="3276720" y="5300640"/>
            <a:ext cx="2714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4:17:35Z</dcterms:created>
  <dc:creator>Hann</dc:creator>
  <dc:description/>
  <dc:language>en-US</dc:language>
  <cp:lastModifiedBy>Viktor</cp:lastModifiedBy>
  <dcterms:modified xsi:type="dcterms:W3CDTF">2019-03-10T18:29:02Z</dcterms:modified>
  <cp:revision>13</cp:revision>
  <dc:subject/>
  <dc:title>Слайд 1</dc:title>
</cp:coreProperties>
</file>