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5D86-4B95-403C-9F42-B67C391BE9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картой мира,  с учебником параграф 24 с 1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8FB7-ECA1-4759-BEA4-63B034EFAE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2D2-DBC5-47CE-B83D-674E102F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B09-25E3-45F6-AB09-B4B07095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5AB-2E0A-45B5-8677-6CDD7484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0A5-E728-4E76-B7D5-7034D6BA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E4C-6DFA-4518-82E6-09A99B7C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191-F31D-4348-B897-BC158CF5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4C1-9CF8-42FF-BAB5-8AC22838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998-740D-4B45-A98C-C97E456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33F-08CF-4186-AE4F-7376F52E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1DF-B053-445A-AF4E-D12C602F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D7B-52FB-41D2-B262-82F0699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39E-9F48-44F6-B493-8CECA6B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2D92-FF51-4AF4-9DA9-979A88DA0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coins.su/forum/index.php?s=05be04aadb0b22057b502d6bd3b6b51d&amp;app=core&amp;module=attach&amp;section=attach&amp;attach_rel_module=post&amp;attach_id=162955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Admin\Desktop\циклы развития экономики\i (9).jpg"/>
          <p:cNvPicPr/>
          <p:nvPr/>
        </p:nvPicPr>
        <p:blipFill>
          <a:blip r:embed="rId1"/>
          <a:stretch/>
        </p:blipFill>
        <p:spPr>
          <a:xfrm>
            <a:off x="0" y="2870280"/>
            <a:ext cx="3084480" cy="3987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479680" y="620640"/>
            <a:ext cx="68403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Дела людей, как волны  оке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Подвержены приливу и отли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Воспользуйся приливом-и успе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 улыбкою откликнется к теб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 отливом же все плаванье тв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В тяжелую борьбу преобраз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. Шекспи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ая соединительная линия 4"/>
          <p:cNvSpPr/>
          <p:nvPr/>
        </p:nvSpPr>
        <p:spPr>
          <a:xfrm>
            <a:off x="324000" y="5516640"/>
            <a:ext cx="8820000" cy="349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6"/>
          <p:cNvSpPr/>
          <p:nvPr/>
        </p:nvSpPr>
        <p:spPr>
          <a:xfrm flipV="1">
            <a:off x="299880" y="2923920"/>
            <a:ext cx="0" cy="25923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олилиния 9"/>
          <p:cNvSpPr/>
          <p:nvPr/>
        </p:nvSpPr>
        <p:spPr>
          <a:xfrm>
            <a:off x="468360" y="3583080"/>
            <a:ext cx="1150920" cy="14986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олилиния 10"/>
          <p:cNvSpPr/>
          <p:nvPr/>
        </p:nvSpPr>
        <p:spPr>
          <a:xfrm>
            <a:off x="2303640" y="3632040"/>
            <a:ext cx="1081080" cy="14986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олилиния 11"/>
          <p:cNvSpPr/>
          <p:nvPr/>
        </p:nvSpPr>
        <p:spPr>
          <a:xfrm rot="10800000">
            <a:off x="3344400" y="5046480"/>
            <a:ext cx="708120" cy="3682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олилиния 12"/>
          <p:cNvSpPr/>
          <p:nvPr/>
        </p:nvSpPr>
        <p:spPr>
          <a:xfrm>
            <a:off x="7851600" y="3749760"/>
            <a:ext cx="1151280" cy="14968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лилиния 13"/>
          <p:cNvSpPr/>
          <p:nvPr/>
        </p:nvSpPr>
        <p:spPr>
          <a:xfrm>
            <a:off x="4052880" y="3603600"/>
            <a:ext cx="1224000" cy="14968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лилиния 14"/>
          <p:cNvSpPr/>
          <p:nvPr/>
        </p:nvSpPr>
        <p:spPr>
          <a:xfrm>
            <a:off x="5983200" y="3713040"/>
            <a:ext cx="1160640" cy="14986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олилиния 18"/>
          <p:cNvSpPr/>
          <p:nvPr/>
        </p:nvSpPr>
        <p:spPr>
          <a:xfrm rot="10800000">
            <a:off x="7143840" y="5173560"/>
            <a:ext cx="707760" cy="3700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олилиния 19"/>
          <p:cNvSpPr/>
          <p:nvPr/>
        </p:nvSpPr>
        <p:spPr>
          <a:xfrm rot="10800000">
            <a:off x="5276880" y="5100480"/>
            <a:ext cx="706320" cy="3700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лилиния 20"/>
          <p:cNvSpPr/>
          <p:nvPr/>
        </p:nvSpPr>
        <p:spPr>
          <a:xfrm rot="10800000">
            <a:off x="1588680" y="5046480"/>
            <a:ext cx="708120" cy="3682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755640" y="1816200"/>
            <a:ext cx="5763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2602080" y="1863720"/>
            <a:ext cx="483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4448880" y="1887480"/>
            <a:ext cx="483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6321600" y="1887480"/>
            <a:ext cx="483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7"/>
          <p:cNvSpPr/>
          <p:nvPr/>
        </p:nvSpPr>
        <p:spPr>
          <a:xfrm>
            <a:off x="8185320" y="1871640"/>
            <a:ext cx="483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Admin\Desktop\циклы развития экономики\i (2)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dmin\Desktop\циклы развития экономики\i (1).jpg"/>
          <p:cNvPicPr/>
          <p:nvPr/>
        </p:nvPicPr>
        <p:blipFill>
          <a:blip r:embed="rId1"/>
          <a:stretch/>
        </p:blipFill>
        <p:spPr>
          <a:xfrm>
            <a:off x="1403280" y="620640"/>
            <a:ext cx="6624720" cy="2658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Admin\Desktop\циклы развития экономики\i (5).jpg"/>
          <p:cNvPicPr/>
          <p:nvPr/>
        </p:nvPicPr>
        <p:blipFill>
          <a:blip r:embed="rId2"/>
          <a:stretch/>
        </p:blipFill>
        <p:spPr>
          <a:xfrm>
            <a:off x="1403280" y="3068640"/>
            <a:ext cx="66247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68360" y="1844640"/>
            <a:ext cx="848664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траны мира проходят определённые этапы развития хозяйства. Закономерно меняются ведущие сектора хозяйства, отрасли-лидеры в промышл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ссия, опережая большинство стран мира, в то же время традиционно отстаёт по структуре экономики и по уровню её развития от наиболее передовых стр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контр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95280" y="112536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какими заданиями вы справились легко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выполнении какого задания вы испытывали затруднения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вопрос вы бы задали Министру экономики ,исходя их темы сегодняшнего урока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е задание , вопрос  был для вас наиболее интересным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е свою работу. В квадрате поставьте отметк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7848720" y="5181480"/>
            <a:ext cx="1044360" cy="935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Цикличность развития экономики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Цель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получить представление о  цикличности развития экономики (хозяйства)  и спрогнозировать ее развит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Calibri"/>
              </a:rPr>
              <a:t>Этапы экономического развития стр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69992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грарная экономика (с/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устриальная экономика (промышленност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индустриальная экономика (сфера услуг) – Западная Европа, США, Кан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692360" y="54936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ономическое развитие  стр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Admin\Desktop\циклы развития экономики\i.jpg"/>
          <p:cNvPicPr/>
          <p:nvPr/>
        </p:nvPicPr>
        <p:blipFill>
          <a:blip r:embed="rId1"/>
          <a:stretch/>
        </p:blipFill>
        <p:spPr>
          <a:xfrm>
            <a:off x="468360" y="2565360"/>
            <a:ext cx="7743600" cy="2951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468360" y="189000"/>
            <a:ext cx="81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Экономический цик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 это периодические колебания деловой активности в хозяйственной системе, которые характеризуются временным интервалом между двумя качественно одинаковыми состояниями экономический конъюнк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Диаграмма 1" descr=""/>
          <p:cNvPicPr/>
          <p:nvPr/>
        </p:nvPicPr>
        <p:blipFill>
          <a:blip r:embed="rId1"/>
          <a:stretch/>
        </p:blipFill>
        <p:spPr>
          <a:xfrm>
            <a:off x="109440" y="182520"/>
            <a:ext cx="903456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\Desktop\циклы развития экономики\i (4).jpg"/>
          <p:cNvPicPr/>
          <p:nvPr/>
        </p:nvPicPr>
        <p:blipFill>
          <a:blip r:embed="rId1"/>
          <a:stretch/>
        </p:blipFill>
        <p:spPr>
          <a:xfrm>
            <a:off x="31680" y="873000"/>
            <a:ext cx="2711520" cy="338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Admin\Desktop\циклы развития экономики\i (8).jpg"/>
          <p:cNvPicPr/>
          <p:nvPr/>
        </p:nvPicPr>
        <p:blipFill>
          <a:blip r:embed="rId2"/>
          <a:stretch/>
        </p:blipFill>
        <p:spPr>
          <a:xfrm>
            <a:off x="2725560" y="2828880"/>
            <a:ext cx="2713320" cy="402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1387440" y="1843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ондратьев Николай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Admin\Desktop\циклы развития экономики\i (2).jpg"/>
          <p:cNvPicPr/>
          <p:nvPr/>
        </p:nvPicPr>
        <p:blipFill>
          <a:blip r:embed="rId3"/>
          <a:stretch/>
        </p:blipFill>
        <p:spPr>
          <a:xfrm>
            <a:off x="3635280" y="1082520"/>
            <a:ext cx="504684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6 марта 1892  года родился Николай Дмитриевич Кондратьев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4941720"/>
            <a:ext cx="38098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79280" y="260280"/>
          <a:ext cx="8856720" cy="6408720"/>
        </p:xfrm>
        <a:graphic>
          <a:graphicData uri="http://schemas.openxmlformats.org/drawingml/2006/table">
            <a:tbl>
              <a:tblPr/>
              <a:tblGrid>
                <a:gridCol w="1266840"/>
                <a:gridCol w="1109880"/>
                <a:gridCol w="1224000"/>
                <a:gridCol w="1368360"/>
                <a:gridCol w="1357200"/>
                <a:gridCol w="1265400"/>
                <a:gridCol w="1265040"/>
              </a:tblGrid>
              <a:tr h="396720">
                <a:tc gridSpan="2"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Характеристика укла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ahoma"/>
                          <a:ea typeface="Arial"/>
                        </a:rPr>
                        <a:t>Циклы технологических укла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Ключевой 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Ткацкий и прядильный ста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Паровой двиг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Электро-двиг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Двигатель внутреннего сгор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Микро-электронные 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Период домин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В стра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лиде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770-1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830-18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880-1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930-1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980-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В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ехн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лид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Великобри-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Великобри-тания, 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Германия, США, Вел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США, 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Япония, США, Германия, Тайван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Ю. 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Ядро технологического ци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екстильная пром-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Угольная пром-ть, ж/д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чёрная металлур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ЭС, ЛЭП, электр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ехн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машиностр., неорган. 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Автомобиле-строение, нефтяная пром-ть, произв-во товаров длит. поль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Электрон. пр-ть, ЭВМ, оптико-волоконная техника, программн.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260280"/>
          <a:ext cx="8856720" cy="6408720"/>
        </p:xfrm>
        <a:graphic>
          <a:graphicData uri="http://schemas.openxmlformats.org/drawingml/2006/table">
            <a:tbl>
              <a:tblPr/>
              <a:tblGrid>
                <a:gridCol w="1266840"/>
                <a:gridCol w="1109880"/>
                <a:gridCol w="1224000"/>
                <a:gridCol w="1368360"/>
                <a:gridCol w="1357200"/>
                <a:gridCol w="1265400"/>
                <a:gridCol w="1265040"/>
              </a:tblGrid>
              <a:tr h="396720">
                <a:tc gridSpan="2"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Характеристика укла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ahoma"/>
                          <a:ea typeface="Arial"/>
                        </a:rPr>
                        <a:t>Циклы технологических  укла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Ключевой 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Ткацкий и прядильный ста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Паровой двиг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Электро-двиг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Двигатель внутреннего сгор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Микро-электронные 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Период домин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В стра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лиде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770-1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830-18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880-1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930-1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980-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В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1830-1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1880-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1930-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1970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ехн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лид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Великобри-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Великобри-тания, 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Германия, США, Вел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США, 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Япония, США, Германия, Тайван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Ю. 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Ядро технологического ци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екстильная пром-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Угольная пром-ть, ж/д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чёрная металлур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ЭС, ЛЭП, электр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ехн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машиностр., неорган. 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Автомобиле-строение, нефтяная пром-ть, произв-во товаров длит. поль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Электрон. пр-ть, ЭВМ, оптико-волоконная техника, программн.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6:35:14Z</dcterms:created>
  <dc:creator>Admin</dc:creator>
  <dc:description/>
  <dc:language>en-US</dc:language>
  <cp:lastModifiedBy>Admin</cp:lastModifiedBy>
  <cp:lastPrinted>2013-11-27T15:53:25Z</cp:lastPrinted>
  <dcterms:modified xsi:type="dcterms:W3CDTF">2013-11-27T16:49:08Z</dcterms:modified>
  <cp:revision>29</cp:revision>
  <dc:subject/>
  <dc:title>Презентация PowerPoint</dc:title>
</cp:coreProperties>
</file>