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CA6-6FA4-456E-9B1B-3641E42058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картой мира,  с учебником параграф 24 с 1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1D4-8664-40C3-AE0F-C111F9E80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9A7-C460-45F7-A7B2-6CE62E27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4A0-DC21-4335-8F00-33116B7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42F-0434-4C89-AD42-BE689B18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6E5-AF64-484F-B857-9B999F98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8D7-0181-4695-B5D7-0BC46E81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A4C-751B-4DF4-A94D-9667649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460-2F25-4EB4-861F-BA96A53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018-48EB-45DD-B916-A358D0F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A1F-1903-4D9A-B38E-FBA8B07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5B8-3118-4B00-AC94-788A13A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55C-016D-4005-9A34-9A03B47E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C6D-4A79-4DA5-B9EF-ECA4D69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421-2ACE-482F-8ACF-8996155B6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coins.su/forum/index.php?s=05be04aadb0b22057b502d6bd3b6b51d&amp;app=core&amp;module=attach&amp;section=attach&amp;attach_rel_module=post&amp;attach_id=162955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\Desktop\циклы развития экономики\i (9).jpg"/>
          <p:cNvPicPr/>
          <p:nvPr/>
        </p:nvPicPr>
        <p:blipFill>
          <a:blip r:embed="rId1"/>
          <a:stretch/>
        </p:blipFill>
        <p:spPr>
          <a:xfrm>
            <a:off x="0" y="2870280"/>
            <a:ext cx="3084480" cy="3987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79680" y="620640"/>
            <a:ext cx="68403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Дела людей, как волны  оке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двержены приливу и отли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оспользуйся приливом-и усп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 улыбкою откликнется к т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 отливом же все плаванье тв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 тяжелую борьбу преобраз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. Шекспи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ая соединительная линия 4"/>
          <p:cNvSpPr/>
          <p:nvPr/>
        </p:nvSpPr>
        <p:spPr>
          <a:xfrm>
            <a:off x="324000" y="5516640"/>
            <a:ext cx="8820000" cy="349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 flipV="1">
            <a:off x="299880" y="2923920"/>
            <a:ext cx="0" cy="2592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9"/>
          <p:cNvSpPr/>
          <p:nvPr/>
        </p:nvSpPr>
        <p:spPr>
          <a:xfrm>
            <a:off x="468360" y="3583080"/>
            <a:ext cx="115092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0"/>
          <p:cNvSpPr/>
          <p:nvPr/>
        </p:nvSpPr>
        <p:spPr>
          <a:xfrm>
            <a:off x="2303640" y="3632040"/>
            <a:ext cx="108108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11"/>
          <p:cNvSpPr/>
          <p:nvPr/>
        </p:nvSpPr>
        <p:spPr>
          <a:xfrm rot="10800000">
            <a:off x="3344400" y="5046480"/>
            <a:ext cx="708120" cy="3682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12"/>
          <p:cNvSpPr/>
          <p:nvPr/>
        </p:nvSpPr>
        <p:spPr>
          <a:xfrm>
            <a:off x="7851600" y="3749760"/>
            <a:ext cx="1151280" cy="14968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13"/>
          <p:cNvSpPr/>
          <p:nvPr/>
        </p:nvSpPr>
        <p:spPr>
          <a:xfrm>
            <a:off x="4052880" y="3603600"/>
            <a:ext cx="1224000" cy="14968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илиния 14"/>
          <p:cNvSpPr/>
          <p:nvPr/>
        </p:nvSpPr>
        <p:spPr>
          <a:xfrm>
            <a:off x="5983200" y="3713040"/>
            <a:ext cx="1160640" cy="14986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лилиния 18"/>
          <p:cNvSpPr/>
          <p:nvPr/>
        </p:nvSpPr>
        <p:spPr>
          <a:xfrm rot="10800000">
            <a:off x="7143840" y="5173560"/>
            <a:ext cx="707760" cy="3700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олилиния 19"/>
          <p:cNvSpPr/>
          <p:nvPr/>
        </p:nvSpPr>
        <p:spPr>
          <a:xfrm rot="10800000">
            <a:off x="5276880" y="5100480"/>
            <a:ext cx="706320" cy="3700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лилиния 20"/>
          <p:cNvSpPr/>
          <p:nvPr/>
        </p:nvSpPr>
        <p:spPr>
          <a:xfrm rot="10800000">
            <a:off x="1588680" y="5046480"/>
            <a:ext cx="708120" cy="368280"/>
          </a:xfrm>
          <a:custGeom>
            <a:avLst/>
            <a:gdLst/>
            <a:ahLst/>
            <a:rect l="l" t="t" r="r" b="b"/>
            <a:pathLst>
              <a:path w="1541625" h="1498094">
                <a:moveTo>
                  <a:pt x="0" y="1431724"/>
                </a:moveTo>
                <a:cubicBezTo>
                  <a:pt x="71582" y="1231987"/>
                  <a:pt x="143164" y="1032251"/>
                  <a:pt x="235528" y="822124"/>
                </a:cubicBezTo>
                <a:cubicBezTo>
                  <a:pt x="327892" y="611997"/>
                  <a:pt x="434109" y="304887"/>
                  <a:pt x="554182" y="170960"/>
                </a:cubicBezTo>
                <a:cubicBezTo>
                  <a:pt x="674255" y="37033"/>
                  <a:pt x="838200" y="-36858"/>
                  <a:pt x="955964" y="18560"/>
                </a:cubicBezTo>
                <a:cubicBezTo>
                  <a:pt x="1073728" y="73978"/>
                  <a:pt x="1186873" y="330287"/>
                  <a:pt x="1260764" y="503469"/>
                </a:cubicBezTo>
                <a:cubicBezTo>
                  <a:pt x="1334655" y="676651"/>
                  <a:pt x="1355436" y="898324"/>
                  <a:pt x="1399309" y="1057651"/>
                </a:cubicBezTo>
                <a:cubicBezTo>
                  <a:pt x="1443182" y="1216978"/>
                  <a:pt x="1500909" y="1392469"/>
                  <a:pt x="1524000" y="1459433"/>
                </a:cubicBezTo>
                <a:cubicBezTo>
                  <a:pt x="1547091" y="1526397"/>
                  <a:pt x="1542473" y="1492915"/>
                  <a:pt x="1537855" y="14594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755640" y="1816200"/>
            <a:ext cx="576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602080" y="186372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448880" y="188748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321600" y="188748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8185320" y="1871640"/>
            <a:ext cx="483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dmin\Desktop\циклы развития экономики\i (2)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dmin\Desktop\циклы развития экономики\i (1).jpg"/>
          <p:cNvPicPr/>
          <p:nvPr/>
        </p:nvPicPr>
        <p:blipFill>
          <a:blip r:embed="rId1"/>
          <a:stretch/>
        </p:blipFill>
        <p:spPr>
          <a:xfrm>
            <a:off x="1403280" y="620640"/>
            <a:ext cx="6624720" cy="2658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Admin\Desktop\циклы развития экономики\i (5).jpg"/>
          <p:cNvPicPr/>
          <p:nvPr/>
        </p:nvPicPr>
        <p:blipFill>
          <a:blip r:embed="rId2"/>
          <a:stretch/>
        </p:blipFill>
        <p:spPr>
          <a:xfrm>
            <a:off x="1403280" y="3068640"/>
            <a:ext cx="6624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8360" y="1844640"/>
            <a:ext cx="84866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траны мира проходят определённые этапы развития хозяйства. Закономерно меняются ведущие сектора хозяйства, отрасли-лидеры в промыш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я, опережая большинство стран мира, в то же время традиционно отстаёт по структуре экономики и по уровню её развития от наиболее передовых стр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95280" y="11253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акими заданиями вы справились легко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выполнении какого задания вы испытывали затруднения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вопрос вы бы задали Министру экономики ,исходя их темы сегодняшнего урока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задание , вопрос  был для вас наиболее интересным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е свою работу. В квадрате поставьте отметк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7848720" y="5181480"/>
            <a:ext cx="1044360" cy="93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Цикличность развития экономик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получить представление о  цикличности развития экономики (хозяйства)  и спрогнозировать ее развит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Calibri"/>
              </a:rPr>
              <a:t>Этапы экономического развития ст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69992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грарная экономика (с/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устриальная экономика (промышленнос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индустриальная экономика (сфера услуг) – Западная Европа, США, Кан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692360" y="54936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 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Admin\Desktop\циклы развития экономики\i.jpg"/>
          <p:cNvPicPr/>
          <p:nvPr/>
        </p:nvPicPr>
        <p:blipFill>
          <a:blip r:embed="rId1"/>
          <a:stretch/>
        </p:blipFill>
        <p:spPr>
          <a:xfrm>
            <a:off x="468360" y="2565360"/>
            <a:ext cx="7743600" cy="2951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468360" y="18900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Экономический цик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 периодические колебания деловой активности в хозяйственной системе, которые характеризуются временным интервалом между двумя качественно одинаковыми состояниями экономический конъюнк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Диаграмма 1" descr=""/>
          <p:cNvPicPr/>
          <p:nvPr/>
        </p:nvPicPr>
        <p:blipFill>
          <a:blip r:embed="rId1"/>
          <a:stretch/>
        </p:blipFill>
        <p:spPr>
          <a:xfrm>
            <a:off x="109440" y="182520"/>
            <a:ext cx="90345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циклы развития экономики\i (4).jpg"/>
          <p:cNvPicPr/>
          <p:nvPr/>
        </p:nvPicPr>
        <p:blipFill>
          <a:blip r:embed="rId1"/>
          <a:stretch/>
        </p:blipFill>
        <p:spPr>
          <a:xfrm>
            <a:off x="31680" y="873000"/>
            <a:ext cx="2711520" cy="33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Admin\Desktop\циклы развития экономики\i (8).jpg"/>
          <p:cNvPicPr/>
          <p:nvPr/>
        </p:nvPicPr>
        <p:blipFill>
          <a:blip r:embed="rId2"/>
          <a:stretch/>
        </p:blipFill>
        <p:spPr>
          <a:xfrm>
            <a:off x="2725560" y="2828880"/>
            <a:ext cx="2713320" cy="402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387440" y="1843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ондратьев Николай Дмитр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Admin\Desktop\циклы развития экономики\i (2).jpg"/>
          <p:cNvPicPr/>
          <p:nvPr/>
        </p:nvPicPr>
        <p:blipFill>
          <a:blip r:embed="rId3"/>
          <a:stretch/>
        </p:blipFill>
        <p:spPr>
          <a:xfrm>
            <a:off x="3635280" y="1082520"/>
            <a:ext cx="50468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6 марта 1892  года родился Николай Дмитриевич Кондратье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4941720"/>
            <a:ext cx="3809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9280" y="260280"/>
          <a:ext cx="8856720" cy="6408720"/>
        </p:xfrm>
        <a:graphic>
          <a:graphicData uri="http://schemas.openxmlformats.org/drawingml/2006/table">
            <a:tbl>
              <a:tblPr/>
              <a:tblGrid>
                <a:gridCol w="1266840"/>
                <a:gridCol w="1109880"/>
                <a:gridCol w="1224000"/>
                <a:gridCol w="1368360"/>
                <a:gridCol w="1357200"/>
                <a:gridCol w="1265400"/>
                <a:gridCol w="1265040"/>
              </a:tblGrid>
              <a:tr h="396720"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арактеристика укл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ahoma"/>
                          <a:ea typeface="Arial"/>
                        </a:rPr>
                        <a:t>Циклы технологических укла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лючевой 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Ткацкий и прядильный ст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Паровой 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Электро-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Двигатель внутреннего сгор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Микро-электронные 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ериод домин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 стра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лиде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770-1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30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80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д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, 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Германия, США, Вел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ША, 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Япония, США, Германия, Тайва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Ю.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Ядро технологическ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кстильная пром-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гольная пром-ть, ж/д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ёрная металлу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ЭС, ЛЭП, элект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машиностр., неорган.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Автомобиле-строение, нефтяная пром-ть, произв-во товаров длит. поль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Электрон. пр-ть, ЭВМ, оптико-волоконная техника, программн.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260280"/>
          <a:ext cx="8856720" cy="6408720"/>
        </p:xfrm>
        <a:graphic>
          <a:graphicData uri="http://schemas.openxmlformats.org/drawingml/2006/table">
            <a:tbl>
              <a:tblPr/>
              <a:tblGrid>
                <a:gridCol w="1266840"/>
                <a:gridCol w="1109880"/>
                <a:gridCol w="1224000"/>
                <a:gridCol w="1368360"/>
                <a:gridCol w="1357200"/>
                <a:gridCol w="1265400"/>
                <a:gridCol w="1265040"/>
              </a:tblGrid>
              <a:tr h="396720"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арактеристика укл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ahoma"/>
                          <a:ea typeface="Arial"/>
                        </a:rPr>
                        <a:t>Циклы технологических  укла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лючевой 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Ткацкий и прядильный ст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Паровой 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Электро-двиг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Двигатель внутреннего сгор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Tahoma"/>
                          <a:ea typeface="Arial"/>
                        </a:rPr>
                        <a:t>Микро-электронные 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ериод домин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 стра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лиде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770-1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30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980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830-1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880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930-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1970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2060"/>
                          </a:solidFill>
                          <a:latin typeface="Tahoma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д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Великобри-тания, 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Германия, США, Вел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США, 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Япония, США, Германия, Тайва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Ю. 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Ядро технологическ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кстильная пром-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гольная пром-ть, ж/д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ёрная металлу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ЭС, ЛЭП, элект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машиностр., неорган.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Автомобиле-строение, нефтяная пром-ть, произв-во товаров длит. поль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Электрон. пр-ть, ЭВМ, оптико-волоконная техника, программн.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6:35:14Z</dcterms:created>
  <dc:creator>Admin</dc:creator>
  <dc:description/>
  <dc:language>en-US</dc:language>
  <cp:lastModifiedBy>Admin</cp:lastModifiedBy>
  <cp:lastPrinted>2013-11-27T15:53:25Z</cp:lastPrinted>
  <dcterms:modified xsi:type="dcterms:W3CDTF">2013-11-27T16:49:08Z</dcterms:modified>
  <cp:revision>29</cp:revision>
  <dc:subject/>
  <dc:title>Презентация PowerPoint</dc:title>
</cp:coreProperties>
</file>