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0B6B-9E8F-42C9-899A-8BD97DEED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098F-A3CA-4AFB-B7DF-8AA2A34E2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6DD-50E5-41AD-8744-AF63DEB9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DE8-92E8-4896-BE60-02480F02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503EA-1672-4060-829A-F8F0D65C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202B7-E636-4A4B-95DA-77DC8977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5AA20-979B-4EEC-8C43-E17DB48E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A3757-CBBE-497B-984B-53D78B52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EE09E-1A97-4DC2-A2DA-FB943F2B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C9137-8A25-4959-84D1-6411FFDF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86CF5-C97B-4183-A933-F74E5BC7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9DE8D-AAA0-42FA-BAF9-5F0E5611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D2E44-85C9-485D-AD59-E3673CA3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2B7-FB98-42FE-8BD9-67353ACF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D7C-ADB4-46B1-A65C-DCF3D62A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01B1-3DF4-45E8-BCF8-26B06ED2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C625-2D57-4212-8064-E5DE977C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9326-26A1-4601-A76D-F96AE9CE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A2AB-1611-4D9D-9401-47FDD7FD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2872-FABB-43DD-8212-FE30299A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AF61-2B37-4F05-8DD6-1C8CF99F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BDA4-14E0-468C-A838-8B609989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3EA-5505-43C9-BD4F-15018F79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008A-9414-473A-B00A-E6C4B12D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AD76-E47E-42A8-9175-AD265A52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6EAE-6242-4E45-B104-B7B16106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D38D-F3F5-408D-A442-2F649D01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87E3-DA3D-4B64-8696-47899404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79AC-D2D9-42E8-9EA8-44CACB42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FA5B-0F29-4CD2-A378-C15093D1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7935-575B-4486-9D87-2F6CC517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E7EA-6A23-433F-831A-49A3503D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0428-6EE9-416F-A782-343A7AE9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72B-61F6-4875-A681-C759044F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371E3-AE84-4D12-80D7-ACAB2E3B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15365-E18B-4E87-957C-C0B528F9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F78D-5D11-4699-BB13-E7FDD90C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2ECD-4B93-4A7A-982A-E0ECCCE3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97650-7A95-4882-B3FE-4B0B5556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C711-939B-4AA2-9D4F-4CE33B07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B8FF-3D0E-4636-B244-E74EE5C7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C24D3-FBC7-448E-8C05-8FE5D8D5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561E4-F00D-4485-943C-66B97234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20DB1-8DA3-479A-A9CA-94463F06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B63-9F00-432C-A9C4-E02672C1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1E2C5-BAC3-406A-B101-6CB6751F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7B532-0FC9-4706-BBAC-8E56E995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D3FA-0EA3-429E-A926-8A06F13A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55B1F-D6A9-4A51-8099-985C693A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7ED73-2926-4048-ACC8-38F3955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1F2CA-6B59-4481-A650-6543F30F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81E63-8C81-452A-AF23-956A39BC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FEFF-D714-48A9-8792-FEC50B0B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A6D6D-843E-4AC1-AACF-45EEB5C1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A63BC-BAC7-462E-9B9F-B96550E0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010-E1FA-4411-BF3D-50650E77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EE995-438E-409C-87C6-D47FB449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7EC89-5CCB-475F-8394-03AFD955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D08FC-8EB8-482F-B08E-3167843E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ED384-4BAE-43A2-9C80-C5767B5D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7B514-6552-4E8B-8DBA-53C8AEB6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DEAC4-D30C-4717-B7AF-1A61753C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DC19C-24B7-473E-9260-DCC54CB1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F499-E33D-4742-A33A-AB8649B4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FD32C-0BF3-4B07-90A0-D29DF681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CB39E-089F-451B-AE4F-721C88CE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487-D7C9-4AD6-B25B-8B1A5623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6A825-EE96-4EA1-A3BB-ED465F1F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E1F43-77DF-4046-9DDD-53230EE1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C4DD3-0892-4263-8F87-9ED47CE5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0694-351B-420F-B774-FA3FACE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E3EDC-7DE4-4A1C-B0A2-17B87EFA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58FE5-4D63-4454-BF12-239F4891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6504C-FA07-477A-ABFC-5BA7E6AD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9CA7E-BC2A-4577-8832-E021CEF0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6729E-90F5-40DA-89E5-D63FFFEF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95E3F-859D-476C-A69F-50AFC4D2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399-6DDC-4B81-8347-22CD17AE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B60DD-7F8E-4C0C-B383-D8579FDC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08660-3327-4598-BCC5-4639906B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A83F6-A7B5-42F9-A86A-78BFAA2B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F88E8-773D-4DE4-A367-49724A3C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F4279-8F21-419A-A8D5-D72247E7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F39AA-A70D-4DD8-9821-A5CF6DD9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40A03-CC05-4585-BEA0-7A70BF88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CDDCD-AF66-4405-B775-D2E6070D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5FA2F-399F-4943-8125-CF24CE05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AF900-4767-4D80-BF12-39F7443A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EF2-77B4-4CBF-B6F4-0D6B6EA7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13FBF-73B3-4D4F-9046-C20252A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5978D-0EDD-4C5D-BFB3-141757F2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E7234-91E7-4A72-824D-FEF40A4C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ACCC2-E4FE-4D43-AF73-9E086836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03EDD-7618-4E42-BF86-BB13B8BC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A04D5-C4C6-4504-8BCF-7904CB1F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EB6E2-7A74-41C9-AFAF-79FF6609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EB3A8-84AA-4CA7-98DA-E123B0BF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26638-1D43-4404-BE87-F7D22008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40263-1388-45C3-BB05-B5E69716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6E2-03AB-4684-8D0D-B885549E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8FFAE-B403-4141-82CE-66624A11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98535-7223-482E-8263-63F2F5E1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90247-CE1B-407A-9AEF-80770780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052A6-3B68-4CD6-8730-EEF06F78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01AAA-DB33-428A-A5E6-8D2A9D15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A9541-D147-4FA4-AC6B-D501A803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DDC96-8FE4-4A60-9F40-52ABC508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EFF30-FC8E-4805-AD10-CEAF280B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6C732-94F3-448B-88E2-D78C94B1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07EA5-3002-4DD5-9447-37FDE747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E81F-5E14-454B-88E6-9004CE908E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B93D-F92B-4356-AA6B-F372A6B29D2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B209-444E-4379-BB3D-8F12604799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64BF-9CDD-4A3C-9729-3A3BA8F8B13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163D-EB30-46D1-A498-DB38A56CDD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9090-838C-4013-92A8-3AB1416D9C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A65F-2B0B-4A10-85F9-7A12B32AB6B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14E0-7A99-47FF-B11B-7685CC4AC2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0461-396C-488A-A737-6371B60A39A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658800" y="878040"/>
            <a:ext cx="8028000" cy="2670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28760" y="3428640"/>
            <a:ext cx="84772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3329"/>
                </a:solidFill>
                <a:latin typeface="Franklin Gothic Book"/>
              </a:rPr>
              <a:t>Рекомендации для родителей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3329"/>
                </a:solidFill>
                <a:latin typeface="Franklin Gothic Book"/>
              </a:rPr>
              <a:t>Подготовила педагог-психолог: Толоева Р.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682560" y="-66600"/>
            <a:ext cx="8040600" cy="14875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3"/>
          <p:cNvSpPr/>
          <p:nvPr/>
        </p:nvSpPr>
        <p:spPr>
          <a:xfrm>
            <a:off x="642960" y="307188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можете оказать им помощь в распределении учебного материала по дням, - в определении еженедельной нагрузки, - в составлении план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помогает справиться с тревогой: школьник начинает понимать, что успеть выучить весь материал вполне реально, у него достаточно времени для этого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Прямоугольник 9"/>
          <p:cNvSpPr/>
          <p:nvPr/>
        </p:nvSpPr>
        <p:spPr>
          <a:xfrm>
            <a:off x="2857680" y="1285920"/>
            <a:ext cx="564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и часто волнуются, т.к. им кажется, что объем материала очень большой, и они не успеют все выучить к экзаменам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682560" y="146160"/>
            <a:ext cx="7967880" cy="103032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3"/>
          <p:cNvSpPr/>
          <p:nvPr/>
        </p:nvSpPr>
        <p:spPr>
          <a:xfrm>
            <a:off x="600120" y="21337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школьник имел возможность отдохнуть, сменить деятельность. Но, например, компьютерные игры только увеличивают усталость. Очень важно помоч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такую форму досуга, которая бы школьника не переутомляла: прогулки, общение с одним-двумя друзьями и т.д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ня также необходимо дел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ие перерывы на 10-15 минут каждые 45-60 мин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необходимо для сохранения высокой работоспособности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682560" y="146160"/>
            <a:ext cx="8107560" cy="106668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5"/>
          <p:cNvSpPr/>
          <p:nvPr/>
        </p:nvSpPr>
        <p:spPr>
          <a:xfrm>
            <a:off x="857160" y="1428840"/>
            <a:ext cx="771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ормального самочувствия и хорошей работоспособности необходимо, чтобы ребенок хорошо высыпался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решайте детям учить целыми днями  или ночами, так как это ведет к раздражительности, быстрой утомляемости, беспокойству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оянии утомления работоспособность снижается, а продуктивность такой учебы невелика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Прямоугольник 6"/>
          <p:cNvSpPr/>
          <p:nvPr/>
        </p:nvSpPr>
        <p:spPr>
          <a:xfrm>
            <a:off x="857160" y="4929120"/>
            <a:ext cx="7786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дите за тем, чтобы накануне экзамена ваш ребенок обязательно отдохнул и как следует выспался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682560" y="92160"/>
            <a:ext cx="7607520" cy="113976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4"/>
          <p:cNvSpPr/>
          <p:nvPr/>
        </p:nvSpPr>
        <p:spPr>
          <a:xfrm>
            <a:off x="857160" y="1916280"/>
            <a:ext cx="778680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, а во время экзаменов особенно, заботьтесь об организации полноценного питания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продукты, как овощи, фрукты, рыба, творог, орехи, шоколад и т.д. стимулируют работу головного мозга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682560" y="49320"/>
            <a:ext cx="7894800" cy="111420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4"/>
          <p:cNvSpPr/>
          <p:nvPr/>
        </p:nvSpPr>
        <p:spPr>
          <a:xfrm>
            <a:off x="857160" y="3143160"/>
            <a:ext cx="7572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опрос непростой, потому что иногда школьники начинают манипулировать своей учебой, чтобы избежать помощи по дому. Легкая физическая работа может выступать в роли разгрузки, позволяющей сменить деятельность и отдохнуть, а может только усиливать общее утомление, поэтом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о помощи по дому нужно решать в индивидуальном порядке с учетом особенностей ребенка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682560" y="139680"/>
            <a:ext cx="7755120" cy="10000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214200" y="3227040"/>
            <a:ext cx="850104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определенный уровень тревоги, оптимальный для организации деятельности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чень высокий уровень волнения мешает учебной деятельности. Все силы уходят на то, чтобы справиться с волнением. Это особенно характерно для детей тревожных, склонных переживать даже без особого повода (например, когда родители сильно переживают, пьют валерьянку, их дети как бы заражаются этим напряжением и тревогой). 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3000240" y="1500120"/>
            <a:ext cx="585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настрой играет важную роль при подготовке и прохождении ГИА, т.к. период экзаменов для большинства выпускников является очень тревожным. 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785880" y="471564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Прямоугольник 2"/>
          <p:cNvSpPr/>
          <p:nvPr/>
        </p:nvSpPr>
        <p:spPr>
          <a:xfrm>
            <a:off x="500040" y="92880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эмоционально спокойной, ненапряженной атмосферы (для тревожных детей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успеха (для неуверенных детей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значимости экзамена: следует дать понять, что ничего страшного не произойдет, даже если результат будет не совсем таким, каким хотелось бы (особенно в том случае, если обучающийся очень ответственный и старается соответствовать ожиданиям взрослых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значимости экзамена (для гиперактивных детей, испытывающих недостаток произвольности и самоорганизации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ого, в какой помощи нуждается именно ваш ребенок (например, выслушать выученные им темы или помочь написать планы и конспекты)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285920" y="357120"/>
            <a:ext cx="68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ЗАДАЧИ РОДИТЕЛЕЙ: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ed"/>
            </a:gs>
            <a:gs pos="50000">
              <a:srgbClr val="fff7ab"/>
            </a:gs>
            <a:gs pos="100000">
              <a:srgbClr val="dbdbe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186920" y="1773360"/>
            <a:ext cx="7696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401760" y="328680"/>
            <a:ext cx="859608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9ff"/>
            </a:gs>
            <a:gs pos="100000">
              <a:srgbClr val="ffb9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4" descr=""/>
          <p:cNvPicPr/>
          <p:nvPr/>
        </p:nvPicPr>
        <p:blipFill>
          <a:blip r:embed="rId1"/>
          <a:stretch/>
        </p:blipFill>
        <p:spPr>
          <a:xfrm>
            <a:off x="281160" y="85680"/>
            <a:ext cx="8369280" cy="111456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6"/>
          <p:cNvSpPr/>
          <p:nvPr/>
        </p:nvSpPr>
        <p:spPr>
          <a:xfrm>
            <a:off x="357120" y="1285920"/>
            <a:ext cx="85010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ваются в полноте и прочности своих знани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ваются в собственных способностях: умении логически мыслить, анализировать, концентрировать и распределять внимание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страх перед экзаменом в силу личностных особенностей - тревожности, неуверенности в себе, астеничности (быстрой утомляемости) и т.д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тся незнакомой, неопределенной ситуации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повышенную ответственность перед родителями и школо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из этих причин может в той или иной степени влиять на состояние вашего ребенка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697960" cy="1150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560" y="1554120"/>
            <a:ext cx="85532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экзаменационную пору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новная задач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одителей – создать комфортн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ловия для подготовки обучающегося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н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шать ем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сихологическая поддержка, поощрение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альная помощь, спокойствие взрослы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могают школьнику успешно справиться с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бственным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лнение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281160"/>
            <a:ext cx="8712360" cy="1139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0" y="3429000"/>
            <a:ext cx="8501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держивать  обучающегося– значит верить в него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зрослые имеют немало возможностей, чтобы продемонстрировать обучающемуся свое удовлетворение от его достижений или  усилий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Прямоугольник 8"/>
          <p:cNvSpPr/>
          <p:nvPr/>
        </p:nvSpPr>
        <p:spPr>
          <a:xfrm>
            <a:off x="3214800" y="1285920"/>
            <a:ext cx="5429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сихологическая поддержка – это один из важнейших факторов, определяющих успешность выпускника в сдаче государственной (итоговой) аттестации.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55440" y="208080"/>
            <a:ext cx="8850600" cy="1030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285840" y="121428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уществуют слова, которые поддерживают детей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например: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ы сможешь это сделать», «Зная тебя, я уверен, что ты все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делаешь хорошо», «Ты знаешь это очень хорошо», «Все у тебя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лучится», «Не боги горшки обжигали» и т.д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сын или дочь сильно волнуются, лучше заранее рассказать о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можных вариантах пересдачи, вариантах развития событий в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лучае не самого лучшего исхода («Да, итоговый экзамен очень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ажен, но при неудачной сдаче ГИА жизнь не остановится», «Век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живи, век учись»)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держивать можно посредством прикосновений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брожелательного выражения лица, интонации голоса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также посредством совместных  усилий в подготовк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04920" y="1000080"/>
            <a:ext cx="82677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ходе подготовки к экзаменам родители нередко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пользуют тактику запугивания 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ало занимаешься – не сдашь», «Не стараешься – буду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лохие результаты», «Ты совсем не готов», «Это так сложно»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т.п.</a:t>
            </a:r>
            <a:r>
              <a:rPr b="0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акая тактика не повышает мотивацию, а созда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моциональные барьеры, которые школьник не мож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остоятельно преодолеть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568080" y="357120"/>
            <a:ext cx="81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ОШИБКИ, КОТОРЫЕ СЛЕДУЕТ ИЗБЕГАТЬ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4" descr=""/>
          <p:cNvPicPr/>
          <p:nvPr/>
        </p:nvPicPr>
        <p:blipFill>
          <a:blip r:embed="rId1"/>
          <a:stretch/>
        </p:blipFill>
        <p:spPr>
          <a:xfrm>
            <a:off x="433440" y="1133640"/>
            <a:ext cx="8448480" cy="5211720"/>
          </a:xfrm>
          <a:prstGeom prst="rect">
            <a:avLst/>
          </a:prstGeom>
          <a:ln w="0">
            <a:noFill/>
          </a:ln>
        </p:spPr>
      </p:pic>
      <p:pic>
        <p:nvPicPr>
          <p:cNvPr id="422" name="Title 1" descr=""/>
          <p:cNvPicPr/>
          <p:nvPr/>
        </p:nvPicPr>
        <p:blipFill>
          <a:blip r:embed="rId2"/>
          <a:stretch/>
        </p:blipFill>
        <p:spPr>
          <a:xfrm>
            <a:off x="324000" y="231840"/>
            <a:ext cx="85215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12760" y="1206360"/>
            <a:ext cx="8736120" cy="5230800"/>
          </a:xfrm>
          <a:prstGeom prst="rect">
            <a:avLst/>
          </a:prstGeom>
          <a:ln w="0">
            <a:noFill/>
          </a:ln>
        </p:spPr>
      </p:pic>
      <p:pic>
        <p:nvPicPr>
          <p:cNvPr id="424" name="Title 1" descr=""/>
          <p:cNvPicPr/>
          <p:nvPr/>
        </p:nvPicPr>
        <p:blipFill>
          <a:blip r:embed="rId2"/>
          <a:stretch/>
        </p:blipFill>
        <p:spPr>
          <a:xfrm>
            <a:off x="324000" y="231840"/>
            <a:ext cx="85215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05:58:35Z</dcterms:created>
  <dc:creator>Александра Веснина</dc:creator>
  <dc:description/>
  <dc:language>en-US</dc:language>
  <cp:lastModifiedBy>User1</cp:lastModifiedBy>
  <dcterms:modified xsi:type="dcterms:W3CDTF">2019-03-11T02:34:19Z</dcterms:modified>
  <cp:revision>276</cp:revision>
  <dc:subject/>
  <dc:title>Психологическая подготовка учащихся к экзаменам (ЭГЭ)</dc:title>
</cp:coreProperties>
</file>