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8EBB-0C54-4D12-B4B4-90883EF17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990F-FFB4-43DE-A9C7-AD1A1F48C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18F-C7D5-4447-8B3C-32175F12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6A2-851A-4248-AAD2-DFB86B2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17534-EE57-45C2-A2BF-CAE8057F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2F68A-7BA8-4909-8DFB-8FB0BDA6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9CDF7-5D85-4CBD-8FB8-AB4466EA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4CD74-D2B7-445F-A389-1B791AC5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5F4A5-8D37-4DC2-8D55-3C5520F5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1D5BF-11E7-4674-913E-021A7E5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FD976-4974-4035-AA07-FB9FA916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1822F-7E53-456F-B2C7-C6CCD351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68AC5-E364-48CC-902C-5DF65FD2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830-3676-43F7-A5BC-3649A0AE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2DB-5079-44B0-B097-60A1944A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E62E-9F2B-442C-A2C9-9DB9D160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42DC-EFFC-41A8-B4C9-866927F6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7CA5-02CE-45D9-9481-67FB8BB5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F2D7-4466-4204-B9D3-5044D9F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EFC0-A285-43B9-BD8E-2C09A25E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8734-84FE-4BE4-9FF4-F5975A6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DD20-91F5-4DB2-BC70-8DF18DBB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361-FEA7-49E2-AED4-37D3D7D8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C86D-DA77-4795-B100-839DEB0B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CB0D-4E4F-440A-A33D-C9F78F6F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2F3E-3749-4231-8D8D-CCE34EB4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D8BF-11D4-4864-B0C7-842D9ACB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FE97-709B-45F1-95C6-388D6CAF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622C-161C-4562-907F-92950E0F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0598-D296-47EA-8B8A-4FE4AC07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7CA1-73C5-4198-8923-DAB7EF0D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46D9-61E9-4D3B-AF94-974F275F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BCBB-C733-457B-84E7-6AFA464D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4E0-222F-495F-9032-BC3A9A9A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52E3-85C5-4E10-BD0A-F2ABC66F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4657-80AD-46C3-A885-62A4529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5257-41C3-4DFF-B8D3-30618613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DFDF9-D038-44BF-8175-2C2B35C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A07E4-277B-4AFC-A052-4DDF7353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5698-C76A-401C-895D-90E45AD4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F54E-159B-48CE-82E7-9CE21191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4D0B-D35F-4AA1-B326-24564B71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888E-73D8-4171-AC5B-1C86C93C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CBE8-FF1D-479E-9A07-81B6941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8B4-4C34-458F-90A6-F4BCB5E0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FC39-2FEF-4135-96C2-587DF352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B0E95-410A-4860-BEE4-3EE824CD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F74E3-A556-4AC1-AE90-F2471E03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9DD5-B277-4F3F-8D6B-A730F870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0ADD2-ADFA-46F9-971C-82791CD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B8731-A79C-4187-A8AE-E4A938A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428E-3F32-48ED-B337-BC6E8009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B3752-8778-4C00-B8B0-8273FEAC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B08FB-E201-49B8-8605-EE377C1A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AD87C-5713-4068-BB05-03EBFD48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E6A-B02E-4120-8BE5-F54FF754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ECC8F-08F1-42AD-BECD-AF5DDB78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EF72-A53B-4E97-9B48-84DD5C6B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EA0D8-EEAA-4DE2-BBA0-CCCF8D92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7F1C-FCCE-43FA-88E6-3D97F8F1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12DD5-C4FD-4D47-9611-B2685E5D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CEDA4-BAB4-4AD5-9DEE-EC3B9375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A824-5318-4E18-93AF-3E47D2FF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4245-C310-4E95-98E5-2ED4310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D92F-F6B7-4B3E-909B-8290F506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8DC1-2B24-4837-AB24-C81E0914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982-D739-42E7-A355-296E8BA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B5B4F-EC61-47D6-A4BE-E3280C7A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5CCA8-4B83-46C8-9362-41148485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CF71-31AF-4696-A054-66D45348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9533-1B53-4268-9610-30FE6E11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C842-1999-4313-9477-6893DF3A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E3064-39CD-4F6A-978B-66B455E6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1570B-0559-4186-97C0-E5BD8F28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BD4E8-7960-436E-BBC8-30F39C73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31824-A15C-43FC-9660-D500D6D8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18708-65C4-4EA5-8873-424E2EC5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56D-C460-43F6-995D-FD8A896C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4E9B-ADB4-4774-A1C8-ECC0E3C5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EED7F-CC7A-4FA6-A511-E7068251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22B7D-8D6E-462C-981F-A61322C8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7EAA-D92E-42EF-8471-DCF501C5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6736-02A6-4F81-8AC2-BE980297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786F7-170B-4362-B9CA-8B0AD771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1ECB-7508-4377-AADA-CA9652D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5B73D-57F1-4BDF-B353-23D7D19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50197-2DFC-412F-A810-4B4477A7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7505-E5B8-4903-8979-4D94CAA4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3C9-A1B3-477D-A373-397A7168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16DD4-F652-436C-9F3E-A4C1901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AC1D8-CEDE-4233-968F-BEEA64C7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2DBBC-D88D-45D4-BA0C-426352B5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4C75-0564-4C95-B2A4-6DD4ADBB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A5590-0665-40A4-BF82-4BDAD796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9E8E-B0C8-45ED-B61C-5A639297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DC6AF-25F5-40A4-BACC-CD35B08E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06584-20A2-4E02-A110-C2822F69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4327E-670B-43FE-864B-B2F4F60F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4099B-F04D-4860-AEFB-9376E6D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013-B41B-421D-8AF2-EDDA938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6E1C4-221B-4234-A818-4FB5139C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B67DF-0ED4-4ABE-9D0F-AB9AB9A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4481-2D5C-4F54-A39E-E9748ECD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3A61D-85E7-4D16-85A6-46BBDED3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91370-53B0-47F0-85F4-3B4B04AA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D0C3C-0986-4ABC-AFC1-1D1426F3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9E00B-E7B7-4E34-B9A9-A18CAAD8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D9C12-CB6C-4B25-B5CE-3CAA3CD1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58992-87A0-4383-8A28-619A574C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08ABB-1B06-4324-87D5-0D6CCE8B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2A45-04E4-4867-8E27-EDC230F16E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30E4-DACF-4AE7-AEA0-0A3DD1E536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609B-138A-4F2F-8768-12E0896203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8829-1F70-4EBA-A5D8-1A93373CF6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D876-EBBF-4184-B608-0BEA3814301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79D-44F0-4756-B9D4-9BC955AE13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FA7D-ACE1-4933-B60A-7FF5210696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EFD9-C27F-433B-8D91-DF1540CFEF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5F0E-A92D-445A-A185-9E0B59D3BB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658800" y="878040"/>
            <a:ext cx="8028000" cy="2670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28760" y="3428640"/>
            <a:ext cx="84772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Рекомендации для родителей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Franklin Gothic Book"/>
              </a:rPr>
              <a:t>Подготовила педагог-психолог: Толоева Р.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682560" y="-66600"/>
            <a:ext cx="8040600" cy="14875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642960" y="307188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можете оказать им помощь в распределении учебного материала по дням, - в определении еженедельной нагрузки, - в составлении план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помогает справиться с тревогой: школьник начинает понимать, что успеть выучить весь материал вполне реально, у него достаточно времени для этого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Прямоугольник 9"/>
          <p:cNvSpPr/>
          <p:nvPr/>
        </p:nvSpPr>
        <p:spPr>
          <a:xfrm>
            <a:off x="2857680" y="1285920"/>
            <a:ext cx="56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и часто волнуются, т.к. им кажется, что объем материала очень большой, и они не успеют все выучить к экзаменам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7967880" cy="10303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3"/>
          <p:cNvSpPr/>
          <p:nvPr/>
        </p:nvSpPr>
        <p:spPr>
          <a:xfrm>
            <a:off x="600120" y="21337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школьник имел возможность отдохнуть, сменить деятельность. Но, например, компьютерные игры только увеличивают усталость. Очень важно помоч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такую форму досуга, которая бы школьника не переутомляла: прогулки, общение с одним-двумя друзьями и т.д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ня также необходимо дел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е перерывы на 10-15 минут каждые 45-60 мин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необходимо для сохранения высокой работоспособности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8107560" cy="106668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857160" y="1428840"/>
            <a:ext cx="771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ормального самочувствия и хорошей работоспособности необходимо, чтобы ребенок хорошо высыпался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решайте детям учить целыми днями  или ночами, так как это ведет к раздражительности, быстрой утомляемости, беспокойств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оянии утомления работоспособность снижается, а продуктивность такой учебы невелика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Прямоугольник 6"/>
          <p:cNvSpPr/>
          <p:nvPr/>
        </p:nvSpPr>
        <p:spPr>
          <a:xfrm>
            <a:off x="857160" y="4929120"/>
            <a:ext cx="7786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ите за тем, чтобы накануне экзамена ваш ребенок обязательно отдохнул и как следует выспался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682560" y="92160"/>
            <a:ext cx="7607520" cy="113976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4"/>
          <p:cNvSpPr/>
          <p:nvPr/>
        </p:nvSpPr>
        <p:spPr>
          <a:xfrm>
            <a:off x="857160" y="1916280"/>
            <a:ext cx="77868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, а во время экзаменов особенно, заботьтесь об организации полноценного питания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продукты, как овощи, фрукты, рыба, творог, орехи, шоколад и т.д. стимулируют работу головного мозга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682560" y="49320"/>
            <a:ext cx="7894800" cy="111420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4"/>
          <p:cNvSpPr/>
          <p:nvPr/>
        </p:nvSpPr>
        <p:spPr>
          <a:xfrm>
            <a:off x="857160" y="3143160"/>
            <a:ext cx="7572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опрос непростой, потому что иногда школьники начинают манипулировать своей учебой, чтобы избежать помощи по дому. Легкая физическая работа может выступать в роли разгрузки, позволяющей сменить деятельность и отдохнуть, а может только усиливать общее утомление, поэтом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о помощи по дому нужно решать в индивидуальном порядке с учетом особенностей ребенк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682560" y="139680"/>
            <a:ext cx="7755120" cy="10000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214200" y="3227040"/>
            <a:ext cx="850104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определенный уровень тревоги, оптимальный для организации деятельности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чень высокий уровень волнения мешает учебной деятельности. Все силы уходят на то, чтобы справиться с волнением. Это особенно характерно для детей тревожных, склонных переживать даже без особого повода (например, когда родители сильно переживают, пьют валерьянку, их дети как бы заражаются этим напряжением и тревогой). 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3000240" y="1500120"/>
            <a:ext cx="585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настрой играет важную роль при подготовке и прохождении ГИА, т.к. период экзаменов для большинства выпускников является очень тревожным. 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785880" y="47156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500040" y="92880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моционально спокойной, ненапряженной атмосферы (для тревожных детей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 (для неуверенных детей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значимости экзамена: следует дать понять, что ничего страшного не произойдет, даже если результат будет не совсем таким, каким хотелось бы (особенно в том случае, если обучающийся очень ответственный и старается соответствовать ожиданиям взрослых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значимости экзамена (для гиперактивных детей, испытывающих недостаток произвольности и самоорганизации);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ого, в какой помощи нуждается именно ваш ребенок (например, выслушать выученные им темы или помочь написать планы и конспекты)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285920" y="357120"/>
            <a:ext cx="68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ЗАДАЧИ РОДИТЕЛЕЙ: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ed"/>
            </a:gs>
            <a:gs pos="50000">
              <a:srgbClr val="fff7ab"/>
            </a:gs>
            <a:gs pos="100000">
              <a:srgbClr val="dbdbe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186920" y="1773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401760" y="328680"/>
            <a:ext cx="859608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9ff"/>
            </a:gs>
            <a:gs pos="100000">
              <a:srgbClr val="ffb9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4" descr=""/>
          <p:cNvPicPr/>
          <p:nvPr/>
        </p:nvPicPr>
        <p:blipFill>
          <a:blip r:embed="rId1"/>
          <a:stretch/>
        </p:blipFill>
        <p:spPr>
          <a:xfrm>
            <a:off x="281160" y="85680"/>
            <a:ext cx="8369280" cy="111456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6"/>
          <p:cNvSpPr/>
          <p:nvPr/>
        </p:nvSpPr>
        <p:spPr>
          <a:xfrm>
            <a:off x="357120" y="1285920"/>
            <a:ext cx="85010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тся в полноте и прочности своих знани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тся в собственных способностях: умении логически мыслить, анализировать, концентрировать и распределять внимание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страх перед экзаменом в силу личностных особенностей - тревожности, неуверенности в себе, астеничности (быстрой утомляемости) и т.д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тся незнакомой, неопределенной ситуации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т повышенную ответственность перед родителями и школо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из этих причин может в той или иной степени влиять на состояние вашего ребенка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697960" cy="1150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54120"/>
            <a:ext cx="85532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экзаменационную пору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ная задач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одителей – создать комфортны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ловия для подготовки обучающегося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шать ем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ая поддержка, поощрение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ая помощь, спокойствие взрослы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могают школьнику успешно справиться с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бственным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лнение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281160"/>
            <a:ext cx="8712360" cy="1139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0" y="3429000"/>
            <a:ext cx="8501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ть  обучающегося– значит верить в него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зрослые имеют немало возможностей, чтобы продемонстрировать обучающемуся свое удовлетворение от его достижений или  усилий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Прямоугольник 8"/>
          <p:cNvSpPr/>
          <p:nvPr/>
        </p:nvSpPr>
        <p:spPr>
          <a:xfrm>
            <a:off x="3214800" y="1285920"/>
            <a:ext cx="5429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сихологическая поддержка – это один из важнейших факторов, определяющих успешность выпускника в сдаче государственной (итоговой) аттестации.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850600" cy="1030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85840" y="121428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уществуют слова, которые поддерживают детей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например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ы сможешь это сделать», «Зная тебя, я уверен, что ты все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аешь хорошо», «Ты знаешь это очень хорошо», «Все у тебя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учится», «Не боги горшки обжигали» и т.д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сын или дочь сильно волнуются, лучше заранее рассказать о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можных вариантах пересдачи, вариантах развития событий в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лучае не самого лучшего исхода («Да, итоговый экзамен очень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ажен, но при неудачной сдаче ГИА жизнь не остановится», «Век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живи, век учись»)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держивать можно посредством прикосновений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брожелательного выражения лица, интонации голоса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также посредством совместных  усилий в подготовк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920" y="1000080"/>
            <a:ext cx="82677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ходе подготовки к экзаменам родители нередк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уют тактику запугивания 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ало занимаешься – не сдашь», «Не стараешься – буду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лохие результаты», «Ты совсем не готов», «Это так сложно»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т.п.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акая тактика не повышает мотивацию, а созда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моциональные барьеры, которые школьник не мож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остоятельно преодолеть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568080" y="357120"/>
            <a:ext cx="81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ОШИБКИ, КОТОРЫЕ СЛЕДУЕТ ИЗБЕГАТЬ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4" descr=""/>
          <p:cNvPicPr/>
          <p:nvPr/>
        </p:nvPicPr>
        <p:blipFill>
          <a:blip r:embed="rId1"/>
          <a:stretch/>
        </p:blipFill>
        <p:spPr>
          <a:xfrm>
            <a:off x="433440" y="1133640"/>
            <a:ext cx="8448480" cy="5211720"/>
          </a:xfrm>
          <a:prstGeom prst="rect">
            <a:avLst/>
          </a:prstGeom>
          <a:ln w="0">
            <a:noFill/>
          </a:ln>
        </p:spPr>
      </p:pic>
      <p:pic>
        <p:nvPicPr>
          <p:cNvPr id="422" name="Title 1" descr=""/>
          <p:cNvPicPr/>
          <p:nvPr/>
        </p:nvPicPr>
        <p:blipFill>
          <a:blip r:embed="rId2"/>
          <a:stretch/>
        </p:blipFill>
        <p:spPr>
          <a:xfrm>
            <a:off x="324000" y="231840"/>
            <a:ext cx="85215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12760" y="1206360"/>
            <a:ext cx="8736120" cy="5230800"/>
          </a:xfrm>
          <a:prstGeom prst="rect">
            <a:avLst/>
          </a:prstGeom>
          <a:ln w="0">
            <a:noFill/>
          </a:ln>
        </p:spPr>
      </p:pic>
      <p:pic>
        <p:nvPicPr>
          <p:cNvPr id="424" name="Title 1" descr=""/>
          <p:cNvPicPr/>
          <p:nvPr/>
        </p:nvPicPr>
        <p:blipFill>
          <a:blip r:embed="rId2"/>
          <a:stretch/>
        </p:blipFill>
        <p:spPr>
          <a:xfrm>
            <a:off x="324000" y="231840"/>
            <a:ext cx="85215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05:58:35Z</dcterms:created>
  <dc:creator>Александра Веснина</dc:creator>
  <dc:description/>
  <dc:language>en-US</dc:language>
  <cp:lastModifiedBy>User1</cp:lastModifiedBy>
  <dcterms:modified xsi:type="dcterms:W3CDTF">2019-03-11T02:34:19Z</dcterms:modified>
  <cp:revision>276</cp:revision>
  <dc:subject/>
  <dc:title>Психологическая подготовка учащихся к экзаменам (ЭГЭ)</dc:title>
</cp:coreProperties>
</file>