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33D3-52CE-4BDD-8D99-4F1E21EC66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CB59-C31F-48B9-82BE-5B9E987E8A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67B5-4A9F-4A4C-A3D3-00FDB1DD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798-1538-4C27-8A7A-B4BBFE8A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56DE1-4DFD-48DB-B093-801D1E00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691A5-B172-4228-961E-3E9DA173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28A44-D285-42DE-80CC-E4787DC9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03CA5-2EC5-4B57-9B99-68AAB139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AC7F4-DE15-4A57-98B1-7E9B6093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F3F26-3DEB-4970-B883-8DA20530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C8E28-99F2-48E3-B6A5-694B9CDE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9E340-5121-46EE-8EF5-DE940377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DD774-CB37-419E-8FF4-76CA3716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221-F290-4957-A366-BBB60898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3A9-5376-46A3-9B35-CD44F605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FAFA-C89D-4546-9048-39CC3A20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AC2B-464E-4916-A55C-D52123C0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F6F1-C25A-42F8-87A6-8F58D020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A2B0-F5C4-4ACA-B615-4273305E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1108-45CE-4142-9A0D-45F7F422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9BEF-2648-41FF-808C-CEF5318B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0552-4EF8-4C03-9FA8-B6E84A88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7DF-55EC-420E-8F4B-5D2E8E49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882C-650F-48C4-9C34-D02E450C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6E47-BB6F-42AB-B9A0-317C5EDD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23C8-593C-4C88-9F88-0FBAA6D9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06EC-88EF-4CD7-B005-BDB67BF8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6929-AAAA-4BFE-B295-0EF2C5A2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DE672-725C-4BF9-A869-70BFCBCB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16FFE-0529-4F31-98BA-715E2EBE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31611-E5AB-4433-AC8B-1797A065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5F931-1815-4D64-81DF-78EE3912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A6407-8CFF-4B12-BBE1-7752FEAC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ABD-9A0B-47FF-9384-C6C90AC2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5E749-BF95-4BEE-AA20-9D5D7F85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7E6E-BFB1-4095-BF6F-44C2C520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5842-4928-43FC-8A62-B295E164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50DCC-BB4D-4A73-95C4-17D8D5C3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7E56B-3D78-4EB2-9F36-B515A128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B2D2C-D076-48C2-AF6B-8F2BD1D6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5AD6-0034-4FB1-A8A0-7EEE43E5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97F20-965B-475E-8A63-9C11872F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9BAED-BA64-4E65-B23E-CE9EEF7F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29D17-4600-4A7A-9C64-DB2DE0AF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081-36EE-45C7-B5B2-8118BA4A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63690-D313-4423-A023-3141D86B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07E18-40C5-4614-9AB1-B0C06302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8E3E3-9F33-4FFB-A50A-EA0EE982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2A187-1143-4111-A42C-48888C48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CAB98-7F96-40A4-A387-137746D4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F9ABE-A6AC-4130-8FFB-0354B48E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705BA-B177-4A9C-A4F3-81E04D8B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BC4ED-9D90-4C4C-8D70-4D3EFC03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974B5-DC50-430F-8042-EF622AA5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14F39-CA83-45EE-AC84-1BB3AA30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DF5-11ED-42ED-B31D-46B7243C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B04B5-05EC-469F-89E2-8DA19581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0BC33-CD02-42B5-B76A-C1905EDF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20593-0F27-4162-8F86-B638517E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A4A12-7DEC-498B-8B58-67DC1E30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CDBE0-7194-4C29-A360-F0DA7BDF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FABF4-EDF6-4E12-B108-0EFEA912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DF071-9905-499D-84DC-98B8CA2D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437E1-4BE4-44DC-970B-8FF8CD00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A1A49-4031-4846-932A-0C358966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9B96B-3804-40AE-93D0-25DABE3A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B2C-A801-499B-A31D-D6C65D16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6995C-5216-46DE-9AC3-2E182C82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F05F7-B107-434E-BEAD-4E5E594F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37470-1787-4AF0-A47F-9C43D56D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43F9E-584C-4612-BD62-F3C51CA7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CC396-ED76-478C-A356-E9334845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76893-A9B0-401B-B2F3-FC64274B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649A0-1830-4EF5-929D-1B1C3BCA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74DF1-23C1-4647-BCAD-E02CDCF8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5BD4C-5723-43C7-91AA-912087E1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08BA4-1DB2-4FAE-BE52-6B21FA11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53A-A3C2-4706-B0C9-B5B74697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DE47C-3C40-49B6-90F0-F511AFE6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C8C0E-12D0-4CCC-9FB6-CD1FB424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53785-FE60-4619-9AE1-6912D57F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066B6-2A99-465C-9DBD-1FFECFDA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4D405-B1CA-4FE0-9A85-87D427A3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C9F86-BF6C-4497-B14E-783B5506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7E713-3BF7-4A9D-9660-C21DE018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56152-5743-4638-BB1B-0E528394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506C6-183E-4488-9283-9155EB35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E5487-7EF5-42DC-A28F-E504CC6B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7E8-DAA5-41CF-B691-3EE9E299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B298D-6F9F-4AF2-B633-B85EEE3E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BCD29-0137-4AF4-9FB0-9FD1174C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AB5DA-FD65-4BAA-A608-8155D710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BB80D-CF54-4E0C-B759-5C8A8C9D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55611-2955-4BE0-860D-6D4746F2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A2351-D897-435B-850B-76F3C912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B8171-574B-4105-98B5-7DB65AB8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A3D4B-C3FE-40E9-857A-3A69C5FC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63D0C-F021-4B85-A168-071950D1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91791-4FB1-4CA2-88D9-14CDBFE8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5BA-DDF1-4C03-A5EC-DE245AB8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4FC32-2E11-4461-A14E-170A029F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B967E-D124-4F34-88AB-2E3DBDE7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F7337-BB56-45A6-8A66-BAF6BB19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063C4-97A1-4A11-925A-A9561308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A11EC-B359-4CCF-8469-E9F224AB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0778E-8758-4558-869B-2F7C9B33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F7771-265A-47A8-84B5-92771C4A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91592-CD32-4212-A59B-C0D855E9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DF1E1-BB51-4356-AD65-F45AD935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13934-96A4-454E-87D9-7308E9C8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4DE9-4D87-4952-A1A0-182DFA6ED0B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9F95-740D-4FF7-86D4-ECF94839E2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BD98-A2FE-47F6-AAE5-089685D8ACA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CA1E-0E3A-4F01-9324-170CA4EC08F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09FF-D303-4B5C-9314-F5EF50AD1F4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E364-6FB2-499D-8C71-3619001B627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5693-6F1E-4A0B-950E-690A3F74E6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1D46-1A32-4989-9217-B75F5D0BF2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B5FC-AE89-4736-8781-7BCEC1B0590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658800" y="878040"/>
            <a:ext cx="8028000" cy="2670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28760" y="3428640"/>
            <a:ext cx="847728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3329"/>
                </a:solidFill>
                <a:latin typeface="Franklin Gothic Book"/>
              </a:rPr>
              <a:t>Рекомендации для родителей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3329"/>
                </a:solidFill>
                <a:latin typeface="Franklin Gothic Book"/>
              </a:rPr>
              <a:t>Подготовила педагог-психолог: Толоева Р.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682560" y="-66600"/>
            <a:ext cx="8040600" cy="148752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3"/>
          <p:cNvSpPr/>
          <p:nvPr/>
        </p:nvSpPr>
        <p:spPr>
          <a:xfrm>
            <a:off x="642960" y="307188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можете оказать им помощь в распределении учебного материала по дням, - в определении еженедельной нагрузки, - в составлении план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помогает справиться с тревогой: школьник начинает понимать, что успеть выучить весь материал вполне реально, у него достаточно времени для этого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Прямоугольник 9"/>
          <p:cNvSpPr/>
          <p:nvPr/>
        </p:nvSpPr>
        <p:spPr>
          <a:xfrm>
            <a:off x="2857680" y="1285920"/>
            <a:ext cx="564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и часто волнуются, т.к. им кажется, что объем материала очень большой, и они не успеют все выучить к экзаменам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682560" y="146160"/>
            <a:ext cx="7967880" cy="103032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3"/>
          <p:cNvSpPr/>
          <p:nvPr/>
        </p:nvSpPr>
        <p:spPr>
          <a:xfrm>
            <a:off x="600120" y="213372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чтобы школьник имел возможность отдохнуть, сменить деятельность. Но, например, компьютерные игры только увеличивают усталость. Очень важно помоч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такую форму досуга, которая бы школьника не переутомляла: прогулки, общение с одним-двумя друзьями и т.д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дня также необходимо дела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ие перерывы на 10-15 минут каждые 45-60 мину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необходимо для сохранения высокой работоспособности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682560" y="146160"/>
            <a:ext cx="8107560" cy="106668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5"/>
          <p:cNvSpPr/>
          <p:nvPr/>
        </p:nvSpPr>
        <p:spPr>
          <a:xfrm>
            <a:off x="857160" y="1428840"/>
            <a:ext cx="771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ормального самочувствия и хорошей работоспособности необходимо, чтобы ребенок хорошо высыпался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зрешайте детям учить целыми днями  или ночами, так как это ведет к раздражительности, быстрой утомляемости, беспокойству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оянии утомления работоспособность снижается, а продуктивность такой учебы невелика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Прямоугольник 6"/>
          <p:cNvSpPr/>
          <p:nvPr/>
        </p:nvSpPr>
        <p:spPr>
          <a:xfrm>
            <a:off x="857160" y="4929120"/>
            <a:ext cx="7786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дите за тем, чтобы накануне экзамена ваш ребенок обязательно отдохнул и как следует выспался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682560" y="92160"/>
            <a:ext cx="7607520" cy="1139760"/>
          </a:xfrm>
          <a:prstGeom prst="rect">
            <a:avLst/>
          </a:prstGeom>
          <a:ln w="0">
            <a:noFill/>
          </a:ln>
        </p:spPr>
      </p:pic>
      <p:sp>
        <p:nvSpPr>
          <p:cNvPr id="434" name="Прямоугольник 4"/>
          <p:cNvSpPr/>
          <p:nvPr/>
        </p:nvSpPr>
        <p:spPr>
          <a:xfrm>
            <a:off x="857160" y="1916280"/>
            <a:ext cx="778680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, а во время экзаменов особенно, заботьтесь об организации полноценного питания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продукты, как овощи, фрукты, рыба, творог, орехи, шоколад и т.д. стимулируют работу головного мозга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682560" y="49320"/>
            <a:ext cx="7894800" cy="111420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4"/>
          <p:cNvSpPr/>
          <p:nvPr/>
        </p:nvSpPr>
        <p:spPr>
          <a:xfrm>
            <a:off x="857160" y="3143160"/>
            <a:ext cx="7572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опрос непростой, потому что иногда школьники начинают манипулировать своей учебой, чтобы избежать помощи по дому. Легкая физическая работа может выступать в роли разгрузки, позволяющей сменить деятельность и отдохнуть, а может только усиливать общее утомление, поэтом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о помощи по дому нужно решать в индивидуальном порядке с учетом особенностей ребенка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682560" y="139680"/>
            <a:ext cx="7755120" cy="10000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214200" y="3227040"/>
            <a:ext cx="8501040" cy="27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определенный уровень тревоги, оптимальный для организации деятельности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чень высокий уровень волнения мешает учебной деятельности. Все силы уходят на то, чтобы справиться с волнением. Это особенно характерно для детей тревожных, склонных переживать даже без особого повода (например, когда родители сильно переживают, пьют валерьянку, их дети как бы заражаются этим напряжением и тревогой). 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3000240" y="1500120"/>
            <a:ext cx="585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настрой играет важную роль при подготовке и прохождении ГИА, т.к. период экзаменов для большинства выпускников является очень тревожным. 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785880" y="471564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Прямоугольник 2"/>
          <p:cNvSpPr/>
          <p:nvPr/>
        </p:nvSpPr>
        <p:spPr>
          <a:xfrm>
            <a:off x="500040" y="92880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эмоционально спокойной, ненапряженной атмосферы (для тревожных детей)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туации успеха (для неуверенных детей)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значимости экзамена: следует дать понять, что ничего страшного не произойдет, даже если результат будет не совсем таким, каким хотелось бы (особенно в том случае, если обучающийся очень ответственный и старается соответствовать ожиданиям взрослых)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значимости экзамена (для гиперактивных детей, испытывающих недостаток произвольности и самоорганизации)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ого, в какой помощи нуждается именно ваш ребенок (например, выслушать выученные им темы или помочь написать планы и конспекты)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Прямоугольник 3"/>
          <p:cNvSpPr/>
          <p:nvPr/>
        </p:nvSpPr>
        <p:spPr>
          <a:xfrm>
            <a:off x="1285920" y="357120"/>
            <a:ext cx="68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ЗАДАЧИ РОДИТЕЛЕЙ: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bed"/>
            </a:gs>
            <a:gs pos="50000">
              <a:srgbClr val="fff7ab"/>
            </a:gs>
            <a:gs pos="100000">
              <a:srgbClr val="dbdbe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186920" y="1773360"/>
            <a:ext cx="7696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Заголовок 3" descr=""/>
          <p:cNvPicPr/>
          <p:nvPr/>
        </p:nvPicPr>
        <p:blipFill>
          <a:blip r:embed="rId1"/>
          <a:stretch/>
        </p:blipFill>
        <p:spPr>
          <a:xfrm>
            <a:off x="401760" y="328680"/>
            <a:ext cx="859608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9ff"/>
            </a:gs>
            <a:gs pos="100000">
              <a:srgbClr val="ffb9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4" descr=""/>
          <p:cNvPicPr/>
          <p:nvPr/>
        </p:nvPicPr>
        <p:blipFill>
          <a:blip r:embed="rId1"/>
          <a:stretch/>
        </p:blipFill>
        <p:spPr>
          <a:xfrm>
            <a:off x="281160" y="85680"/>
            <a:ext cx="8369280" cy="111456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6"/>
          <p:cNvSpPr/>
          <p:nvPr/>
        </p:nvSpPr>
        <p:spPr>
          <a:xfrm>
            <a:off x="357120" y="1285920"/>
            <a:ext cx="85010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еваются в полноте и прочности своих знаний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еваются в собственных способностях: умении логически мыслить, анализировать, концентрировать и распределять внимание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ют страх перед экзаменом в силу личностных особенностей - тревожности, неуверенности в себе, астеничности (быстрой утомляемости) и т.д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ятся незнакомой, неопределенной ситуации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ют повышенную ответственность перед родителями и школой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из этих причин может в той или иной степени влиять на состояние вашего ребенка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697960" cy="1150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560" y="1554120"/>
            <a:ext cx="85532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экзаменационную пору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сновная задач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одителей – создать комфортны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ловия для подготовки обучающегося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н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шать ему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сихологическая поддержка, поощрение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альная помощь, спокойствие взрослы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могают школьнику успешно справиться с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бственным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лнение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281160"/>
            <a:ext cx="8712360" cy="1139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0" y="3429000"/>
            <a:ext cx="8501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держивать  обучающегося– значит верить в него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зрослые имеют немало возможностей, чтобы продемонстрировать обучающемуся свое удовлетворение от его достижений или  усилий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Прямоугольник 8"/>
          <p:cNvSpPr/>
          <p:nvPr/>
        </p:nvSpPr>
        <p:spPr>
          <a:xfrm>
            <a:off x="3214800" y="1285920"/>
            <a:ext cx="54291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сихологическая поддержка – это один из важнейших факторов, определяющих успешность выпускника в сдаче государственной (итоговой) аттестации. 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55440" y="208080"/>
            <a:ext cx="8850600" cy="1030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285840" y="1214280"/>
            <a:ext cx="8572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уществуют слова, которые поддерживают детей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, например: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Ты сможешь это сделать», «Зная тебя, я уверен, что ты все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делаешь хорошо», «Ты знаешь это очень хорошо», «Все у тебя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лучится», «Не боги горшки обжигали» и т.д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ли сын или дочь сильно волнуются, лучше заранее рассказать о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зможных вариантах пересдачи, вариантах развития событий в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лучае не самого лучшего исхода («Да, итоговый экзамен очень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ажен, но при неудачной сдаче ГИА жизнь не остановится», «Век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живи, век учись»)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держивать можно посредством прикосновений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брожелательного выражения лица, интонации голоса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также посредством совместных  усилий в подготовке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04920" y="1000080"/>
            <a:ext cx="82677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ходе подготовки к экзаменам родители нередко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пользуют тактику запугивания 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Мало занимаешься – не сдашь», «Не стараешься – будут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лохие результаты», «Ты совсем не готов», «Это так сложно»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т.п.</a:t>
            </a:r>
            <a:r>
              <a:rPr b="0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акая тактика не повышает мотивацию, а созда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моциональные барьеры, которые школьник не мож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остоятельно преодолеть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568080" y="357120"/>
            <a:ext cx="81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ОШИБКИ, КОТОРЫЕ СЛЕДУЕТ ИЗБЕГАТЬ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4" descr=""/>
          <p:cNvPicPr/>
          <p:nvPr/>
        </p:nvPicPr>
        <p:blipFill>
          <a:blip r:embed="rId1"/>
          <a:stretch/>
        </p:blipFill>
        <p:spPr>
          <a:xfrm>
            <a:off x="433440" y="1133640"/>
            <a:ext cx="8448480" cy="5211720"/>
          </a:xfrm>
          <a:prstGeom prst="rect">
            <a:avLst/>
          </a:prstGeom>
          <a:ln w="0">
            <a:noFill/>
          </a:ln>
        </p:spPr>
      </p:pic>
      <p:pic>
        <p:nvPicPr>
          <p:cNvPr id="422" name="Title 1" descr=""/>
          <p:cNvPicPr/>
          <p:nvPr/>
        </p:nvPicPr>
        <p:blipFill>
          <a:blip r:embed="rId2"/>
          <a:stretch/>
        </p:blipFill>
        <p:spPr>
          <a:xfrm>
            <a:off x="324000" y="231840"/>
            <a:ext cx="85215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12760" y="1206360"/>
            <a:ext cx="8736120" cy="5230800"/>
          </a:xfrm>
          <a:prstGeom prst="rect">
            <a:avLst/>
          </a:prstGeom>
          <a:ln w="0">
            <a:noFill/>
          </a:ln>
        </p:spPr>
      </p:pic>
      <p:pic>
        <p:nvPicPr>
          <p:cNvPr id="424" name="Title 1" descr=""/>
          <p:cNvPicPr/>
          <p:nvPr/>
        </p:nvPicPr>
        <p:blipFill>
          <a:blip r:embed="rId2"/>
          <a:stretch/>
        </p:blipFill>
        <p:spPr>
          <a:xfrm>
            <a:off x="324000" y="231840"/>
            <a:ext cx="85215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05:58:35Z</dcterms:created>
  <dc:creator>Александра Веснина</dc:creator>
  <dc:description/>
  <dc:language>en-US</dc:language>
  <cp:lastModifiedBy>User1</cp:lastModifiedBy>
  <dcterms:modified xsi:type="dcterms:W3CDTF">2019-03-11T02:34:19Z</dcterms:modified>
  <cp:revision>276</cp:revision>
  <dc:subject/>
  <dc:title>Психологическая подготовка учащихся к экзаменам (ЭГЭ)</dc:title>
</cp:coreProperties>
</file>