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4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D00E-EA30-4458-88E2-01076362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4F73-7900-4788-B3BC-9D91A45E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826-8ED4-483B-96F5-F3D4DF1C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E89-CDD7-4C74-B18D-529BFF49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C860-0D6A-4B63-A83D-F0A06FBD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7949-AC80-46EE-A956-47B154D9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5BEB-BBB7-4EFA-8EC9-9CAA9798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5C2C-D0F7-419A-980D-FBAAFD8F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E2E9-3A0C-44D5-8126-72080A71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2EB9-E6C3-45E3-8EE2-0AA44336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F495-72D6-47E2-8359-E195DE5A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5DFC-5117-4F50-994B-49016728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1041-9719-4ADB-A783-38E3FD9F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9E34-5C74-41D9-845E-CB4C4DF8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B2F7-F9BA-405D-821F-F5681649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AC4D-0F7A-4BB7-B2D8-01DB9BA4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CFF6-1CB5-4CCC-82D1-CAABE650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DADD7-B015-4F0C-924C-4607FD7A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404B2-CDB6-47FF-8E58-E335A363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58BB0-2924-45F6-A99C-36151562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D8680-F709-464A-BC4B-81F79041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C0C44-C8C5-4238-8F5F-CE908F99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233B-ABA0-4712-86A9-E7B39144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9E1B4-97C1-4377-9488-2CEFAEDC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79C40-8DD1-439C-AC23-193119DC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EDD06-7C4A-4523-84B8-ADC7ECD8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B6EB5-16A2-4649-B9D0-B73EFA47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51C58-2A96-4EFA-91AA-5A63EA9D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17155-6FA0-409F-95E9-B146AC75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2EAB7-D192-4D9B-A217-2EE71F03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A323-1EC1-4BE6-8484-39704842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595F-605F-489C-AD85-B13C0991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AD8A-5889-45F7-B2BE-692E6B22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B3FD-8AE1-40F1-A86F-90B5DDE8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2DE-A6F8-416C-B704-1EA9BAD5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A66-3489-4A31-BAF0-0EBC9655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0.png"/><Relationship Id="rId11" Type="http://schemas.openxmlformats.org/officeDocument/2006/relationships/image" Target="../media/image16.png"/><Relationship Id="rId12" Type="http://schemas.openxmlformats.org/officeDocument/2006/relationships/image" Target="../media/image13.png"/><Relationship Id="rId13" Type="http://schemas.openxmlformats.org/officeDocument/2006/relationships/image" Target="../media/image12.png"/><Relationship Id="rId14" Type="http://schemas.openxmlformats.org/officeDocument/2006/relationships/image" Target="../media/image10.png"/><Relationship Id="rId15" Type="http://schemas.openxmlformats.org/officeDocument/2006/relationships/image" Target="../media/image14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0.png"/><Relationship Id="rId25" Type="http://schemas.openxmlformats.org/officeDocument/2006/relationships/image" Target="../media/image16.png"/><Relationship Id="rId26" Type="http://schemas.openxmlformats.org/officeDocument/2006/relationships/image" Target="../media/image13.png"/><Relationship Id="rId27" Type="http://schemas.openxmlformats.org/officeDocument/2006/relationships/image" Target="../media/image12.png"/><Relationship Id="rId28" Type="http://schemas.openxmlformats.org/officeDocument/2006/relationships/image" Target="../media/image10.png"/><Relationship Id="rId29" Type="http://schemas.openxmlformats.org/officeDocument/2006/relationships/image" Target="../media/image14.png"/><Relationship Id="rId30" Type="http://schemas.openxmlformats.org/officeDocument/2006/relationships/image" Target="../media/image19.png"/><Relationship Id="rId31" Type="http://schemas.openxmlformats.org/officeDocument/2006/relationships/slideLayout" Target="../slideLayouts/slideLayout25.xml"/><Relationship Id="rId32" Type="http://schemas.openxmlformats.org/officeDocument/2006/relationships/slideLayout" Target="../slideLayouts/slideLayout26.xml"/><Relationship Id="rId33" Type="http://schemas.openxmlformats.org/officeDocument/2006/relationships/slideLayout" Target="../slideLayouts/slideLayout27.xml"/><Relationship Id="rId34" Type="http://schemas.openxmlformats.org/officeDocument/2006/relationships/slideLayout" Target="../slideLayouts/slideLayout28.xml"/><Relationship Id="rId35" Type="http://schemas.openxmlformats.org/officeDocument/2006/relationships/slideLayout" Target="../slideLayouts/slideLayout29.xml"/><Relationship Id="rId36" Type="http://schemas.openxmlformats.org/officeDocument/2006/relationships/slideLayout" Target="../slideLayouts/slideLayout30.xml"/><Relationship Id="rId37" Type="http://schemas.openxmlformats.org/officeDocument/2006/relationships/slideLayout" Target="../slideLayouts/slideLayout31.xml"/><Relationship Id="rId38" Type="http://schemas.openxmlformats.org/officeDocument/2006/relationships/slideLayout" Target="../slideLayouts/slideLayout32.xml"/><Relationship Id="rId39" Type="http://schemas.openxmlformats.org/officeDocument/2006/relationships/slideLayout" Target="../slideLayouts/slideLayout33.xml"/><Relationship Id="rId40" Type="http://schemas.openxmlformats.org/officeDocument/2006/relationships/slideLayout" Target="../slideLayouts/slideLayout34.xml"/><Relationship Id="rId41" Type="http://schemas.openxmlformats.org/officeDocument/2006/relationships/slideLayout" Target="../slideLayouts/slideLayout35.xml"/><Relationship Id="rId42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a7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chool1926.png"/>
          <p:cNvPicPr/>
          <p:nvPr/>
        </p:nvPicPr>
        <p:blipFill>
          <a:blip r:embed="rId2"/>
          <a:stretch/>
        </p:blipFill>
        <p:spPr>
          <a:xfrm>
            <a:off x="8358120" y="4214880"/>
            <a:ext cx="695520" cy="1301760"/>
          </a:xfrm>
          <a:prstGeom prst="rect">
            <a:avLst/>
          </a:prstGeom>
          <a:ln w="0">
            <a:noFill/>
          </a:ln>
        </p:spPr>
      </p:pic>
      <p:grpSp>
        <p:nvGrpSpPr>
          <p:cNvPr id="1" name="Группа 40"/>
          <p:cNvGrpSpPr/>
          <p:nvPr/>
        </p:nvGrpSpPr>
        <p:grpSpPr>
          <a:xfrm>
            <a:off x="0" y="6113520"/>
            <a:ext cx="8540640" cy="744480"/>
            <a:chOff x="0" y="6113520"/>
            <a:chExt cx="8540640" cy="744480"/>
          </a:xfrm>
        </p:grpSpPr>
        <p:pic>
          <p:nvPicPr>
            <p:cNvPr id="2" name="Рисунок 8" descr="school1926.png"/>
            <p:cNvPicPr/>
            <p:nvPr/>
          </p:nvPicPr>
          <p:blipFill>
            <a:blip r:embed="rId3"/>
            <a:stretch/>
          </p:blipFill>
          <p:spPr>
            <a:xfrm>
              <a:off x="0" y="6113520"/>
              <a:ext cx="43563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Рисунок 9" descr="school1926.png"/>
            <p:cNvPicPr/>
            <p:nvPr/>
          </p:nvPicPr>
          <p:blipFill>
            <a:blip r:embed="rId4"/>
            <a:stretch/>
          </p:blipFill>
          <p:spPr>
            <a:xfrm>
              <a:off x="4291560" y="6137280"/>
              <a:ext cx="4249080" cy="69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Рисунок 10" descr="school1926.png"/>
          <p:cNvPicPr/>
          <p:nvPr/>
        </p:nvPicPr>
        <p:blipFill>
          <a:blip r:embed="rId5"/>
          <a:stretch/>
        </p:blipFill>
        <p:spPr>
          <a:xfrm>
            <a:off x="8475840" y="6113520"/>
            <a:ext cx="718920" cy="744480"/>
          </a:xfrm>
          <a:prstGeom prst="rect">
            <a:avLst/>
          </a:prstGeom>
          <a:ln w="0">
            <a:noFill/>
          </a:ln>
        </p:spPr>
      </p:pic>
      <p:pic>
        <p:nvPicPr>
          <p:cNvPr id="5" name="Рисунок 11" descr="school1926.png"/>
          <p:cNvPicPr/>
          <p:nvPr/>
        </p:nvPicPr>
        <p:blipFill>
          <a:blip r:embed="rId6"/>
          <a:stretch/>
        </p:blipFill>
        <p:spPr>
          <a:xfrm>
            <a:off x="8429760" y="5432400"/>
            <a:ext cx="792000" cy="74448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12" descr="school1926.png"/>
          <p:cNvPicPr/>
          <p:nvPr/>
        </p:nvPicPr>
        <p:blipFill>
          <a:blip r:embed="rId7"/>
          <a:stretch/>
        </p:blipFill>
        <p:spPr>
          <a:xfrm>
            <a:off x="8437680" y="-77760"/>
            <a:ext cx="744480" cy="435600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13" descr="school1418.png"/>
          <p:cNvPicPr/>
          <p:nvPr/>
        </p:nvPicPr>
        <p:blipFill>
          <a:blip r:embed="rId8"/>
          <a:stretch/>
        </p:blipFill>
        <p:spPr>
          <a:xfrm>
            <a:off x="6307200" y="3933720"/>
            <a:ext cx="2990880" cy="3114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63FD-AD78-4369-BAA5-C8D9C628BC9B}" type="slidenum"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a7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2DD6-DDB8-48C4-A9EE-B91403DBF81A}" type="slidenum"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a7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6" descr="school1412.png"/>
          <p:cNvPicPr/>
          <p:nvPr/>
        </p:nvPicPr>
        <p:blipFill>
          <a:blip r:embed="rId2"/>
          <a:stretch/>
        </p:blipFill>
        <p:spPr>
          <a:xfrm>
            <a:off x="3564000" y="4457880"/>
            <a:ext cx="2104920" cy="2490480"/>
          </a:xfrm>
          <a:prstGeom prst="rect">
            <a:avLst/>
          </a:prstGeom>
          <a:ln w="0">
            <a:noFill/>
          </a:ln>
        </p:spPr>
      </p:pic>
      <p:grpSp>
        <p:nvGrpSpPr>
          <p:cNvPr id="91" name="Группа 55"/>
          <p:cNvGrpSpPr/>
          <p:nvPr/>
        </p:nvGrpSpPr>
        <p:grpSpPr>
          <a:xfrm>
            <a:off x="-50760" y="58320"/>
            <a:ext cx="9574200" cy="7130520"/>
            <a:chOff x="-50760" y="58320"/>
            <a:chExt cx="9574200" cy="7130520"/>
          </a:xfrm>
        </p:grpSpPr>
        <p:pic>
          <p:nvPicPr>
            <p:cNvPr id="92" name="Рисунок 8" descr="school1928.jpg"/>
            <p:cNvPicPr/>
            <p:nvPr/>
          </p:nvPicPr>
          <p:blipFill>
            <a:blip r:embed="rId3"/>
            <a:stretch/>
          </p:blipFill>
          <p:spPr>
            <a:xfrm rot="21080400">
              <a:off x="5739120" y="2658600"/>
              <a:ext cx="3480840" cy="429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Группа 37"/>
            <p:cNvGrpSpPr/>
            <p:nvPr/>
          </p:nvGrpSpPr>
          <p:grpSpPr>
            <a:xfrm>
              <a:off x="-50760" y="6274080"/>
              <a:ext cx="9143280" cy="712440"/>
              <a:chOff x="-50760" y="6274080"/>
              <a:chExt cx="9143280" cy="712440"/>
            </a:xfrm>
          </p:grpSpPr>
          <p:pic>
            <p:nvPicPr>
              <p:cNvPr id="94" name="Рисунок 22" descr="school1914.gif"/>
              <p:cNvPicPr/>
              <p:nvPr/>
            </p:nvPicPr>
            <p:blipFill>
              <a:blip r:embed="rId4"/>
              <a:stretch/>
            </p:blipFill>
            <p:spPr>
              <a:xfrm>
                <a:off x="8411760" y="6274080"/>
                <a:ext cx="680760" cy="66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Рисунок 23" descr="school1915.gif"/>
              <p:cNvPicPr/>
              <p:nvPr/>
            </p:nvPicPr>
            <p:blipFill>
              <a:blip r:embed="rId5"/>
              <a:stretch/>
            </p:blipFill>
            <p:spPr>
              <a:xfrm>
                <a:off x="-50760" y="6274080"/>
                <a:ext cx="750960" cy="55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Рисунок 24" descr="school1901.gif"/>
              <p:cNvPicPr/>
              <p:nvPr/>
            </p:nvPicPr>
            <p:blipFill>
              <a:blip r:embed="rId6"/>
              <a:stretch/>
            </p:blipFill>
            <p:spPr>
              <a:xfrm>
                <a:off x="632520" y="6274080"/>
                <a:ext cx="536040" cy="57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Рисунок 25" descr="school1911.gif"/>
              <p:cNvPicPr/>
              <p:nvPr/>
            </p:nvPicPr>
            <p:blipFill>
              <a:blip r:embed="rId7"/>
              <a:stretch/>
            </p:blipFill>
            <p:spPr>
              <a:xfrm>
                <a:off x="1208520" y="6274080"/>
                <a:ext cx="649080" cy="620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Рисунок 26" descr="school1917.gif"/>
              <p:cNvPicPr/>
              <p:nvPr/>
            </p:nvPicPr>
            <p:blipFill>
              <a:blip r:embed="rId8"/>
              <a:stretch/>
            </p:blipFill>
            <p:spPr>
              <a:xfrm>
                <a:off x="1784520" y="6274080"/>
                <a:ext cx="75420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Рисунок 27" descr="school1913.gif"/>
              <p:cNvPicPr/>
              <p:nvPr/>
            </p:nvPicPr>
            <p:blipFill>
              <a:blip r:embed="rId9"/>
              <a:stretch/>
            </p:blipFill>
            <p:spPr>
              <a:xfrm>
                <a:off x="2432880" y="6274080"/>
                <a:ext cx="768240" cy="66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Рисунок 28" descr="school1914.gif"/>
              <p:cNvPicPr/>
              <p:nvPr/>
            </p:nvPicPr>
            <p:blipFill>
              <a:blip r:embed="rId10"/>
              <a:stretch/>
            </p:blipFill>
            <p:spPr>
              <a:xfrm>
                <a:off x="3080880" y="6274080"/>
                <a:ext cx="680760" cy="66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Рисунок 29" descr="school1910.gif"/>
              <p:cNvPicPr/>
              <p:nvPr/>
            </p:nvPicPr>
            <p:blipFill>
              <a:blip r:embed="rId11"/>
              <a:stretch/>
            </p:blipFill>
            <p:spPr>
              <a:xfrm>
                <a:off x="3728880" y="6274080"/>
                <a:ext cx="720000" cy="71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Рисунок 30" descr="school1911.gif"/>
              <p:cNvPicPr/>
              <p:nvPr/>
            </p:nvPicPr>
            <p:blipFill>
              <a:blip r:embed="rId12"/>
              <a:stretch/>
            </p:blipFill>
            <p:spPr>
              <a:xfrm>
                <a:off x="4376880" y="6274080"/>
                <a:ext cx="649080" cy="620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Рисунок 31" descr="school1901.gif"/>
              <p:cNvPicPr/>
              <p:nvPr/>
            </p:nvPicPr>
            <p:blipFill>
              <a:blip r:embed="rId13"/>
              <a:stretch/>
            </p:blipFill>
            <p:spPr>
              <a:xfrm>
                <a:off x="4952880" y="6274080"/>
                <a:ext cx="536040" cy="57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Рисунок 32" descr="school1914.gif"/>
              <p:cNvPicPr/>
              <p:nvPr/>
            </p:nvPicPr>
            <p:blipFill>
              <a:blip r:embed="rId14"/>
              <a:stretch/>
            </p:blipFill>
            <p:spPr>
              <a:xfrm>
                <a:off x="5456880" y="6274080"/>
                <a:ext cx="680760" cy="66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Рисунок 33" descr="school1917.gif"/>
              <p:cNvPicPr/>
              <p:nvPr/>
            </p:nvPicPr>
            <p:blipFill>
              <a:blip r:embed="rId15"/>
              <a:stretch/>
            </p:blipFill>
            <p:spPr>
              <a:xfrm>
                <a:off x="6032880" y="6274080"/>
                <a:ext cx="75420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Рисунок 34" descr="school1918.gif"/>
              <p:cNvPicPr/>
              <p:nvPr/>
            </p:nvPicPr>
            <p:blipFill>
              <a:blip r:embed="rId16"/>
              <a:stretch/>
            </p:blipFill>
            <p:spPr>
              <a:xfrm>
                <a:off x="6680880" y="6274080"/>
                <a:ext cx="623520" cy="55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Рисунок 35" descr="school1910.gif"/>
              <p:cNvPicPr/>
              <p:nvPr/>
            </p:nvPicPr>
            <p:blipFill>
              <a:blip r:embed="rId17"/>
              <a:stretch/>
            </p:blipFill>
            <p:spPr>
              <a:xfrm flipH="1">
                <a:off x="7185240" y="6274080"/>
                <a:ext cx="648000" cy="64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Рисунок 36" descr="school1915.gif"/>
              <p:cNvPicPr/>
              <p:nvPr/>
            </p:nvPicPr>
            <p:blipFill>
              <a:blip r:embed="rId18"/>
              <a:stretch/>
            </p:blipFill>
            <p:spPr>
              <a:xfrm>
                <a:off x="7722360" y="6274080"/>
                <a:ext cx="750960" cy="556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Группа 54"/>
            <p:cNvGrpSpPr/>
            <p:nvPr/>
          </p:nvGrpSpPr>
          <p:grpSpPr>
            <a:xfrm>
              <a:off x="8488440" y="58320"/>
              <a:ext cx="712440" cy="6838200"/>
              <a:chOff x="8488440" y="58320"/>
              <a:chExt cx="712440" cy="6838200"/>
            </a:xfrm>
          </p:grpSpPr>
          <p:pic>
            <p:nvPicPr>
              <p:cNvPr id="110" name="Рисунок 11" descr="school1915.gif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8390880" y="6242760"/>
                <a:ext cx="750960" cy="55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Рисунок 12" descr="school1901.gif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8506800" y="5657760"/>
                <a:ext cx="536040" cy="57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Рисунок 13" descr="school1911.gif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8474040" y="5001480"/>
                <a:ext cx="649080" cy="620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Рисунок 14" descr="school1917.gif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8377920" y="4416840"/>
                <a:ext cx="75420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Рисунок 15" descr="school1913.gif"/>
              <p:cNvPicPr/>
              <p:nvPr/>
            </p:nvPicPr>
            <p:blipFill>
              <a:blip r:embed="rId23"/>
              <a:stretch/>
            </p:blipFill>
            <p:spPr>
              <a:xfrm rot="16200000">
                <a:off x="8436960" y="3696120"/>
                <a:ext cx="768240" cy="66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Рисунок 16" descr="school1914.gif"/>
              <p:cNvPicPr/>
              <p:nvPr/>
            </p:nvPicPr>
            <p:blipFill>
              <a:blip r:embed="rId24"/>
              <a:stretch/>
            </p:blipFill>
            <p:spPr>
              <a:xfrm rot="16200000">
                <a:off x="8478360" y="3093840"/>
                <a:ext cx="680760" cy="66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Рисунок 17" descr="school1910.gif"/>
              <p:cNvPicPr/>
              <p:nvPr/>
            </p:nvPicPr>
            <p:blipFill>
              <a:blip r:embed="rId25"/>
              <a:stretch/>
            </p:blipFill>
            <p:spPr>
              <a:xfrm rot="16200000">
                <a:off x="8484480" y="2400480"/>
                <a:ext cx="720000" cy="71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Рисунок 18" descr="school1911.gif"/>
              <p:cNvPicPr/>
              <p:nvPr/>
            </p:nvPicPr>
            <p:blipFill>
              <a:blip r:embed="rId26"/>
              <a:stretch/>
            </p:blipFill>
            <p:spPr>
              <a:xfrm rot="16200000">
                <a:off x="8474040" y="1833120"/>
                <a:ext cx="649080" cy="620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Рисунок 19" descr="school1901.gif"/>
              <p:cNvPicPr/>
              <p:nvPr/>
            </p:nvPicPr>
            <p:blipFill>
              <a:blip r:embed="rId27"/>
              <a:stretch/>
            </p:blipFill>
            <p:spPr>
              <a:xfrm rot="16200000">
                <a:off x="8506800" y="1337760"/>
                <a:ext cx="536040" cy="57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Рисунок 20" descr="school1914.gif"/>
              <p:cNvPicPr/>
              <p:nvPr/>
            </p:nvPicPr>
            <p:blipFill>
              <a:blip r:embed="rId28"/>
              <a:stretch/>
            </p:blipFill>
            <p:spPr>
              <a:xfrm rot="16200000">
                <a:off x="8478360" y="717840"/>
                <a:ext cx="680760" cy="66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Рисунок 21" descr="school1917.gif"/>
              <p:cNvPicPr/>
              <p:nvPr/>
            </p:nvPicPr>
            <p:blipFill>
              <a:blip r:embed="rId29"/>
              <a:stretch/>
            </p:blipFill>
            <p:spPr>
              <a:xfrm rot="16200000">
                <a:off x="8377920" y="168840"/>
                <a:ext cx="754200" cy="53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21" name="Рисунок 37" descr="4.jpg"/>
          <p:cNvPicPr/>
          <p:nvPr/>
        </p:nvPicPr>
        <p:blipFill>
          <a:blip r:embed="rId30"/>
          <a:stretch/>
        </p:blipFill>
        <p:spPr>
          <a:xfrm>
            <a:off x="-77760" y="3370320"/>
            <a:ext cx="3682800" cy="37479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C4A6-2C8F-48ED-92ED-A57D53098BCE}" type="slidenum"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1"/>
    <p:sldLayoutId id="2147483676" r:id="rId32"/>
    <p:sldLayoutId id="2147483677" r:id="rId33"/>
    <p:sldLayoutId id="2147483678" r:id="rId34"/>
    <p:sldLayoutId id="2147483679" r:id="rId35"/>
    <p:sldLayoutId id="2147483680" r:id="rId36"/>
    <p:sldLayoutId id="2147483681" r:id="rId37"/>
    <p:sldLayoutId id="2147483682" r:id="rId38"/>
    <p:sldLayoutId id="2147483683" r:id="rId39"/>
    <p:sldLayoutId id="2147483684" r:id="rId40"/>
    <p:sldLayoutId id="2147483685" r:id="rId41"/>
    <p:sldLayoutId id="2147483686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74898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рганизация и методика изодеятельности (рисования) в детском саду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076720" y="4724280"/>
            <a:ext cx="3456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e00"/>
                </a:solidFill>
                <a:latin typeface="Times New Roman"/>
              </a:rPr>
              <a:t>Подготовил: учитель-логопед</a:t>
            </a:r>
            <a:endParaRPr b="0" lang="en-US" sz="2000" spc="-1" strike="noStrike">
              <a:solidFill>
                <a:srgbClr val="ff505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e00"/>
                </a:solidFill>
                <a:latin typeface="Times New Roman"/>
              </a:rPr>
              <a:t>Несмеянова О.А.</a:t>
            </a:r>
            <a:endParaRPr b="0" lang="en-US" sz="20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799308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В настоящее время приоритетное направление в методике обучения изобразительн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– развитие самостоятельности, инициативы и активности, которые должны повышать у детей интерес к творчеству, к процессу овладения средствами и способами создания художественных образов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и задачи воспитатель должен осуществлять на каждом этапе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1 эта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озникновение замыс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2 эта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роцесс создания художественного образа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3 эта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анализ результатов творчества взрослы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детьми.</a:t>
            </a:r>
            <a:endParaRPr b="0" lang="en-US" sz="20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799308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На 1 этап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ля возникновения замысла – наблюдения окружающего, использование произведений изобразительного искусства разных видов и жанров, эстетическое восприятие художественного образа с целью установления взаимосвязи внешних изобразительных средств с внутренним характером образа в картине, скульптуре, график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На 2 этап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ыбор материалов, изобразительных средств, способов «вживления в образ» для передачи настроения, характера персонажа, животного или человека; синтез искусств для создания атмосферы творчества, эмоционального обогащения образа; создание поисковых ситуаций; использование игровых приёмов, диалоговой формы общения с целью развития творческой деятельности ребёнк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На 3 этап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осприятие детьми результато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ворчества; анализ и оценка работ с учётом мнен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ждого «автора»</a:t>
            </a:r>
            <a:endParaRPr b="0" lang="en-US" sz="20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imes New Roman"/>
              </a:rPr>
              <a:t>Творческие проявления детей</a:t>
            </a:r>
            <a:endParaRPr b="0" lang="en-US" sz="4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0" y="907560"/>
            <a:ext cx="856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На 2 году жизни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ещё не могут преднамеренно изображать какие –либо определённые предметы и явления. Интерес к изобразительной деятельности возникает в результате подражания взрослого. Этот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пери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сследователи называют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«доизобразительным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Во второй половине 2-го года жизни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ё чаще появляются следы от карандаша на бумаге. Вначале дети покрывают лист бумаги точками, штрихами, затем неотрывными дугообразными линиями, после этого линии закругляются, ломаются под углом, перекрещиваются, появляются зигзаги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тем дети овладевают вращательными движениями, в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е чего получаются неотрывные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ирали, мотки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епенно в рисунке исчезает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отическое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громождение линий, и всё чаще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никают более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ёткие графические изображения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82" name="Picture 12" descr="Доизобразительная стадия, вторая ступень — мозг и рука ребенка не готовы к копированию предлагаемых взрослым образцов, 2 года"/>
          <p:cNvPicPr/>
          <p:nvPr/>
        </p:nvPicPr>
        <p:blipFill>
          <a:blip r:embed="rId1"/>
          <a:stretch/>
        </p:blipFill>
        <p:spPr>
          <a:xfrm>
            <a:off x="4500720" y="3860640"/>
            <a:ext cx="19047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Творческие проявления детей</a:t>
            </a: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8426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Times New Roman"/>
              </a:rPr>
              <a:t>Дети от 2 лет – 2 лет 6 месяцев</a:t>
            </a:r>
            <a:r>
              <a:rPr b="0" lang="ru-RU" sz="18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интересом рисуют, однако не все ещё могут находить сходство в линиях, штрихах с предметами окружающего, так как в этом возрасте отсутствует преднамеренность в изображении. Рука ребёнка неуверенно держит карандаш. Иногда появляются изображения неопределённых форм, которым ребёнок даёт различные названия, ассоциации их по цвету или формам предметов.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Times New Roman"/>
              </a:rPr>
              <a:t>Дети от 2 лет 6 месяцев до 3 л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вереннее держат карандаш, кисть. Узнавание – новый этап в развитии изобразительной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ятельности. Штрихи, линии дети иногда называют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дождики», «огоньки», «лепёшки».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епенно детей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влекает не только процесс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рашивания, но и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ветовые пятна. Дети ритмично наносят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зки по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ему листу бумаги или закрашивают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го полосками.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изобразительной деятельности детей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никают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ые творческие проявления.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85" name="Picture 4" descr="июнь 2006 - minid - Photo.Qip.ru / id: fvas"/>
          <p:cNvPicPr/>
          <p:nvPr/>
        </p:nvPicPr>
        <p:blipFill>
          <a:blip r:embed="rId1"/>
          <a:stretch/>
        </p:blipFill>
        <p:spPr>
          <a:xfrm>
            <a:off x="4788000" y="3429000"/>
            <a:ext cx="1676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993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Способы рисования в раннем возрасте</a:t>
            </a:r>
            <a:endParaRPr b="0" lang="en-US" sz="2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250920" y="981000"/>
            <a:ext cx="8066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комство с кисточкой как с художественным инструментом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акивание кисточкой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сование прямых, волнистых, пологих и запутанных линий (вести кисть по ворсу, а так же точек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сование кисточкой круга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сование вертикальных линий разной длинны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грывание и дополнение контурного рисунка или аппликации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крашивание  объекта в раскраске состоящий из частей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рисовывание аппликации (ножки, крылышки, глазки, клювик)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четание в одном образе разные линии: рисовать большой круг и несколько лучей – прямых и волнистых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етрадиционное рисование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Рисование на песке пальчиками и палочками дорожек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рямые и волнистые)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«Принт» (печать листьями)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Рисование пальчиками.(оставлять на бумаге отпечатки одно-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дву- цветные)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младшего дошкольного возраста отличаются стремлением к активности, самостоятельности.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    </a:t>
            </a:r>
            <a:br>
              <a:rPr sz="2000"/>
            </a:b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Дети 3 лет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гут создавать очертания определённой формы, с помощью которой передают различные образы. Передают детали одежды, черты лица и др.  Изображения предметов, персонажей приобретают пространственное соотношение, не всегда понятное взрослым. Он легко ориентируется в лабиринте линий и форм. Линиями, мазками, штрихами передают предметы, явле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сование красками в младшем дошкольном возрасте, как и в раннем , является приоритетны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и методов обучения младших дошкольников имеет место «сотворчество» воспитателя с детьм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проявляют желание использовать различные цвета для украшения предметов, фигур в рисунке.</a:t>
            </a:r>
            <a:endParaRPr b="0" lang="en-US" sz="20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189" name="Picture 5" descr="Baby я мама baby - Диета для каждого"/>
          <p:cNvPicPr/>
          <p:nvPr/>
        </p:nvPicPr>
        <p:blipFill>
          <a:blip r:embed="rId1"/>
          <a:stretch/>
        </p:blipFill>
        <p:spPr>
          <a:xfrm>
            <a:off x="4211640" y="4581360"/>
            <a:ext cx="19447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252360" y="-3825360"/>
            <a:ext cx="55224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560" y="259920"/>
            <a:ext cx="7978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Дети 3 – 4 лет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комятся с некоторыми предметами декоративно прикладного искусства: узнают яркие цветы в узоре.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зданном ребёнком образе находит отражение наиболее существенное, характерное для данного персонажа (у мишки круглые уши, у девочки на голове бантик)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детей младшего дошкольного возраста происходит формирование художественно-образной основы деятельности, когда они линиями, мазками, штрихами передают предметы, явления.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сование красками в младшем дошкольном возрасте,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и в раннем, является приоритетным, так как яркие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вета воздействуют на эмоциональную сферу ребёнк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этом  быстрее возникают ассоциативные образы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92" name="Picture 6" descr="7я.ру. Конференция &quot;Ребенок от 3 до 7&quot;. Что должен уметь рисовать четырехлетний ребенок?"/>
          <p:cNvPicPr/>
          <p:nvPr/>
        </p:nvPicPr>
        <p:blipFill>
          <a:blip r:embed="rId1"/>
          <a:stretch/>
        </p:blipFill>
        <p:spPr>
          <a:xfrm>
            <a:off x="2843280" y="4292640"/>
            <a:ext cx="23050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1378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4 год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ступает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торая ступень изобразительной стад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ребенок делает важное мировоззренческое открытие — окружающий мир строго структурирован. В рисунках детей появляется линия земли - черная или коричневая полоса, зеленые травинки, белый снег, на земле в ряд располагаются персонажи рисунка, а над ними — линия неба. На этой ступени детям нравится передавать динамику различных людских и природных состояний: ребенок может нарисовать коричневую землю, а потом закрасить ее белой краской: "Зима наступила". Или изобразить синий овал — "озеро", а потом закрасить его черной краской: "Высохло". Часто дети хотят в одном рисунке передать изменения погодных условий. Сначала ребенок рисует траву, цветы, себя в легкой одежде, синее небо, ярко-желтое солнце. А потом туч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бежали, дождь пошел - пририсовывается зонтик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иновые сапоги. То, что ребенку эмоционально ближ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ажнее, он изображает крупнее остальных объектов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, цветок может быть больше дерева, мам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два раза выше папы, он сам – выше всех членов семьи. </a:t>
            </a:r>
            <a:br>
              <a:rPr sz="2000"/>
            </a:br>
            <a:endParaRPr b="0" lang="en-US" sz="20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993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Способы рисования в младшей группе</a:t>
            </a:r>
            <a:endParaRPr b="0" lang="en-US" sz="2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50560" y="69192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крупных двуцветных предметов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овальных предметов.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предметов, состоящих из 2-3 частей разной формы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комство с явлением контраста «светлый – тёмный»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сложных по форме изображений на основе волнистых линий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предметов квадратной и прямоугольной формы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сование декоративн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лимоновская роспись.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лнистых, спиралевидных, с петлями и их сочетание</a:t>
            </a:r>
            <a:r>
              <a:rPr b="0" lang="ru-RU" sz="24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505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етрадиционное рисование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на песке пальчиками и палочками дорожек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рямые и волнистые).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Принт» (печать листьями)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пальчиками.(оставлять на бумаге отпечатки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о- и дву- цветные)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ватными палочками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хаотичных узоров в технике по мокрому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с приёмом «приманивания» кисточкой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imes New Roman"/>
              </a:rPr>
              <a:t>Творческие проявления детей</a:t>
            </a:r>
            <a:endParaRPr b="0" lang="en-US" sz="4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Для детей 5-го года жизни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рактерны активность, самостоятельность, любознательность, наглядно-образное мышление, развитая речь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этот период происходит усложнение структуры изобразительной деятельности, проявляются новые её подвиды: декоративное рисование на основе восприятия детьми изделий декоративно-прикладного искусства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метное рисование в средней группе способствует развитию сюжета. Украшение изображённого в рисунке персонажа вносит элементы декоративности. Процесс рисования приобретает сюжетный характер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изображают предметы и явления окружающей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йствительности. Усложняя процесс создания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фического и живописного изображения,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этому средства выразительности в рисунке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цвет, линию, форму, композицию) дети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уют в разных сочетаниях.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1378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5050"/>
                </a:solidFill>
                <a:latin typeface="Times New Roman"/>
              </a:rPr>
              <a:t>Рисовани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жанр в изобразительном искусстве и соответствующая техника, которые создают зрительный образ (изображение) на какой-либо поверхности или объекте с помощью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рафических средст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исовальных элементов (в противоположность живописным элементам), преимущественно из линий и штрихов.</a:t>
            </a:r>
            <a:endParaRPr b="0" lang="en-US" sz="24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-6748920"/>
            <a:ext cx="208080" cy="132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7905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исунках появляются фигуры животных, человека, которые ребёнок располагает ритмично в ряд, внизу листа (фризовая композиция)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проявляют стремление к украшению изображений домов, машин, фигуры человека, его одежды и т.д. Происходит перенос элементов декоративного узора в сюжетное рисование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стетические оценки детей очень элементарны: «красиво - некрасиво», «нравится - не нравится» . Однако некоторые омечают сочетание красок, линий, форм, выделяют рисунки в которых их привлекают сюжет, изображение природы, мир животных, сказочные образы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200" name="Picture 5" descr="Картина мира пятилетнего ребенка"/>
          <p:cNvPicPr/>
          <p:nvPr/>
        </p:nvPicPr>
        <p:blipFill>
          <a:blip r:embed="rId1"/>
          <a:stretch/>
        </p:blipFill>
        <p:spPr>
          <a:xfrm>
            <a:off x="971640" y="4316400"/>
            <a:ext cx="1871640" cy="1347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Изобразительная стадия, вторая ступень — появляется линия земли, интерес к себе самой. 'Таня', 4 года 7 мес."/>
          <p:cNvPicPr/>
          <p:nvPr/>
        </p:nvPicPr>
        <p:blipFill>
          <a:blip r:embed="rId2"/>
          <a:stretch/>
        </p:blipFill>
        <p:spPr>
          <a:xfrm>
            <a:off x="3348000" y="4316400"/>
            <a:ext cx="187164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921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Способы рисования в средней группе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50920" y="691920"/>
            <a:ext cx="8066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предметно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замыслу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южетное (передача особенностей внешнего вида)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по представлению (передача в рисунке характера и настроения героев)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красками по мотивам литературного произведения (простые графические сюжеты)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сование декоративное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точка, круг, завиток, листок, лепесток, трилистник, волнистая линия, прямая линия)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обведение кисти руки и создание узора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на аппликационной основе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контрастных по размеру образов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дидактическое (цветоведение)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етрадиционное рисование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модульное пальчиками и ватными палочками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– фантазирование (фантазийные образы): 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рисованием пальцами, ладошками, отпечатками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ными предметами.</a:t>
            </a:r>
            <a:r>
              <a:rPr b="0" lang="ru-RU" sz="18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imes New Roman"/>
              </a:rPr>
              <a:t>Творческие проявления детей</a:t>
            </a:r>
            <a:endParaRPr b="0" lang="en-US" sz="40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образительное творчество детей старшего дошкольного возраста (</a:t>
            </a:r>
            <a:r>
              <a:rPr b="1" lang="ru-RU" sz="1800" spc="-1" strike="noStrike">
                <a:solidFill>
                  <a:srgbClr val="ff5050"/>
                </a:solidFill>
                <a:latin typeface="Times New Roman"/>
              </a:rPr>
              <a:t>6 г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5050"/>
                </a:solidFill>
                <a:latin typeface="Times New Roman"/>
              </a:rPr>
              <a:t>жиз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значительно богаче по средствам изображения и содержанию, чем в предшествующих возрастах. В этом возрасте у детей особенно ярко появляется тенденция к самовыражению, самоутверждению. Стремление к созданию новых композиций является основой изобразительного творчества старших дошкольников.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ти стали наблюдательнее, замечают и выделяют красоту цветовой гаммы, пропорций, многообразие форм предметов, выразительность характерных черт персонажа.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лагодаря координированным, плавным движениям рук,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рительному контролю улучшается качественное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ение рисунка.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бственном творчестве дети используют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 или иное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едство для передачи художественного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а, чётко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тивируя свой выбор.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ти свободнее владеют пространственным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иентиром (ближе-дальше)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206" name="Picture 7" descr="Камайко Ярослав - Вавилон.wiki"/>
          <p:cNvPicPr/>
          <p:nvPr/>
        </p:nvPicPr>
        <p:blipFill>
          <a:blip r:embed="rId1"/>
          <a:stretch/>
        </p:blipFill>
        <p:spPr>
          <a:xfrm>
            <a:off x="4932360" y="4221000"/>
            <a:ext cx="187164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Способы рисования в старшей группе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50920" y="981000"/>
            <a:ext cx="8066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простых сюжетов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ередача движений человека, взаимодействий и отношений между персонажами)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декоративное (беспредметные –абстрактные композиции)-безотрывное рисование карандашом, фломастером, кистью по бумаге.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екоративное рисовани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 мотива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хломской росписи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Дымковская роспись</a:t>
            </a:r>
            <a:r>
              <a:rPr b="0" lang="ru-RU" sz="18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 замыслу, заполняя всё пространство на листе бумаги (растительные, зооморфные, геометрические)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на объёмной фигуре (на вылепленной игрушке) – украшение кругами, пятнами, точками, прямыми линиями и штрихами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роение кругового узора из центра, симметрично располагая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менты на лучевых осях или по концентрическим кругам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 народным потешкам и песенкам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по представлению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по описанию (загадок и стихов)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с натуры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278920" cy="609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цветовых композиций (смешивание разных красок для получения «зимних», «весенних», «летних», «осенних» композиций). 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сование – экспериментир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алитра – тёплые оттен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 различными художественными материалами и инструментами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южетное рис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по всему листу бумаги с передачей пропорциональных и пространственных отношен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передавая движения, взаимодействия и отношения дет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сование предметн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рисование широкой линии всем ворсом кисти и тонкие линии – конц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рисование – дидактическое (цветоведение)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сование по замысл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ыразительная фигура человека 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трастном костюме - в движении и с передачей мими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улыбка, сме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с опорой на фотографию (портрет) 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етрадиционное рисование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ование – фантазировани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ование экспериментирование с различными материалам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кляксограф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ование в технике «по мокрому»(цветовая растяжка, лессировка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ование на камешках по замыслу</a:t>
            </a:r>
            <a:endParaRPr b="0" lang="en-US" sz="16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84000" y="-3282480"/>
            <a:ext cx="215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0661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Творческие проявления детей</a:t>
            </a: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066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К шести-семи год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 ребенка появляется способность изображать объекты с теми качествами, которые им принадлежат в реальном мире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свободно передают многообразие окружающей действительности: картины природы, сцены из жизни и сюжеты сказок, литературных произведений (живописные и графические образы). Многие предметы, образ человека, сказочных персонажей они изображают в рисунке, в сюжетной композиции, используя различные выразительные средства.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яют тёплые и холодные тона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213" name="Picture 7" descr="Появляется интерес к другим. 'Портрет тети Эллы', 5 лет 3 мес."/>
          <p:cNvPicPr/>
          <p:nvPr/>
        </p:nvPicPr>
        <p:blipFill>
          <a:blip r:embed="rId1"/>
          <a:stretch/>
        </p:blipFill>
        <p:spPr>
          <a:xfrm>
            <a:off x="539640" y="4292640"/>
            <a:ext cx="2305080" cy="1625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Пора идти в изостудию"/>
          <p:cNvPicPr/>
          <p:nvPr/>
        </p:nvPicPr>
        <p:blipFill>
          <a:blip r:embed="rId2"/>
          <a:stretch/>
        </p:blipFill>
        <p:spPr>
          <a:xfrm>
            <a:off x="3132000" y="4292640"/>
            <a:ext cx="230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Способы рисования в подготовительной группе</a:t>
            </a:r>
            <a:endParaRPr b="0" lang="en-US" sz="32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сование декоративное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дульное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элементами письма 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мотивам кружевоплетения (точка, круг, завиток, лепесток, трилистник, волнистая линия, прямая линия с узелками, сетка, цветок, петля)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формление лепных поделок по мотивам 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ымковской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Вятской) игрушки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мотива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Гжел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вухчастные контрастные композиции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мотива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 Городецкой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росписи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сование сюжетно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дача движения и эмоциональное состояние объектов,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ображение позы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замыслу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йзажное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134200" cy="41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сование по замыслу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сложные сюжеты и пейзаж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ассиметрия, передающая движение</a:t>
            </a:r>
            <a:br>
              <a:rPr sz="1800"/>
            </a:b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сование по представлени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арный портрет (в профиль, в анфас)</a:t>
            </a:r>
            <a:br>
              <a:rPr sz="1800"/>
            </a:b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сование с натур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цвет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игрушки</a:t>
            </a:r>
            <a:br>
              <a:rPr sz="1800"/>
            </a:b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етрадиционное рисова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«Монотипия» (по мокрому)-пейзаж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рисование по мокрому листу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4000" y="-3282480"/>
            <a:ext cx="21564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Используемая литература</a:t>
            </a:r>
            <a:endParaRPr b="0" lang="en-US" sz="2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6202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Г. Казакова. Детское изобразительное творчество. Изд.: ООО «КАРАПУЗ-ДИДАКТИКА»; Москва, 2006г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.А.Лыкова. Изобразительная деятельность в детском саду. Ранний возраст. Методическое пособие. Издательский дом «Цветной мир», Москва, 2012г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.А.Лыкова. Изобразительная деятельность в детском саду. Младшая группа. Методическое пособие. Издательский дом «Цветной мир», Москва, 2012г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.А.Лыкова. Изобразительная деятельность в детском саду. Средняя группа. Методическое пособие. Издательский дом «Цветной мир», Москва, 2012г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.А.Лыкова. Изобразительная деятельность в детском саду. Старшая группа. Методическое пособие. Издательский дом «Цветной мир», Москва, 2011г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.А.Лыкова. Изобразительная деятельность в детском саду. Подготовительная группа. Методическое пособие. Издательский дом «Цветной мир», Москва, 2011г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505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п</a:t>
            </a:r>
            <a:r>
              <a:rPr b="1" lang="ru-RU" sz="4800" spc="-1" strike="noStrike">
                <a:solidFill>
                  <a:srgbClr val="ff9900"/>
                </a:solidFill>
                <a:latin typeface="Times New Roman"/>
              </a:rPr>
              <a:t>а</a:t>
            </a: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с</a:t>
            </a:r>
            <a:r>
              <a:rPr b="1" lang="ru-RU" sz="4800" spc="-1" strike="noStrike">
                <a:solidFill>
                  <a:srgbClr val="0099ff"/>
                </a:solidFill>
                <a:latin typeface="Times New Roman"/>
              </a:rPr>
              <a:t>и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б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о</a:t>
            </a:r>
            <a:r>
              <a:rPr b="1" lang="ru-RU" sz="48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з</a:t>
            </a:r>
            <a:r>
              <a:rPr b="1" lang="ru-RU" sz="4800" spc="-1" strike="noStrike">
                <a:solidFill>
                  <a:srgbClr val="0099ff"/>
                </a:solidFill>
                <a:latin typeface="Times New Roman"/>
              </a:rPr>
              <a:t>а</a:t>
            </a:r>
            <a:r>
              <a:rPr b="1" lang="ru-RU" sz="48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в</a:t>
            </a:r>
            <a:r>
              <a:rPr b="1" lang="ru-RU" sz="4800" spc="-1" strike="noStrike">
                <a:solidFill>
                  <a:srgbClr val="ff9900"/>
                </a:solidFill>
                <a:latin typeface="Times New Roman"/>
              </a:rPr>
              <a:t>н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и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4800" spc="-1" strike="noStrike">
                <a:solidFill>
                  <a:srgbClr val="ff9900"/>
                </a:solidFill>
                <a:latin typeface="Times New Roman"/>
              </a:rPr>
              <a:t>н</a:t>
            </a: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и</a:t>
            </a:r>
            <a:r>
              <a:rPr b="1" lang="ru-RU" sz="4800" spc="-1" strike="noStrike">
                <a:solidFill>
                  <a:srgbClr val="0099ff"/>
                </a:solidFill>
                <a:latin typeface="Times New Roman"/>
              </a:rPr>
              <a:t>е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222" name="Picture 6" descr="i?id=cd0df3b99c552dbcbc860c3a0fb76056-45-144&amp;n=21"/>
          <p:cNvPicPr/>
          <p:nvPr/>
        </p:nvPicPr>
        <p:blipFill>
          <a:blip r:embed="rId1"/>
          <a:stretch/>
        </p:blipFill>
        <p:spPr>
          <a:xfrm>
            <a:off x="2843280" y="321300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2788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В процессе рисования совершенствую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людательност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стетические эмоц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удожественный вкус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ворческие способнос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ворческая активнос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ворческое воображ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иентировка в эстетической и художественной культуре своего народ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брота сердц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уткость душ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енная любовь ко всему прекрасному</a:t>
            </a:r>
            <a:br>
              <a:rPr sz="2400"/>
            </a:br>
            <a:endParaRPr b="0" lang="en-US" sz="24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7777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5050"/>
                </a:solidFill>
                <a:latin typeface="Times New Roman"/>
              </a:rPr>
              <a:t>Что же делает рисование столь желанным для детей?</a:t>
            </a:r>
            <a:endParaRPr b="0" lang="en-US" sz="2800" spc="-1" strike="noStrike">
              <a:solidFill>
                <a:srgbClr val="ff505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первых, он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ступ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рисовать можно чем угодно, на чём угодно и где угодно;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вторых, это деятельность, сопровождаемая активным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чувственными переживания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волнуют образы и сюжеты, волнуют движения линий и изменчивость цвета, волнует и переживается все происходящее в рисунке, волнуют сами рисунки;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-третьих, он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знаватель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ибо помогает разглядеть, узнать, уточнить, понять многое, да и показать в рисунке свои знания;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-четвертых, он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ыразитель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в рисунке можно многое выразить, и порою с меньшими трудностями, чем в словах (свои душевные волнения, фантазии, предчувствия, страхи, знания, суждения и др.);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-пятых, рисовани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дуктив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рисуешь, и обязательно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-то получается. Рисунок — это сделанная вещь. Можно нарисовать много рисунков, можно повесить их на стенку, 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арить, отложить, вновь достать и рассматривать.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-243000"/>
            <a:ext cx="777744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Основная задача изобразительной деятельности</a:t>
            </a:r>
            <a:r>
              <a:rPr b="0" lang="ru-RU" sz="18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творческих способностей детей в создании выразительных образов различных предметов доступными для данного возраста изобразительными средствам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В детском саду рисование занимает ведущее место в обучении детей изобразительному искусству и включает три вида,</a:t>
            </a:r>
            <a:br>
              <a:rPr sz="2000"/>
            </a:b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рисование отдельных предме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сюжетно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декоративно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Так же имеет своё мест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традиционное рисование.</a:t>
            </a:r>
            <a:endParaRPr b="0" lang="en-US" sz="20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0728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Рисование отдельных предметов</a:t>
            </a:r>
            <a:br>
              <a:rPr sz="2800"/>
            </a:br>
            <a:br>
              <a:rPr sz="2000"/>
            </a:b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Общими задачами обучения рисованию отдельных предметов</a:t>
            </a: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, для всех возрастных групп являются следующие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чить изображению формы и строения предмета, передаче пропорциональных соотношений частей, изменений в связи с несложным движением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аучить изображению некоторых характерных деталей, делающих изображение выразительным, образным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ередавать цвет предмета в соответствии с его содержанием и характером образ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развивать технические навыки в рисовани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рандашами, красками и другими  материалами.</a:t>
            </a:r>
            <a:br>
              <a:rPr sz="2000"/>
            </a:br>
            <a:endParaRPr b="0" lang="en-US" sz="20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170" name="Picture 5" descr="Детские рисунки - фестиваль. Детский рисунок / белочка"/>
          <p:cNvPicPr/>
          <p:nvPr/>
        </p:nvPicPr>
        <p:blipFill>
          <a:blip r:embed="rId1"/>
          <a:stretch/>
        </p:blipFill>
        <p:spPr>
          <a:xfrm>
            <a:off x="3708360" y="5013360"/>
            <a:ext cx="136836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6037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Сюжетное рисование.</a:t>
            </a:r>
            <a:br>
              <a:rPr sz="2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 </a:t>
            </a:r>
            <a:br>
              <a:rPr sz="1800"/>
            </a:b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Общими задачами обучения сюжетному рисованию</a:t>
            </a: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 в детском саду являются следующие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чить передаче содержания темы, выделению в ней главного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аучить передавать взаимодействия между объекта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аучить правильно передавать пропорциональные соотношения между объектами и показывать их расположение в пространств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Не следует ограничивать сюжетное рисование изображением только тех предметов, которые дети уже изображали. Ребенок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олжен уметь нарисовать главное в сюжет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 все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етали он выполняет по своему желан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Умение выделять главное в сюжете связано с развитием восприятий и аналитико-синтетическог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шления.</a:t>
            </a:r>
            <a:endParaRPr b="0" lang="en-US" sz="20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172" name="Picture 5" descr="Детские рисунки - jancel.ru"/>
          <p:cNvPicPr/>
          <p:nvPr/>
        </p:nvPicPr>
        <p:blipFill>
          <a:blip r:embed="rId1"/>
          <a:stretch/>
        </p:blipFill>
        <p:spPr>
          <a:xfrm>
            <a:off x="3132000" y="4508640"/>
            <a:ext cx="2232000" cy="15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Декоративное рисован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коративное рисование, как и все виды изобразительного искусства, развивает у ребёнка чувство прекрасного. Произведения народного декоративного искусства близки детям красочностью, простотой композици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Общими задачами декоративному рисованию</a:t>
            </a: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являются</a:t>
            </a: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 :</a:t>
            </a:r>
            <a:br>
              <a:rPr sz="2000"/>
            </a:b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ть чувство композиции в связи с построением узора на различных формах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развивать чувство цвет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развивать способности различать стили (дымковская, гжель, палех и         т.д)  в декоративном искусстве и использовать их отдельные элементы в своём творчеств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совершенствовать технические навыки кистью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андашом.</a:t>
            </a:r>
            <a:endParaRPr b="0" lang="en-US" sz="20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174" name="Picture 5" descr="Предпросмотр - Схема вышивки &quot;детский рисунок&quot; - Схемы вышивки - idochka - Авторы - Портал &quot;Вышивка крестом&quot;"/>
          <p:cNvPicPr/>
          <p:nvPr/>
        </p:nvPicPr>
        <p:blipFill>
          <a:blip r:embed="rId1"/>
          <a:stretch/>
        </p:blipFill>
        <p:spPr>
          <a:xfrm>
            <a:off x="3780000" y="4653000"/>
            <a:ext cx="180000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Нетрадиционное рисование.</a:t>
            </a:r>
            <a:br>
              <a:rPr sz="2800"/>
            </a:b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Нетрадиционное рисование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это методика обучения рисованию с помощью необычных предметов и необычным способом.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Занятия </a:t>
            </a: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данным видом рисования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способствуют</a:t>
            </a: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 в большей мере развитию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нтазии, логики, мышле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данном способе ребенок учится мылить нестандартно. Нетрадиционное рисование дает возможность применения широкого круга возможностей для создания полноценных художественных сюжет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ще один огромный плюс нетрадиционного рисования – легкость в освоении методов. Все методы интуитивно понятны и легки в применении детьми дошкольного возраста. Одновременн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нообразные способы можно сочетать, получ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итоге реалистичные эффекты.</a:t>
            </a:r>
            <a:endParaRPr b="0" lang="en-US" sz="20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176" name="Picture 5" descr="Как развивать творческие способности у детей"/>
          <p:cNvPicPr/>
          <p:nvPr/>
        </p:nvPicPr>
        <p:blipFill>
          <a:blip r:embed="rId1"/>
          <a:stretch/>
        </p:blipFill>
        <p:spPr>
          <a:xfrm>
            <a:off x="4572000" y="4869000"/>
            <a:ext cx="1584360" cy="11890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-3417840" y="324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07:11:01Z</dcterms:created>
  <dc:creator>Наташа</dc:creator>
  <dc:description/>
  <dc:language>en-US</dc:language>
  <cp:lastModifiedBy>nexalex</cp:lastModifiedBy>
  <dcterms:modified xsi:type="dcterms:W3CDTF">2019-03-11T13:27:06Z</dcterms:modified>
  <cp:revision>42</cp:revision>
  <dc:subject/>
  <dc:title>Слайд 1</dc:title>
</cp:coreProperties>
</file>