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49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24.gif" ContentType="image/gif"/>
  <Override PartName="/ppt/media/image1.gif" ContentType="image/gif"/>
  <Override PartName="/ppt/media/image31.gif" ContentType="image/gif"/>
  <Override PartName="/ppt/media/image12.jpeg" ContentType="image/jpeg"/>
  <Override PartName="/ppt/media/image41.gif" ContentType="image/gif"/>
  <Override PartName="/ppt/media/image26.gif" ContentType="image/gif"/>
  <Override PartName="/ppt/media/image3.gif" ContentType="image/gif"/>
  <Override PartName="/ppt/media/image27.gif" ContentType="image/gif"/>
  <Override PartName="/ppt/media/image22.jpeg" ContentType="image/jpeg"/>
  <Override PartName="/ppt/media/image4.gif" ContentType="image/gif"/>
  <Override PartName="/ppt/media/image34.gif" ContentType="image/gif"/>
  <Override PartName="/ppt/media/image6.jpeg" ContentType="image/jpeg"/>
  <Override PartName="/ppt/media/image25.gif" ContentType="image/gif"/>
  <Override PartName="/ppt/media/image36.gif" ContentType="image/gif"/>
  <Override PartName="/ppt/media/image35.gif" ContentType="image/gif"/>
  <Override PartName="/ppt/media/image43.jpeg" ContentType="image/jpeg"/>
  <Override PartName="/ppt/media/image52.gif" ContentType="image/gif"/>
  <Override PartName="/ppt/media/image44.jpeg" ContentType="image/jpeg"/>
  <Override PartName="/ppt/media/image45.gif" ContentType="image/gif"/>
  <Override PartName="/ppt/media/image46.jpeg" ContentType="image/jpeg"/>
  <Override PartName="/ppt/media/image47.jpeg" ContentType="image/jpeg"/>
  <Override PartName="/ppt/media/image50.gif" ContentType="image/gif"/>
  <Override PartName="/ppt/media/image48.jpeg" ContentType="image/jpeg"/>
  <Override PartName="/ppt/media/image53.jpeg" ContentType="image/jpeg"/>
  <Override PartName="/ppt/media/image54.gif" ContentType="image/gif"/>
  <Override PartName="/ppt/media/image55.gif" ContentType="image/gif"/>
  <Override PartName="/ppt/media/image40.jpeg" ContentType="image/jpeg"/>
  <Override PartName="/ppt/media/image51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30.jpeg" ContentType="image/jpeg"/>
  <Override PartName="/ppt/media/image9.gif" ContentType="image/gif"/>
  <Override PartName="/ppt/media/image39.gif" ContentType="image/gif"/>
  <Override PartName="/ppt/media/image38.gif" ContentType="image/gif"/>
  <Override PartName="/ppt/media/image8.gif" ContentType="image/gif"/>
  <Override PartName="/ppt/media/image33.wmf" ContentType="image/x-wmf"/>
  <Override PartName="/ppt/media/image37.gif" ContentType="image/gif"/>
  <Override PartName="/ppt/media/image7.gif" ContentType="image/gif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E4FB-ABE9-4192-AF49-6030D4219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84F0-2EBB-43DC-A899-90C75D62B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131A-A15D-400A-8C2D-73F55D861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823D-5EB4-46EF-99EF-288CA4BA8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7723-E7DE-4058-9018-617FF0ECA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98AD-B5AA-4456-A862-10D856017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9B72-E80B-4CEF-B792-7F26A5A97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F760-8C0D-4569-8AA7-0F9D266D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D5E2-EBEF-4116-8177-F279FC1DA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F600-DBB0-4375-A279-CD48A1CF2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4EB9-E386-4333-9FDC-E269B832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721B-E80E-4B9D-A194-B26F15DD5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BCF0D-72FE-49DE-899B-FC510C243EC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914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17840" y="2808360"/>
            <a:ext cx="3962160" cy="3292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день образования Республ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85800" y="1295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828800" y="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огодняя ёл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49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685800" y="9144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36196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85800" y="1676520"/>
            <a:ext cx="5181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Герм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ждество Христ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198108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х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85800" y="1752480"/>
            <a:ext cx="5562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Чехии одинаково активно справля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60532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23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2860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268452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91520" y="838080"/>
            <a:ext cx="144288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7696080" y="32004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гар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мин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асят свет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ы новогодних поцелу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айну, которых хранит темно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943600" y="2800440"/>
            <a:ext cx="2971800" cy="292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лланд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286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5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одит старый год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ршит его последняя страниц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усть лучшее, что было не уйдё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 худшее не сможет повторить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114800" cy="304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162920" y="990720"/>
            <a:ext cx="18190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глия и СШ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858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инная ирландская традиция – дарить на счастье кусочек уг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160632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7772400" y="22096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85800" y="1676520"/>
            <a:ext cx="4952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6812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2286000" cy="161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8580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4018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донез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8580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9056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685800" y="1676520"/>
            <a:ext cx="5181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362320" cy="155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ирм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85800" y="1752480"/>
            <a:ext cx="4876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01028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50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0492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февра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японцев есть замечательный обыча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я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омент наступления Нового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71500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6095880" y="18288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ьетна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2004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120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20492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120492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685800" y="1066680"/>
            <a:ext cx="5181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095880" y="4876920"/>
            <a:ext cx="2667240" cy="177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много истории…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4120" y="2784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5800" y="2819520"/>
            <a:ext cx="4267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о время разлива Н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972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8580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им. Юлий Цезар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1377720" cy="1447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вый год стали отмечать 1 января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996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34120" y="3962520"/>
            <a:ext cx="2131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. 1700 г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0492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942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User</cp:lastModifiedBy>
  <dcterms:modified xsi:type="dcterms:W3CDTF">2019-03-10T17:46:36Z</dcterms:modified>
  <cp:revision>45</cp:revision>
  <dc:subject/>
  <dc:title> Новый год и Рождество в разных странах мира</dc:title>
</cp:coreProperties>
</file>