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3.jpeg" ContentType="image/jpeg"/>
  <Override PartName="/ppt/media/image21.gif" ContentType="image/gif"/>
  <Override PartName="/ppt/media/image10.jpeg" ContentType="image/jpeg"/>
  <Override PartName="/ppt/media/image14.png" ContentType="image/png"/>
  <Override PartName="/ppt/media/image19.gif" ContentType="image/gif"/>
  <Override PartName="/ppt/media/image17.jpeg" ContentType="image/jpeg"/>
  <Override PartName="/ppt/media/image49.gif" ContentType="image/gif"/>
  <Override PartName="/ppt/media/image16.gif" ContentType="image/gif"/>
  <Override PartName="/ppt/media/image15.gif" ContentType="image/gif"/>
  <Override PartName="/ppt/media/image5.jpeg" ContentType="image/jpeg"/>
  <Override PartName="/ppt/media/image24.gif" ContentType="image/gif"/>
  <Override PartName="/ppt/media/image1.gif" ContentType="image/gif"/>
  <Override PartName="/ppt/media/image31.gif" ContentType="image/gif"/>
  <Override PartName="/ppt/media/image12.jpeg" ContentType="image/jpeg"/>
  <Override PartName="/ppt/media/image41.gif" ContentType="image/gif"/>
  <Override PartName="/ppt/media/image26.gif" ContentType="image/gif"/>
  <Override PartName="/ppt/media/image3.gif" ContentType="image/gif"/>
  <Override PartName="/ppt/media/image27.gif" ContentType="image/gif"/>
  <Override PartName="/ppt/media/image22.jpeg" ContentType="image/jpeg"/>
  <Override PartName="/ppt/media/image4.gif" ContentType="image/gif"/>
  <Override PartName="/ppt/media/image34.gif" ContentType="image/gif"/>
  <Override PartName="/ppt/media/image6.jpeg" ContentType="image/jpeg"/>
  <Override PartName="/ppt/media/image25.gif" ContentType="image/gif"/>
  <Override PartName="/ppt/media/image36.gif" ContentType="image/gif"/>
  <Override PartName="/ppt/media/image35.gif" ContentType="image/gif"/>
  <Override PartName="/ppt/media/image43.jpeg" ContentType="image/jpeg"/>
  <Override PartName="/ppt/media/image52.gif" ContentType="image/gif"/>
  <Override PartName="/ppt/media/image44.jpeg" ContentType="image/jpeg"/>
  <Override PartName="/ppt/media/image45.gif" ContentType="image/gif"/>
  <Override PartName="/ppt/media/image46.jpeg" ContentType="image/jpeg"/>
  <Override PartName="/ppt/media/image47.jpeg" ContentType="image/jpeg"/>
  <Override PartName="/ppt/media/image50.gif" ContentType="image/gif"/>
  <Override PartName="/ppt/media/image48.jpeg" ContentType="image/jpeg"/>
  <Override PartName="/ppt/media/image53.jpeg" ContentType="image/jpeg"/>
  <Override PartName="/ppt/media/image54.gif" ContentType="image/gif"/>
  <Override PartName="/ppt/media/image55.gif" ContentType="image/gif"/>
  <Override PartName="/ppt/media/image40.jpeg" ContentType="image/jpeg"/>
  <Override PartName="/ppt/media/image51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30.jpeg" ContentType="image/jpeg"/>
  <Override PartName="/ppt/media/image9.gif" ContentType="image/gif"/>
  <Override PartName="/ppt/media/image39.gif" ContentType="image/gif"/>
  <Override PartName="/ppt/media/image38.gif" ContentType="image/gif"/>
  <Override PartName="/ppt/media/image8.gif" ContentType="image/gif"/>
  <Override PartName="/ppt/media/image33.wmf" ContentType="image/x-wmf"/>
  <Override PartName="/ppt/media/image37.gif" ContentType="image/gif"/>
  <Override PartName="/ppt/media/image7.gif" ContentType="image/gif"/>
  <Override PartName="/ppt/media/image11.gif" ContentType="image/gif"/>
  <Override PartName="/ppt/media/image2.gif" ContentType="image/gif"/>
  <Override PartName="/ppt/media/image32.gif" ContentType="image/gif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8848-4363-4C0F-8003-3ACC34A63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F2AF-C101-4D56-BC81-F3263365A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F435-6429-437F-8B9E-41AB122D8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6CE1-7641-4770-BCCC-ADDB4ABF5E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3005-2F23-4ED6-8563-3A086D82F2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0860-6F96-47F1-B450-26A3613EA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437B-FC35-40C4-93E9-30FAEC951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36C1-1BDE-4686-A73E-FBC6C9381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3C48-B278-429B-8988-763E99459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669B-A136-49F9-842E-3428EEC15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0196-D488-4F91-B741-DE19035CC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3A32-31AE-4A39-856F-43FF4F56D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5B87B1-CBD6-409D-98E8-2C68B74A1A9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1.gi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914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ый год и Рождество в разных странах мир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17840" y="2808360"/>
            <a:ext cx="3962160" cy="3292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ремена Великой Французской революции Новый год во Франции отмечали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2 сентябр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в день образования Республ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нгл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685800" y="1295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в средние века Новый год встречали весной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мар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ычай обмениваться поздравительными открытками с пожеланием счастья и удачи пришёл из Англ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2819520" cy="252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828800" y="0"/>
            <a:ext cx="17146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огодняя ёлк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492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украшать Новогоднюю ёлку пришёл от наших далёких предков, которые относились к деревьям , как к живым существа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374004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685800" y="9144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 как в наши дни встречают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ый год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2361960" cy="304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72404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50000">
              <a:srgbClr val="ccccff"/>
            </a:gs>
            <a:gs pos="100000">
              <a:srgbClr val="5e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рм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685800" y="1676520"/>
            <a:ext cx="5181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Герма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ждество Христо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читается главным и любимым праздником. Именно Германии мир обязан традицией украшать ёлки. Рождественский стол в Германии обязательно застилают снежно-белой скатертью, украшают еловыми ветками, свечами и всевозможными милыми сувенирчик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1219320" cy="116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встр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1981080"/>
            <a:ext cx="4876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встрии в Новогоднюю ночь принято гадать. Все покупают оловянные фигурки, которые расплавляют на свече и выливают в специальную посуду. По тому, что вылилось, определяют какая судьба ждёт в наступающем 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Чех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85800" y="1752480"/>
            <a:ext cx="5562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Чехии одинаково активно справляют и Рождество и Новый год. Своеобразен чешский новогодний стол. Мясо – символ благополучия и богатства. В качестве горячего подают запеченного в сметане карпа. А на десерт шоколадный торт с шампанским.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60532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438280" cy="23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тал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228600" y="1905120"/>
            <a:ext cx="60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нун Нового года в Италии из окон летят старые ненужные вещи, и чем больше старья выброшено, тем лучше. Итальянцы встречают новогодний праздник в обновленном интерьере и новой одеж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2684520" cy="297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391520" y="838080"/>
            <a:ext cx="1442880" cy="22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7696080" y="320040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олгар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8580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ело встречают Новый год в Болгарии. Когда все собираются за праздничным столом, во всех домах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 мину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асят свет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нуты новогодних поцелу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айну, которых хранит темно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5943600" y="2800440"/>
            <a:ext cx="2971800" cy="2927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олланд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2286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ым блюдом рождественского стола в Голландии является индейка, запечённая с яблоками. Также голландцы  не представляют себе рождественский ужин без сладкого печенья, марципанов и знаменитого голландского хлебца (кекса с орехами и изюм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вый год в Голландии принято встречать пончиками. Встречая Новый год жители этой страны пьют шампанско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743200" cy="183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2133720" cy="155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68580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ходит старый год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уршит его последняя страниц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усть лучшее, что было не уйдёт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 худшее не сможет повторитьс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4114800" cy="304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7162920" y="990720"/>
            <a:ext cx="181908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глия и СШ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подавать к столу рождественскую индейку пришёл именно из Англии. Здесь её подают с рисовым пудингом и овощами. В США индейку подают с картофелем-фр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Англии и США любимым семейным праздником является Рождество, а вот Новый год они отмечают по-разно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РЛАНД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8580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рландии вечером накануне Нового года все открывают двери своих домов. Каждый кто пожелает, может войти и будет желанным гостем. Его угостят и преподнесут стакан вина со словами: «За мир в этом доме и во всём мире!»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ринная ирландская традиция – дарить на счастье кусочек уг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160632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7772400" y="2209680"/>
            <a:ext cx="1371600" cy="2362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7162920" y="609480"/>
            <a:ext cx="1981080" cy="14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685800" y="1676520"/>
            <a:ext cx="4952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спании основным праздником является Рождество. Вся семья встречает его за богато накрытым столом. На праздничном столе торты, рулеты, кексы и пирожные. 31 декабря – День Святого Николая – праздник, который испанцы отмечают в кругу друзей и близких, веселясь от души. Подарки вывешиваютя в чулочки для даров и получают их только дети. Дарят им подарки 6 январ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68120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6553080" y="380880"/>
            <a:ext cx="2286000" cy="161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встрал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8580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встралии Новый год наступ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янва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 время здесь стоит такая жара, что Деду Морозу и Снегурочке  приходится разносить подарки в купальных костюмах. Правда, сохраняется обязательный атрибут Деда Мороза – красная шапочка с помпоном и белая борода. Новогодний вечер жители Австралии проводят в компании друзей, гуляя по нарядному городу под открытым небом, озарённым огнями салю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289584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40184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ндонез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68580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Индонезию Новый год приходит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тябре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ядно одетые индонезийцы просят прощения за те неприятности, которые они доставили друг другу в минувшем год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811600" cy="423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9056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нд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685800" y="1676520"/>
            <a:ext cx="5181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яды встречи Нового года в Индии очень красивы. Индусы украшают себя розовыми, белыми и красными цветами. Существуют и особые ритуалы подношения подарков. Например, подарки детям кладут на специальный поднос, а утром дети с завязанными глазами выбирают себе подар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751120" cy="4114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2362320" cy="155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ирм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685800" y="1752480"/>
            <a:ext cx="4876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ый год в Бирме наступае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прел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Именно в это время здесь стоит знойная жара. Целую неделю люди с удовольствием поливают друг друга водой, идет новогодний праздник воды «тинджан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010280" y="1981080"/>
            <a:ext cx="144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3284640" cy="495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904760" cy="150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ПО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04920" y="1981080"/>
            <a:ext cx="5181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р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февра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се жители городов и сёл выходят на улицу встречать восход солнца. С первыми лучами восходящего солнца они поздравляют друг друга с Новым годом и обмениваются подар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японцев есть замечательный обычай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ять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момент наступления Нового г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715000" y="44197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6095880" y="18288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ьетна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ьетнаме Новый год – это праздник дружбы. Встречают его вьетнамцы ночью, а с наступлением сумерек они разводят костры в парках, садах и на улице. В Новогоднюю ночь прощают все обиды и забывают все сс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5791320" y="4191120"/>
            <a:ext cx="3124080" cy="227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048120" cy="2004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tretch/>
        </p:blipFill>
        <p:spPr>
          <a:xfrm>
            <a:off x="5562720" y="2362320"/>
            <a:ext cx="120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4"/>
          <a:stretch/>
        </p:blipFill>
        <p:spPr>
          <a:xfrm>
            <a:off x="6629400" y="2438280"/>
            <a:ext cx="1204920" cy="1981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5"/>
          <a:stretch/>
        </p:blipFill>
        <p:spPr>
          <a:xfrm>
            <a:off x="7772400" y="2362320"/>
            <a:ext cx="120492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685800" y="1066680"/>
            <a:ext cx="5181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красиво в Новогоднюю ночь в Китае. Кажется, что вся страна похожа на огромный светящийся шар, потому что во время новогодней процессии китайцы зажигают множество фонарей, чтобы осветить себе путь в новый год. Они считают, что новый год окружен злыми духами  и нечистой силой и отпугивают их с помощью хлопушек и фейервер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3048120" cy="226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6324480" y="30492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6095880" y="4876920"/>
            <a:ext cx="2667240" cy="1778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емного истории…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65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f8b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8580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есно встречают Новый г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кимо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у которых нет точной даты этого праздника. Выпал первый снег, значит и Новый год наступил – встречайте его!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334120" y="278460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1447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6172200" y="304920"/>
            <a:ext cx="22050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ревний Египе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85800" y="2819520"/>
            <a:ext cx="4267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вый год встречали в начал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т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во время разлива Н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97360" cy="449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3972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евняя Грец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85800" y="1676520"/>
            <a:ext cx="4343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зднование Нового года приходилось на самый длинный день в году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2 июн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Летоисчисление древние греки вели от первых Олимпийских игр, которые устраивались в честь легендарного Герак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евний Ри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делать подарки пришёл из Древнего Рима, где первыми подарками были ветви лавра, которые символизировали счастье и удачу в наступающем год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3047760" cy="28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им. Юлий Цезар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лендарь, в котором Новый год начинался с 1 января, ввёл римский императо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Юлий Цезар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В историю он вошёл как знаменитый «юлианский календарь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1377720" cy="1447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треча Нового года в России приходилась на 1 сентября. И только в 1700 году по указ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тра Велик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овый год стали отмечать 1 января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73996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334120" y="3962520"/>
            <a:ext cx="213192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ссия. 1700 го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304920" y="1981080"/>
            <a:ext cx="419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ование Нового года в 1700 году началось парадом на Красной площади, а вечером небо озарилось яркими огнями праздничного фейервер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9424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07:16Z</dcterms:created>
  <dc:creator>Владелец</dc:creator>
  <dc:description/>
  <dc:language>en-US</dc:language>
  <cp:lastModifiedBy>User</cp:lastModifiedBy>
  <dcterms:modified xsi:type="dcterms:W3CDTF">2019-03-10T17:46:36Z</dcterms:modified>
  <cp:revision>45</cp:revision>
  <dc:subject/>
  <dc:title> Новый год и Рождество в разных странах мира</dc:title>
</cp:coreProperties>
</file>