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6CACD-C8BE-4710-AEE9-6ABEAA488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9F3A4-2FF8-4A04-B2FC-965B44B3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831D5-24A4-46A0-A0A0-DB5CFFE71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B07BC-A9EF-48BA-AA22-FFB3C0105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F81D-0D18-4AE8-9445-DB1C94010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B932-5BCC-4CDB-B129-A78473A3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D8E88-9895-430D-A310-1899EC81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A8893-0ACB-4DCF-94B1-8E94CB7F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5CFA-6A23-4FA0-A171-6072CB18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D5D2-6D01-4C37-BE90-95AE6117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BEE4-BD7D-4E35-849C-23CB20E2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F3B9B-0405-481F-BE5E-0F7965FB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A2D2E-D281-4574-97BB-18DB2CC4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11BE-81CB-42F8-8358-12779637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E6F1-E72B-478F-8DB3-283F2CC1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95F0-888D-435B-A560-C6D00378C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4BC6-7BA2-4F30-A796-DFEBF7FB6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70E0C-BDE7-49E8-B271-44FE9012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29046-3A3B-454E-BB48-46169EC2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F1E3A-A9FA-400B-8771-F25E160D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84C66-6F06-4858-A06B-CB8B598B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06781-D1C5-4207-9641-F9EEFAFF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28FF7-C972-4BE2-B28A-87D6EF6C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A1CC2-9534-4F20-8E24-3C4CA8F9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42A5-956C-4615-90D2-2E03E19B76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552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8406-01EC-43DD-A581-74EACA0D38B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gipertonia03.ru/sistolicheskoe-arterialnoe-davlenie.html" TargetMode="External"/><Relationship Id="rId5" Type="http://schemas.openxmlformats.org/officeDocument/2006/relationships/image" Target="../media/image1.png"/><Relationship Id="rId6" Type="http://schemas.openxmlformats.org/officeDocument/2006/relationships/hyperlink" Target="http://gipertonia03.ru/diastolicheskoe-arterialnoe-davlenie.html" TargetMode="External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5" descr="C:\Users\L K\Desktop\открытки\какетки\n_fa00a700823_3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0000b3"/>
                </a:solidFill>
                <a:latin typeface="Arial"/>
              </a:rPr>
              <a:t>Объективное сестринское обследование пациента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304920"/>
            <a:ext cx="8229600" cy="58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итм дыхательных движений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 дыхательные движения через определенные промежутки времени. Если эти промежутки одинаковые – дыхание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ритмично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если нет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ритмично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икличные нервные импульсы определяют базовый ритм дыхания от продолговатого мозга к главным «дыхательным» мышцам – диафрагме и наружным межреберным мышца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456840"/>
            <a:ext cx="8229600" cy="56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личают дыхание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верхностное и глубоко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ерхностное дыхание может быть неслышным на расстоянии или слегка слышным. Оно часто сочетается с патологическим учащением дыха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лубокое дыхание, слышимое на расстоянии, чаще всего связано с патологическим урежением дых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" descr="C:\Users\L K\Desktop\открытки\какетки\puls-pri-bege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Пульс</a:t>
            </a: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 (Р</a:t>
            </a: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)–колебания (удары) стенки артерии обусловленного выбросом крови из сердца при его сокращении 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1523520"/>
            <a:ext cx="891540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астота сердечных сокращений (ЧСС)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60 – 80 в мин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&gt;80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хикард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&lt;60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радикардия;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ефицит пульса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разница между ЧСС и частотой пуль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C:\Users\L K\Desktop\открытки\какетки\Normy-davleniya-u-chelovek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b3"/>
                </a:solidFill>
                <a:uFillTx/>
                <a:latin typeface="Arial"/>
              </a:rPr>
              <a:t>Артериальное давление</a:t>
            </a:r>
            <a:r>
              <a:rPr b="0" lang="ru-RU" sz="2800" spc="-1" strike="noStrike">
                <a:solidFill>
                  <a:srgbClr val="0000b3"/>
                </a:solidFill>
                <a:latin typeface="Arial"/>
              </a:rPr>
              <a:t> (АД)– давление крови на стенки артерий во время систолы и диастолы сердца.</a:t>
            </a:r>
            <a:br>
              <a:rPr sz="2800"/>
            </a:b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73"/>
                </a:solidFill>
                <a:latin typeface="Arial"/>
              </a:rPr>
              <a:t>Существует средняя норма артериального давле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99ff"/>
                </a:solidFill>
                <a:uFillTx/>
                <a:latin typeface="Arial"/>
                <a:hlinkClick r:id="rId4"/>
              </a:rPr>
              <a:t>систолическое</a:t>
            </a:r>
            <a:r>
              <a:rPr b="0" lang="ru-RU" sz="3200" spc="-1" strike="noStrike">
                <a:solidFill>
                  <a:srgbClr val="0000b3"/>
                </a:solidFill>
                <a:latin typeface="Arial"/>
              </a:rPr>
              <a:t> в пределах </a:t>
            </a:r>
            <a:r>
              <a:rPr b="1" lang="ru-RU" sz="3200" spc="-1" strike="noStrike">
                <a:solidFill>
                  <a:srgbClr val="0000b3"/>
                </a:solidFill>
                <a:latin typeface="Arial"/>
              </a:rPr>
              <a:t>110 – 139 мм </a:t>
            </a:r>
            <a:r>
              <a:rPr b="0" lang="ru-RU" sz="3200" spc="-1" strike="noStrike">
                <a:solidFill>
                  <a:srgbClr val="0000b3"/>
                </a:solidFill>
                <a:latin typeface="Arial"/>
              </a:rPr>
              <a:t>рт. ст.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99ff"/>
                </a:solidFill>
                <a:uFillTx/>
                <a:latin typeface="Arial"/>
                <a:hlinkClick r:id="rId6"/>
              </a:rPr>
              <a:t>диастолическое</a:t>
            </a:r>
            <a:r>
              <a:rPr b="0" lang="ru-RU" sz="3200" spc="-1" strike="noStrike">
                <a:solidFill>
                  <a:srgbClr val="00b0f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00b3"/>
                </a:solidFill>
                <a:latin typeface="Arial"/>
              </a:rPr>
              <a:t>– от </a:t>
            </a:r>
            <a:r>
              <a:rPr b="1" lang="ru-RU" sz="3200" spc="-1" strike="noStrike">
                <a:solidFill>
                  <a:srgbClr val="0000b3"/>
                </a:solidFill>
                <a:latin typeface="Arial"/>
              </a:rPr>
              <a:t>60 до 90 мм рт. ст</a:t>
            </a:r>
            <a:r>
              <a:rPr b="0" lang="ru-RU" sz="3200" spc="-1" strike="noStrike">
                <a:solidFill>
                  <a:srgbClr val="0000b3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8b8ff"/>
                </a:solidFill>
                <a:uFillTx/>
                <a:latin typeface="Arial"/>
              </a:rPr>
              <a:t>пульсовое</a:t>
            </a:r>
            <a:r>
              <a:rPr b="0" lang="ru-RU" sz="2800" spc="-1" strike="noStrike">
                <a:solidFill>
                  <a:srgbClr val="8682dd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40-50 мм рт. с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деальным показателем считается АД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120/80 мм рт. ст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возможную патологию указывает показатель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ыше 140/90 мм рт. </a:t>
            </a:r>
            <a:r>
              <a:rPr b="0" lang="ru-RU" sz="3200" spc="-1" strike="noStrike">
                <a:solidFill>
                  <a:srgbClr val="0000b3"/>
                </a:solidFill>
                <a:latin typeface="Arial"/>
              </a:rPr>
              <a:t>ст.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def6"/>
                </a:solidFill>
                <a:latin typeface="Arial"/>
              </a:rPr>
              <a:t>Определение водного баланса.</a:t>
            </a:r>
            <a:br>
              <a:rPr sz="3200"/>
            </a:b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57200" y="99036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урез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это выделение мочи за известный промежуток време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уточный диурез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– общее количество мочи, выделенной пациентом в течение сут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уточный диурез у взрослых 800 - 2000 мл и зависит от возраста, температуры и влажности окружающей среды, условий питания, физических нагрузок и других факторов и должен составля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75-80%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 количества выпитой жидкост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0-25%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идкости выводится с потом, дыханием и стул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def6"/>
                </a:solidFill>
                <a:latin typeface="Arial"/>
              </a:rPr>
              <a:t>Определение водного баланса.</a:t>
            </a:r>
            <a:br>
              <a:rPr sz="3200"/>
            </a:b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точный водный баланс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— это соотношение между количеством введенной в организм жидкости и количеством выделенной жидкости из организма в течение сут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итывается жидкость, содержащаяся во фруктах, супах, овощах и т. д., а также объем парентерально вводимых растворо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def6"/>
                </a:solidFill>
                <a:latin typeface="Arial"/>
              </a:rPr>
              <a:t>Учет и определение водного баланса</a:t>
            </a:r>
            <a:br>
              <a:rPr sz="3200"/>
            </a:b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720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ель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диагностика скрытых оте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ащение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дицинские вес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рная стеклянная градуированная емкость для сбора мочи, лист учета водного балан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полнение процедур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ъяснить, что в 6.00 часов необходимо помочиться в унита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бирать мочу после каждого мочеиспускания в градуированную емкость, измерять диуре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иксировать количество выделенной жидкости в листе уче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иксировать количество поступившей в организм жидкости в листе уче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8.00 следующего дня сдать лист учета медицинской сест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fdef6"/>
                </a:solidFill>
                <a:latin typeface="Arial"/>
              </a:rPr>
              <a:t>Например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457200" y="914400"/>
          <a:ext cx="8229600" cy="3902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веденная жидк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веденная жидк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b89"/>
                          </a:solidFill>
                          <a:latin typeface="Arial"/>
                        </a:rPr>
                        <a:t>00м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b89"/>
                          </a:solidFill>
                          <a:latin typeface="Arial"/>
                        </a:rPr>
                        <a:t>100м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b89"/>
                          </a:solidFill>
                          <a:latin typeface="Arial"/>
                        </a:rPr>
                        <a:t>150м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b89"/>
                          </a:solidFill>
                          <a:latin typeface="Arial"/>
                        </a:rPr>
                        <a:t>500м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ff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b89"/>
                          </a:solidFill>
                          <a:latin typeface="Arial"/>
                        </a:rPr>
                        <a:t>250м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b89"/>
                          </a:solidFill>
                          <a:latin typeface="Arial"/>
                        </a:rPr>
                        <a:t>150м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b89"/>
                          </a:solidFill>
                          <a:latin typeface="Arial"/>
                        </a:rPr>
                        <a:t>50м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b89"/>
                          </a:solidFill>
                          <a:latin typeface="Arial"/>
                        </a:rPr>
                        <a:t>100м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ff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b89"/>
                          </a:solidFill>
                          <a:latin typeface="Arial"/>
                        </a:rPr>
                        <a:t>300м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b89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b89"/>
                          </a:solidFill>
                          <a:latin typeface="Arial"/>
                        </a:rPr>
                        <a:t>150м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b89"/>
                          </a:solidFill>
                          <a:latin typeface="Arial"/>
                        </a:rPr>
                        <a:t>300м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ff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b89"/>
                          </a:solidFill>
                          <a:latin typeface="Arial"/>
                        </a:rPr>
                        <a:t>250м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b89"/>
                          </a:solidFill>
                          <a:latin typeface="Arial"/>
                        </a:rPr>
                        <a:t>100м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b89"/>
                          </a:solidFill>
                          <a:latin typeface="Arial"/>
                        </a:rPr>
                        <a:t>Итого: 1350м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b89"/>
                          </a:solidFill>
                          <a:latin typeface="Arial"/>
                        </a:rPr>
                        <a:t>1250м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кончание процедуры: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914400" y="609480"/>
            <a:ext cx="822960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авнить количество выделенной жидкости с количеством рассчитанной жидкости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(80% -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рмальное количество выведения жидкост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дный баланс 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отрицательный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выделяется меньше жидкости, чем рассчитано в норм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дный баланс 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оложительный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выделено больше жидкости, чем рассчитано в норм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делать записи в температурном листе учета водного баланс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пример: 1350 – 100%, х – 8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 = 1350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·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80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100 = 1080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асибо за внима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Прямоугольник 3"/>
          <p:cNvSpPr/>
          <p:nvPr/>
        </p:nvSpPr>
        <p:spPr>
          <a:xfrm>
            <a:off x="4267080" y="2057400"/>
            <a:ext cx="762120" cy="7632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0" name="Picture 3" descr="C:\Users\L K\Desktop\открытки\какетки\641525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смотр проводится по определенному плану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щий осмот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мотр определенных сист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Методы обследова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полнитель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К основным методам обследования относятс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щий осмот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льп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кусс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ускульт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Аускультац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лат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uscultatio, 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ыслушиван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 – выслушивание звуковых явлений, связанных с деятельностью внутренних органов; является методом объективного обследов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посредственная аускультация (производится путем прикладывания уха к больному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редственная аускультация (производится при помощи стетоскопа или фонендоскоп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Picture 4" descr="C:\Users\L K\Desktop\открытки\какетки\Аускультация-легких.jpg"/>
          <p:cNvPicPr/>
          <p:nvPr/>
        </p:nvPicPr>
        <p:blipFill>
          <a:blip r:embed="rId4"/>
          <a:stretch/>
        </p:blipFill>
        <p:spPr>
          <a:xfrm>
            <a:off x="5867280" y="4191120"/>
            <a:ext cx="2381400" cy="238104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5" descr="C:\Users\L K\Desktop\открытки\какетки\782.jpg"/>
          <p:cNvPicPr/>
          <p:nvPr/>
        </p:nvPicPr>
        <p:blipFill>
          <a:blip r:embed="rId5"/>
          <a:stretch/>
        </p:blipFill>
        <p:spPr>
          <a:xfrm>
            <a:off x="457200" y="4114800"/>
            <a:ext cx="2840040" cy="253512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6" descr="C:\Users\L K\Desktop\открытки\какетки\vzyatssoboijpg.jpg"/>
          <p:cNvPicPr/>
          <p:nvPr/>
        </p:nvPicPr>
        <p:blipFill>
          <a:blip r:embed="rId6"/>
          <a:stretch/>
        </p:blipFill>
        <p:spPr>
          <a:xfrm>
            <a:off x="3352680" y="4191120"/>
            <a:ext cx="24386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7200" y="304920"/>
            <a:ext cx="8229600" cy="58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альпац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 (лат  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palpatio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ощупывание) — физический метод диагностики проводимый путём ощупывания тела пациен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альпация основана на осязательном ощущении, возникающем при движении и давлении пальцев или ладони ощупывающей руки. С помощью пальпации определяют свойства тканей и органов: их положение, величину, форму, консистенцию, подвижность, топографические соотношения, а также болезненность исследуемого орга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Picture 2" descr="C:\Users\L K\Desktop\открытки\какетки\su-alerjisi-belirtileri_646x340.jpg"/>
          <p:cNvPicPr/>
          <p:nvPr/>
        </p:nvPicPr>
        <p:blipFill>
          <a:blip r:embed="rId3"/>
          <a:stretch/>
        </p:blipFill>
        <p:spPr>
          <a:xfrm>
            <a:off x="4267080" y="3809880"/>
            <a:ext cx="4600800" cy="268632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3" descr="C:\Users\L K\Desktop\открытки\какетки\palpacia-2-m.jpg"/>
          <p:cNvPicPr/>
          <p:nvPr/>
        </p:nvPicPr>
        <p:blipFill>
          <a:blip r:embed="rId4"/>
          <a:stretch/>
        </p:blipFill>
        <p:spPr>
          <a:xfrm>
            <a:off x="838080" y="3733920"/>
            <a:ext cx="3124440" cy="27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-547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7200" y="304920"/>
            <a:ext cx="8229600" cy="58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еркусс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физический метод диагностики , заключающийся в простукивании отдельных участков тела и анализе звуковых явлений, возникающих при эт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лессиметр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олоточек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ле этого медсестра готовит пациента к другим назначенным обследования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Picture 2" descr="C:\Users\L K\Desktop\открытки\какетки\44f6-74d22c-1701c0.jpg"/>
          <p:cNvPicPr/>
          <p:nvPr/>
        </p:nvPicPr>
        <p:blipFill>
          <a:blip r:embed="rId4"/>
          <a:stretch/>
        </p:blipFill>
        <p:spPr>
          <a:xfrm>
            <a:off x="4800600" y="2590920"/>
            <a:ext cx="3352680" cy="22190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3" descr="C:\Users\L K\Desktop\открытки\какетки\656247.jpg"/>
          <p:cNvPicPr/>
          <p:nvPr/>
        </p:nvPicPr>
        <p:blipFill>
          <a:blip r:embed="rId5"/>
          <a:stretch/>
        </p:blipFill>
        <p:spPr>
          <a:xfrm>
            <a:off x="457200" y="2743200"/>
            <a:ext cx="32004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80880" y="-36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При общем осмотре определяют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1. общее состояние пациент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райне тяжело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редней тяже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довлетворительно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2. положение пациента в постели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ктивно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ассивно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нужденно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3. состояние сознания (различают пять видов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сное – пациент конкретно и быстро отвечает на вопрос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мрачненное – пациент отвечает на вопросы правильно, но с опоздание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упор – оцепенение, пациент на вопросы не отвечает или отвечает не осмысленн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опор – патологический сон, сознание отсутству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ома – полное подавление сознания, с отсутствием рефлекс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4. данные антропометрии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ос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е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5. дыхание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мостоятельно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атрудненно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вободно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ашел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6. наличие или отсутствие одышк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различают следующие виды одышки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экспираторна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нспираторна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мешанна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7. частоту дыхательных движений (ЧДД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8. артериальное давление (АД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9. пульс (P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10. данные термометрии и т. 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2" descr="C:\Users\L K\Desktop\открытки\какетки\2408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ыхание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dfdef6"/>
                </a:solidFill>
                <a:latin typeface="Arial"/>
              </a:rPr>
              <a:t>– жизненно важная потребность человека, процесс, обеспечивающий непрерывное поступление в организм кислорода и выведение наружу углекислого газа и водяных паров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иды дыха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нешнее – легочное – доставка кислорода в кров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нутреннее – перенос кислорода из крови к органам и тканя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вышение содержания углекислого газа в крови вызывает возбуждение дыхательного центра, а понижение – угнетает его деятель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ыхание состоит из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аз вдоха и выдох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а одно дыхание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нимают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 вдох и 1 выдо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83818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2f2f2"/>
                </a:solidFill>
                <a:latin typeface="Arial"/>
              </a:rPr>
              <a:t>При оценке дыхания учитыва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Частоту, ритм, глубину, тип дых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Частота дыхательных движений(ЧДД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  в одну минуту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6-20 в мин,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 среднем у взрослых, у женщин она на 2-4 дыхания больше, чем у мужчин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&gt;20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 тахипноэ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&lt;16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 брадипноэ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испноэ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расстройство дых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пноэ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остановка дых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57200" y="304920"/>
            <a:ext cx="8229600" cy="58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висит ЧДД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только от пола, но и от положения тела, состояния нервной системы, возраста, температуры тела 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от положения тела: лежа – ЧДД 14-16, сидя – 16-18, стоя  18-20 в одну минут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от физической активности: 12-14 – во время сна, учащение – при физической нагруз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 тренированных людей и спортсменов ЧДД может достигать 6-8 в минут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При повышении температуры тела на 1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 дыхание учащается в среднем на 4 дыхательных движ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 K</cp:lastModifiedBy>
  <dcterms:modified xsi:type="dcterms:W3CDTF">2017-12-24T21:44:34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