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31D-A2C4-4094-8134-98741731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4C0-261E-4216-93CA-EDABCBE0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5C1-9C9B-44FB-BF5C-92902570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2FE-D427-4CBC-BC0C-2094410E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F1BF-0BD7-493F-8406-DADDB922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B003-709B-4904-B2A2-141BC818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EE19-2D53-46DC-B16D-58E7915E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F530-2DF2-459A-91BC-D1FA327E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EC08-1634-4C6F-AC6A-965BE43A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E9C6-9F3A-4E9D-AD8C-7EC3986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A093-3AA9-4E5B-B346-0396FBB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3B0-2596-471F-A8C2-69A0ECF1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B60D-C77A-4852-9BE8-DE7624EF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8EE1-6DC7-4D9B-8054-8223D200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2035-2133-4761-B155-7256A539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390F-B8C3-4D3D-B22B-1FF09FDA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8532-02FB-4D0B-9CE4-415462A7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5904-6A9C-413C-976C-A649903C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F3D8-62FF-48C3-82BC-C384A58C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2D5C-CB0E-491C-880F-49B796F8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CA96-B023-49FB-974A-3CD2C658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22F7-B07D-43CA-9BC4-302EDACB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276-17D6-4AC5-A5A9-DB88EE3A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0A0B-8736-4B20-9074-56E1D983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EBD7-7BBD-4404-B901-4A54BC02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0E17-688D-4BA4-AC6D-D9022418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99AE-DC92-45A3-A678-FAA6413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5EA1-9E27-4B8A-BEEB-0504403D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A0E2-354F-4611-A9F9-8A6B0BFE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2CA4-4920-4645-916D-71E5779D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532D-BAF2-46E2-B47C-178D5877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A592-E70C-4E6A-AE34-F414D8C0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A94E-4E76-4DBC-8C6F-0BA45F0A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F04-3081-4783-8A59-BCAB62BB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FDE2-C455-4A85-9908-31D56283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07F28-1657-437F-AFCC-8FD2CF7C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910D-48DF-468D-89F8-4CAE88CC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64BF-CC76-4108-87D7-AF7D4E3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788AA-B806-4ABC-822B-2D0DE1B9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4C61-BD55-4914-B21C-67EE74DE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7FA0-3421-43E3-9858-BF8039C0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D696-9330-415A-93FB-6C64D86B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D921-5725-491C-8D26-16541A5D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ED4D-9F7A-43A1-833D-FEEB73F3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6DA-4CA4-4BD5-A1C1-C464FB31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A817-5F7E-4D4A-8019-8F22EBC6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70E9E-40B7-46D4-9643-7FD0A8B3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84E2F-B20D-4F6B-A1FD-4FCD0F97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91B7F-E175-474D-853C-7D44CD13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BA4F-DEE4-4110-BCFF-A7E0C67C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AF573-434B-4FFD-A423-220B262F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0DFFD-8746-4DE2-841A-793D7DB0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9E46D-25FA-4B88-9A5A-E709B32C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89954-2F95-40C7-8B2E-1B8DEBB5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681A1-44EB-47EB-A95E-26371621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DC0-C568-405D-BB6D-95B3BEAA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B8AC-9EB6-41AC-886F-6D87D4C4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E51-45E9-438D-9915-D76CBE4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6C8-643F-4EE9-868D-ED272365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90C-6FCB-4204-A87F-C1E888F1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FC89-782F-4D39-B182-03ED3614E9B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DCAB-DAC1-4775-8589-34F14465C7B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F2E3-5A12-4F38-A9CB-4D709BF859C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90CE-1349-4B11-AA4F-A1A73F78F85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711-2374-44B7-A06A-D19617D5000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03640" y="4724280"/>
            <a:ext cx="5721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225360" y="133200"/>
            <a:ext cx="8461440" cy="1293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Ценность человека не зависит от его способностей и достижен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ждый человек способен чувствовать и думать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ждый человек имеет право на общение и на то, чтобы быть услышанны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е люди нуждаются друг в друг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длинное образование может осуществляться только в контексте реальных взаимоотношен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е люди нуждаются в поддержке и дружбе ровесников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всех обучающихся достижение прогресса скорее может быть в том, что они могут делать, чем в том, что не могут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знообразие усиливает все стороны жизни человек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Дети с ограниченными возможностями здоровья (ОВЗ) – дети, состояние здоровья которых препятствует освоению образовательных программ вне специальных условий обучения и воспитан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слуха (неслышащие, слабослышащие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зрения (незрячие, слабовидящие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ЗПР(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задержкой психического развития)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интеллектуального развития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эмоционально-волевой сферы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комплексными (сложными) нарушениями развит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639720" y="171360"/>
            <a:ext cx="8510760" cy="1596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19918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ти с особыми образовательными потребностями часто признаются необучаемым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ольшинство учителей и директоров массовых школ недостаточно знают о проблемах инвалидности и не готовы к включению детей- инвалидов в процесс обучения в классах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одители детей инвалидов не знают, как отстаивать права детей на образование и испытывают страх перед системой образования и социальной поддержк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рхитектурная недоступность школ, учрежде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-274680" y="109440"/>
            <a:ext cx="8510760" cy="878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ние безбарьерной среды в общеобразовательных учреждениях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дготовку специалистов и методик совместного образования детей-инвалидов в массовой школ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работку и апробирование модели инклюзивного образования в нескольких регионах России, включая и сельские школ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дусмотреть меры по распространению эффективных моделей инклюзивного образования в массовых школах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еспечить выделение необходимых ресурсов для разработки, апробирова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внедрения моделей инклюзивного образовани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762120" y="92160"/>
            <a:ext cx="8388360" cy="1279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Создание адаптивной среды, позволяющей обеспечить  полноценное включение и личностную самореализацию в образовательном учреждени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оздание в образовательном учреждении общего типа надлежащих материально-технических условий, обеспечивающих возможность для беспрепятственного доступа детей в здание и помещения ОУ и организации их пребывания и обучения в этом учреждении (пандусы, лифты, специально оборудованные учебные места, специализированное , реабилитационное, медицинское оборудование и т.д.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-152280" y="165240"/>
            <a:ext cx="8388360" cy="1279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учение и коррекция развития детей с ограниченными возможностями здоровья должны осуществляться по образовательным программам, разработанным на баз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сновных общеобразовательных программ с учетом психофизических особенностей и возможностей таких обучающих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обходимо комплексное психолого-педагогическое сопровождение ребенка с ограниченными возможностями здоровья на протяжении всего периода его обучения в ОУ общего тип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обходима специальная  подготовка педагогического коллектива ОУ  общего типа в соответствии со спецификой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ебно-воспитательной и коррекционной работы 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-152280" y="176040"/>
            <a:ext cx="8388360" cy="1281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целях обеспечения освоения детьми с ограниченными возможностями здоровья  образовательных программ  целесообразно ввести в штатное расписание ОУ общего типа дополнительные ставки педагогических (учителя-дефектологи,  учителя-логопеды, педагоги-психологи, социальные педагоги, воспитатели и др.) и медицинских работников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6480" y="55440"/>
            <a:ext cx="8242560" cy="706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7858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Формирование толерантного отношения в обществе к детям –инвалидам и к детям  с ограниченными возможностями здоровь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обеспечения эффективного включения детей с ограниченными возможностями здоровья  в ОУ общего типа важное значение имеет проведение информационно-просветительской, разъяснительной работы по вопросам, связанным с особенностями образовательного процесса для данной категории детей, со всеми участниками образовательного процесса – обучающимися,  их родителями, педагогическими работникам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40000" y="2637000"/>
            <a:ext cx="4402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73278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ья 5. Право на образование. Государственные гарантии реализации права на образование в Российской Федер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5. В целях реализации права каждого человека на образование федеральными государственными органами, органами государственной власти субъектов Российской Федерации и органами местного самоуправлени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, оказания ранней коррекционной помощи на основе специальных педагогических подходов и наиболее подходящих для этих лиц языков, методов и способов общения и условия, в максимальной степени способствующие получению образования определенного уровня и определенной направленности, а также социальному развитию этих лиц, в том числе посредством организации инклюзивного образования лиц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73454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4. Образование обучающихся с ограниченными возможностями здоровья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Инклюзивное образование 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(фр. </a:t>
            </a:r>
            <a:r>
              <a:rPr b="1" i="1" lang="fr-FR" sz="2300" spc="-1" strike="noStrike">
                <a:solidFill>
                  <a:srgbClr val="6c6c6c"/>
                </a:solidFill>
                <a:latin typeface="Trebuchet MS"/>
              </a:rPr>
              <a:t>inclusif</a:t>
            </a: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-включающий в себя, лат. </a:t>
            </a:r>
            <a:r>
              <a:rPr b="1" i="1" lang="ru-RU" sz="2300" spc="-1" strike="noStrike">
                <a:solidFill>
                  <a:srgbClr val="6c6c6c"/>
                </a:solidFill>
                <a:latin typeface="Trebuchet MS"/>
              </a:rPr>
              <a:t>include</a:t>
            </a: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-заключаю, включаю) – процесс развития общего образования, который подразумевает доступность образования для всех, в плане приспособления к различным нуждам всех детей, что обеспечивает доступ к образованию для детей с особыми потребностями</a:t>
            </a: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255600" y="128520"/>
            <a:ext cx="8491680" cy="925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дей с инвалидностью около 11 мл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тей с инвалидностью до 18 лет 620 30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тей со специальными образовательными нуждами от 7 до 18 лет около 1,6 мл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-255600" y="128520"/>
            <a:ext cx="849168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826920" y="1954080"/>
            <a:ext cx="2665440" cy="1654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3851280" y="2205000"/>
            <a:ext cx="720720" cy="2303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4"/>
          <a:stretch/>
        </p:blipFill>
        <p:spPr>
          <a:xfrm>
            <a:off x="5578560" y="1773360"/>
            <a:ext cx="1817640" cy="24177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9"/>
          <p:cNvSpPr/>
          <p:nvPr/>
        </p:nvSpPr>
        <p:spPr>
          <a:xfrm>
            <a:off x="395280" y="4039560"/>
            <a:ext cx="23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овые 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567240" y="51577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ча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6227640" y="46605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изированные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755640" y="5132520"/>
            <a:ext cx="206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539640" y="476028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 дом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684000" y="5516640"/>
            <a:ext cx="20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1522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ы  корр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5" descr=""/>
          <p:cNvPicPr/>
          <p:nvPr/>
        </p:nvPicPr>
        <p:blipFill>
          <a:blip r:embed="rId1"/>
          <a:stretch/>
        </p:blipFill>
        <p:spPr>
          <a:xfrm>
            <a:off x="-255600" y="128520"/>
            <a:ext cx="8491680" cy="12985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ундаментальный принцип «образование для всех»  состоит в том, что каждый человек должен иметь возможность учить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сновополагающий принцип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клюзивного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се люди должны иметь возможность учиться вместе, независимо от каких-либо трудностей, имеющихся на этом пути, или различий в способности к обучению, которые они могут иметь.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дресатами инклюзивного образования являются люди с ограниченными возможностями здоровья, и инвалиды – лишь одни из них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-244440" y="73080"/>
            <a:ext cx="8480520" cy="1285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образование, при котором все дети, несмотря на свои физические, интеллектуальные и иные особенности, включены в общую систему образования и обучаются в общеобразовательных школах вместе со своими сверстник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означает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аскрытие каждого ученика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помощью образовательной программы, которая достаточно сложна, но соответствует его способностя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учитывает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потребност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также как и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пециальные условия и поддержку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необходимые ученику и учителям для достижения успех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-225360" y="133200"/>
            <a:ext cx="8461440" cy="1293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1.Создание инклюзивной культур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строение школьного сообщест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нятие инклюзивных ценност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2.Разработка инклюзивной полити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витие школы для всех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рганизация поддержки разнообраз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3.Развитие инклюзивной практи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правление процессом обуч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обилизация ресурс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9:36:07Z</dcterms:created>
  <dc:creator>Admin</dc:creator>
  <dc:description/>
  <dc:language>en-US</dc:language>
  <cp:lastModifiedBy>User1</cp:lastModifiedBy>
  <dcterms:modified xsi:type="dcterms:W3CDTF">2018-11-22T06:09:43Z</dcterms:modified>
  <cp:revision>8</cp:revision>
  <dc:subject/>
  <dc:title>Слайд 1</dc:title>
</cp:coreProperties>
</file>