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6AF-AE53-46A9-8986-5684762A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3E4-E6AD-4476-8964-6EA1C9C8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8CC-9C2A-4F70-985E-7277CAD4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A87-29A4-41D5-A829-8BEFBFF7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F4DC-840A-4EED-89F5-80B55611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2B68-04C4-4EC8-BFE7-E6E968AE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D35-4CFF-4627-BC26-758E0DA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F25-594A-4D33-8A25-0C092FD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0D69-8073-4078-9C6B-BCBF913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041B-0937-4AE4-8C58-0F70FBB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B1C-DBCD-4A5D-9AE2-84D964F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C84-69A8-4D17-9B4B-22952DD8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47F-A38A-4D8C-9EA9-4ECFA2A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1068-9F78-4787-981A-66FC3FE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EF4E-A3C2-41C7-B1F1-74B53304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28B-E23A-440E-99BB-2C8F7A8B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75A0-DCA8-48B0-B5D4-AE70B229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BB7A-7CD1-4DA6-B115-DC7323BE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1AC8-FD90-46EE-81B6-D963932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A4F8-4893-44C0-837E-5737E60B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E99A-F910-4192-AB44-AE43B124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0830-150E-4792-89A5-DF81214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3E5-91E6-4644-A8E3-A72EEF4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22E8-6BB2-45F9-93A3-6E6B0D5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6C04-8789-4E49-A530-1FC0ACE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D74B-BA55-4C5B-958B-198F0C8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866C-4BD5-45C1-8045-CBDA010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9D6C-EA4A-4A53-A5C1-CB8C0B25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5257-3F53-4616-9051-3D6DD5FA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C493-9035-46B8-9850-34B6CAB9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297B-42AB-4EDF-9883-10D8E03C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18C7-EBA6-44FE-9AA3-1DBE7BF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05A6-05F4-4239-A927-4557DAE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002-88FA-49D6-AA81-12DAEB8F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86DC-AE04-4888-9BF7-C0378160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DC41-680C-490B-BF3F-D81254D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10DA-2286-4846-B308-FCFDC1D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1A40-FA40-47FB-A0B1-B5270A3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122E-0BA5-4BAE-99A7-EE1F41C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275F-1FF3-47A5-B97E-B751B39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CFE7-453C-4C41-80BD-D41C44AE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5A72-8894-40FE-8641-A80FDB8A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3924-8775-4BE8-AF79-E1628171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4DACA-684E-46BE-8F8B-44D4103E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D68-FD26-4C5F-A440-53F8A329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A6D6-D7EB-4A08-A4F7-B46BDFB4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CF417-8446-4061-BE00-A9BE8E88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A1E2A-F675-44C1-AEC6-0D482E8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8BC9D-D4A9-4395-B1EE-6ADC87E5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65DE-651E-44C4-9777-C2CCD811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0886-5F2D-40F1-8F36-6C79057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C2DEA-9FC4-4339-B3F3-067D5E3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6C63-6826-41B6-BBEC-FD33CAB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65669-955A-411D-B3E7-69AFF9D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464D6-760F-48FD-B08A-DB195F0D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344-7527-4554-B2C9-6EA0DF1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E4C1-CE9C-42D8-BC51-0135E684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14D-AC17-43DF-8194-300E665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5EE-FAAB-4F7E-8E23-8FB5018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817-3106-40C8-B6E2-8635A70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435F-6CA5-42E6-B87C-A1AE07CCE97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F36D-3B66-4483-B7C5-CF7731788D5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32C6-1EE3-433A-8C4B-C569B4EBEE1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0CB-6CCB-4DF0-A646-8B2F06FEDB5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7CE9-430B-4E26-8365-9F7BFFC20C5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03640" y="4724280"/>
            <a:ext cx="5721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225360" y="133200"/>
            <a:ext cx="8461440" cy="1293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Ценность человека не зависит от его способностей и достиж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ый человек способен чувствовать и думать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аждый человек имеет право на общение и на то, чтобы быть услышанным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люди нуждаются друг в друг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длинное образование может осуществляться только в контексте реальных взаимоотношен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се люди нуждаются в поддержке и дружбе ровесников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всех обучающихся достижение прогресса скорее может быть в том, что они могут делать, чем в том, что не могут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знообразие усиливает все стороны жизни челове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ети с ограниченными возможностями здоровья (ОВЗ) – дети, состояние здоровья которых препятствует освоению образовательных программ вне специальных условий обучения и воспитан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слуха (неслышащие, слабослышащ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зрения (незрячие, слабовидящ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ЗПР(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задержкой психического развития)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интеллектуального развития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эмоционально-волевой сферы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комплексными (сложными)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639720" y="171360"/>
            <a:ext cx="8510760" cy="1596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ти с особыми образовательными потребностями часто признаются необучаемым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ьшинство учителей и директоров массовых школ недостаточно знают о проблемах инвалидности и не готовы к включению детей- инвалидов в процесс обучения в классах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дители детей инвалидов не знают, как отстаивать права детей на образование и испытывают страх перед системой образования и социальной поддерж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рхитектурная недоступность школ, учрежде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-274680" y="109440"/>
            <a:ext cx="8510760" cy="878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безбарьерной среды в общеобразовательных учреждения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готовку специалистов и методик совместного образования детей-инвалидов в массовой школ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работку и апробирование модели инклюзивного образования в нескольких регионах России, включая и сельские школ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дусмотреть меры по распространению эффективных моделей инклюзивного образования в массовых школах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еспечить выделение необходимых ресурсов для разработки, апробирова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внедрения моделей инклюзивного образовани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762120" y="9216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Создание адаптивной среды, позволяющей обеспечить  полноценное включение и личностную самореализацию в образовательном учреждени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оздание в образовательном учреждении общего типа надлежащих материально-технических условий, обеспечивающих возможность для беспрепятственного доступа детей в здание и помещения ОУ и организации их пребывания и обучения в этом учреждении (пандусы, лифты, специально оборудованные учебные места, специализированное , реабилитационное, медицинское оборудование и т.д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-152280" y="165240"/>
            <a:ext cx="8388360" cy="1279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учение и коррекция развития детей с ограниченными возможностями здоровья должны осуществляться по образовательным программам, разработанным на баз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сновных общеобразовательных программ с учетом психофизических особенностей и возможностей таких обучающих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о комплексное психолого-педагогическое сопровождение ребенка с ограниченными возможностями здоровья на протяжении всего периода его обучения в ОУ общего тип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обходима специальная  подготовка педагогического коллектива ОУ  общего типа в соответствии со спецификой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ебно-воспитательной и коррекционной работы 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-152280" y="176040"/>
            <a:ext cx="8388360" cy="1281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целях обеспечения освоения детьми с ограниченными возможностями здоровья  образовательных программ  целесообразно ввести в штатное расписание ОУ общего типа дополнительные ставки педагогических (учителя-дефектологи,  учителя-логопеды, педагоги-психологи, социальные педагоги, воспитатели и др.) и медицинских работников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6480" y="55440"/>
            <a:ext cx="8242560" cy="706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7858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Формирование толерантного отношения в обществе к детям –инвалидам и к детям  с ограниченными возможностями здоровь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обеспечения эффективного включения детей с ограниченными возможностями здоровья  в ОУ общего типа важное значение имеет проведение информационно-просветительской, разъяснительной работы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340000" y="2637000"/>
            <a:ext cx="4402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73278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5. Право на образование. Государственные гарантии реализации права на образование в Российской Федер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5. В целях реализации права каждого человека на образование федеральными государственными органами, органами государственной власти субъектов Российской Федерации и органами местного самоуправлени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, оказания ранней коррекционной помощи на основе специальных педагогических подходов и наиболее подходящих для этих лиц языков, методов и способов общения и условия, в максимальной степени способствующие получению образования определенного уровня и определенной направленности, а также социальному развитию этих лиц, в том числе посредством организации инклюзивного образования лиц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4. 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Инклюзивное образование 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(фр. </a:t>
            </a:r>
            <a:r>
              <a:rPr b="1" i="1" lang="fr-FR" sz="2300" spc="-1" strike="noStrike">
                <a:solidFill>
                  <a:srgbClr val="6c6c6c"/>
                </a:solidFill>
                <a:latin typeface="Trebuchet MS"/>
              </a:rPr>
              <a:t>inclusif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-включающий в себя, лат. </a:t>
            </a:r>
            <a:r>
              <a:rPr b="1" i="1" lang="ru-RU" sz="2300" spc="-1" strike="noStrike">
                <a:solidFill>
                  <a:srgbClr val="6c6c6c"/>
                </a:solidFill>
                <a:latin typeface="Trebuchet MS"/>
              </a:rPr>
              <a:t>include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-заключаю, включаю) – процесс развития общего образования, который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</a:t>
            </a:r>
            <a:r>
              <a:rPr b="1" lang="ru-RU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925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дей с инвалидностью около 11 мл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тей с инвалидностью до 18 лет 620 3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тей со специальными образовательными нуждами от 7 до 18 лет около 1,6 мл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826920" y="1954080"/>
            <a:ext cx="2665440" cy="1654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3851280" y="2205000"/>
            <a:ext cx="720720" cy="230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5578560" y="1773360"/>
            <a:ext cx="1817640" cy="24177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9"/>
          <p:cNvSpPr/>
          <p:nvPr/>
        </p:nvSpPr>
        <p:spPr>
          <a:xfrm>
            <a:off x="395280" y="4039560"/>
            <a:ext cx="23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овые 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567240" y="5157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ча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227640" y="46605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изированные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755640" y="5132520"/>
            <a:ext cx="206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539640" y="476028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 дом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84000" y="5516640"/>
            <a:ext cx="20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  кор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5" descr=""/>
          <p:cNvPicPr/>
          <p:nvPr/>
        </p:nvPicPr>
        <p:blipFill>
          <a:blip r:embed="rId1"/>
          <a:stretch/>
        </p:blipFill>
        <p:spPr>
          <a:xfrm>
            <a:off x="-255600" y="128520"/>
            <a:ext cx="8491680" cy="12985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Фундаментальный принцип «образование для всех»  состоит в том, что каждый человек должен иметь возможность учить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новополагающий принцип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клюзивного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се люди должны иметь возможность учиться вместе, независимо от каких-либо трудностей, имеющихся на этом пути, или различий в способности к обучению, которые они могут иметь.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дресатами инклюзивного образования являются люди с ограниченными возможностями здоровья, и инвалиды – лишь одни из ни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244440" y="73080"/>
            <a:ext cx="8480520" cy="128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образование, при котором все дети, несмотря на свои физические, интеллектуальные и иные особенности, включены в общую систему образования и обучаются в общеобразовательных школах вместе со своими сверстник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означает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крытие каждого ученик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помощью образовательной программы, которая достаточно сложна, но соответствует его способност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читывае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потребност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также как и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пециальные условия и поддержк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необходимые ученику и учителям для достижения успех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-225360" y="133200"/>
            <a:ext cx="8461440" cy="1293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1.Создание инклюзивной культур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троение школьного сообщест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нятие инклюзивных ценност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2.Разработка инклюзивной поли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витие школы для всех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рганизация поддержки разнообраз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3.Развитие инклюзивной практи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правление процессом обуч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обилизация ресурс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9:36:07Z</dcterms:created>
  <dc:creator>Admin</dc:creator>
  <dc:description/>
  <dc:language>en-US</dc:language>
  <cp:lastModifiedBy>User1</cp:lastModifiedBy>
  <dcterms:modified xsi:type="dcterms:W3CDTF">2018-11-22T06:09:43Z</dcterms:modified>
  <cp:revision>8</cp:revision>
  <dc:subject/>
  <dc:title>Слайд 1</dc:title>
</cp:coreProperties>
</file>