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D32-E3FF-48CD-BBE0-90FFE860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DC5-F557-4045-946F-9C3599F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3D3-CC9D-4B11-AC42-04CB9A43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537-530C-48E6-8F65-136530EF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4DB2-6CA5-46F0-924A-A3AE5AEF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C97B-BD95-4C04-B967-31B00B3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77F5-F72E-49E5-B7AA-839DF611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BF72-C01E-45F0-B9D3-897C769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7245-8D93-4BD8-B7EB-F68B912A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AA2A-7154-45E4-8050-78F8519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21F4-1A9C-4030-AA82-935ED2C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EC7-9E7A-427F-8F4C-5D8E45A5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64C7-ACD3-4D66-8E0A-346C9241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879-7F14-40D8-9C48-B254593E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26C7-5FBB-4D86-A74B-528D79E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6C90-DEEB-4A9F-BDCE-AC0ACB7F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A109-83B5-44E4-A654-D59B9F8A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1DAC-9A2F-4DC5-98D9-35A10314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1FE7-4701-4146-AACC-5F2D4123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543A-2D79-4913-8DF4-E7C71B29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1748-44F3-4D99-941D-64A44797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290B-CEEF-4BB9-9372-782C2D8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296-1915-4E38-9F9F-0CA81514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82BA-6782-4B6C-9A80-55F9AA05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69A9-EE0C-4E74-A75B-B66DED2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0EF1-F916-4DD9-8381-C1399BF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28AC-75C2-4AB7-91CD-FB353B9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91386-D6E3-45B9-945E-C281D82F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42DA-CBB7-460F-86AE-16B48508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EC58-936C-470B-8F5F-A3FCFA3F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30A8-635C-48E6-B6DD-9FFD4135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476C-85EC-40BC-B799-B84C1D56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E698-A2A0-4093-831B-830ADD0A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C6D-90A5-49D3-9607-0429CF56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5B01-4637-4498-B020-639CFA04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1AC8-8E0F-4A80-B8E2-6F74A6F3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9183-2EB7-46B2-88D8-3ABCD4EC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C2DE-9D9A-49F3-8F27-8F1C327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5BF9-DD45-4DA9-9D20-E9C72912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1A01-2B11-4ABF-966E-BB49793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D66E-D4D5-4B0B-8E58-6611654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45D6-266C-4565-9E68-BFA2C24E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5B3A-0B63-48B4-95FC-308525F9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A046B-1CD9-4A56-94BB-C70DE31B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EA4-D6FA-4D88-BB30-8096D34A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FAAC-DDCC-4DFF-805F-E5C1B1E7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EC25-50CC-4524-834F-56FF233D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770A0-6033-44F1-98F5-D48DC82C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C6CA-ACAF-4ED4-91CB-473333B8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DEEA-7F4F-4ECB-AD3A-729BAEB7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B519-090A-4A9E-B9BC-9FCF7FB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D639-A373-46E1-B6F0-2E65E50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6845-7ADC-473B-A723-51CCF3B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C483E-03B4-4004-AE31-30E76467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DEB5-F7EA-4483-AC12-C51C9352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5FB-B373-46EC-960C-04F1B5EA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A8E24-AAE8-4246-92DF-3F184664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FC0-C5AC-4418-AFFB-705C9C3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6E0-A00B-478E-93CE-2C0DA64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258-944F-4636-AE6C-FA5B374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C9D-B5CE-4A72-868A-A2120600F64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D26A-4FDB-4F28-827C-25297DF53E5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F12A-8CAD-45F0-A445-22E04F501C9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FD2C-A70F-46ED-A636-4A595BF3499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8522-E6D6-4244-9F62-9AE271CC159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03640" y="4724280"/>
            <a:ext cx="5721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225360" y="133200"/>
            <a:ext cx="8461440" cy="1293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нность человека не зависит от его способностей и достижен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ый человек способен чувствовать и думать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ый человек имеет право на общение и на то, чтобы быть услышанны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е люди нуждаются друг в друг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длинное образование может осуществляться только в контексте реальных взаимоотношен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е люди нуждаются в поддержке и дружбе ровесников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всех обучающихся достижение прогресса скорее может быть в том, что они могут делать, чем в том, что не могут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знообразие усиливает все стороны жизни челове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ети с ограниченными возможностями здоровья (ОВЗ) – дети, состояние здоровья которых препятствует освоению образовательных программ вне специальных условий обучения и воспитан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слуха (неслышащие, слабослышащие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зрения (незрячие, слабовидящие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ЗПР(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задержкой психического развития)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интеллектуального развития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эмоционально-волевой сферы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комплексными (сложными)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639720" y="171360"/>
            <a:ext cx="8510760" cy="1596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9918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ти с особыми образовательными потребностями часто признаются необучаемым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ьшинство учителей и директоров массовых школ недостаточно знают о проблемах инвалидности и не готовы к включению детей- инвалидов в процесс обучения в классах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дители детей инвалидов не знают, как отстаивать права детей на образование и испытывают страх перед системой образования и социальной поддержк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рхитектурная недоступность школ, учрежде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-274680" y="109440"/>
            <a:ext cx="8510760" cy="878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безбарьерной среды в общеобразовательных учреждения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готовку специалистов и методик совместного образования детей-инвалидов в массовой школ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работку и апробирование модели инклюзивного образования в нескольких регионах России, включая и сельские школ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дусмотреть меры по распространению эффективных моделей инклюзивного образования в массовых школа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еспечить выделение необходимых ресурсов для разработки, апробир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внедрения моделей инклюзивного образова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762120" y="92160"/>
            <a:ext cx="8388360" cy="1279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Создание адаптивной среды, позволяющей обеспечить  полноценное включение и личностную самореализацию в образовательном учреждени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оздание в образовательном учреждении общего типа надлежащих материально-технических условий, обеспечивающих возможность для беспрепятственного доступа детей в здание и помещения ОУ и организации их пребывания и обучения в этом учреждении (пандусы, лифты, специально оборудованные учебные места, специализированное , реабилитационное, медицинское оборудование и т.д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-152280" y="165240"/>
            <a:ext cx="8388360" cy="1279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учение и коррекция развития детей с ограниченными возможностями здоровья должны осуществляться по образовательным программам, разработанным на баз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сновных общеобразовательных программ с учетом психофизических особенностей и возможностей таких обучающих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обходимо комплексное психолого-педагогическое сопровождение ребенка с ограниченными возможностями здоровья на протяжении всего периода его обучения в ОУ общего тип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обходима специальная  подготовка педагогического коллектива ОУ  общего типа в соответствии со спецификой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ебно-воспитательной и коррекционной работы 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-152280" y="176040"/>
            <a:ext cx="8388360" cy="1281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целях обеспечения освоения детьми с ограниченными возможностями здоровья  образовательных программ  целесообразно ввести в штатное расписание ОУ общего типа дополнительные ставки педагогических (учителя-дефектологи,  учителя-логопеды, педагоги-психологи, социальные педагоги, воспитатели и др.) и медицинских работников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6480" y="55440"/>
            <a:ext cx="8242560" cy="706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7858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Формирование толерантного отношения в обществе к детям –инвалидам и к детям  с ограниченными возможностями здоровь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обеспечения эффективного включения детей с ограниченными возможностями здоровья  в ОУ общего типа важное значение имеет проведение информационно-просветительской, разъяснительной работы по вопросам, связанным с особенностями образовательного процесса для данной категории детей, со всеми участниками образовательного процесса – обучающимися,  их родителями, педагогическими работникам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40000" y="2637000"/>
            <a:ext cx="4402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73278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5. Право на образование. Государственные гарантии реализации права на образование в Российской Федер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5. В целях реализации права каждого человека на образование федеральными государственными органами, органами государственной власти субъектов Российской Федерации и органами местного самоуправлени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, оказания ранней коррекционной помощи на основе специальных педагогических подходов и наиболее подходящих для этих лиц языков, методов и способов общения и условия, в максимальной степени способствующие получению образования определенного уровня и определенной направленности, а также социальному развитию этих лиц, в том числе посредством организации инклюзивного образования лиц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3454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4. Образование обучающихся с ограниченными возможностями здоровья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Инклюзивное образование 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(фр. </a:t>
            </a:r>
            <a:r>
              <a:rPr b="1" i="1" lang="fr-FR" sz="2300" spc="-1" strike="noStrike">
                <a:solidFill>
                  <a:srgbClr val="6c6c6c"/>
                </a:solidFill>
                <a:latin typeface="Trebuchet MS"/>
              </a:rPr>
              <a:t>inclusif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-включающий в себя, лат. </a:t>
            </a:r>
            <a:r>
              <a:rPr b="1" i="1" lang="ru-RU" sz="2300" spc="-1" strike="noStrike">
                <a:solidFill>
                  <a:srgbClr val="6c6c6c"/>
                </a:solidFill>
                <a:latin typeface="Trebuchet MS"/>
              </a:rPr>
              <a:t>include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-заключаю, включаю) – процесс развития общего образования, который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925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дей с инвалидностью около 11 мл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тей с инвалидностью до 18 лет 620 3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тей со специальными образовательными нуждами от 7 до 18 лет около 1,6 мл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826920" y="1954080"/>
            <a:ext cx="2665440" cy="1654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3851280" y="2205000"/>
            <a:ext cx="720720" cy="230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5578560" y="1773360"/>
            <a:ext cx="1817640" cy="24177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395280" y="4039560"/>
            <a:ext cx="23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овые 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567240" y="5157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ча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227640" y="46605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изированные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755640" y="5132520"/>
            <a:ext cx="206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539640" y="476028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 дом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684000" y="5516640"/>
            <a:ext cx="20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  кор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5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12985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ундаментальный принцип «образование для всех»  состоит в том, что каждый человек должен иметь возможность учить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новополагающий принцип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клюзивного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се люди должны иметь возможность учиться вместе, независимо от каких-либо трудностей, имеющихся на этом пути, или различий в способности к обучению, которые они могут иметь.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дресатами инклюзивного образования являются люди с ограниченными возможностями здоровья, и инвалиды – лишь одни из ни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-244440" y="73080"/>
            <a:ext cx="8480520" cy="128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бразование, при котором все дети, несмотря на свои физические, интеллектуальные и иные особенности, включены в общую систему образования и обучаются в общеобразовательных школах вместе со своими сверстник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означает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крытие каждого ученика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помощью образовательной программы, которая достаточно сложна, но соответствует его способностя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учитывает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потребност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также как и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пециальные условия и поддержк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необходимые ученику и учителям для достижения успех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-225360" y="133200"/>
            <a:ext cx="8461440" cy="1293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1.Создание инклюзивной культур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троение школьного сообщест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нятие инклюзивных ценност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2.Разработка инклюзивной поли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витие школы для всех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рганизация поддержки разнообраз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3.Развитие инклюзивной прак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правление процессом обуч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обилизация ресурс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9:36:07Z</dcterms:created>
  <dc:creator>Admin</dc:creator>
  <dc:description/>
  <dc:language>en-US</dc:language>
  <cp:lastModifiedBy>User1</cp:lastModifiedBy>
  <dcterms:modified xsi:type="dcterms:W3CDTF">2018-11-22T06:09:43Z</dcterms:modified>
  <cp:revision>8</cp:revision>
  <dc:subject/>
  <dc:title>Слайд 1</dc:title>
</cp:coreProperties>
</file>