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5A0-1251-43B8-BFA3-7B95D83F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A8-2D44-4F5B-A791-C9B716B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6FA-BF1F-4C91-8560-4D0AE360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1DE-894A-4169-85C3-1783B880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A827-63F7-47F4-B2C1-61571F00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7B4-1412-4616-B55F-5D39FAD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4A71-A1D4-4E09-BEFF-BD2B25FD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FAC-6211-45B8-AA83-B96DE8E3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151-A6F5-443E-801B-EF9A43C0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74A-2301-4D3F-94DD-0C9F06C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EF3-4BAE-455B-BC67-5974449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B8E-F4F8-43EC-86D5-08D4364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2AD-429C-4C37-A7D2-7959453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F3D4-7BA0-4A97-81E7-4C3B703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2251-E4E5-4E48-AE8B-FB84862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EAA6-6189-42D5-B7E6-3B6C02C0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1A7-1434-455C-B0E8-C7FFFA7D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57E-FC1E-4C41-AFC0-F064C85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802-8ABD-4BE1-8F76-9A71DD9F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71E-93B8-451B-AE57-5073168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E9B-E1D9-42BA-A45A-3EE76039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BD3-D25F-4382-84D7-39C8DD7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208-8A64-4382-A4A2-E97ED13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80-35B7-44E1-A314-F970BF6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74A0-2D58-4D74-9B7C-6061BAF29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C5E-5AC0-4D99-A167-4AFD79D02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Проектный метод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в образовании дошкольников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81680" cy="40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8920" y="380880"/>
            <a:ext cx="779472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ВЫСТАВ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45480" y="502920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Праздничные открыт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676840" y="56386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ОСЕННЯЯ ФАНТ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9052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ПРАЗДНИК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907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ПРОЕКТ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016600" y="541008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ПРОЕКТ «КОШКИН Д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587840" cy="3440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8920" y="533520"/>
            <a:ext cx="779472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МАКЕ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90520" y="5715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ДО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586480" y="525780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ИГРАЕМ В СКАЗ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8920" y="533520"/>
            <a:ext cx="779472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МОДЕЛ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60400" y="55627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МАШИНЫ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294240" y="556272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Georgia"/>
              </a:rPr>
              <a:t>«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DSC03726"/>
          <p:cNvPicPr/>
          <p:nvPr/>
        </p:nvPicPr>
        <p:blipFill>
          <a:blip r:embed="rId1"/>
          <a:stretch/>
        </p:blipFill>
        <p:spPr>
          <a:xfrm>
            <a:off x="304920" y="2666880"/>
            <a:ext cx="4133880" cy="256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DSC03937"/>
          <p:cNvPicPr/>
          <p:nvPr/>
        </p:nvPicPr>
        <p:blipFill>
          <a:blip r:embed="rId2"/>
          <a:stretch/>
        </p:blipFill>
        <p:spPr>
          <a:xfrm>
            <a:off x="4802040" y="2333520"/>
            <a:ext cx="39261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Проект 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«Путешествие в город Светофорск»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765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Особенности использования метода проектов 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в работе с детьми дошкольного  возраст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В проекте принимают участие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дети, родители, педагоги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Продолжительность проекта зави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от степени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заинтересованности в нем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большинства детей в группе  (степень этой заинтересованности определяется воспитател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Такой способ работы подходит дл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от четырех лет и старше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Наиболее эффективный способ разработки тематических проектов связ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с использование </a:t>
            </a:r>
            <a:r>
              <a:rPr b="1" lang="ru-RU" sz="2400" spc="-1" strike="noStrike" u="sng">
                <a:solidFill>
                  <a:srgbClr val="9947fd"/>
                </a:solidFill>
                <a:uFillTx/>
                <a:latin typeface="Georgia"/>
              </a:rPr>
              <a:t>модели «трех вопросов»</a:t>
            </a:r>
            <a:r>
              <a:rPr b="1" lang="ru-RU" sz="2400" spc="-1" strike="noStrike">
                <a:solidFill>
                  <a:srgbClr val="9947f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«Модель трёх вопросов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9320" y="2133720"/>
          <a:ext cx="7467480" cy="4471920"/>
        </p:xfrm>
        <a:graphic>
          <a:graphicData uri="http://schemas.openxmlformats.org/drawingml/2006/table">
            <a:tbl>
              <a:tblPr/>
              <a:tblGrid>
                <a:gridCol w="2361960"/>
                <a:gridCol w="2743200"/>
                <a:gridCol w="2362320"/>
              </a:tblGrid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ЗНАЮ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ХОЧУ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держание, то что дети уже зн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лан (тема проек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точники новых знаний   т. е.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990720" y="533520"/>
            <a:ext cx="76230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Georgia"/>
              </a:rPr>
              <a:t>Таким образом, проект - это «пять П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- пробле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оектирование (планиро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оиск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оду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47f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през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47fd"/>
                </a:solidFill>
                <a:latin typeface="Georgia"/>
              </a:rPr>
              <a:t>Шестое «П» проекта - это его портфолио, т. е. папка, в которой собраны все рабочие материалы, в том числе черновики, дневные планы, отчет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PE03166_"/>
          <p:cNvPicPr/>
          <p:nvPr/>
        </p:nvPicPr>
        <p:blipFill>
          <a:blip r:embed="rId1"/>
          <a:stretch/>
        </p:blipFill>
        <p:spPr>
          <a:xfrm>
            <a:off x="7392960" y="5011560"/>
            <a:ext cx="175104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Спасибо за внимание!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91336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егодня в науке и практике интенсивно отстаивается взгляд на ребен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на «саморазвивающуюся систему», при этом усилия взрослых должны быть направл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оздание условий для саморазвития детей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j0299125"/>
          <p:cNvPicPr/>
          <p:nvPr/>
        </p:nvPicPr>
        <p:blipFill>
          <a:blip r:embed="rId1"/>
          <a:stretch/>
        </p:blipFill>
        <p:spPr>
          <a:xfrm>
            <a:off x="228600" y="22096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828800" y="19810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828800" y="19051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71600" y="190512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льшинство педагогов осознают необходимость развития каждого ребенка как самоценной личности. Однако специалисты затрудняются в определении факторов, влияющих на успешность продвижен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91120" y="3962520"/>
            <a:ext cx="76176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52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85800" y="4876920"/>
            <a:ext cx="8229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Уникальным средством обеспечения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сотрудничеств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,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сотворчеств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и взрослых, способом реализации </a:t>
            </a:r>
            <a:r>
              <a:rPr b="0" lang="ru-RU" sz="1800" spc="-1" strike="noStrike" u="sng">
                <a:solidFill>
                  <a:srgbClr val="9947fd"/>
                </a:solidFill>
                <a:uFillTx/>
                <a:latin typeface="Georgia"/>
              </a:rPr>
              <a:t>личностно-ориентированного подхода</a:t>
            </a: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47fd"/>
                </a:solidFill>
                <a:latin typeface="Georgia"/>
              </a:rPr>
              <a:t>к образованию является </a:t>
            </a:r>
            <a:r>
              <a:rPr b="1" lang="ru-RU" sz="1800" spc="-1" strike="noStrike">
                <a:solidFill>
                  <a:srgbClr val="9947fd"/>
                </a:solidFill>
                <a:latin typeface="Georgia"/>
              </a:rPr>
              <a:t>технология проек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 rot="7732800">
            <a:off x="3194280" y="1681200"/>
            <a:ext cx="503280" cy="2016360"/>
          </a:xfrm>
          <a:prstGeom prst="ellipse">
            <a:avLst/>
          </a:prstGeom>
          <a:solidFill>
            <a:srgbClr val="22de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 rot="5400000">
            <a:off x="2915280" y="2780280"/>
            <a:ext cx="502920" cy="179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 rot="1878000">
            <a:off x="3524040" y="3844800"/>
            <a:ext cx="502920" cy="1801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 rot="10341600">
            <a:off x="4543200" y="4076280"/>
            <a:ext cx="503280" cy="1589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 rot="7952400">
            <a:off x="5457240" y="3654360"/>
            <a:ext cx="503280" cy="1757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 rot="4971600">
            <a:off x="5828400" y="2531160"/>
            <a:ext cx="719280" cy="194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 rot="2204400">
            <a:off x="5151240" y="1697040"/>
            <a:ext cx="647640" cy="1808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284720" y="1557360"/>
            <a:ext cx="574560" cy="172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Georgia"/>
              </a:rPr>
              <a:t>Тема – то, что мы узнаем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571500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Проект – то, что мы дел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140360" y="342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 rot="16200000">
            <a:off x="3728880" y="2255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 rot="18561600">
            <a:off x="4698000" y="2367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 rot="21153000">
            <a:off x="5148360" y="314136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ИЖКИ-САМО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 rot="2545800">
            <a:off x="4931280" y="436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 rot="4906200">
            <a:off x="4084560" y="4705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 rot="18091800">
            <a:off x="3168360" y="46040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908000" y="3505320"/>
            <a:ext cx="25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 rot="2328000">
            <a:off x="2361240" y="251424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4067280" y="3284640"/>
            <a:ext cx="1152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Выбор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 те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3927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емы проектов мог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ыть самыми различ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лее успешен будет тот проек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торый предложен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основан на их интер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278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464832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8480" y="262080"/>
            <a:ext cx="831384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Алгоритм тематического планирова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Diagram 3"/>
          <p:cNvGrpSpPr/>
          <p:nvPr/>
        </p:nvGrpSpPr>
        <p:grpSpPr>
          <a:xfrm>
            <a:off x="1788840" y="2438280"/>
            <a:ext cx="4649400" cy="3809880"/>
            <a:chOff x="1788840" y="2438280"/>
            <a:chExt cx="4649400" cy="3809880"/>
          </a:xfrm>
        </p:grpSpPr>
        <p:sp>
          <p:nvSpPr>
            <p:cNvPr id="134" name="_s1028"/>
            <p:cNvSpPr/>
            <p:nvPr/>
          </p:nvSpPr>
          <p:spPr>
            <a:xfrm>
              <a:off x="3238200" y="2438280"/>
              <a:ext cx="2590560" cy="259092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 rot="5400000">
              <a:off x="3847320" y="3047760"/>
              <a:ext cx="2590920" cy="25905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rot="10800000">
              <a:off x="3238200" y="3657600"/>
              <a:ext cx="2590560" cy="259056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 rot="16200000">
              <a:off x="2628360" y="3047760"/>
              <a:ext cx="2590920" cy="25902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2590200"/>
                <a:gd name="textAreaBottom" fmla="*/ 2590560 h 25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>
              <a:off x="5224320" y="267660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ahoma"/>
                </a:rPr>
                <a:t>                                     </a:t>
              </a: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2.ПЛАНИРОВАНИЕ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ahoma"/>
                </a:rPr>
                <a:t>     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1.Постановка образова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  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2.Выбор методов реализ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             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2.3.Подбор средств, материа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5225760" y="503388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Tahoma"/>
                </a:rPr>
                <a:t>                          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3. </a:t>
              </a: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РЕАЛИЗАЦИЯ ПРОЕ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2868480" y="503532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4.ПРЕЗЕНТАЦИЯ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Завершение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Новых проб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2866680" y="2678040"/>
              <a:ext cx="975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9947fd"/>
                  </a:solidFill>
                  <a:uFillTx/>
                  <a:latin typeface="Tahoma"/>
                </a:rPr>
                <a:t>1.ВЫБОР ТЕМЫ ПРОЕКТА</a:t>
              </a:r>
              <a:r>
                <a:rPr b="1" lang="en-US" sz="1400" spc="-1" strike="noStrike">
                  <a:solidFill>
                    <a:srgbClr val="9947fd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3" descr=""/>
            <p:cNvPicPr/>
            <p:nvPr/>
          </p:nvPicPr>
          <p:blipFill>
            <a:blip r:embed="rId1"/>
            <a:stretch/>
          </p:blipFill>
          <p:spPr>
            <a:xfrm>
              <a:off x="1788840" y="3240000"/>
              <a:ext cx="20570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14" descr="j0299125"/>
          <p:cNvPicPr/>
          <p:nvPr/>
        </p:nvPicPr>
        <p:blipFill>
          <a:blip r:embed="rId2"/>
          <a:stretch/>
        </p:blipFill>
        <p:spPr>
          <a:xfrm>
            <a:off x="228600" y="2666880"/>
            <a:ext cx="11001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eorgia"/>
              </a:rPr>
              <a:t>Классификация проектов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520" y="205704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офессор Коллинг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едложил следующую классификацию  про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игровые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— детские занятия, участие в группов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игры, народные танцы, драматизации, разного рода развлеч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экскурсионные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направленные на изучение  окружающей природы и явлений обществен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повеств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»,  при разработке которых дети учатся передавать свои впечатления и чувства в устной, письменной, вокальной (песня), художественной (картина), музыкальной (игра на рояле) форм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онструктивны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», нацеленные на создание конкретного полезного продукта: сколачивание скворечника, приготовление  завтрака, устройство клум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47920" y="914400"/>
          <a:ext cx="7391160" cy="5668920"/>
        </p:xfrm>
        <a:graphic>
          <a:graphicData uri="http://schemas.openxmlformats.org/drawingml/2006/table">
            <a:tbl>
              <a:tblPr/>
              <a:tblGrid>
                <a:gridCol w="1996920"/>
                <a:gridCol w="539424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1. Доминирую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в проекте деятельнос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исследовательск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оисков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творческ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олева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рикладная(практико-ориентированна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знакомительно-ориентировочная (информационная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2. Предметно-содержательн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монопроект (в рамках одной области знани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межпредметный проек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3. Характер координации проекта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непосредственный (жесткий, гибкий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крытый (неявный, имитирующий участника проект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4. Характер конта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роекты, организуемые среди участников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дного класс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одной школ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город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егион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траны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разных стран мир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5. Количество участников проект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личностные (между двумя партнерами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парные (между парами участников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групповые (между группами участников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6. Продолжительность выполнения проект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краткосрочны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средней продолжительности (от недели до месяца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долгосрочные (от месяца до нескольких месяцев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7" name="Text Box 25"/>
          <p:cNvSpPr/>
          <p:nvPr/>
        </p:nvSpPr>
        <p:spPr>
          <a:xfrm>
            <a:off x="2286000" y="228600"/>
            <a:ext cx="4952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Классификация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14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ВИДЫ ПРОЕ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609480" y="1981080"/>
            <a:ext cx="4038840" cy="2438640"/>
          </a:xfrm>
          <a:prstGeom prst="cloudCallout">
            <a:avLst>
              <a:gd name="adj1" fmla="val -46699"/>
              <a:gd name="adj2" fmla="val -1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ти собирают информацию и реализуют её, ориентируясь на собственные социальные интере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4120" y="4343400"/>
            <a:ext cx="3581280" cy="2209680"/>
          </a:xfrm>
          <a:prstGeom prst="cloudCallout">
            <a:avLst>
              <a:gd name="adj1" fmla="val -48402"/>
              <a:gd name="adj2" fmla="val -16884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элементами творческих игр, когда дети решаю проблемы в образе персонажей ска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143000" y="4495680"/>
            <a:ext cx="3581280" cy="2210040"/>
          </a:xfrm>
          <a:prstGeom prst="cloudCallout">
            <a:avLst>
              <a:gd name="adj1" fmla="val -61171"/>
              <a:gd name="adj2" fmla="val -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следователь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зультаты опытов оформляют в виде газет, книг, альбомов, выстав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105520" y="1219320"/>
            <a:ext cx="3581280" cy="2209680"/>
          </a:xfrm>
          <a:prstGeom prst="cloudCallout">
            <a:avLst>
              <a:gd name="adj1" fmla="val -46277"/>
              <a:gd name="adj2" fmla="val -99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вор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площение проекта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виде детского празд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3480" y="261720"/>
            <a:ext cx="762156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Georgia"/>
              </a:rPr>
              <a:t>Проекты</a:t>
            </a: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 - практические действия,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направленные  на  изучение подразделов  темы,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на приобретение новых знаний и навыков деятельности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9-03-11T13:11:2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