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A4F-81A3-47B1-915D-3A0639B3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CEB-AE96-45A4-99D2-B2253BE9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367D-09B0-4B0C-96D3-B25AF34D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45A2-A6FD-4144-BC83-FF3FD378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755A-C086-4FA7-9979-0DB7920D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914-FA03-4822-B413-8FA1A209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8BD-FC4B-476E-9488-47BBB65C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7C69-71BB-4BA9-8679-48BC2CFA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7470-F019-4213-822B-F0AC9847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A250-8AFA-4DB6-9567-C4D521D2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E439-A5EE-4A27-97B5-9EDA907F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E91-2098-4759-B2EF-A5A3364C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D00D-2A35-4ABE-AA11-1D37FFCF30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F:\проекты\1\1680colourback_1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3143160" y="4071960"/>
            <a:ext cx="564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проектн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:\Documents and Settings\USER\Рабочий стол\Новая папка\63136665_5f8350820dd8.png"/>
          <p:cNvPicPr/>
          <p:nvPr/>
        </p:nvPicPr>
        <p:blipFill>
          <a:blip r:embed="rId2"/>
          <a:stretch/>
        </p:blipFill>
        <p:spPr>
          <a:xfrm>
            <a:off x="428760" y="928800"/>
            <a:ext cx="32353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2" descr="F:\проекты\1\1680colourback_1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357120" y="240840"/>
            <a:ext cx="56437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проектной деятельности 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ленаправленная деятельность  по определенному плану  для решения поисковых, исследовательских, практических задач по любому направлению содержания образова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D:\мои документы\фото\сад\анимации\дети\baby01.gif"/>
          <p:cNvPicPr/>
          <p:nvPr/>
        </p:nvPicPr>
        <p:blipFill>
          <a:blip r:embed="rId2"/>
          <a:stretch/>
        </p:blipFill>
        <p:spPr>
          <a:xfrm>
            <a:off x="6858000" y="4268880"/>
            <a:ext cx="17715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" name="Picture 2" descr="F:\проекты\1\1680colourback_1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285840" y="285840"/>
            <a:ext cx="85723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ПИТАТЕЛ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  детской  продуктивной 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357120" y="3071880"/>
            <a:ext cx="8001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БЕН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ая  творческая  л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открыв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ый   дея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D:\мои документы\фото\сад\анимации\школа\61444841.gif"/>
          <p:cNvPicPr/>
          <p:nvPr/>
        </p:nvPicPr>
        <p:blipFill>
          <a:blip r:embed="rId2"/>
          <a:stretch/>
        </p:blipFill>
        <p:spPr>
          <a:xfrm>
            <a:off x="6526080" y="4857840"/>
            <a:ext cx="21891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9" name="Picture 2" descr="F:\проекты\1\1680colourback_1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428760" y="214200"/>
            <a:ext cx="8429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  ЭТАПА  РАЗВИТИЯ  ПРОЕКТНОЙ 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о Е.Евдокимово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жательно – исполнительский  (3,5 – 5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 – 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(6 – 7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428760" y="1714680"/>
            <a:ext cx="8286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ПЫ  ПРОЕКТОВ  В   ДО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 по Л. Киселево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о – игр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 – практико – ориентир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о – твор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500040" y="3500280"/>
            <a:ext cx="82868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Ы  ПРОЕК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групп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500040" y="5143680"/>
            <a:ext cx="8215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ДОЛЖИТЕЛЬНОСТЬ  ПРОЕК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средней продолжи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ср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D:\мои документы\фото\сад\анимации\школа\25.gif"/>
          <p:cNvPicPr/>
          <p:nvPr/>
        </p:nvPicPr>
        <p:blipFill>
          <a:blip r:embed="rId2"/>
          <a:stretch/>
        </p:blipFill>
        <p:spPr>
          <a:xfrm>
            <a:off x="7048440" y="5000760"/>
            <a:ext cx="1625760" cy="13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7" name="Picture 2" descr="F:\проекты\1\1680colourback_1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357120" y="1071720"/>
            <a:ext cx="8358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Целеполагание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помогает ребенку выбрать наиболее актуальную  и посильную для него задачу на определённый отрезок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Разработка проек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лан деятельности по достижению 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       к кому обратиться за помощью (педагогу, родителю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       в каких источниках можно найти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       какие предметы (оборудование, пособия) использо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       с какими предметами научиться работать для достижения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Выполнение проек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актическая час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Публичное представл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а проект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Подведение итог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пределение задач для новых про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1428840" y="3571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 разработк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2" name="Picture 2" descr="F:\проекты\1\1680colourback_1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642960" y="2858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спорт 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TextBox 9" descr=""/>
          <p:cNvPicPr/>
          <p:nvPr/>
        </p:nvPicPr>
        <p:blipFill>
          <a:blip r:embed="rId2"/>
          <a:stretch/>
        </p:blipFill>
        <p:spPr>
          <a:xfrm>
            <a:off x="49320" y="878040"/>
            <a:ext cx="9094680" cy="6053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USER\Рабочий стол\Новая папка\m1.gif"/>
          <p:cNvPicPr/>
          <p:nvPr/>
        </p:nvPicPr>
        <p:blipFill>
          <a:blip r:embed="rId3"/>
          <a:stretch/>
        </p:blipFill>
        <p:spPr>
          <a:xfrm>
            <a:off x="571680" y="4929120"/>
            <a:ext cx="20714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06:21:03Z</dcterms:created>
  <dc:creator>USER</dc:creator>
  <dc:description/>
  <dc:language>en-US</dc:language>
  <cp:lastModifiedBy>User</cp:lastModifiedBy>
  <dcterms:modified xsi:type="dcterms:W3CDTF">2019-03-11T17:56:20Z</dcterms:modified>
  <cp:revision>28</cp:revision>
  <dc:subject/>
  <dc:title>Слайд 1</dc:title>
</cp:coreProperties>
</file>