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A8E-2EF6-4ED2-A248-6B7F61FE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78D-D9A4-4F9F-84C6-2C91E82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9CF-DD82-4B4D-BFB6-21521DD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840-6F8D-4508-8006-FAD4245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E3A-7ABF-41AA-8D9F-30F03AE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457-16EE-45AF-8471-FB0252B3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D00-4DA9-44EE-AF9E-5A6180F8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3C1-F016-485C-B455-169F846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A0D-D3B0-49F2-854B-2CFB42E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B02-1294-43FF-8899-C3772D3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361-F541-497B-AA26-65D7FDB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D2B-5809-434E-9BE9-822BCAE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129-F641-408E-BBAC-3DBAB4F80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143160" y="4071960"/>
            <a:ext cx="56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ект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USER\Рабочий стол\Новая папка\63136665_5f8350820dd8.png"/>
          <p:cNvPicPr/>
          <p:nvPr/>
        </p:nvPicPr>
        <p:blipFill>
          <a:blip r:embed="rId2"/>
          <a:stretch/>
        </p:blipFill>
        <p:spPr>
          <a:xfrm>
            <a:off x="428760" y="928800"/>
            <a:ext cx="3235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357120" y="240840"/>
            <a:ext cx="5643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ектной деятельности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направленная деятельность  по определенному плану  для решения поисковых, исследовательских, практических задач по любому направлению содержания образов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:\мои документы\фото\сад\анимации\дети\baby01.gif"/>
          <p:cNvPicPr/>
          <p:nvPr/>
        </p:nvPicPr>
        <p:blipFill>
          <a:blip r:embed="rId2"/>
          <a:stretch/>
        </p:blipFill>
        <p:spPr>
          <a:xfrm>
            <a:off x="6858000" y="4268880"/>
            <a:ext cx="1771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85840" y="285840"/>
            <a:ext cx="8572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 детской  продуктивной 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57120" y="3071880"/>
            <a:ext cx="8001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  творческая 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откры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й   де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D:\мои документы\фото\сад\анимации\школа\61444841.gif"/>
          <p:cNvPicPr/>
          <p:nvPr/>
        </p:nvPicPr>
        <p:blipFill>
          <a:blip r:embed="rId2"/>
          <a:stretch/>
        </p:blipFill>
        <p:spPr>
          <a:xfrm>
            <a:off x="6526080" y="4857840"/>
            <a:ext cx="2189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428760" y="214200"/>
            <a:ext cx="8429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 ЭТАПА  РАЗВИТИЯ  ПРОЕКТНОЙ 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 Е.Евдокимо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о – исполнительский  (3,5 – 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(6 –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428760" y="1714680"/>
            <a:ext cx="8286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Ы  ПРОЕКТОВ  В   ДО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по Л. Киселе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 – игр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– практико – 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 – 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500040" y="3500280"/>
            <a:ext cx="82868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 ПРО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500040" y="5143680"/>
            <a:ext cx="82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ИТЕЛЬНОСТЬ  ПРО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средней продолж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мои документы\фото\сад\анимации\школа\25.gif"/>
          <p:cNvPicPr/>
          <p:nvPr/>
        </p:nvPicPr>
        <p:blipFill>
          <a:blip r:embed="rId2"/>
          <a:stretch/>
        </p:blipFill>
        <p:spPr>
          <a:xfrm>
            <a:off x="7048440" y="5000760"/>
            <a:ext cx="162576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57120" y="10717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Целеполаг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могает ребенку выбрать наиболее актуальную  и посильную для него задачу на определённый отрез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Разработка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лан деятельности по достижению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к кому обратиться за помощью (педагогу, родителю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в каких источниках можно найти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какие предметы (оборудование, пособия) использ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с какими предметами научиться работать для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Выполнение проек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актическая ча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Публичное предста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а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Подведение ит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ие задач для новых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428840" y="3571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разработ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F:\проекты\1\1680colourback_1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порт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9" descr=""/>
          <p:cNvPicPr/>
          <p:nvPr/>
        </p:nvPicPr>
        <p:blipFill>
          <a:blip r:embed="rId2"/>
          <a:stretch/>
        </p:blipFill>
        <p:spPr>
          <a:xfrm>
            <a:off x="49320" y="878040"/>
            <a:ext cx="9094680" cy="605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USER\Рабочий стол\Новая папка\m1.gif"/>
          <p:cNvPicPr/>
          <p:nvPr/>
        </p:nvPicPr>
        <p:blipFill>
          <a:blip r:embed="rId3"/>
          <a:stretch/>
        </p:blipFill>
        <p:spPr>
          <a:xfrm>
            <a:off x="571680" y="4929120"/>
            <a:ext cx="20714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6:21:03Z</dcterms:created>
  <dc:creator>USER</dc:creator>
  <dc:description/>
  <dc:language>en-US</dc:language>
  <cp:lastModifiedBy>User</cp:lastModifiedBy>
  <dcterms:modified xsi:type="dcterms:W3CDTF">2019-03-11T17:56:20Z</dcterms:modified>
  <cp:revision>28</cp:revision>
  <dc:subject/>
  <dc:title>Слайд 1</dc:title>
</cp:coreProperties>
</file>