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0743-4258-4DD1-BB01-50546969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51AC-F3F1-4B23-8416-5F7BAC1F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0E71-AA8B-4BA2-9D1B-D1FABCE4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E11-2311-4980-AC90-92E63786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F41C-89BB-403C-A462-E26A8C70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35DB-4A3B-42C4-BB11-31288380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2A8A-2BF6-4524-8A9F-97B9075D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2721-9E40-4CD6-B933-F8DC6BC3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B337-40C6-4689-8A7F-D1416E13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00F6-3AAA-4777-B036-DB72DF64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EA1A-6816-476C-829B-E104239A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0CBE-F133-4771-96E4-4625C949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8CC1-A992-40D2-BC63-806FAB57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B567-E62C-42C0-835C-F9AF95DB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4AAA-70E2-43EA-A864-A36C65A0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B580-46DA-43E5-98E0-E37D24D71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9896-4E68-4367-9BAC-34108156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0205-BB44-4F01-8CB2-D11D2D3B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8DFC-1319-44A6-9CC4-BDE7A26A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005D-2F8E-4D8A-A329-7DEBD65A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D46-EEB8-4789-8DAA-4BEDEC38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DC14-E5AF-4B38-8608-65F297EF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211C-6DB5-4D53-934D-4D4FBCA2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83D1-BD6E-4691-B61B-76E816E4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6d9188"/>
                </a:gs>
                <a:gs pos="50000">
                  <a:srgbClr val="81aba0"/>
                </a:gs>
                <a:gs pos="100000">
                  <a:srgbClr val="6d91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588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328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332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5f3c39"/>
                </a:gs>
                <a:gs pos="50000">
                  <a:srgbClr val="cd817b"/>
                </a:gs>
                <a:gs pos="100000">
                  <a:srgbClr val="5f3c3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7a8e9c"/>
                </a:gs>
                <a:gs pos="50000">
                  <a:srgbClr val="668e69"/>
                </a:gs>
                <a:gs pos="100000">
                  <a:srgbClr val="7a8e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0987-25DE-4652-8D22-4EF19A69DE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612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6120"/>
              <a:ext cx="1203120" cy="6851520"/>
            </a:xfrm>
            <a:prstGeom prst="rect">
              <a:avLst/>
            </a:prstGeom>
            <a:gradFill rotWithShape="0">
              <a:gsLst>
                <a:gs pos="0">
                  <a:srgbClr val="6d9188"/>
                </a:gs>
                <a:gs pos="50000">
                  <a:srgbClr val="81aba0"/>
                </a:gs>
                <a:gs pos="100000">
                  <a:srgbClr val="6d91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440"/>
              <a:chOff x="7848720" y="-360"/>
              <a:chExt cx="1295280" cy="631044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5560"/>
                <a:chOff x="8381880" y="-360"/>
                <a:chExt cx="762120" cy="22755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3800" y="-360"/>
                  <a:ext cx="279360" cy="276120"/>
                  <a:chOff x="871380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3800" y="-360"/>
                    <a:ext cx="279360" cy="276120"/>
                    <a:chOff x="871380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268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204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3320" y="1353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7080" y="7200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800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748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3320" y="19764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1840" y="17280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4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4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9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9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3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4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4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5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4880"/>
                <a:ext cx="828720" cy="4705200"/>
                <a:chOff x="7848720" y="1604880"/>
                <a:chExt cx="828720" cy="47052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48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9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8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6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8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32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9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6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78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8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3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5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80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5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0400"/>
              <a:ext cx="1190520" cy="19378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9640"/>
              <a:ext cx="1219320" cy="1998000"/>
            </a:xfrm>
            <a:prstGeom prst="pie">
              <a:avLst/>
            </a:pr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1320"/>
              <a:ext cx="1231920" cy="4033080"/>
            </a:xfrm>
            <a:prstGeom prst="pie">
              <a:avLst/>
            </a:prstGeom>
            <a:gradFill rotWithShape="0">
              <a:gsLst>
                <a:gs pos="0">
                  <a:srgbClr val="5f3c39"/>
                </a:gs>
                <a:gs pos="50000">
                  <a:srgbClr val="cd817b"/>
                </a:gs>
                <a:gs pos="100000">
                  <a:srgbClr val="5f3c3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1320"/>
              <a:ext cx="979560" cy="218232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2720"/>
              <a:ext cx="914400" cy="504324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8200"/>
              <a:ext cx="909720" cy="3068280"/>
            </a:xfrm>
            <a:prstGeom prst="pie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6120"/>
              <a:ext cx="576360" cy="33494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7560"/>
              <a:ext cx="300240" cy="3349800"/>
            </a:xfrm>
            <a:prstGeom prst="pie">
              <a:avLst/>
            </a:pr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7560"/>
              <a:ext cx="88920" cy="68515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800"/>
              <a:ext cx="1165320" cy="618480"/>
            </a:xfrm>
            <a:prstGeom prst="pie">
              <a:avLst/>
            </a:prstGeom>
            <a:gradFill rotWithShape="0">
              <a:gsLst>
                <a:gs pos="0">
                  <a:srgbClr val="7a8e9c"/>
                </a:gs>
                <a:gs pos="50000">
                  <a:srgbClr val="668e69"/>
                </a:gs>
                <a:gs pos="100000">
                  <a:srgbClr val="7a8e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7200" y="3319200"/>
              <a:ext cx="6851520" cy="225360"/>
            </a:xfrm>
            <a:prstGeom prst="pie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C76D-606E-475A-80CA-D869759DFF48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2723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ль педагога-психолога в сопровождении детей с ограниченными возможностями здоровья на разных возрастных этапах в условиях ОУ</a:t>
            </a:r>
            <a:endParaRPr b="0" lang="en-US" sz="36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58920" y="5084640"/>
            <a:ext cx="56404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едагог-психолог: Толоева Р.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94920" y="549360"/>
            <a:ext cx="7201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еобходимо соблюдать </a:t>
            </a:r>
            <a:r>
              <a:rPr b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общие принципы и правила при коррекционной работе с детьми с ОВЗ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449280" algn="just">
              <a:lnSpc>
                <a:spcPct val="150000"/>
              </a:lnSpc>
              <a:spcBef>
                <a:spcPts val="499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Индивидуальный подход к каждому ученику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449280" algn="just">
              <a:lnSpc>
                <a:spcPct val="150000"/>
              </a:lnSpc>
              <a:spcBef>
                <a:spcPts val="499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редотвращение наступления утомления, используя для этого разнообразные средства (чередование умственной и практической деятельности, преподнесение материала небольшими дозами, использование интересного и красочного дидактического материала и средств наглядности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7200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3. Использование методов, активизирующих познавательную деятельность учащихся (игровые ситуации; дидактические игры, которые связаны с поиском видовых и родовых признаков предметов; игровые тренинги, способствующие развитию умения общаться с другими; психогимнастика и релаксация, позволяющие снять мышечные спазмы и зажимы, особенно в области лица и кистей рук), развивающих их устную и письменную речь и формирующих необходимые учебные навык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4. Проявление педагогического такта. Постоянное поощрение за малейшие успехи, своевременная и тактическая помощь каждому ребёнку, развитие в нём веры в собственные силы и возможност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7110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54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539640" y="2349000"/>
            <a:ext cx="7056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23640" y="620640"/>
            <a:ext cx="7343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ю</a:t>
            </a:r>
            <a:r>
              <a:rPr b="1" lang="ru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психолого-педагогического сопровождения ребенка с ОВЗ, обучающегося в общеобразовательном учреждении является обеспечение оптимального развития ребенка, успешная интеграция в социум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72723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психолого-педагогического сопровождения ребенка с ОВЗ, обучающегося в массовой школе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редупреждение возникновения проблем развития ребенка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мощь (содействие) ребенку в решении актуальных задач развития, обучения, социализации: учебные трудности, проблемы с выбором образовательного и профессионального маршрута, нарушения эмоционально-волевой сферы, проблемы взаимоотношений со сверстниками, учителями, родителями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сихологическое обеспечение образовательных программ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азвитие психолого-педагогической компетентности (психологической культуры) учащихся, родителей, педагогов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549360"/>
            <a:ext cx="7272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Индивидуальная программа психолого-педагогического сопровождения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ожет решать следующие проблем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1) помощь в разрешении трудностей в обучении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2) профессиональной подготовке и ориентации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3) во взаимоотношениях с окружающими (учителями, сверстниками, родителями)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4) коррекция нарушений психических процессов и эмоционально-волевой сферы, в этой работе особое место занимает коррекция мышления и эмоционального состояния ученик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23640" y="549000"/>
            <a:ext cx="7343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Педагог-психолог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449280" algn="just">
              <a:lnSpc>
                <a:spcPct val="150000"/>
              </a:lnSpc>
              <a:spcBef>
                <a:spcPts val="499"/>
              </a:spcBef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ыявляет особенности интеллектуального развития, личностных и поведенческих реакций ребёнка с ОВЗ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449280" algn="just">
              <a:lnSpc>
                <a:spcPct val="150000"/>
              </a:lnSpc>
              <a:spcBef>
                <a:spcPts val="499"/>
              </a:spcBef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роводит групповые и индивидуальные занятия, направленные на нормализацию эмоционально-волевой сферы, формирование продуктивных способов мыслительной деятельности, а также на профилактику возможных отклонений межличностных отношений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449280" algn="just">
              <a:lnSpc>
                <a:spcPct val="150000"/>
              </a:lnSpc>
              <a:spcBef>
                <a:spcPts val="499"/>
              </a:spcBef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казывает методическую помощь учителям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449280" algn="just">
              <a:lnSpc>
                <a:spcPct val="150000"/>
              </a:lnSpc>
              <a:spcBef>
                <a:spcPts val="499"/>
              </a:spcBef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азвивает психолого-педагогическую компетентность педагогов и родителе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23640" y="907920"/>
            <a:ext cx="7127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рганизационной структурой службы сопровождения ребенка с ОВЗ в общеобразовательном учреждении являетс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психолого-медико-педагогический консилиум (ПМПк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МПк является структурным подразделением образовательного учреждения, регулирующим процесс сопровождения и обеспечивающим  комплексность процесса сопровожде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рганизационная модель комплексного</a:t>
            </a:r>
            <a:br>
              <a:rPr sz="2000"/>
            </a:b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психолого-педагогического сопровождения детей с ОВЗ в общеобразовательной школе</a:t>
            </a:r>
            <a:endParaRPr b="0" lang="en-US" sz="2000" spc="-1" strike="noStrike">
              <a:solidFill>
                <a:srgbClr val="fdf4df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6913440" cy="460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24000" y="549000"/>
            <a:ext cx="7416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одель психолого-педагогического сопровождения детей с ОВЗ характеризуется следующими принципами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1) системность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– реализуется в процессе оказания психолого-педагогической помощи в разных направлениях: детям, учителям, родителям (оказывается в реальной ситуации обучения ребенка, выявляет имеющиеся сложности, потенциальные возможности школьника, его сильные стороны, определяющие обходные пути в обучении и с учётом всех составляющих определяется, моделируется система психолого-педагогического сопровождения)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2) комплексность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– проявляется в том, что педагогом, психологом, родителями оказывается ребенку комплексная помощь, охватывающая все сферы его деятельности (познавательную, эмоционально-волевую, двигательную; оптимизируются социальные связи и отношения), помогающая отследить успешность обучения и наладить межличностные связи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23640" y="404640"/>
            <a:ext cx="7272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3) интегративность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– предусматривает интеграцию различных методов (психотерапевтических и психолого-педагогических), методик, подходов, дидактических и психотерапевтических приемов (охватывает не только образовательную среду, но и микросоциальную)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4) приоритет особых потребностей ребенка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– выявление причин учебных затруднений ребенка, знание и учёт его особых потребностей для использования их в качестве обходных путей (нуждаются в специальных условиях организации образовательного процесса)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f1311"/>
                </a:solidFill>
                <a:uFillTx/>
                <a:latin typeface="Times New Roman"/>
                <a:ea typeface="Times New Roman"/>
              </a:rPr>
              <a:t>5) непрерывность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– отражает необходимость ранней диагностики его возможностей и способностей, осуществления психолого-педагогического сопровождения на протяжении всего периода обучения, т.е.на всех ступенях образова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7T19:13:09Z</dcterms:created>
  <dc:creator>...</dc:creator>
  <dc:description/>
  <dc:language>en-US</dc:language>
  <cp:lastModifiedBy>User1</cp:lastModifiedBy>
  <dcterms:modified xsi:type="dcterms:W3CDTF">2019-03-11T06:04:55Z</dcterms:modified>
  <cp:revision>31</cp:revision>
  <dc:subject/>
  <dc:title>Слайд 1</dc:title>
</cp:coreProperties>
</file>