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1BD-60C0-4105-BB6B-1E431A78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923-A3EC-4E64-B3B0-2BCAD71A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EF9-9D69-4F48-8C67-45FDC591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683-76DE-4D88-9325-B15BD1B6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3D5D-68E9-4114-B203-B95BD012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E58-94C9-420A-9D99-F5CD0ACF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CD74-2B8E-4865-8ADF-718F6009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C956-1B77-4364-A89D-23D35186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955F-C50B-4398-9306-85F50AFD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C828-8CE9-472C-965D-83884B4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939-1B7D-4D3A-A457-FA4C4F6B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F19-C474-4AEB-8219-3356754F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07F4-A7D8-460D-83FB-E49AA72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3C5-57D3-481C-BBC3-D4E9C56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187D-1EAB-41AD-8FC6-870E17E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41E9-69B6-404D-B04A-30905C34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8FC6-5091-4A72-AE06-19E05CC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27A-0B71-46C8-8AC6-D41D1D9F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524-ECEF-4392-8651-8A38EFED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C65-B15F-4D49-B58C-BCD773D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067-9D30-4527-BA25-95D979AA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5B6-CB37-4B3E-93B5-30BD8DBA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D61-80B5-421E-9A2A-8292F0D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A7E-CCDC-4D69-B3EB-85163A8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E460-C83E-43DF-B133-771D556DBD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663A-8030-490C-B851-CB422ACA702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272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педагога-психолога в сопровождении детей с ограниченными возможностями здоровья на разных возрастных этапах в условиях ОУ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58920" y="5084640"/>
            <a:ext cx="5640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дагог-психолог: Толоева Р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обходимо соблюдать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общие принципы и правила при коррекционной работе с детьми с ОВЗ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дивидуальный подход к каждому учени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отвращение наступления утомления, используя для этого разнообразные средства (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 наглядност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720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Использование методов, активизирующих познавательную деятельность учащихся (игровые ситуации; дидактические игры, которые связаны с поиском видовых и родовых признаков предметов; игровые тренинги, способствующие развитию умения общаться с другими; психогимнастика и релаксация, позволяющие снять мышечные спазмы и зажимы, особенно в области лица и кистей рук), развивающих их устную и письменную речь и формирующих необходимые учебные навы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Проявление педагогического такта. Постоянное поощрение за малейшие успехи, своевременная и тактическая помощь каждому ребёнку, развитие в нём веры в собственные силы и возмож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11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9640" y="2349000"/>
            <a:ext cx="705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62064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ю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ребенка с ОВЗ, обучающегося в общеобразовательном учреждении является обеспечение оптимального развития ребенка, успешная интеграция в социу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2723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ребенка с ОВЗ, обучающегося в массовой школе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упреждение возникновения проблем развития ребен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ощь (содействие) ребенку в решении актуальных задач развития, обучения, социализации: учебные трудности, проблемы с выбором образовательного и профессионального маршрута, нарушения эмоционально-волевой сферы, проблемы взаимоотношений со сверстниками, учителями, родителям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сихологическое обеспечение образовательных программ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тие психолого-педагогической компетентности (психологической культуры) учащихся, родителей, педагог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27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Индивидуальная программа психолого-педагогического сопровождения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жет решать следующие пробле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помощь в разрешении трудностей в обучени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профессиональной подготовке и ориентаци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во взаимоотношениях с окружающими (учителями, сверстниками, родителями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коррекция нарушений психических процессов и эмоционально-волевой сферы, в этой работе особое место занимает коррекция мышления и эмоционального состояния учени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3640" y="549000"/>
            <a:ext cx="7343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Педагог-психолог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являет особенности интеллектуального развития, личностных и поведенческих реакций ребёнка с ОВЗ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оводит групповые и индивидуальные занятия, направленные на нормализацию эмоционально-волевой сферы, формирование продуктивных способов мыслительной деятельности, а также на профилактику возможных отклонений межличностных отношен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казывает методическую помощь учителям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вает психолого-педагогическую компетентность педагогов и родител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712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рганизационной структурой службы сопровождения ребенка с ОВЗ в общеобразовательном учреждении являет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психолого-медико-педагогический консилиум (ПМПк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МПк является структурным подразделением образовательного учреждения, регулирующим процесс сопровождения и обеспечивающим  комплексность процесса сопровожд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рганизационная модель комплексного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детей с ОВЗ в общеобразовательной школе</a:t>
            </a:r>
            <a:endParaRPr b="0" lang="en-US" sz="2000" spc="-1" strike="noStrike">
              <a:solidFill>
                <a:srgbClr val="fdf4d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91344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7416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дель психолого-педагогического сопровождения детей с ОВЗ характеризуется следующими принципам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1) системность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реализуется в процессе оказания психолого-педагогической помощи в разных направлениях: детям, учителям, родителям (оказывается в реальной ситуации обучения ребенка, выявляет имеющиеся сложности, потенциальные возможности школьника, его сильные стороны, определяющие обходные пути в обучении и с учётом всех составляющих определяется, моделируется система психолого-педагогического сопровождения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2) комплекс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проявляется в том, что педагогом, психологом, родителями оказывается ребенку комплексная помощь, охватывающая все сферы его деятельности (познавательную, эмоционально-волевую, двигательную; оптимизируются социальные связи и отношения), помогающая отследить успешность обучения и наладить межличностные связ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727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3) интегратив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предусматривает интеграцию различных методов (психотерапевтических и психолого-педагогических), методик, подходов, дидактических и психотерапевтических приемов (охватывает не только образовательную среду, но и микросоциальную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4) приоритет особых потребностей ребенка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выявление причин учебных затруднений ребенка, знание и учёт его особых потребностей для использования их в качестве обходных путей (нуждаются в специальных условиях организации образовательного процесса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5) непрерыв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отражает необходимость ранней диагностики его возможностей и способностей, осуществления психолого-педагогического сопровождения на протяжении всего периода обучения, т.е.на всех ступенях образ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9:13:09Z</dcterms:created>
  <dc:creator>...</dc:creator>
  <dc:description/>
  <dc:language>en-US</dc:language>
  <cp:lastModifiedBy>User1</cp:lastModifiedBy>
  <dcterms:modified xsi:type="dcterms:W3CDTF">2019-03-11T06:04:55Z</dcterms:modified>
  <cp:revision>31</cp:revision>
  <dc:subject/>
  <dc:title>Слайд 1</dc:title>
</cp:coreProperties>
</file>