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59C-E549-49C1-AB4E-66713F17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772-5E6E-4A51-8A1D-AB0C3DE9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4F1-4C9C-40DE-B04A-870E143B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F67-F326-4893-AF39-6BC4F92F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A9F7-408B-4B85-A340-E1D3EA1C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0601-6993-4D67-A89F-F12BACB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827-ED96-426F-89D1-C30F41CB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935F-F806-4DAD-89DA-D687B8E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4CD3-B3F7-4B76-A7CB-4904C884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2355-D31C-4D0B-8902-C75B435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5F15-6611-4273-8B8C-95C52F6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2A8-7F76-4196-8472-6805A51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770-6206-4BE6-A3E4-1D9059AF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75C-2D47-410A-9022-238FE62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E916-893C-478E-B0FF-FA46FC8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1C1-DC14-4554-B210-6DE89A8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AE96-8822-47EF-9316-56CB3EB1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BF9-2B88-432C-BC5F-D7BC73D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648-655F-40C0-9F89-9DD58F9C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E54-841A-407E-9C2A-56A66AC2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D98-C8BF-4A68-9455-10CA14F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61A-99E6-40C8-99C3-AA9C76C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CC6-93CF-4B4E-84C7-5621B15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567-1150-41FF-ACE2-FBC3CC1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B63-9BF1-424E-AC94-EFA40D775C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3C5-7CEB-4ECD-B929-35ADD43CD7C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272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педагога-психолога в сопровождении детей с ограниченными возможностями здоровья на разных возрастных этапах в условиях ОУ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8920" y="5084640"/>
            <a:ext cx="5640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дагог-психолог: Толоева Р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обходимо соблюдать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общие принципы и правила при коррекционной работе с детьми с ОВЗ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дивидуальный подход к каждому учен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отвращение наступления утомления, используя для этого разнообразные средства (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 нагляд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720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Использование методов, активизирующих познавательную деятельность учащихся (игровые ситуации; дидактические игры, которые связаны с поиском видовых и родовых признаков предметов; игровые тренинги, способствующие развитию умения общаться с другими; психогимнастика и релаксация, позволяющие снять мышечные спазмы и зажимы, особенно в области лица и кистей рук), развивающих их устную и письменную речь и формирующих необходимые учебные навы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Проявление педагогического такта. Постоянное поощрение за малейшие успехи, своевременная и тактическая помощь каждому ребёнку, развитие в нём веры в собственные силы и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11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9640" y="2349000"/>
            <a:ext cx="705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62064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ю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общеобразовательном учреждении является обеспечение оптимального развития ребенка, успешная интеграция в социу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2723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массовой школе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упреждение возникновения проблем развития ребен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(содействие) ребенку в решении актуальных задач развития, обучения, социализации: учебные трудности, проблемы с выбором образовательного и профессионального маршрута, нарушения эмоционально-волевой сферы, проблемы взаимоотношений со сверстниками, учителями, родителя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сихологическое обеспечение образовательных програм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тие психолого-педагогической компетентности (психологической культуры) учащихся, родителей, педагог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7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Индивидуальная программа психолого-педагогического сопровождения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жет решать следующие пробл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помощь в разрешении трудностей в обучен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профессиональной подготовке и ориентац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во взаимоотношениях с окружающими (учителями, сверстниками, родителями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коррекция нарушений психических процессов и эмоционально-волевой сферы, в этой работе особое место занимает коррекция мышления и эмоционального состояния уче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3640" y="549000"/>
            <a:ext cx="7343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едагог-психолог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являет особенности интеллектуального развития, личностных и поведенческих реакций ребёнка с ОВЗ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оводит групповые и индивидуальные занятия, направленные на нормализацию эмоционально-волевой сферы, формирование продуктивных способов мыслительной деятельности, а также на профилактику возможных отклонений межличностных отношен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казывает методическую помощь учителя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вает психолого-педагогическую компетентность педагогов и родител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ой структурой службы сопровождения ребенка с ОВЗ в общеобразовательном учреждении являе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сихолого-медико-педагогический консилиум (ПМПк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МПк является структурным подразделением образовательного учреждения, регулирующим процесс сопровождения и обеспечивающим  комплексность процесса сопровожд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ая модель комплексного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детей с ОВЗ в общеобразовательной школе</a:t>
            </a:r>
            <a:endParaRPr b="0" lang="en-US" sz="2000" spc="-1" strike="noStrike">
              <a:solidFill>
                <a:srgbClr val="fdf4d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9134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7416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дель психолого-педагогического сопровождения детей с ОВЗ характеризуется следующими принципам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1) системность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реализуется в процессе оказания психолого-педагогической помощи в разных направлениях: детям, учителям, родителям (оказывается в реальной ситуации обучения ребенка, выявляет имеющиеся сложности, потенциальные возможности школьника, его сильные стороны, определяющие обходные пути в обучении и с учётом всех составляющих определяется, моделируется система психолого-педагогического сопровождения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2) комплекс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оявляется в том, что педагогом, психологом, родителями оказывается ребенку комплексная помощь, охватывающая все сферы его деятельности (познавательную, эмоционально-волевую, двигательную; оптимизируются социальные связи и отношения), помогающая отследить успешность обучения и наладить межличностные связ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727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3) интеграти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едусматривает интеграцию различных методов (психотерапевтических и психолого-педагогических), методик, подходов, дидактических и психотерапевтических приемов (охватывает не только образовательную среду, но и микросоциальную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4) приоритет особых потребностей ребенка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выявление причин учебных затруднений ребенка, знание и учёт его особых потребностей для использования их в качестве обходных путей (нуждаются в специальных условиях организации образовательного процесса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5) непреры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отражает необходимость ранней диагностики его возможностей и способностей, осуществления психолого-педагогического сопровождения на протяжении всего периода обучения, т.е.на всех ступенях образ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9:13:09Z</dcterms:created>
  <dc:creator>...</dc:creator>
  <dc:description/>
  <dc:language>en-US</dc:language>
  <cp:lastModifiedBy>User1</cp:lastModifiedBy>
  <dcterms:modified xsi:type="dcterms:W3CDTF">2019-03-11T06:04:55Z</dcterms:modified>
  <cp:revision>31</cp:revision>
  <dc:subject/>
  <dc:title>Слайд 1</dc:title>
</cp:coreProperties>
</file>