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8.jpeg" ContentType="image/jpeg"/>
  <Override PartName="/ppt/media/image5.jpeg" ContentType="image/jpeg"/>
  <Override PartName="/ppt/media/image35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28.wmf" ContentType="image/x-wmf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896-64E2-47D7-BD3A-873A1BD7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CE2-6A31-43F9-9D66-DBDB6F3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3F1-D27E-426D-B7B2-BE03527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265-8129-44C4-A760-A23467F1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70C3-A758-43C8-B8E9-E94C2AB9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3D5-8C12-47CB-8441-108FF3AA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C829-1F76-4460-B946-F781644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06F5-B849-420B-BF60-31D2616E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D0E6-DAE4-423D-AA84-1983778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CE2-30D6-434D-877F-1767BFE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954D-4662-4EFF-B521-3E00A1B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C9-97E2-43FA-9F4A-809247CC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F5DF-7B23-47E9-A709-833A961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4660-3EA8-4E2C-AE23-A86F472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140-46FB-4DF7-90F0-1283781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C5D-DFCE-4F5B-A172-419933B7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83FF-7E98-409B-AA31-2E69B818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824C-DF26-4D8E-A099-8744168D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1059-7E8D-437C-8931-6CD2A1E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D3C2-F60A-43A6-8625-6722A52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4066-6F4A-4227-B3F2-CCB48937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E01A-0FE7-42EC-B3C4-E4039D1C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4F6-8FED-43C8-A5FF-2C5E22B7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6DF5-64F0-4906-A6B6-92DD7FE5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9C9C-2B4A-4527-810D-82542A3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6AE0-3DDE-420B-B54D-3B5749D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0828-4355-4F39-9E3D-CA747F4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3903-C89E-4E27-B0A4-8D97EC5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4EA7-A2B9-4A9B-9C55-D3DE623D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2A7E-A447-4C7D-B1A6-EC0C5890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F974-CE70-476A-BF8E-8D9BF668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16CA-9434-417E-BB0C-87307A8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5BE0-AF30-4910-A10B-4735D291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199-41A2-41AB-9454-B935D39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3EB1-4BB6-41F6-A3B0-5620D246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3B22-7D4F-46BE-8F5F-1957D0E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3512-253A-4207-BA21-872A5357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B14F-0279-4E91-8218-9D8459A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DD6B-7993-4FD0-91D0-A866A82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0347-D5CD-4F57-BAD4-7EC7453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9BFC-00B2-406D-9E27-D204B05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CB32-3229-42E8-A844-ECED4AAD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A0FF-92B9-410F-85D7-DD2D035D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CA0E-A0B1-4455-BBC7-5D72DF73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75-3AC3-4A3E-B339-C75B14B5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7348-1E61-4F44-8925-EE089F0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2E10-B713-4E6C-B8C6-A8454F48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AC44-9494-4632-B175-1DC86B2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0123-0BF3-4C8F-9DA8-54D83DDA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87821-C52C-4B8A-A764-8E20F995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A189-8F81-49D0-B411-F5592FA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9519-F487-4CB9-AC92-1F98780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EA54-89CE-4A76-91FC-44554CE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12E2-83D2-42CC-8ABC-DBC2E6D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BFF8-6560-49B4-B3E4-CA4043D8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B2D-548D-45AB-94CF-8B373440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B839-71FD-4259-9F89-B84E9799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96B8-13E4-4B0D-B69D-9AB3EA86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3193-AD9E-4B07-A0F3-2CF7425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4217-B698-4BCC-A0C6-5A33670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E0C1-47A4-4B65-AC3A-39B5AF1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E774-0D0A-414A-8D93-360B34EB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2E0FE-4403-473A-A4DD-21E1E6B8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71D6-5BFA-4A2B-8017-F7FDDCD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CB459-9736-4E48-9A51-BE4CF40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A197-2EAF-49CF-8F6B-C78C35E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277-260D-4EA4-9B5E-9D8340D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B35F-FE6F-40C1-B480-10E765E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0191-3BD1-4360-B695-D8BBAA4D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A32E-EB2E-4D9F-B921-F002AFD7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C8F05-817C-4E4B-92A2-DCB56576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AAF4C-1C66-4EE0-95DC-1D8E860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DFB6-B246-466A-A7D4-F9EB54F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6A27-0345-4F3B-AAE0-4F01CBB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07FE-92CB-44CF-BEAE-4D64031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FD3D-5120-408B-9398-33BF9C5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C0334-FA4B-4486-8B18-AA218ED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691-A183-4759-AB3F-C91B14B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994A-12B4-4C79-99C2-6F5DC10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EBE6-BE86-4702-AC7E-6828BD5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1FC6-4EE9-48BF-BA7B-1E2B18C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49D8-0C88-4A99-9940-613A5D00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D840-2C8D-4749-8C6C-5F02404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4C50F-812E-48D7-A79D-D203C926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05EC-C46D-4971-B3AB-55B3A7B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9637-A2A2-4904-8C15-33466A7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5CB4A-7F0D-4067-8485-58F7DC4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01BFC-6466-4A12-956F-9FF410BD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8E5-074B-4A68-9168-5650D96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A039C-E944-44DB-BB0E-91C692D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4EFC-75AC-44BB-AA43-546495C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55DD7-9CE2-4121-958E-86DB2D5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2A5F-269E-414F-9B29-8330872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590B-E9BE-4B8A-9E4B-E7A01E7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2D54B-AF35-4357-B564-4E5AC4D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8388-864D-4421-8E7A-A2F8E079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E7E-72C2-4031-B208-79A794FC5A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79D1-CF78-47CE-B955-923C29C9E5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C28-5B98-43C6-991E-E5F6065039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CE0-4599-4112-995F-199E00A3B3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5EA3-CE70-4246-BC1F-F6F11F5CFE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865-2642-4898-8CD7-430FDFE29C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5A6-EEF0-4585-BAA3-EF05D66990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5EFE-B131-4971-B747-6D4AD8D5B1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072280" cy="61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64646"/>
                </a:solidFill>
                <a:latin typeface="Arial"/>
              </a:rPr>
              <a:t>Виды контроля знаний и умений учащихся                       на уроках русского языка</a:t>
            </a:r>
            <a:r>
              <a:rPr b="0" lang="ru-RU" sz="54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: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итературы Бондаренко А.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контроль осуществляется по целому разделу учебного кур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иагностирование качества усвоения учеником структурных основ и взаимосвязей изученного разде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64448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омплексная проверка  образовательных результатов по всем ключевым целям и направления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нтрол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ая работ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т, экзамен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ворческой работ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258920" y="1844640"/>
            <a:ext cx="4968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й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212840" y="30240"/>
            <a:ext cx="8113680" cy="1542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-360" y="1773360"/>
            <a:ext cx="7467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й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компьюте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9" descr=""/>
          <p:cNvPicPr/>
          <p:nvPr/>
        </p:nvPicPr>
        <p:blipFill>
          <a:blip r:embed="rId2"/>
          <a:stretch/>
        </p:blipFill>
        <p:spPr>
          <a:xfrm>
            <a:off x="6372360" y="2227320"/>
            <a:ext cx="27716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357200" y="1356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й опрос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опро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устного контрол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ученик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текст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е карт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434960" y="1447560"/>
            <a:ext cx="7499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ая работа, практическая рабо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анализ текс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 анализ текс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ехнологической кар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форма проверки-фронтальная, письме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верки -текущий.промежуточный, итогов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контроля-проверка практических и творческо-интеллектуальных умений и навыков учащих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639800" y="268200"/>
            <a:ext cx="751068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64448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лаконично и точно сформулированных и стандартизированных заданий, на которые необходимо дать в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е ограниченного времени краткие и точные ответы, оцениваемые по системе балл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7" descr="j0233965"/>
          <p:cNvPicPr/>
          <p:nvPr/>
        </p:nvPicPr>
        <p:blipFill>
          <a:blip r:embed="rId2"/>
          <a:stretch/>
        </p:blipFill>
        <p:spPr>
          <a:xfrm>
            <a:off x="5692680" y="4221000"/>
            <a:ext cx="315936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бы несметным ни было материальное богатство, оно рано или поздно исчерпывается. Есть только одно богатство, которое никогда не истощается, а с течением времени, напротив, растет и умножается – это зна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этого богатства - шко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Назарбае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выявление ЗУН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робелов в знаниях за короткое врем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дифференцированного обуче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 времени на урок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школьник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оценивание учителем своих методов препода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116000" y="1268280"/>
            <a:ext cx="781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ариантные тесты с выбором одного или нескольких  верных  ответ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вариантные   тесты с выбором одного или нескольких верных ответов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е тесты с двумя ответами на вопро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восстановление соответств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дополн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е задания по аналог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е задания с конструирова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идентификации графиков, схем, чертежей, рисунк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выбор правильных сужде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ые тесты, не содержащие вариантов отве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анализ текс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 анализ текс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ехнологической кар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окарт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 на заданную тем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работы исследовательского характер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ы, диспуты, деловые игр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Н, интеллектуальный рин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ы, докла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ребус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хем, работа по таблиц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, проект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ы с ошибк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азнообразить формы провер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объективную оценку знаний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темп урок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долю самостоятельности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возможность проверить усвоение теории у всех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 индивидуальную и дифференцированную работу с каждым ученик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мотивацио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методика проведения контроля побуждает учащихся изучать большее количество информации и самосовершенствова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е учебной работы должны находить свое применение все рассмотренные выше методы проверки и оценки знаний с тем, чтобы обеспечить необходимую систематичность и глубину контроля за качеством успеваемости обучающихс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 задача проверки и оценки знаний , умений и навыков учащихся- укрепление  у школьников оптимистического  восприятия жизни, труда- в первую очередь –учебног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 Сухомлинск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Контроль-это выявление и оценка  результатов учебной деятельности обучающихся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03280" y="1916280"/>
            <a:ext cx="5730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на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понент, необходимый для управления качеством образовательного процесса, направленный на установления обратной связи  в обучении и представляющий собой процесс  систематического  и поэтапного выявления степени достижения  планируемых  результатов обучения, воспитания и развития учащих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22860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рование и корректирование знаний и умений учащихс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езультативности отдельного этапа процесса обуче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итоговых результатов обучения на разных уровн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контро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онтро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учет результатов контрол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"/>
          <p:cNvPicPr/>
          <p:nvPr/>
        </p:nvPicPr>
        <p:blipFill>
          <a:blip r:embed="rId2"/>
          <a:stretch/>
        </p:blipFill>
        <p:spPr>
          <a:xfrm>
            <a:off x="6058080" y="4869000"/>
            <a:ext cx="2617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87280" y="1447560"/>
            <a:ext cx="77472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ая и оценочн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, развивающая 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ющ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а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653080" y="3284640"/>
            <a:ext cx="2590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42560" y="1196640"/>
            <a:ext cx="7891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ED3603"/>
          <p:cNvPicPr/>
          <p:nvPr/>
        </p:nvPicPr>
        <p:blipFill>
          <a:blip r:embed="rId2"/>
          <a:stretch/>
        </p:blipFill>
        <p:spPr>
          <a:xfrm>
            <a:off x="5715000" y="4800600"/>
            <a:ext cx="3025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 контроль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ая проверка и оценка образовательных результатов ученика по конкретным темам на отдельных занят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нтрол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учите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омпьютерной программо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контроль в парах  и группах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 уче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3:56:00Z</dcterms:created>
  <dc:creator>Пользователь</dc:creator>
  <dc:description/>
  <dc:language>en-US</dc:language>
  <cp:lastModifiedBy>user</cp:lastModifiedBy>
  <dcterms:modified xsi:type="dcterms:W3CDTF">2019-03-12T05:10:19Z</dcterms:modified>
  <cp:revision>135</cp:revision>
  <dc:subject/>
  <dc:title>Дифференциация – выбор учащихся</dc:title>
</cp:coreProperties>
</file>