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7.png" ContentType="image/png"/>
  <Override PartName="/ppt/media/image8.jpeg" ContentType="image/jpeg"/>
  <Override PartName="/ppt/media/image5.jpeg" ContentType="image/jpeg"/>
  <Override PartName="/ppt/media/image35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30.png" ContentType="image/png"/>
  <Override PartName="/ppt/media/image28.wmf" ContentType="image/x-wmf"/>
  <Override PartName="/ppt/media/image10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6D63-E9ED-4467-8E77-FB3F35ABC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43FB-27EF-4444-99EB-423D52DE3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92E7-8E3B-46D8-8E91-97A330ABC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BF72-A4BF-43BA-A9AB-E4902CF38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AEE5B-5A6C-42A9-8AB1-D60C411F7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6F207-2B89-408B-8177-EA176BA49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38DEF-2EC3-4C91-927F-606F3D936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204D0-72C9-4126-A6D8-C2C4512C2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8457D-F751-4EF1-A355-C0EE285F0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15E52-E801-4D15-B5C0-1F0DCFA84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6BED9-7075-4298-9A0A-A697CFEF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8188-0EA1-49B0-92F4-9E10570CF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57E4D-04FA-4FFC-AB76-9CE2DD3C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E86F6-710A-4463-82A5-09C46894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A9F2B-548A-4E9D-B9C0-7DD65D8DE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56E9B-6F19-4E84-8C4B-4702C727F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6518A-14E9-449D-A00B-3E30DAF9B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2D8CA-73F0-4488-8C4B-CCA0CB61D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66246-10AB-489C-9E9B-49594086B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2E7B1-2FBF-4067-BA61-0048129B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7B577-27F2-4D3C-99EA-900C25CF6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8486D-87C6-45CF-98DE-522482BA7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8A87-7905-4955-87FB-9C512BE57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3360A-F3B2-4BB7-A78B-A5B1722C7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DD79C-599F-48E7-893F-2F597544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2DF51-C13E-492C-BF5A-640FA29B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94393-1BEE-4BC4-B3E9-7E48B4E2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13258-36CA-4B8B-A73A-43FE67387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9E27A-9D77-4FF3-93CD-90F197D35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3F4C9-4D1B-42ED-A32A-1181081BB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B3B0A-915C-43CE-82D0-555D2EF09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DC867-C174-4B81-A612-5A8A6A138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CBE08-2F42-4DA8-9436-F9FAC175B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6B38-E30F-4C4A-88C6-EC6854FB2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56F97-91C2-421B-88A8-DA98B9293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1F026-4678-4608-B361-5870A3262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7690C-0873-4A98-A326-58AB755F9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0794C-2DE5-4043-B8E1-4266F0EE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C5D84-4D04-469E-886E-096DAE32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24D6F-E35A-45BE-9086-539D5051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896C4-AC20-4E80-A62C-CC0E0FD51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CD91F-1DBB-4592-9706-7163BB26E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6C8B0-2B22-4847-B7D2-0AA7FC192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FC6EB-A8F1-4330-98D0-383F35FFE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DF32-FCBB-446A-9566-66631F7BA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203AD-F803-47D7-A73C-B9E957F0C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D02AA-8350-41BA-9D88-CF655371B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A7DA4-D609-4379-A21E-88190271C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FCFD2-3E5C-45B9-90BF-0D39621DE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B4697-06F6-4102-8411-786003D38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AE4D0-1009-4F41-A277-0400810A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C5A12-2F5D-44B3-8071-20B0351C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9E630-57D0-4D2E-BE0F-6BA48B9D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1CC31-6C22-45B6-B312-A24A19645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A7DE5-7380-4076-84CA-3DF6D09F4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C2F6-D840-478F-AB94-D76B79EA8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3DF0A-E538-46D8-9CFB-B9214964E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11E56-3770-48CA-A2FF-7039868A5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3CEEE-68E0-49E6-8AA0-5E1DC6FDE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3273C-AC00-49BE-A284-043F9DA8C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13747-6310-43FB-9CAE-8239E0DA9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64B12-CE6C-44AD-BA56-BAEAD96D2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370442-CBB7-4AF2-BE64-FD92344B7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9D47ED-CA8A-4EA5-B73C-A4FAFEDC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1C2CB-EA2B-4BDB-B27C-97C97B2D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66044-EBA2-4486-9ACF-C8659160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6E5A-4C36-4036-BC87-3D87C036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EBAFD-2307-4B0B-96C0-76591B140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5C4559-3C17-4461-8218-B0A402179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E3394-D1B6-493A-AB14-C79F33530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62253-9206-4D1B-96E1-3BFE646D1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44B37F-BC54-4059-9F16-A035C6B85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ED1C7-3114-4F3A-B87B-15A3B5F0C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73A53F-74E2-49D7-AAA0-2FF33522C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4A6C0B-A9AC-41DC-9EC5-3ECE7CCA2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D7751-06DD-40D0-B7A7-B6F9D242E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DB0B29-64FA-4EDE-A112-9F851B8F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3380-C18B-4213-BE6B-AAB1A33F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0267A-EFBA-47E3-8CF2-8BAEAB1B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482F8-3500-408B-BF63-F17A8C52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72C4ED-4C9F-4298-9275-36A40FF63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1820F-251C-40E2-BA3B-9A2304E60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FE02A-3AF8-4FC8-88FE-8CDDDDDE7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993270-6C92-4BF6-989C-2A641013B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444A8-1558-4855-9AED-E69FE7305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D804D7-3768-47CC-B8B6-919FD3491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45901-0855-47C7-B171-30868520E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9C8E5A-6AED-4047-B645-3D8DE6FC8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E11D-6EB9-41BF-88D2-199A1833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A4334E-7426-4F76-ABE2-885DAE69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1090DB-6864-4457-A42F-E5FC6E3D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8233DE-F0FC-417D-9B4F-33A97E90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1B51C5-909C-419B-A24E-E91DF65C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CFA8F7-567E-4A26-9695-B63B4541B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CB59EA-A87A-4EA4-BF2F-FAC07275D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9A6C1D-EE86-4EE7-A8E9-3ADF5CFCF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34462-1335-4F44-8264-148F06A3DAF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5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grpSp>
          <p:nvGrpSpPr>
            <p:cNvPr id="51" name="Полилиния 18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pic>
          <p:nvPicPr>
            <p:cNvPr id="54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63974-A0F7-4DEE-8A57-186B956C87A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963AF-F17F-4719-BD47-91B1F36115B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96921-EEB0-4CEF-B631-40B989927BA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4D40D-C11A-4C11-9475-93E63BE3CAD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D0D15-E001-416C-A6AD-86917C3B4EC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D4DF5-5AF1-4787-861B-AF1E8F36D05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23" name="Прямоугольный треугольник 15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pic>
        <p:nvPicPr>
          <p:cNvPr id="326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4F118-B4E2-40A3-A7CB-7531C715100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571320" y="285480"/>
            <a:ext cx="8072280" cy="6143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64646"/>
                </a:solidFill>
                <a:latin typeface="Arial"/>
              </a:rPr>
              <a:t>Виды контроля знаний и умений учащихся                       на уроках русского языка</a:t>
            </a:r>
            <a:r>
              <a:rPr b="0" lang="ru-RU" sz="5400" spc="-1" strike="noStrike">
                <a:solidFill>
                  <a:srgbClr val="464646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ила : учитель русского язык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литературы Бондаренко А.В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тический контроль осуществляется по целому разделу учебного курса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диагностирование качества усвоения учеником структурных основ и взаимосвязей изученного раздел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контроля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ая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1644480" y="14997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овый контроль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комплексная проверка  образовательных результатов по всем ключевым целям и направлениям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контроля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ная работа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чет, экзамен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а творческой работы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ирование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1258920" y="1844640"/>
            <a:ext cx="4968720" cy="38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й;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овой;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онтальный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268200" y="219240"/>
            <a:ext cx="8425080" cy="12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Rectangle 2" descr=""/>
          <p:cNvPicPr/>
          <p:nvPr/>
        </p:nvPicPr>
        <p:blipFill>
          <a:blip r:embed="rId1"/>
          <a:stretch/>
        </p:blipFill>
        <p:spPr>
          <a:xfrm>
            <a:off x="1212840" y="30240"/>
            <a:ext cx="8113680" cy="154296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 txBox="1"/>
          <p:nvPr/>
        </p:nvSpPr>
        <p:spPr>
          <a:xfrm>
            <a:off x="-360" y="1773360"/>
            <a:ext cx="746748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ный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енный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ический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ий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бинированный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ий </a:t>
            </a: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использованием компьютер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овый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Picture 9" descr=""/>
          <p:cNvPicPr/>
          <p:nvPr/>
        </p:nvPicPr>
        <p:blipFill>
          <a:blip r:embed="rId2"/>
          <a:stretch/>
        </p:blipFill>
        <p:spPr>
          <a:xfrm>
            <a:off x="6372360" y="2227320"/>
            <a:ext cx="2771640" cy="42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1357200" y="135684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онтальный опрос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1112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й опрос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1112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устного контроля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1112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еда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1112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з ученика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1112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бщение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1112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снение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1112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ение текста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1112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ческие карты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1112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ы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1434960" y="1447560"/>
            <a:ext cx="749952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ктант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1112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ая работ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1112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ная работа, практическая работ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1112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ы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1112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чет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1112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чинени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1112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ложени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1112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нгвистический анализ текст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1112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ный анализ текст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1112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ение технологической карты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1112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фокарты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1112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Rectangle 4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ая форма проверки-фронтальная, письменна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 проверки -текущий.промежуточный, итоговый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ность контроля-проверка практических и творческо-интеллектуальных умений и навыков учащихся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5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ая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ирующа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ный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енный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бинированный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9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Rectangle 2" descr=""/>
          <p:cNvPicPr/>
          <p:nvPr/>
        </p:nvPicPr>
        <p:blipFill>
          <a:blip r:embed="rId1"/>
          <a:stretch/>
        </p:blipFill>
        <p:spPr>
          <a:xfrm>
            <a:off x="1639800" y="268200"/>
            <a:ext cx="7510680" cy="115884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1644480" y="692280"/>
            <a:ext cx="7499520" cy="555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ст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истема лаконично и точно сформулированных и стандартизированных заданий, на которые необходимо дать в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ение ограниченного времени краткие и точные ответы, оцениваемые по системе баллов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Picture 7" descr="j0233965"/>
          <p:cNvPicPr/>
          <p:nvPr/>
        </p:nvPicPr>
        <p:blipFill>
          <a:blip r:embed="rId2"/>
          <a:stretch/>
        </p:blipFill>
        <p:spPr>
          <a:xfrm>
            <a:off x="5692680" y="4221000"/>
            <a:ext cx="3159360" cy="22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м бы несметным ни было материальное богатство, оно рано или поздно исчерпывается. Есть только одно богатство, которое никогда не истощается, а с течением времени, напротив, растет и умножается – это знание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 этого богатства - школ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. Назарбаев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ивное выявление ЗУНов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41112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е пробелов в знаниях за короткое время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41112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ение дифференцированного обучения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41112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циональное использование времени на уроке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41112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изация мышления школьников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41112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ическое оценивание учителем своих методов преподавания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1116000" y="1268280"/>
            <a:ext cx="7818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вариантные тесты с выбором одного или нескольких  верных  ответов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вариантные   тесты с выбором одного или нескольких верных ответов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ьтернативные тесты с двумя ответами на вопрос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ы на восстановление соответствия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ы на дополнени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овые задания по аналоги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овые задания с конструированием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ы идентификации графиков, схем, чертежей, рисунков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ы на выбор правильных суждений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ытые тесты, не содержащие вариантов ответов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6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нгвистический анализ текст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ный анализ текст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ение технологической карты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фокарты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8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бщения на заданную тему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1112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ирование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1112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ие работы исследовательского характера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1112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торины, диспуты, деловые игры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1112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Н, интеллектуальный ринг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1112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ераты, доклады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1112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ссворды, ребусы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1112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схем, работа по таблице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1112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и, проект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1112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сты с ошибками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1112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1112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1112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0" name="Заголовок 1" descr=""/>
          <p:cNvPicPr/>
          <p:nvPr/>
        </p:nvPicPr>
        <p:blipFill>
          <a:blip r:embed="rId1"/>
          <a:stretch/>
        </p:blipFill>
        <p:spPr>
          <a:xfrm>
            <a:off x="225360" y="115920"/>
            <a:ext cx="846792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воляет разнообразить формы проверки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ет объективную оценку знаний учащихся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ает темп урока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вает долю самостоятельности учащихся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ет возможность проверить усвоение теории у всех учащихся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вает  индивидуальную и дифференцированную работу с каждым учеником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2" name="Заголовок 1" descr=""/>
          <p:cNvPicPr/>
          <p:nvPr/>
        </p:nvPicPr>
        <p:blipFill>
          <a:blip r:embed="rId1"/>
          <a:stretch/>
        </p:blipFill>
        <p:spPr>
          <a:xfrm>
            <a:off x="225360" y="115920"/>
            <a:ext cx="846792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онально-мотивационна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а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а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ая методика проведения контроля побуждает учащихся изучать большее количество информации и самосовершенствоваться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истеме учебной работы должны находить свое применение все рассмотренные выше методы проверки и оценки знаний с тем, чтобы обеспечить необходимую систематичность и глубину контроля за качеством успеваемости обучающихся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ейшая  задача проверки и оценки знаний , умений и навыков учащихся- укрепление  у школьников оптимистического  восприятия жизни, труда- в первую очередь –учебного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А Сухомлинский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Lucida Sans Unicode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Lucida Sans Unicode"/>
              </a:rPr>
              <a:t>Контроль-это выявление и оценка  результатов учебной деятельности обучающихся.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203280" y="1916280"/>
            <a:ext cx="57308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 знаний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компонент, необходимый для управления качеством образовательного процесса, направленный на установления обратной связи  в обучении и представляющий собой процесс  систематического  и поэтапного выявления степени достижения  планируемых  результатов обучения, воспитания и развития учащихся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638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4" descr=""/>
          <p:cNvPicPr/>
          <p:nvPr/>
        </p:nvPicPr>
        <p:blipFill>
          <a:blip r:embed="rId2"/>
          <a:stretch/>
        </p:blipFill>
        <p:spPr>
          <a:xfrm>
            <a:off x="928800" y="2071800"/>
            <a:ext cx="2286000" cy="30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стирование и корректирование знаний и умений учащихся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результативности отдельного этапа процесса обучения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итоговых результатов обучения на разных уровнях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1434960" y="1844280"/>
            <a:ext cx="749952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еполагание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ние контроля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контроля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вание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и учет результатов контроля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Заголовок 1" descr=""/>
          <p:cNvPicPr/>
          <p:nvPr/>
        </p:nvPicPr>
        <p:blipFill>
          <a:blip r:embed="rId1"/>
          <a:stretch/>
        </p:blipFill>
        <p:spPr>
          <a:xfrm>
            <a:off x="244440" y="122400"/>
            <a:ext cx="8448840" cy="13413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13" descr=""/>
          <p:cNvPicPr/>
          <p:nvPr/>
        </p:nvPicPr>
        <p:blipFill>
          <a:blip r:embed="rId2"/>
          <a:stretch/>
        </p:blipFill>
        <p:spPr>
          <a:xfrm>
            <a:off x="6058080" y="4869000"/>
            <a:ext cx="261756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1187280" y="1447560"/>
            <a:ext cx="77472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ирующая и оценочная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ая, развивающая ;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ентирующая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стическая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ющая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" descr=""/>
          <p:cNvPicPr/>
          <p:nvPr/>
        </p:nvPicPr>
        <p:blipFill>
          <a:blip r:embed="rId2"/>
          <a:stretch/>
        </p:blipFill>
        <p:spPr>
          <a:xfrm>
            <a:off x="5653080" y="3284640"/>
            <a:ext cx="259092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1042560" y="1196640"/>
            <a:ext cx="78915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ущий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тический 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овый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Заголовок 1" descr=""/>
          <p:cNvPicPr/>
          <p:nvPr/>
        </p:nvPicPr>
        <p:blipFill>
          <a:blip r:embed="rId1"/>
          <a:stretch/>
        </p:blipFill>
        <p:spPr>
          <a:xfrm>
            <a:off x="225360" y="115920"/>
            <a:ext cx="8467920" cy="13478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5" descr="ED3603"/>
          <p:cNvPicPr/>
          <p:nvPr/>
        </p:nvPicPr>
        <p:blipFill>
          <a:blip r:embed="rId2"/>
          <a:stretch/>
        </p:blipFill>
        <p:spPr>
          <a:xfrm>
            <a:off x="5715000" y="4800600"/>
            <a:ext cx="302580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ущий контроль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ческая проверка и оценка образовательных результатов ученика по конкретным темам на отдельных занятиях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41112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контроля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1112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ос учителя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41112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ирование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41112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компьютерной программой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41112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контроль в парах  и группах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41112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контроль ученика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41112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41112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3T13:56:00Z</dcterms:created>
  <dc:creator>Пользователь</dc:creator>
  <dc:description/>
  <dc:language>en-US</dc:language>
  <cp:lastModifiedBy>user</cp:lastModifiedBy>
  <dcterms:modified xsi:type="dcterms:W3CDTF">2019-03-12T05:10:19Z</dcterms:modified>
  <cp:revision>135</cp:revision>
  <dc:subject/>
  <dc:title>Дифференциация – выбор учащихся</dc:title>
</cp:coreProperties>
</file>