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10.jpeg" ContentType="image/jpeg"/>
  <Override PartName="/ppt/media/image8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CB13-65FA-45DF-87A2-5BDFC7FFB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A2F3-3FED-4589-965B-056B5F6D0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FE509E-90BB-427D-AFB8-3E86ECC5A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1EEDEF-FD0A-4B30-B58C-EBA6C3855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1B1360-A5F4-4040-BE4E-2A8AA5577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B21CA0-FF4E-478A-8530-96B71EB31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047D95-0471-42FE-83D6-AE28BFA72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AF9189-7920-48A4-9063-AA1B414C2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329A63-AB98-4831-A2E3-3A0115F99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5604D1-ABAB-4118-A724-8EB2D46E7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16D1A6-D188-4147-BE9A-E8F754B83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2FEEB9-E46C-4744-80ED-F83C2405A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ED8D-E90D-4239-848A-346BE0ADC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26CDE1-E9F9-4A94-95F7-B46B73B0A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7F312A-6354-4222-828A-0EB612207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9840F7-9462-4492-8B64-F6396B9B3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7BB011-D6F6-421F-BD5D-35273F9E2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F13457-D7A0-4539-AEAB-193151191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1E2009-173C-4CDF-BF88-79B69C53F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3D8F8D-45CD-4145-9326-7938C9C24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85ECD7-43EA-4A56-BCE3-30BC5F107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A5BDC1-5996-47ED-A160-E4751272E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A4CFC0-5BC8-4ABD-B213-DFFBC426B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8C46-8E24-46DD-88C2-6AE12644A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7229D1-3270-4BBF-86B4-6B7CF05C4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F5D904-75EE-4EEA-B2BC-D6A18AD58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FCD586-AA8E-45CF-AF4B-81F1FDFB1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617EBB-B5F4-4B50-BEFF-3CE15E675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09713A-12A8-4AE5-9B29-A4584C81F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2D6C09-1798-4480-BEFC-A4E918BD1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F860E8-6430-4267-871C-B7388916C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E4C9BF-AD28-4340-98D1-D8ED601B1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899F2F-A684-4978-82F3-1727471EE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E82BC9-601A-42DB-8D89-45B66B811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96EC7-38D3-4DE4-860E-158BE5AB2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6448A2-2C3A-4CF2-A7C5-A21C72866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2AEDEF-E5BC-4FAE-8551-4EB284326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E2C467-093E-4895-A005-6F97DC092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710C4C-B273-419D-88FD-4C8058156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938F85-9F81-4ED0-9F9B-BBEF4A8D3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8CEAC5-A540-42CB-93FD-E806D48EF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054A99-B1CD-4728-B18D-8FF0E7F25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7DF64A-3DCD-413B-AC29-5CC101268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6F8D45-0641-455E-AD38-CE26FA505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80AE73-C355-4FFA-AF72-D90BA6B01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64397-DB47-4914-9EEF-E1807D197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5625FF-842B-4949-BA96-161093D75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4095F8-7D8C-4EB9-B350-3046F2D68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36118F-A2F9-46FE-B2F6-0DB4D2A6B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EDF20E-F43C-4517-9D0E-43CE5EE85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209C4D-E252-4067-B322-F8642E498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43400-29EC-488D-9F35-F44811236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294AA-A131-4D1A-AEF5-0F156CF05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43806-69B9-4D1A-9DA8-2D033FA0B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E47D4-5E41-4477-88DF-5080E383F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E96E6-177A-4EBD-91CD-AF47FBBAA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2952-A3BF-4AA1-AB29-FB7E75552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1D7C5-3F29-40C4-845B-E8A005667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FC3C6-BF9B-410A-884E-3F729B9C3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2D500-043C-452F-AE91-9B9B361D2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ABC60-8A78-49AD-A007-296595576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090AB-2F08-4197-974B-1A8AB7F46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D7C0BD-3907-49DD-BD08-59C893615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0EF94E-4FC2-45FF-ADE2-3F5C815EE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353F1C-84C0-4F30-8A3A-182568FCE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C5E9F6-0EFC-4D70-AF94-6ADDBF502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1BCDEA-E72E-4CAE-B6EF-DD06421A0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7C64-CCF5-4A11-BBDF-9C44B19B6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90318B-7D49-475E-987A-4969488CC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96DA2B-40AA-4E60-BB67-7137B486E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8106A8-832C-4351-A6ED-CECC9D35F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32EEF1-5994-4FE4-BC5C-D93A96743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EE4A19-F7A2-4329-826D-EDCD87AB8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952439-3E84-4AC9-BC1B-39385D50A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C39E7D-8CF2-4FDA-ACF0-69C528666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EFB7C8-6CA0-4DF0-892D-B062B0166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20AA8F-781F-46A1-9555-55228AD3A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548448-15BD-4A51-AC1D-2BBD2AEB3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A794-D0B3-4F42-A32C-277923F6C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05664A-B6C7-42DC-9226-E824C0C20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DAF42B-00A5-4D6E-88A1-C7BA5F10C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9B3650-3D73-467B-9B33-CBE023D9A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19AF6C-A79B-4A13-ADD3-BE0C4FDBB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A65585-70DE-4B57-A49B-E982067EA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FB2527-7594-4D9D-A824-FEFC825FE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4E6BAB-4845-48F3-A479-F6D10426E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F0FC88-93FD-42FE-822B-E3F539F2C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D4D311-E525-465E-8FCD-05683273E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A269E0-8826-4479-87CD-2DF473852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20BB-2399-421D-8761-F032A623D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DB3B88-00FF-462A-8F41-F900B8277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B67701-25DA-43F8-B401-FDECC38BC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824874-D36F-46D7-A51C-14CA21E30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1393E9-5C10-435B-9710-01853B54E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2769AD-BC2C-41AF-9B6D-DD383CE58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A13DB2-AED1-4466-AC53-2C81D2373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620214-C1DB-4F55-B760-1D7AA5DDC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24AD4D-8089-473A-ADC7-5F6A3CA7C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AECA9C-8171-48B3-9EE4-AE5916280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98D94E-914F-46E6-9171-DD4FDA3B6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3A78-D08B-4D9C-BCED-CFA552842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76E1AE-4018-4A8F-B8E6-D4771E011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BD2AA9-EABC-4519-A139-095CE3D7B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8BAC4C-E38B-443B-87B1-7A1E4B114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47CA6D-1170-4D4A-B9EA-75C8F5B2D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83E15E-E94E-490A-8372-A85F8C9FE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E572D1-290D-4AC5-96C3-9F0848461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C95DC8-597E-4140-825B-54FA10FA5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4F4006-D041-4420-9DF0-14DFCFBA4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957375-4C8D-42ED-BF65-01783ACBD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1A276A-B27E-460E-B154-C5C01D213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3313-BAFE-4285-AA3E-70480FAE5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F8324C-CDF5-490B-A5FE-F2FC11D5B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7E696B-CDA9-4F0D-ABF5-E467DA99B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BCF508-45A9-4202-9E06-A93281245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4974AE-B20F-4C52-99CA-1550875FA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05C614-65D0-4F22-8631-88FB0C86F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FACAE7-9F9F-4EA2-A21D-B5CD4A66B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8E10CF-5B8B-4A20-A666-0D3DA8CD2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D9E403-7A1A-4F89-8D69-0B4AE0482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515787-0C95-4785-BA1B-1299A0EF1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BA5E52-5083-4F4B-AD39-6F6629FAB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B509-58FD-4598-819A-4E94A2154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8828B1-FEE3-4FB4-8890-E104BE980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E50119-3A05-49DA-BE76-AB7CC6DB8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8F42B0-782C-4502-866B-E42D8EB91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5C17F9-4BE0-46BF-85C0-B52F9DE10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966323-2B70-441F-8629-2A664BFC7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94DF1C-078F-49C3-A65C-4EDDE4CD4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DFC017-17C2-400A-80AF-15A074D7D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F4E5FD-FE19-4054-88F1-555DED8FA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C88D53-7CE8-4606-BC82-F7FAB8A23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B70439-AE6B-41C5-9FCA-B183A79D6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3457-383D-4371-99FB-2A57AE376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E2925E-D2EA-4A01-B9B6-C0658F6AF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FB47DB-7EEB-494D-8F72-8CAF8A1A8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237570-922D-4E65-A390-CC7A5853F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07E8F8-078C-4A45-90A0-9A650580D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3848D7-C814-41B5-91A7-17C71B140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8939A3-C9B3-4926-8E47-C40FB58A2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8EA04B-C456-41F0-85B5-D5C1EF227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9DD3A1-2A6A-4DB4-8DF1-B28610136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258CB8-23ED-459B-B945-5AD8A8D4A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13CEA7-F703-4372-9F74-855BA0056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Скругленный прямоугольник 8"/>
          <p:cNvGrpSpPr/>
          <p:nvPr/>
        </p:nvGrpSpPr>
        <p:grpSpPr>
          <a:xfrm>
            <a:off x="73080" y="-55440"/>
            <a:ext cx="9064440" cy="6992640"/>
            <a:chOff x="73080" y="-55440"/>
            <a:chExt cx="9064440" cy="6992640"/>
          </a:xfrm>
        </p:grpSpPr>
        <p:pic>
          <p:nvPicPr>
            <p:cNvPr id="1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73080" y="-55440"/>
              <a:ext cx="9064440" cy="699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735120" y="592200"/>
              <a:ext cx="7745400" cy="56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46429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alibri"/>
              </a:rPr>
              <a:t>corowina.ucoz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Рисунок 9" descr="1263974281_6.jpg"/>
          <p:cNvPicPr/>
          <p:nvPr/>
        </p:nvPicPr>
        <p:blipFill>
          <a:blip r:embed="rId4"/>
          <a:stretch/>
        </p:blipFill>
        <p:spPr>
          <a:xfrm>
            <a:off x="6908760" y="5357880"/>
            <a:ext cx="1521000" cy="1123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Скругленный прямоугольник 8"/>
          <p:cNvGrpSpPr/>
          <p:nvPr/>
        </p:nvGrpSpPr>
        <p:grpSpPr>
          <a:xfrm>
            <a:off x="73080" y="-55440"/>
            <a:ext cx="9064440" cy="6992640"/>
            <a:chOff x="73080" y="-55440"/>
            <a:chExt cx="9064440" cy="6992640"/>
          </a:xfrm>
        </p:grpSpPr>
        <p:pic>
          <p:nvPicPr>
            <p:cNvPr id="407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73080" y="-55440"/>
              <a:ext cx="9064440" cy="699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8" name=""/>
            <p:cNvSpPr/>
            <p:nvPr/>
          </p:nvSpPr>
          <p:spPr>
            <a:xfrm>
              <a:off x="735120" y="592200"/>
              <a:ext cx="7745400" cy="56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9" name="Рисунок 9" descr="1263974281_6.jpg"/>
          <p:cNvPicPr/>
          <p:nvPr/>
        </p:nvPicPr>
        <p:blipFill>
          <a:blip r:embed="rId4"/>
          <a:stretch/>
        </p:blipFill>
        <p:spPr>
          <a:xfrm>
            <a:off x="6908760" y="5357880"/>
            <a:ext cx="1521000" cy="1123920"/>
          </a:xfrm>
          <a:prstGeom prst="rect">
            <a:avLst/>
          </a:prstGeom>
          <a:ln w="0">
            <a:noFill/>
          </a:ln>
        </p:spPr>
      </p:pic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0"/>
          </p:nvPr>
        </p:nvSpPr>
        <p:spPr>
          <a:xfrm>
            <a:off x="46429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AB14E-48C0-48DC-8068-F84A3AA11706}" type="slidenum">
              <a:rPr b="0" lang="ru-RU" sz="1200" spc="-1" strike="noStrike">
                <a:solidFill>
                  <a:srgbClr val="59595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1" name="Скругленный прямоугольник 8"/>
          <p:cNvGrpSpPr/>
          <p:nvPr/>
        </p:nvGrpSpPr>
        <p:grpSpPr>
          <a:xfrm>
            <a:off x="73080" y="-55440"/>
            <a:ext cx="9064440" cy="6992640"/>
            <a:chOff x="73080" y="-55440"/>
            <a:chExt cx="9064440" cy="6992640"/>
          </a:xfrm>
        </p:grpSpPr>
        <p:pic>
          <p:nvPicPr>
            <p:cNvPr id="452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73080" y="-55440"/>
              <a:ext cx="9064440" cy="699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3" name=""/>
            <p:cNvSpPr/>
            <p:nvPr/>
          </p:nvSpPr>
          <p:spPr>
            <a:xfrm>
              <a:off x="735120" y="592200"/>
              <a:ext cx="7745400" cy="56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54" name="Рисунок 9" descr="1263974281_6.jpg"/>
          <p:cNvPicPr/>
          <p:nvPr/>
        </p:nvPicPr>
        <p:blipFill>
          <a:blip r:embed="rId4"/>
          <a:stretch/>
        </p:blipFill>
        <p:spPr>
          <a:xfrm>
            <a:off x="6908760" y="5357880"/>
            <a:ext cx="1521000" cy="1123920"/>
          </a:xfrm>
          <a:prstGeom prst="rect">
            <a:avLst/>
          </a:prstGeom>
          <a:ln w="0">
            <a:noFill/>
          </a:ln>
        </p:spPr>
      </p:pic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 type="sldNum" idx="33"/>
          </p:nvPr>
        </p:nvSpPr>
        <p:spPr>
          <a:xfrm>
            <a:off x="46429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40945-3C1F-41E4-A0AF-496857C0058B}" type="slidenum">
              <a:rPr b="0" lang="ru-RU" sz="1200" spc="-1" strike="noStrike">
                <a:solidFill>
                  <a:srgbClr val="59595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6" name="Скругленный прямоугольник 8"/>
          <p:cNvGrpSpPr/>
          <p:nvPr/>
        </p:nvGrpSpPr>
        <p:grpSpPr>
          <a:xfrm>
            <a:off x="73080" y="-55440"/>
            <a:ext cx="9064440" cy="6992640"/>
            <a:chOff x="73080" y="-55440"/>
            <a:chExt cx="9064440" cy="6992640"/>
          </a:xfrm>
        </p:grpSpPr>
        <p:pic>
          <p:nvPicPr>
            <p:cNvPr id="497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73080" y="-55440"/>
              <a:ext cx="9064440" cy="699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8" name=""/>
            <p:cNvSpPr/>
            <p:nvPr/>
          </p:nvSpPr>
          <p:spPr>
            <a:xfrm>
              <a:off x="735120" y="592200"/>
              <a:ext cx="7745400" cy="56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99" name="Рисунок 9" descr="1263974281_6.jpg"/>
          <p:cNvPicPr/>
          <p:nvPr/>
        </p:nvPicPr>
        <p:blipFill>
          <a:blip r:embed="rId4"/>
          <a:stretch/>
        </p:blipFill>
        <p:spPr>
          <a:xfrm>
            <a:off x="6908760" y="5357880"/>
            <a:ext cx="1521000" cy="1123920"/>
          </a:xfrm>
          <a:prstGeom prst="rect">
            <a:avLst/>
          </a:prstGeom>
          <a:ln w="0">
            <a:noFill/>
          </a:ln>
        </p:spPr>
      </p:pic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 type="sldNum" idx="36"/>
          </p:nvPr>
        </p:nvSpPr>
        <p:spPr>
          <a:xfrm>
            <a:off x="46429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28604-C4D9-4225-BCCF-3C45F358109D}" type="slidenum">
              <a:rPr b="0" lang="ru-RU" sz="1200" spc="-1" strike="noStrike">
                <a:solidFill>
                  <a:srgbClr val="59595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Скругленный прямоугольник 8"/>
          <p:cNvGrpSpPr/>
          <p:nvPr/>
        </p:nvGrpSpPr>
        <p:grpSpPr>
          <a:xfrm>
            <a:off x="73080" y="-55440"/>
            <a:ext cx="9064440" cy="6992640"/>
            <a:chOff x="73080" y="-55440"/>
            <a:chExt cx="9064440" cy="6992640"/>
          </a:xfrm>
        </p:grpSpPr>
        <p:pic>
          <p:nvPicPr>
            <p:cNvPr id="46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73080" y="-55440"/>
              <a:ext cx="9064440" cy="699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735120" y="592200"/>
              <a:ext cx="7745400" cy="56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8" name="Рисунок 9" descr="1263974281_6.jpg"/>
          <p:cNvPicPr/>
          <p:nvPr/>
        </p:nvPicPr>
        <p:blipFill>
          <a:blip r:embed="rId4"/>
          <a:stretch/>
        </p:blipFill>
        <p:spPr>
          <a:xfrm>
            <a:off x="6908760" y="5357880"/>
            <a:ext cx="1521000" cy="112392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10" descr="a_e2d893b5.jpg"/>
          <p:cNvPicPr/>
          <p:nvPr/>
        </p:nvPicPr>
        <p:blipFill>
          <a:blip r:embed="rId5"/>
          <a:stretch/>
        </p:blipFill>
        <p:spPr>
          <a:xfrm>
            <a:off x="142920" y="142920"/>
            <a:ext cx="1428840" cy="18968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938640" y="6500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alibri"/>
              </a:rPr>
              <a:t>corowina.ucoz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Скругленный прямоугольник 8"/>
          <p:cNvGrpSpPr/>
          <p:nvPr/>
        </p:nvGrpSpPr>
        <p:grpSpPr>
          <a:xfrm>
            <a:off x="73080" y="-55440"/>
            <a:ext cx="9064440" cy="6992640"/>
            <a:chOff x="73080" y="-55440"/>
            <a:chExt cx="9064440" cy="6992640"/>
          </a:xfrm>
        </p:grpSpPr>
        <p:pic>
          <p:nvPicPr>
            <p:cNvPr id="92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73080" y="-55440"/>
              <a:ext cx="9064440" cy="699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735120" y="592200"/>
              <a:ext cx="7745400" cy="56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4" name="Рисунок 9" descr="1263974281_6.jpg"/>
          <p:cNvPicPr/>
          <p:nvPr/>
        </p:nvPicPr>
        <p:blipFill>
          <a:blip r:embed="rId4"/>
          <a:stretch/>
        </p:blipFill>
        <p:spPr>
          <a:xfrm>
            <a:off x="6908760" y="5357880"/>
            <a:ext cx="1521000" cy="112392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46429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4F568-BE81-4BA2-82C5-35AB252BC383}" type="slidenum">
              <a:rPr b="0" lang="ru-RU" sz="1200" spc="-1" strike="noStrike">
                <a:solidFill>
                  <a:srgbClr val="59595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Скругленный прямоугольник 8"/>
          <p:cNvGrpSpPr/>
          <p:nvPr/>
        </p:nvGrpSpPr>
        <p:grpSpPr>
          <a:xfrm>
            <a:off x="73080" y="-55440"/>
            <a:ext cx="9064440" cy="6992640"/>
            <a:chOff x="73080" y="-55440"/>
            <a:chExt cx="9064440" cy="6992640"/>
          </a:xfrm>
        </p:grpSpPr>
        <p:pic>
          <p:nvPicPr>
            <p:cNvPr id="137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73080" y="-55440"/>
              <a:ext cx="9064440" cy="699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735120" y="592200"/>
              <a:ext cx="7745400" cy="56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9" name="Рисунок 9" descr="1263974281_6.jpg"/>
          <p:cNvPicPr/>
          <p:nvPr/>
        </p:nvPicPr>
        <p:blipFill>
          <a:blip r:embed="rId4"/>
          <a:stretch/>
        </p:blipFill>
        <p:spPr>
          <a:xfrm>
            <a:off x="6908760" y="5357880"/>
            <a:ext cx="1521000" cy="112392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46429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84189-735A-47BD-A55C-5BC51AD6708F}" type="slidenum">
              <a:rPr b="0" lang="ru-RU" sz="1200" spc="-1" strike="noStrike">
                <a:solidFill>
                  <a:srgbClr val="59595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Скругленный прямоугольник 8"/>
          <p:cNvGrpSpPr/>
          <p:nvPr/>
        </p:nvGrpSpPr>
        <p:grpSpPr>
          <a:xfrm>
            <a:off x="73080" y="-55440"/>
            <a:ext cx="9064440" cy="6992640"/>
            <a:chOff x="73080" y="-55440"/>
            <a:chExt cx="9064440" cy="6992640"/>
          </a:xfrm>
        </p:grpSpPr>
        <p:pic>
          <p:nvPicPr>
            <p:cNvPr id="182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73080" y="-55440"/>
              <a:ext cx="9064440" cy="699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735120" y="592200"/>
              <a:ext cx="7745400" cy="56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4" name="Рисунок 9" descr="1263974281_6.jpg"/>
          <p:cNvPicPr/>
          <p:nvPr/>
        </p:nvPicPr>
        <p:blipFill>
          <a:blip r:embed="rId4"/>
          <a:stretch/>
        </p:blipFill>
        <p:spPr>
          <a:xfrm>
            <a:off x="6908760" y="5357880"/>
            <a:ext cx="1521000" cy="112392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5"/>
          </p:nvPr>
        </p:nvSpPr>
        <p:spPr>
          <a:xfrm>
            <a:off x="46429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18182-63DB-4206-9AC1-5D017AAE6E42}" type="slidenum">
              <a:rPr b="0" lang="ru-RU" sz="1200" spc="-1" strike="noStrike">
                <a:solidFill>
                  <a:srgbClr val="59595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Скругленный прямоугольник 8"/>
          <p:cNvGrpSpPr/>
          <p:nvPr/>
        </p:nvGrpSpPr>
        <p:grpSpPr>
          <a:xfrm>
            <a:off x="73080" y="-55440"/>
            <a:ext cx="9064440" cy="6992640"/>
            <a:chOff x="73080" y="-55440"/>
            <a:chExt cx="9064440" cy="6992640"/>
          </a:xfrm>
        </p:grpSpPr>
        <p:pic>
          <p:nvPicPr>
            <p:cNvPr id="227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73080" y="-55440"/>
              <a:ext cx="9064440" cy="699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735120" y="592200"/>
              <a:ext cx="7745400" cy="56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9" name="Рисунок 9" descr="1263974281_6.jpg"/>
          <p:cNvPicPr/>
          <p:nvPr/>
        </p:nvPicPr>
        <p:blipFill>
          <a:blip r:embed="rId4"/>
          <a:stretch/>
        </p:blipFill>
        <p:spPr>
          <a:xfrm>
            <a:off x="6908760" y="5357880"/>
            <a:ext cx="1521000" cy="112392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18"/>
          </p:nvPr>
        </p:nvSpPr>
        <p:spPr>
          <a:xfrm>
            <a:off x="46429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7B4B9-6454-46DC-9038-F75C43C95655}" type="slidenum">
              <a:rPr b="0" lang="ru-RU" sz="1200" spc="-1" strike="noStrike">
                <a:solidFill>
                  <a:srgbClr val="59595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Скругленный прямоугольник 8"/>
          <p:cNvGrpSpPr/>
          <p:nvPr/>
        </p:nvGrpSpPr>
        <p:grpSpPr>
          <a:xfrm>
            <a:off x="73080" y="-55440"/>
            <a:ext cx="9064440" cy="6992640"/>
            <a:chOff x="73080" y="-55440"/>
            <a:chExt cx="9064440" cy="6992640"/>
          </a:xfrm>
        </p:grpSpPr>
        <p:pic>
          <p:nvPicPr>
            <p:cNvPr id="272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73080" y="-55440"/>
              <a:ext cx="9064440" cy="699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"/>
            <p:cNvSpPr/>
            <p:nvPr/>
          </p:nvSpPr>
          <p:spPr>
            <a:xfrm>
              <a:off x="735120" y="592200"/>
              <a:ext cx="7745400" cy="56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4" name="Рисунок 9" descr="1263974281_6.jpg"/>
          <p:cNvPicPr/>
          <p:nvPr/>
        </p:nvPicPr>
        <p:blipFill>
          <a:blip r:embed="rId4"/>
          <a:stretch/>
        </p:blipFill>
        <p:spPr>
          <a:xfrm>
            <a:off x="6908760" y="5357880"/>
            <a:ext cx="1521000" cy="1123920"/>
          </a:xfrm>
          <a:prstGeom prst="rect">
            <a:avLst/>
          </a:prstGeom>
          <a:ln w="0">
            <a:noFill/>
          </a:ln>
        </p:spPr>
      </p:pic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 type="sldNum" idx="21"/>
          </p:nvPr>
        </p:nvSpPr>
        <p:spPr>
          <a:xfrm>
            <a:off x="46429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B8F26-ED6D-4B75-BF0E-58BDDBD0DB3D}" type="slidenum">
              <a:rPr b="0" lang="ru-RU" sz="1200" spc="-1" strike="noStrike">
                <a:solidFill>
                  <a:srgbClr val="59595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6" name="Скругленный прямоугольник 8"/>
          <p:cNvGrpSpPr/>
          <p:nvPr/>
        </p:nvGrpSpPr>
        <p:grpSpPr>
          <a:xfrm>
            <a:off x="73080" y="-55440"/>
            <a:ext cx="9064440" cy="6992640"/>
            <a:chOff x="73080" y="-55440"/>
            <a:chExt cx="9064440" cy="6992640"/>
          </a:xfrm>
        </p:grpSpPr>
        <p:pic>
          <p:nvPicPr>
            <p:cNvPr id="317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73080" y="-55440"/>
              <a:ext cx="9064440" cy="699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"/>
            <p:cNvSpPr/>
            <p:nvPr/>
          </p:nvSpPr>
          <p:spPr>
            <a:xfrm>
              <a:off x="735120" y="592200"/>
              <a:ext cx="7745400" cy="56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19" name="Рисунок 9" descr="1263974281_6.jpg"/>
          <p:cNvPicPr/>
          <p:nvPr/>
        </p:nvPicPr>
        <p:blipFill>
          <a:blip r:embed="rId4"/>
          <a:stretch/>
        </p:blipFill>
        <p:spPr>
          <a:xfrm>
            <a:off x="6908760" y="5357880"/>
            <a:ext cx="1521000" cy="1123920"/>
          </a:xfrm>
          <a:prstGeom prst="rect">
            <a:avLst/>
          </a:prstGeom>
          <a:ln w="0">
            <a:noFill/>
          </a:ln>
        </p:spPr>
      </p:pic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 type="sldNum" idx="24"/>
          </p:nvPr>
        </p:nvSpPr>
        <p:spPr>
          <a:xfrm>
            <a:off x="46429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78473-5676-4326-89DB-4B58AEB213EC}" type="slidenum">
              <a:rPr b="0" lang="ru-RU" sz="1200" spc="-1" strike="noStrike">
                <a:solidFill>
                  <a:srgbClr val="59595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1" name="Скругленный прямоугольник 8"/>
          <p:cNvGrpSpPr/>
          <p:nvPr/>
        </p:nvGrpSpPr>
        <p:grpSpPr>
          <a:xfrm>
            <a:off x="73080" y="-55440"/>
            <a:ext cx="9064440" cy="6992640"/>
            <a:chOff x="73080" y="-55440"/>
            <a:chExt cx="9064440" cy="6992640"/>
          </a:xfrm>
        </p:grpSpPr>
        <p:pic>
          <p:nvPicPr>
            <p:cNvPr id="362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73080" y="-55440"/>
              <a:ext cx="9064440" cy="699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"/>
            <p:cNvSpPr/>
            <p:nvPr/>
          </p:nvSpPr>
          <p:spPr>
            <a:xfrm>
              <a:off x="735120" y="592200"/>
              <a:ext cx="7745400" cy="56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4" name="Рисунок 9" descr="1263974281_6.jpg"/>
          <p:cNvPicPr/>
          <p:nvPr/>
        </p:nvPicPr>
        <p:blipFill>
          <a:blip r:embed="rId4"/>
          <a:stretch/>
        </p:blipFill>
        <p:spPr>
          <a:xfrm>
            <a:off x="6908760" y="5357880"/>
            <a:ext cx="1521000" cy="112392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7"/>
          </p:nvPr>
        </p:nvSpPr>
        <p:spPr>
          <a:xfrm>
            <a:off x="46429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94BBE-0430-4DD2-BF6E-CA0CC7D1B15A}" type="slidenum">
              <a:rPr b="0" lang="ru-RU" sz="1200" spc="-1" strike="noStrike">
                <a:solidFill>
                  <a:srgbClr val="59595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Горизонтальный свиток 4"/>
          <p:cNvSpPr/>
          <p:nvPr/>
        </p:nvSpPr>
        <p:spPr>
          <a:xfrm>
            <a:off x="1714680" y="571680"/>
            <a:ext cx="5857560" cy="2214360"/>
          </a:xfrm>
          <a:prstGeom prst="horizontalScroll">
            <a:avLst>
              <a:gd name="adj" fmla="val 12500"/>
            </a:avLst>
          </a:prstGeom>
          <a:solidFill>
            <a:srgbClr val="ddffdd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714240" y="857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оборд, как средство</a:t>
            </a:r>
            <a:br>
              <a:rPr sz="2900"/>
            </a:b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знавательной активности</a:t>
            </a:r>
            <a:br>
              <a:rPr sz="2900"/>
            </a:b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школьников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subTitle"/>
          </p:nvPr>
        </p:nvSpPr>
        <p:spPr>
          <a:xfrm>
            <a:off x="1585800" y="4076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ыполнил: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ь старшей  группы Стахеева Ирина Александров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ДОУ «Детский сад комбинированного вида №29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TextBox 6"/>
          <p:cNvSpPr/>
          <p:nvPr/>
        </p:nvSpPr>
        <p:spPr>
          <a:xfrm>
            <a:off x="4786200" y="6581880"/>
            <a:ext cx="178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owina.ucoz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397200" y="626760"/>
            <a:ext cx="2349720" cy="47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и цыпленка стоят 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корлупки глядят.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а яичка в гнезде 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наседки лежат.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читай поверней,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чай поскорей: 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о будет цыплят 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наседки моей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6" name="Рисунок 1" descr=""/>
          <p:cNvPicPr/>
          <p:nvPr/>
        </p:nvPicPr>
        <p:blipFill>
          <a:blip r:embed="rId1"/>
          <a:srcRect l="50549" t="65310" r="11427" b="7565"/>
          <a:stretch/>
        </p:blipFill>
        <p:spPr>
          <a:xfrm>
            <a:off x="841320" y="620640"/>
            <a:ext cx="5570640" cy="568656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5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516720" y="274680"/>
            <a:ext cx="2170080" cy="509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ебесах она сверкает, 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шу елку украшает. 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померкнет никогда 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овогодний день …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8" name="Рисунок 2" descr=""/>
          <p:cNvPicPr/>
          <p:nvPr/>
        </p:nvPicPr>
        <p:blipFill>
          <a:blip r:embed="rId1"/>
          <a:srcRect l="55242" t="15637" r="2414" b="26541"/>
          <a:stretch/>
        </p:blipFill>
        <p:spPr>
          <a:xfrm>
            <a:off x="900000" y="657360"/>
            <a:ext cx="5616720" cy="55800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2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012000" y="907920"/>
            <a:ext cx="2603520" cy="409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росла в лесу дремучем,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нималась к синим тучам.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 теперь меня срубили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в игрушки нарядил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0" name="Рисунок 2" descr=""/>
          <p:cNvPicPr/>
          <p:nvPr/>
        </p:nvPicPr>
        <p:blipFill>
          <a:blip r:embed="rId1"/>
          <a:srcRect l="50232" t="191" r="25665" b="67320"/>
          <a:stretch/>
        </p:blipFill>
        <p:spPr>
          <a:xfrm>
            <a:off x="1332000" y="476280"/>
            <a:ext cx="4464000" cy="60181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9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адание на логику. 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толе лежат 3 карандаша разной длины. Как удалить из середины самый длинный карандаш, не трогая его?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2" name="Содержимое 3" descr="http://www.maam.ru/upload/blogs/621b1494c7e898229e50eb09b0bce03f.jpg.jpg"/>
          <p:cNvPicPr/>
          <p:nvPr/>
        </p:nvPicPr>
        <p:blipFill>
          <a:blip r:embed="rId1"/>
          <a:srcRect l="11237" t="0" r="10630" b="0"/>
          <a:stretch/>
        </p:blipFill>
        <p:spPr>
          <a:xfrm>
            <a:off x="755640" y="1773360"/>
            <a:ext cx="3600360" cy="3671640"/>
          </a:xfrm>
          <a:prstGeom prst="rect">
            <a:avLst/>
          </a:prstGeom>
          <a:ln w="0">
            <a:noFill/>
          </a:ln>
        </p:spPr>
      </p:pic>
      <p:pic>
        <p:nvPicPr>
          <p:cNvPr id="583" name="Рисунок 3" descr="http://www.maam.ru/upload/blogs/f35242b998a683e1eef21c2722fc31a0.jpg.jpg"/>
          <p:cNvPicPr/>
          <p:nvPr/>
        </p:nvPicPr>
        <p:blipFill>
          <a:blip r:embed="rId2"/>
          <a:srcRect l="15669" t="0" r="9472" b="0"/>
          <a:stretch/>
        </p:blipFill>
        <p:spPr>
          <a:xfrm>
            <a:off x="5076720" y="1773360"/>
            <a:ext cx="3456000" cy="367344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6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1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00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оборд,  геометрик или математический планшет -  это многофункциональная геометрическая доска для конструирования плоских изображений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6" name="Объект 1" descr=""/>
          <p:cNvPicPr/>
          <p:nvPr/>
        </p:nvPicPr>
        <p:blipFill>
          <a:blip r:embed="rId1"/>
          <a:stretch/>
        </p:blipFill>
        <p:spPr>
          <a:xfrm>
            <a:off x="1835280" y="2581200"/>
            <a:ext cx="4897440" cy="3929040"/>
          </a:xfrm>
          <a:prstGeom prst="rect">
            <a:avLst/>
          </a:prstGeom>
          <a:ln w="0">
            <a:noFill/>
          </a:ln>
        </p:spPr>
      </p:pic>
      <p:sp>
        <p:nvSpPr>
          <p:cNvPr id="547" name="TextBox 3"/>
          <p:cNvSpPr/>
          <p:nvPr/>
        </p:nvSpPr>
        <p:spPr>
          <a:xfrm>
            <a:off x="4786200" y="6581880"/>
            <a:ext cx="178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owina.ucoz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 txBox="1"/>
          <p:nvPr/>
        </p:nvSpPr>
        <p:spPr>
          <a:xfrm>
            <a:off x="684360" y="5417640"/>
            <a:ext cx="4248000" cy="70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гипетский математик Калеб Гаттегно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здал первое «поле для рисования резиночками» с 25 штырьками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TextBox 4"/>
          <p:cNvSpPr/>
          <p:nvPr/>
        </p:nvSpPr>
        <p:spPr>
          <a:xfrm>
            <a:off x="4786200" y="6581880"/>
            <a:ext cx="178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owina.ucoz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0" name="Рисунок 1" descr=""/>
          <p:cNvPicPr/>
          <p:nvPr/>
        </p:nvPicPr>
        <p:blipFill>
          <a:blip r:embed="rId1"/>
          <a:stretch/>
        </p:blipFill>
        <p:spPr>
          <a:xfrm>
            <a:off x="1042920" y="476280"/>
            <a:ext cx="3367080" cy="4941720"/>
          </a:xfrm>
          <a:prstGeom prst="rect">
            <a:avLst/>
          </a:prstGeom>
          <a:ln w="0">
            <a:noFill/>
          </a:ln>
        </p:spPr>
      </p:pic>
      <p:pic>
        <p:nvPicPr>
          <p:cNvPr id="551" name="Рисунок 3" descr=""/>
          <p:cNvPicPr/>
          <p:nvPr/>
        </p:nvPicPr>
        <p:blipFill>
          <a:blip r:embed="rId2"/>
          <a:srcRect l="34253" t="4783" r="4023" b="4527"/>
          <a:stretch/>
        </p:blipFill>
        <p:spPr>
          <a:xfrm>
            <a:off x="4807080" y="1268280"/>
            <a:ext cx="3846240" cy="37674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465880" y="691920"/>
            <a:ext cx="3106800" cy="51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Геоборд своими руками.</a:t>
            </a:r>
            <a:br>
              <a:rPr sz="2000"/>
            </a:b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ам понадобятся: 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ямоугольная доска из дерева, фанеры, пробковая или перфорированная плита; 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обходимо расчертить ее на горизонтальные и вертикальные линии, чтобы получились ровные квадраты размером 3:3 или 4:4;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 пересечении линий необходимо вбить силовые кнопки или вкрутить саморезы;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иготовьте большое количество резинок канцелярских или для плетения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TextBox 5"/>
          <p:cNvSpPr/>
          <p:nvPr/>
        </p:nvSpPr>
        <p:spPr>
          <a:xfrm>
            <a:off x="642960" y="5157720"/>
            <a:ext cx="79297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Box 6"/>
          <p:cNvSpPr/>
          <p:nvPr/>
        </p:nvSpPr>
        <p:spPr>
          <a:xfrm>
            <a:off x="4786200" y="6581880"/>
            <a:ext cx="178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owina.ucoz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5" name="Рисунок 1" descr=""/>
          <p:cNvPicPr/>
          <p:nvPr/>
        </p:nvPicPr>
        <p:blipFill>
          <a:blip r:embed="rId1"/>
          <a:stretch/>
        </p:blipFill>
        <p:spPr>
          <a:xfrm>
            <a:off x="971640" y="549360"/>
            <a:ext cx="4300560" cy="573228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41264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гры с геобордом  - это развитие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- мелкой моторики, координации движений и ловкости обеих рук; подготовка руки к письму, и, как следствие,  развитие речи;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     представлений о свойствах предметов: цвет, размер, форма;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- математических представлений (геометрические фигуры, длина, понятия «один-много», счет, изображение цифр, знакомство с понятиями  площади, периметра, угла);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фантазии и воображения;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логического и пространственного мышления, зрительной памяти; 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мения моделировать и ориентироваться на плоскости, знакомство с понятиями направления («справа, слева, вверху, внизу»);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мения создать изображение по образцу;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сидчивости и внимания;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выков конструирования.   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TextBox 4"/>
          <p:cNvSpPr/>
          <p:nvPr/>
        </p:nvSpPr>
        <p:spPr>
          <a:xfrm>
            <a:off x="1332000" y="404640"/>
            <a:ext cx="66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чего нужен геоборд и в чем его польз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8" name="Рисунок 2" descr="20181127_121645.jpg"/>
          <p:cNvPicPr/>
          <p:nvPr/>
        </p:nvPicPr>
        <p:blipFill>
          <a:blip r:embed="rId1"/>
          <a:stretch/>
        </p:blipFill>
        <p:spPr>
          <a:xfrm rot="5151000">
            <a:off x="237240" y="767520"/>
            <a:ext cx="3359160" cy="2519280"/>
          </a:xfrm>
          <a:prstGeom prst="rect">
            <a:avLst/>
          </a:prstGeom>
          <a:ln w="0">
            <a:noFill/>
          </a:ln>
        </p:spPr>
      </p:pic>
      <p:pic>
        <p:nvPicPr>
          <p:cNvPr id="559" name="Рисунок 3" descr="20181127_121655.jpg"/>
          <p:cNvPicPr/>
          <p:nvPr/>
        </p:nvPicPr>
        <p:blipFill>
          <a:blip r:embed="rId2"/>
          <a:stretch/>
        </p:blipFill>
        <p:spPr>
          <a:xfrm rot="5740200">
            <a:off x="1800000" y="3227400"/>
            <a:ext cx="3251160" cy="2438280"/>
          </a:xfrm>
          <a:prstGeom prst="rect">
            <a:avLst/>
          </a:prstGeom>
          <a:ln w="0">
            <a:noFill/>
          </a:ln>
        </p:spPr>
      </p:pic>
      <p:sp>
        <p:nvSpPr>
          <p:cNvPr id="560" name="TextBox 4"/>
          <p:cNvSpPr/>
          <p:nvPr/>
        </p:nvSpPr>
        <p:spPr>
          <a:xfrm>
            <a:off x="1042920" y="602136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 «Построй лабиринт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Рисунок 5" descr="20181127_121921.jpg"/>
          <p:cNvPicPr/>
          <p:nvPr/>
        </p:nvPicPr>
        <p:blipFill>
          <a:blip r:embed="rId3"/>
          <a:stretch/>
        </p:blipFill>
        <p:spPr>
          <a:xfrm>
            <a:off x="5292720" y="404640"/>
            <a:ext cx="2104920" cy="2808360"/>
          </a:xfrm>
          <a:prstGeom prst="rect">
            <a:avLst/>
          </a:prstGeom>
          <a:ln w="0">
            <a:noFill/>
          </a:ln>
        </p:spPr>
      </p:pic>
      <p:pic>
        <p:nvPicPr>
          <p:cNvPr id="562" name="Рисунок 6" descr="20181127_122052.jpg"/>
          <p:cNvPicPr/>
          <p:nvPr/>
        </p:nvPicPr>
        <p:blipFill>
          <a:blip r:embed="rId4"/>
          <a:srcRect l="6232" t="11685" r="0" b="0"/>
          <a:stretch/>
        </p:blipFill>
        <p:spPr>
          <a:xfrm>
            <a:off x="6300720" y="2708280"/>
            <a:ext cx="2235240" cy="2808360"/>
          </a:xfrm>
          <a:prstGeom prst="rect">
            <a:avLst/>
          </a:prstGeom>
          <a:ln w="0">
            <a:noFill/>
          </a:ln>
        </p:spPr>
      </p:pic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TextBox 9"/>
          <p:cNvSpPr/>
          <p:nvPr/>
        </p:nvSpPr>
        <p:spPr>
          <a:xfrm>
            <a:off x="4716360" y="5589720"/>
            <a:ext cx="28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 «Напиши букву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6" name="Рисунок 4" descr="20181127_122028.jpg"/>
          <p:cNvPicPr/>
          <p:nvPr/>
        </p:nvPicPr>
        <p:blipFill>
          <a:blip r:embed="rId1"/>
          <a:stretch/>
        </p:blipFill>
        <p:spPr>
          <a:xfrm>
            <a:off x="755640" y="549360"/>
            <a:ext cx="2511360" cy="3348000"/>
          </a:xfrm>
          <a:prstGeom prst="rect">
            <a:avLst/>
          </a:prstGeom>
          <a:ln w="0">
            <a:noFill/>
          </a:ln>
        </p:spPr>
      </p:pic>
      <p:pic>
        <p:nvPicPr>
          <p:cNvPr id="567" name="Рисунок 5" descr="20181127_122417.jpg"/>
          <p:cNvPicPr/>
          <p:nvPr/>
        </p:nvPicPr>
        <p:blipFill>
          <a:blip r:embed="rId2"/>
          <a:stretch/>
        </p:blipFill>
        <p:spPr>
          <a:xfrm rot="4616400">
            <a:off x="3639600" y="1020600"/>
            <a:ext cx="3130560" cy="2349720"/>
          </a:xfrm>
          <a:prstGeom prst="rect">
            <a:avLst/>
          </a:prstGeom>
          <a:ln w="0">
            <a:noFill/>
          </a:ln>
        </p:spPr>
      </p:pic>
      <p:pic>
        <p:nvPicPr>
          <p:cNvPr id="568" name="Рисунок 6" descr="20181127_122505.jpg"/>
          <p:cNvPicPr/>
          <p:nvPr/>
        </p:nvPicPr>
        <p:blipFill>
          <a:blip r:embed="rId3"/>
          <a:srcRect l="24016" t="3801" r="5898" b="18499"/>
          <a:stretch/>
        </p:blipFill>
        <p:spPr>
          <a:xfrm rot="598800">
            <a:off x="5354280" y="3614760"/>
            <a:ext cx="3205080" cy="2663640"/>
          </a:xfrm>
          <a:prstGeom prst="rect">
            <a:avLst/>
          </a:prstGeom>
          <a:ln w="0">
            <a:noFill/>
          </a:ln>
        </p:spPr>
      </p:pic>
      <p:sp>
        <p:nvSpPr>
          <p:cNvPr id="569" name="TextBox 7"/>
          <p:cNvSpPr/>
          <p:nvPr/>
        </p:nvSpPr>
        <p:spPr>
          <a:xfrm>
            <a:off x="6588000" y="1916280"/>
            <a:ext cx="208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гра «Нарисуй по схеме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Box 8"/>
          <p:cNvSpPr/>
          <p:nvPr/>
        </p:nvSpPr>
        <p:spPr>
          <a:xfrm>
            <a:off x="684360" y="4221000"/>
            <a:ext cx="2663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 «Рисуем геометрические фигуры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378120" y="333000"/>
            <a:ext cx="2297160" cy="502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уляет в джунглях старый слон,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одинок, и грустен он.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 подошел к нему сынок,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больше слон не одинок.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о слонов стало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2" name="Рисунок 2" descr=""/>
          <p:cNvPicPr/>
          <p:nvPr/>
        </p:nvPicPr>
        <p:blipFill>
          <a:blip r:embed="rId1"/>
          <a:srcRect l="10869" t="36639" r="50708" b="35643"/>
          <a:stretch/>
        </p:blipFill>
        <p:spPr>
          <a:xfrm>
            <a:off x="826920" y="549360"/>
            <a:ext cx="5551560" cy="572904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516720" y="274320"/>
            <a:ext cx="2170080" cy="524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домика утром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а зайца сидели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дружно веселую песенку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ли.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ин убежал,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второй вслед глядит.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о у домика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йцев сидит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4" name="Рисунок 1" descr=""/>
          <p:cNvPicPr/>
          <p:nvPr/>
        </p:nvPicPr>
        <p:blipFill>
          <a:blip r:embed="rId1"/>
          <a:srcRect l="50673" t="8240" r="11356" b="64326"/>
          <a:stretch/>
        </p:blipFill>
        <p:spPr>
          <a:xfrm>
            <a:off x="826920" y="549360"/>
            <a:ext cx="5689800" cy="588168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8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5T10:00:02Z</dcterms:created>
  <dc:creator>Admin</dc:creator>
  <dc:description/>
  <dc:language>en-US</dc:language>
  <cp:lastModifiedBy>User</cp:lastModifiedBy>
  <dcterms:modified xsi:type="dcterms:W3CDTF">2019-03-11T21:11:15Z</dcterms:modified>
  <cp:revision>26</cp:revision>
  <dc:subject/>
  <dc:title>Слайд 1</dc:title>
</cp:coreProperties>
</file>