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EB2-5ED8-49B3-8967-ED5EAA7A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9D3-1D3A-4A53-8039-1386EB92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CA5F3-A9E2-4ABE-82C2-B3098F57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95C63-7E5F-4783-8ACC-05982CDA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B4705-4EE6-4E63-8138-1198F17D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48A46-95DC-4ECA-83C3-6A48E809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F192C-29ED-403E-BE65-EB276684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1636E-3F73-4192-9AB5-AD1BC4D7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541C7-5F80-4395-BE98-6C2B6C03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A8332-F4F3-4E20-BFEF-86721DE7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5CB4A-1F2C-4AC4-AC38-DBB84C67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CA8BE-4692-42C6-B25D-7B7036CA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BAA-2ACD-4C4B-953E-40C0E0FE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3113C-83B7-4A48-8E5F-9BBD66E4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AD05E-D27A-4783-B6A6-47FB5EE4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9DDCC-5407-432F-BD69-6812FD2F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8E8E9-5CAF-4F59-AB50-54D28D33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29B35-E51E-434B-B9A7-A682B892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42769-4470-4620-9DEB-B4100A29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DC037-800D-4B58-AFDC-B8E607FD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CAD1D-0E50-41B3-AF96-3AD7A4A7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66161-EA2F-4F54-B2F7-CCB32C84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BCC05-C08B-4FB2-B9B8-932F351D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A9A-1B50-419A-B9C1-5E445A35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C3091-51AB-4B83-8C6C-74C3E306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A8011-6001-4829-801A-9EA62630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F0B21-5D55-4B30-BE07-BFA5CFC6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BD3EE-D526-4C56-B241-D52BE8A6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318F4-3042-44D0-9D64-5CF5329F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D8F05-3051-4383-BF62-63E29040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D2AA5-4AEA-4083-AB03-F1AF542B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E3D76-CE29-4882-B295-E36D7F0D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AF7A0-D3A7-4236-8DAD-580DE19C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05BD8-0B08-4B14-90BB-722A52A1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8CC7-1246-45F4-A996-4EF8CC6A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DFCCF-ED1F-4B34-A205-3A56B091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9063F-8DB5-429E-8206-2CBBC2D1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2D804-D549-4D2F-A79B-AC5F1B8D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CA80E-A856-4873-B21A-3D08594C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4DA81-5375-4DDE-9419-8A00F531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AA9AC-1478-4278-AC9C-82605889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18DF6-0031-4F52-AA3B-2D3451A5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E23F9-A625-423C-AF69-6ADDB255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F043E-8AA7-4F9F-85E5-5EE026B1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0AB81-AE06-43CB-BE2A-A4584AE2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BA62-E7A9-4C28-9B5D-B5C87EC9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2ED0E-4490-4232-9A26-CB4393D8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F8889-723E-4291-AECF-3B8D889E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DC9F2-FFA6-40BB-80A3-CD72DF28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9C034-29B4-4178-AF76-92F44B17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A89ED-1B92-4AAE-BCD8-7A743B47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C544-10F1-4B11-BCEE-6A78E6A4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9DC7-9FED-43F6-9395-B98D2530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1B63-3B97-44B3-B286-FAC9D11B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9DFD-17B3-439F-B156-76F22831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3668-FD0D-467E-A281-D0C8192F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3DE-211F-4DB3-A253-D2B73533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3FD7-638B-4806-B049-3E6EDB07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ED7C-B15D-4035-A6CD-4F9DCC76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E41E-3C2E-4DE5-AABE-01E9C3C3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155F-E875-470E-B2B0-2DEA1AC0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AD01-5DC2-4C47-9BD5-55C18CCD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09745-07A2-434E-8369-0ECC85C7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66559-9EE4-4612-98D2-E31C5AE2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5CAD8-E93F-4FD1-9E10-F2A3D99E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2E585-85CA-4486-A2C2-2392E1FD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63942-9632-4A79-AD73-80EDBFAA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E67-37C2-480E-A043-917384E0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133C-0801-46DB-8045-406EA515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2BEE-EC8D-40FD-8F10-BDE1266E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D3B28-10F2-4324-9EFF-A2B24C33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B877-28E3-4897-9B8D-605AB731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BF07D-FA15-40AC-BD7D-11331AED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A672-01D7-4881-8AEC-BC20A587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2AA8A-D9E9-4443-9924-B804D282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54C23-EF0F-4231-974A-47CCDA11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8F58-06D9-4652-973A-4BBA9E63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ABBEC-497E-4ED4-925C-4F2A7064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3E4-17EA-4514-BB48-97E78D3F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908CA-B959-4645-90E4-01254A36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FD1E3-79A8-4C14-B512-22F7B4EE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D7BD2-DB44-41D0-9607-1661DEB7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16DD7-8B22-4509-9FDA-90B09049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91997-29F4-49E1-9229-6DC6A984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DE5D3-AE36-47FD-BFF3-76427E8D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05CFB-5965-4441-9DE9-E79AA7A2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B4FFC-6653-40D5-AECA-6DECF70A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2B02C-0F0A-404F-86E0-BA2DA1E8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D92E8-7268-4426-AB15-6A1DEC90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D00-49A9-439B-B87E-B77CB5A6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3B153-3E5E-4DB5-BBC6-0E53BF33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A36EC-4D93-4D35-8F9A-39DBDE58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21F48-FE1D-4B3C-8DE1-13AFF8ED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0EB0E-99B9-4F2C-BAA6-8A3E369D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4ED9F-81C6-4452-BC83-384C4973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A5C0C-0EE6-4575-A09F-B9B50877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07367-5107-4A0E-9DAE-ACC7F3C3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30710-8023-4214-88B3-2DF3B8EC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3007D-66A0-4283-8AAB-D20B106A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4BBFB-3FC5-4593-A473-EFFAD6B0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F20-D28C-40A6-A8EE-8CE98903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93D1F-866E-43CB-9887-8254085D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96D16-013B-49AB-AE2B-A5B12BB2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4C441-0181-4F31-95A6-2C7B0AC4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3564B-9F97-412E-9342-95B65F11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DC415-9048-4142-82FD-AA4FB126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EAE3C-09D2-4041-B2AF-9844D96F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17391-98FA-4D20-8AFF-61E1BD5C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7F78F-E042-4F5B-A017-7BC6A6AF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F3B6F-54A0-4698-8927-C3C9262B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76E7D-42EC-46B1-967D-6BC1E796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C01-F8E7-4E0A-8CDD-D2A9C30D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A0D48-694B-424C-9358-AA82384F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BDC91-4539-42F1-990D-1480F146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66D40-91C2-4429-B198-F35F833C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91CAA-64D9-4B65-8329-79DE7FA8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CCC1B-FCC5-4CA6-87B1-6DB5D079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DCF88-44D0-4F5D-897D-CD7E6E0C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EEB2B-04DB-4EAE-85D4-4CD95A14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09DE7-45D6-453F-9433-36727C11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37ABA-D8C9-4BEB-8BB0-F5C858EA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850D6-AF8D-4D6D-8A3B-E65B5221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2C5-EEB7-44A2-AC63-9AF6157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A24B0-5663-4C77-8D42-3C3CF6F5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FA3B3-96AD-4192-AE1F-62E5448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47659-9E69-4B39-9AB5-9499E95C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F8D27-6551-4943-A696-E97EE027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40967-5E58-45D6-A176-D97CCE0F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DD0F0-4507-42FD-A511-1BC43BD9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EC9BB-97B4-4E79-894A-476E9ED4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81C76-40A4-4E2D-A725-2746A462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6CD21-27FC-4632-AC95-221589BA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F5F3A-B4F3-4FD8-A0C1-E143A1D1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0CD-0AF9-4580-AB49-12E86929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D35BA-AE3D-4A01-A985-6FE714FA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F73C0-0AA0-402A-8E17-3A2FE573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E6582-620C-403F-B46B-17650BCD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091A2-16ED-488D-ABE6-E7C2799E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52E29-FC61-41B7-BEAA-FC1AD8DE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80941-63F6-4E0B-A52A-80F43FBD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4EC33-B7AC-46B0-A442-1BADE0D6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F5027-D582-4D67-805D-BBD84D4E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BC5A9-0A61-4BD1-883A-5FC6189C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79D14-63F9-48E1-BA80-C4F0CC42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F4B4-EF2F-4149-A4CC-7EF5C86B2DBF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5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E626-B287-4805-8887-6CAB6FACB841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9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8078-01CC-4C3B-AF75-85EC1DCF1D2C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80A9-4AD2-47BF-91D7-467A002EDFB4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013C-ADA7-4A60-99D8-662436C75C08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42D3-1905-472D-8719-872D81908479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B3F2-7232-453B-99F3-208673F757E4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7DF0-99C9-4F64-8B35-8D55E199A1FC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31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1222-F3CC-4574-88BF-D87529D25B8F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36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1B7F-7640-4319-88E6-416A310F6952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Горизонтальный свиток 4"/>
          <p:cNvSpPr/>
          <p:nvPr/>
        </p:nvSpPr>
        <p:spPr>
          <a:xfrm>
            <a:off x="1714680" y="571680"/>
            <a:ext cx="5857560" cy="221436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борд, как средство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навательной активности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5858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полнил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старшей  группы Стахеева Ирина Александ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комбинированного вида №29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397200" y="626760"/>
            <a:ext cx="234972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цыпленка стоят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орлупки глядят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яичка в гнезде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едки лежат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й поверней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й поскорей: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будет цыплят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едки мое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Рисунок 1" descr=""/>
          <p:cNvPicPr/>
          <p:nvPr/>
        </p:nvPicPr>
        <p:blipFill>
          <a:blip r:embed="rId1"/>
          <a:srcRect l="50549" t="65310" r="11427" b="7565"/>
          <a:stretch/>
        </p:blipFill>
        <p:spPr>
          <a:xfrm>
            <a:off x="841320" y="620640"/>
            <a:ext cx="5570640" cy="5686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516720" y="274680"/>
            <a:ext cx="217008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сах она сверкает,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у елку украшает.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меркнет никогда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вогодний день 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Рисунок 2" descr=""/>
          <p:cNvPicPr/>
          <p:nvPr/>
        </p:nvPicPr>
        <p:blipFill>
          <a:blip r:embed="rId1"/>
          <a:srcRect l="55242" t="15637" r="2414" b="26541"/>
          <a:stretch/>
        </p:blipFill>
        <p:spPr>
          <a:xfrm>
            <a:off x="900000" y="657360"/>
            <a:ext cx="5616720" cy="5580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12000" y="907920"/>
            <a:ext cx="260352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осла в лесу дремучем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алась к синим тучам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теперь меня срубили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игрушки наряди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Рисунок 2" descr=""/>
          <p:cNvPicPr/>
          <p:nvPr/>
        </p:nvPicPr>
        <p:blipFill>
          <a:blip r:embed="rId1"/>
          <a:srcRect l="50232" t="191" r="25665" b="67320"/>
          <a:stretch/>
        </p:blipFill>
        <p:spPr>
          <a:xfrm>
            <a:off x="1332000" y="476280"/>
            <a:ext cx="4464000" cy="6018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на логику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ле лежат 3 карандаша разной длины. Как удалить из середины самый длинный карандаш, не трогая его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Содержимое 3" descr="http://www.maam.ru/upload/blogs/621b1494c7e898229e50eb09b0bce03f.jpg.jpg"/>
          <p:cNvPicPr/>
          <p:nvPr/>
        </p:nvPicPr>
        <p:blipFill>
          <a:blip r:embed="rId1"/>
          <a:srcRect l="11237" t="0" r="10630" b="0"/>
          <a:stretch/>
        </p:blipFill>
        <p:spPr>
          <a:xfrm>
            <a:off x="755640" y="1773360"/>
            <a:ext cx="3600360" cy="3671640"/>
          </a:xfrm>
          <a:prstGeom prst="rect">
            <a:avLst/>
          </a:prstGeom>
          <a:ln w="0">
            <a:noFill/>
          </a:ln>
        </p:spPr>
      </p:pic>
      <p:pic>
        <p:nvPicPr>
          <p:cNvPr id="583" name="Рисунок 3" descr="http://www.maam.ru/upload/blogs/f35242b998a683e1eef21c2722fc31a0.jpg.jpg"/>
          <p:cNvPicPr/>
          <p:nvPr/>
        </p:nvPicPr>
        <p:blipFill>
          <a:blip r:embed="rId2"/>
          <a:srcRect l="15669" t="0" r="9472" b="0"/>
          <a:stretch/>
        </p:blipFill>
        <p:spPr>
          <a:xfrm>
            <a:off x="5076720" y="1773360"/>
            <a:ext cx="345600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борд,  геометрик или математический планшет -  это многофункциональная геометрическая доска для конструирования плоских изображений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Объект 1" descr=""/>
          <p:cNvPicPr/>
          <p:nvPr/>
        </p:nvPicPr>
        <p:blipFill>
          <a:blip r:embed="rId1"/>
          <a:stretch/>
        </p:blipFill>
        <p:spPr>
          <a:xfrm>
            <a:off x="1835280" y="2581200"/>
            <a:ext cx="4897440" cy="3929040"/>
          </a:xfrm>
          <a:prstGeom prst="rect">
            <a:avLst/>
          </a:prstGeom>
          <a:ln w="0">
            <a:noFill/>
          </a:ln>
        </p:spPr>
      </p:pic>
      <p:sp>
        <p:nvSpPr>
          <p:cNvPr id="547" name="TextBox 3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684360" y="5417640"/>
            <a:ext cx="42480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ипетский математик Калеб Гаттег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л первое «поле для рисования резиночками» с 25 штырьк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4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Рисунок 1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3367080" cy="4941720"/>
          </a:xfrm>
          <a:prstGeom prst="rect">
            <a:avLst/>
          </a:prstGeom>
          <a:ln w="0">
            <a:noFill/>
          </a:ln>
        </p:spPr>
      </p:pic>
      <p:pic>
        <p:nvPicPr>
          <p:cNvPr id="551" name="Рисунок 3" descr=""/>
          <p:cNvPicPr/>
          <p:nvPr/>
        </p:nvPicPr>
        <p:blipFill>
          <a:blip r:embed="rId2"/>
          <a:srcRect l="34253" t="4783" r="4023" b="4527"/>
          <a:stretch/>
        </p:blipFill>
        <p:spPr>
          <a:xfrm>
            <a:off x="4807080" y="1268280"/>
            <a:ext cx="3846240" cy="3767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465880" y="691920"/>
            <a:ext cx="3106800" cy="51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еоборд своими руками.</a:t>
            </a:r>
            <a:br>
              <a:rPr sz="2000"/>
            </a:b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м понадобятся: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ямоугольная доска из дерева, фанеры, пробковая или перфорированная плита;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одимо расчертить ее на горизонтальные и вертикальные линии, чтобы получились ровные квадраты размером 3:3 или 4:4;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пересечении линий необходимо вбить силовые кнопки или вкрутить саморезы;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готовьте большое количество резинок канцелярских или для плет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5"/>
          <p:cNvSpPr/>
          <p:nvPr/>
        </p:nvSpPr>
        <p:spPr>
          <a:xfrm>
            <a:off x="642960" y="5157720"/>
            <a:ext cx="7929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Рисунок 1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4300560" cy="5732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ы с геобордом  - это развити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мелкой моторики, координации движений и ловкости обеих рук; подготовка руки к письму, и, как следствие,  развитие речи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представлений о свойствах предметов: цвет, размер, форма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математических представлений (геометрические фигуры, длина, понятия «один-много», счет, изображение цифр, знакомство с понятиями  площади, периметра, угла)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антазии и воображения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гического и пространственного мышления, зрительной памяти;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я моделировать и ориентироваться на плоскости, знакомство с понятиями направления («справа, слева, вверху, внизу»)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я создать изображение по образцу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идчивости и внимания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выков конструирования. 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4"/>
          <p:cNvSpPr/>
          <p:nvPr/>
        </p:nvSpPr>
        <p:spPr>
          <a:xfrm>
            <a:off x="1332000" y="404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 нужен геоборд и в чем его поль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Рисунок 2" descr="20181127_121645.jpg"/>
          <p:cNvPicPr/>
          <p:nvPr/>
        </p:nvPicPr>
        <p:blipFill>
          <a:blip r:embed="rId1"/>
          <a:stretch/>
        </p:blipFill>
        <p:spPr>
          <a:xfrm rot="5151000">
            <a:off x="237240" y="76752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3" descr="20181127_121655.jpg"/>
          <p:cNvPicPr/>
          <p:nvPr/>
        </p:nvPicPr>
        <p:blipFill>
          <a:blip r:embed="rId2"/>
          <a:stretch/>
        </p:blipFill>
        <p:spPr>
          <a:xfrm rot="5740200">
            <a:off x="1800000" y="322740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560" name="TextBox 4"/>
          <p:cNvSpPr/>
          <p:nvPr/>
        </p:nvSpPr>
        <p:spPr>
          <a:xfrm>
            <a:off x="1042920" y="602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строй лабирин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Рисунок 5" descr="20181127_121921.jpg"/>
          <p:cNvPicPr/>
          <p:nvPr/>
        </p:nvPicPr>
        <p:blipFill>
          <a:blip r:embed="rId3"/>
          <a:stretch/>
        </p:blipFill>
        <p:spPr>
          <a:xfrm>
            <a:off x="5292720" y="404640"/>
            <a:ext cx="2104920" cy="280836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20181127_122052.jpg"/>
          <p:cNvPicPr/>
          <p:nvPr/>
        </p:nvPicPr>
        <p:blipFill>
          <a:blip r:embed="rId4"/>
          <a:srcRect l="6232" t="11685" r="0" b="0"/>
          <a:stretch/>
        </p:blipFill>
        <p:spPr>
          <a:xfrm>
            <a:off x="6300720" y="2708280"/>
            <a:ext cx="2235240" cy="28083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9"/>
          <p:cNvSpPr/>
          <p:nvPr/>
        </p:nvSpPr>
        <p:spPr>
          <a:xfrm>
            <a:off x="4716360" y="5589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Напиши букв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Рисунок 4" descr="20181127_122028.jpg"/>
          <p:cNvPicPr/>
          <p:nvPr/>
        </p:nvPicPr>
        <p:blipFill>
          <a:blip r:embed="rId1"/>
          <a:stretch/>
        </p:blipFill>
        <p:spPr>
          <a:xfrm>
            <a:off x="755640" y="549360"/>
            <a:ext cx="2511360" cy="33480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5" descr="20181127_122417.jpg"/>
          <p:cNvPicPr/>
          <p:nvPr/>
        </p:nvPicPr>
        <p:blipFill>
          <a:blip r:embed="rId2"/>
          <a:stretch/>
        </p:blipFill>
        <p:spPr>
          <a:xfrm rot="4616400">
            <a:off x="3639600" y="1020600"/>
            <a:ext cx="3130560" cy="234972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6" descr="20181127_122505.jpg"/>
          <p:cNvPicPr/>
          <p:nvPr/>
        </p:nvPicPr>
        <p:blipFill>
          <a:blip r:embed="rId3"/>
          <a:srcRect l="24016" t="3801" r="5898" b="18499"/>
          <a:stretch/>
        </p:blipFill>
        <p:spPr>
          <a:xfrm rot="598800">
            <a:off x="5354280" y="3614760"/>
            <a:ext cx="3205080" cy="2663640"/>
          </a:xfrm>
          <a:prstGeom prst="rect">
            <a:avLst/>
          </a:prstGeom>
          <a:ln w="0">
            <a:noFill/>
          </a:ln>
        </p:spPr>
      </p:pic>
      <p:sp>
        <p:nvSpPr>
          <p:cNvPr id="569" name="TextBox 7"/>
          <p:cNvSpPr/>
          <p:nvPr/>
        </p:nvSpPr>
        <p:spPr>
          <a:xfrm>
            <a:off x="6588000" y="191628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а «Нарисуй по схем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684360" y="422100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Рисуем геометрические фигу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378120" y="333000"/>
            <a:ext cx="229716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яет в джунглях старый слон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инок, и грустен он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одошел к нему сынок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ольше слон не одинок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слонов стал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Рисунок 2" descr=""/>
          <p:cNvPicPr/>
          <p:nvPr/>
        </p:nvPicPr>
        <p:blipFill>
          <a:blip r:embed="rId1"/>
          <a:srcRect l="10869" t="36639" r="50708" b="35643"/>
          <a:stretch/>
        </p:blipFill>
        <p:spPr>
          <a:xfrm>
            <a:off x="826920" y="549360"/>
            <a:ext cx="5551560" cy="5729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16720" y="274320"/>
            <a:ext cx="217008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мика утром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зайца сидел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жно веселую песенку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ли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убежал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торой вслед глядит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у домика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цев сиди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Рисунок 1" descr=""/>
          <p:cNvPicPr/>
          <p:nvPr/>
        </p:nvPicPr>
        <p:blipFill>
          <a:blip r:embed="rId1"/>
          <a:srcRect l="50673" t="8240" r="11356" b="64326"/>
          <a:stretch/>
        </p:blipFill>
        <p:spPr>
          <a:xfrm>
            <a:off x="826920" y="549360"/>
            <a:ext cx="5689800" cy="5881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0:00:02Z</dcterms:created>
  <dc:creator>Admin</dc:creator>
  <dc:description/>
  <dc:language>en-US</dc:language>
  <cp:lastModifiedBy>User</cp:lastModifiedBy>
  <dcterms:modified xsi:type="dcterms:W3CDTF">2019-03-11T21:11:15Z</dcterms:modified>
  <cp:revision>26</cp:revision>
  <dc:subject/>
  <dc:title>Слайд 1</dc:title>
</cp:coreProperties>
</file>