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3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0.jpeg" ContentType="image/jpeg"/>
  <Override PartName="/ppt/media/image1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AB0-C6C8-445B-BBDF-26AB4564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21B-E214-4842-B938-0D3E1B9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246-0A86-431E-9D46-F1E1DA7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235-F1F6-44AC-9129-347953AE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69D-E62C-4DF0-ADE7-77EB8D4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0F3-9FC2-40D7-8EB3-CA57D9B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EE8-D3F3-415D-8D68-C54BB8E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4D6-D39B-49BD-B576-3EE39A12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B4A-73E2-4A6B-8FA7-3DFEC2C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23C-6903-440D-B4BB-31D23CC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5E4-489B-4FF1-8E33-25C2FF4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490-7ADF-48A1-B7B8-243942B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811-8C2B-4D2D-A3E5-96DDD3DF7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000000"/>
                </a:solidFill>
                <a:latin typeface="Arial"/>
              </a:rPr>
              <a:t>«Безопасность детей в сети Интернет и интернет – угрозы для ребенка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31489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291960" y="401760"/>
            <a:ext cx="8534520" cy="1622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37636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731520"/>
            <a:ext cx="8280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9% детей иногда посещают порносайты, еще 9% делают это регуля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8% детей, просматривают страницы о нас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16% детей просматривают страницы с расистским содержи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5% пятилетних детей активно используют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коло 50% детей выходят в Сеть без контроля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4,5% детей назначали встречи с незнакомцами через Интернет, 10% из них ходили на встречи в одиночку, а 7% никому не сообщили, что с кем–то встреч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916000" y="2276280"/>
            <a:ext cx="6119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«Киберсуиц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ици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– всего лишь способ избавления от проб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иберсуицид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согласованные самоубийства. По Интернету подростки и молодые лю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говариваются о совместном самоубийств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6301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71640" y="1628280"/>
            <a:ext cx="6120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Сайты знакомств, социальные сети, блоги и ч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сожалению уже было много случаев, когда педофилы выдавали себя за одного из детей или выдуманных персонажей, чтобы войти к ним в доверие и завести пошлые или открыто сексуальные беседы с ними или даже договориться о личной встр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916000" y="2276640"/>
            <a:ext cx="61196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Интернет пестрит новостями о “пользе” употребления марихуаны, рецептами и советами изготовления “зелья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2799000" cy="206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16000" y="2276640"/>
            <a:ext cx="611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cc"/>
                </a:solidFill>
                <a:uFillTx/>
                <a:latin typeface="Arial"/>
              </a:rPr>
              <a:t>С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ртуальный собеседник не схватит за руку, но ему вполне по силам “проникнуть в мысли” и повлиять на взгляды на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2630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24000" y="1773000"/>
            <a:ext cx="6119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cc00cc"/>
                </a:solidFill>
                <a:uFillTx/>
                <a:latin typeface="Arial"/>
              </a:rPr>
              <a:t>Экстремизм, национализм, фашиз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0000"/>
                </a:solidFill>
                <a:latin typeface="Arial"/>
              </a:rPr>
              <a:t>Все широкие возможности Интернета используются представителями экстремистских течений для того, чтобы заманить в свои ряды новичков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77840" y="3357720"/>
            <a:ext cx="2703600" cy="19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894800" cy="13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вязчивые бесконечные путешествия по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емирной паутине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страстие к виртуальному общению и виртуальным знакомствам —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большие объёмы переписк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быточность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знакомых и друзей в Сет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Игровая зависим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 — навязчивое увлечение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ристрастие к просмотру фильмов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через интернет, когда «больной» может провести перед экраном весь день не отрываясь из-за того, что в сети можно посмотреть практически любой фильм или пере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23640" y="260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Любопытная детская природа может завести их на сайты расистского, дискриминационного, сексуального, насильственного содержания или на сайты, содержащие материалы, побуждающие ребенка к действиям,</a:t>
            </a:r>
            <a:r>
              <a:rPr b="1" lang="ru-RU" sz="3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32767"/>
                </a:solidFill>
                <a:latin typeface="Arial"/>
              </a:rPr>
              <a:t>которые могут поставить под угрозу его психологическое или физическое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72276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1557360"/>
            <a:ext cx="8543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у не следует давать частной информации о себе (фамилию, номер телефона, адрес, номер школы) без разрешения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2500200"/>
            <a:ext cx="2465280" cy="1643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916360" y="2492280"/>
            <a:ext cx="565308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Не разрешайте ребенку предоставлять личную информацию через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95280" y="4357800"/>
            <a:ext cx="838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крывать письма электронной почты, файлы или Web-страницы, полученные от людей, которые не знакомы или не внушают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2786040"/>
            <a:ext cx="2357640" cy="1571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627280" y="3141720"/>
            <a:ext cx="6335640" cy="94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Оградите ребенка от ненадлежащего веб-содержимог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4508640"/>
            <a:ext cx="849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403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а в реальной жизни со знакомыми по Интернет-общению не является очень хорошей идеей, поскольку люди могут быть разными в электронном общении и при реальной встрече, и, если ребенок желает встретиться с ними, родителям следует пойти на первую встречу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2920" y="3071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2428920" y="3143160"/>
            <a:ext cx="6143760" cy="1373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ебенок должен понять, что его виртуальный собеседник может выдавать себя за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95280" y="4653000"/>
            <a:ext cx="817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274680" y="176040"/>
            <a:ext cx="850896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82600" y="1052640"/>
            <a:ext cx="842472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йте Интернет вместе с детьми. Поощряйте ваших детей делиться   с вами их успехами и неудачами в деле освоения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Объясните детям, что если в Интернете что-либо беспокоит их, то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 скрывать этого, а поделиться с вами своим беспокойст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оставьте список правил работы детей в Интернет и помните, ч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твердое «нет», чем неуверенное «д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граничения буду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, но зато действовать всегда и без 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ъясните ребенку, что при общении в чатах, использовани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ого обмена сообщениями (типа ICQ, Microsoft Messenger и т.д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и он-лайн игр и других ситуациях, требу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и, нельзя использовать реальное имя, помогите ва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ыбрать регистрационное имя, не содержащее никакой л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ъясните ребенку, что нельзя выдавать свои личные данные, такие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адрес, номер телефона и любую другую лич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, например, номер школы, класс, любимое место прогул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озвращения домой, место работы отца или матер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09600" y="981000"/>
            <a:ext cx="865512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воему ребенку, что  как и в реальной жизни и в Интернете нет разницы между неправильными и правильными  поступ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е ваших детей уважать собеседников в Интернете. Убедитесь, что они понимают, что правила хорошего тона действуют одинаково в Интернете и в реальной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 им, что никогда не стоит встречаться с друзьями из Интернета. Ведь люди могут оказаться совсем не теми, за кого себя выда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все, что можно увидеть в Интернете –      прав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сомнениях, пусть лучше уточнит у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Компьютер с подключением к Интернету должен находиться в 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учите себя знакомиться с сайтами, которые посещают ваш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спользуйте современные программы, которые предоставляю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фильтрации содержимого сайтов, контролировать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посещения и деятельност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274680" y="165240"/>
            <a:ext cx="8508960" cy="124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50920" y="1218960"/>
            <a:ext cx="864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Power Spy 2008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301944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SNAG-0015"/>
          <p:cNvPicPr/>
          <p:nvPr/>
        </p:nvPicPr>
        <p:blipFill>
          <a:blip r:embed="rId2"/>
          <a:stretch/>
        </p:blipFill>
        <p:spPr>
          <a:xfrm>
            <a:off x="324000" y="2739960"/>
            <a:ext cx="4574880" cy="3784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214960" y="292896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грамму удобно использовать, чтобы узнать, чем заняты дети в отсутствие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840" y="1125360"/>
            <a:ext cx="8548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iProtectYou Pr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538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51021c813e17e48872b639aa8a055600"/>
          <p:cNvPicPr/>
          <p:nvPr/>
        </p:nvPicPr>
        <p:blipFill>
          <a:blip r:embed="rId1"/>
          <a:stretch/>
        </p:blipFill>
        <p:spPr>
          <a:xfrm>
            <a:off x="179280" y="2492280"/>
            <a:ext cx="454680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4932360" y="30002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грамма-фильтр интерн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зволяет родителям ограничивать  по разным параметрам сай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сматриваемые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85840" y="1214280"/>
            <a:ext cx="8750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KidsContro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soft.mail.ru/program_page.php?grp=479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SNAG-0014"/>
          <p:cNvPicPr/>
          <p:nvPr/>
        </p:nvPicPr>
        <p:blipFill>
          <a:blip r:embed="rId1"/>
          <a:stretch/>
        </p:blipFill>
        <p:spPr>
          <a:xfrm>
            <a:off x="108000" y="2565360"/>
            <a:ext cx="5200560" cy="374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786280" y="31431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назначение KidsControl – контроль времени, которое ребенок проводит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944640" y="49320"/>
            <a:ext cx="737712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1182600" y="-19080"/>
            <a:ext cx="7358040" cy="154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560" y="1214280"/>
            <a:ext cx="869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Arial"/>
              </a:rPr>
              <a:t>CYBERsitt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ttp://www.securitylab.ru/software/240522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SNAG-0013"/>
          <p:cNvPicPr/>
          <p:nvPr/>
        </p:nvPicPr>
        <p:blipFill>
          <a:blip r:embed="rId2"/>
          <a:stretch/>
        </p:blipFill>
        <p:spPr>
          <a:xfrm>
            <a:off x="250920" y="3483000"/>
            <a:ext cx="4483080" cy="11667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859280" y="321480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CYBERSitter дает взрослым возможность ограничивать доступ детей к нежелательным ресурсам в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712800" y="-133200"/>
            <a:ext cx="7040520" cy="154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3840" y="1213920"/>
            <a:ext cx="875052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Arial"/>
              </a:rPr>
              <a:t>КиберМама 1.0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ttp://www.securitylab.ru/software/273998.ph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SNAG-0013"/>
          <p:cNvPicPr/>
          <p:nvPr/>
        </p:nvPicPr>
        <p:blipFill>
          <a:blip r:embed="rId2"/>
          <a:stretch/>
        </p:blipFill>
        <p:spPr>
          <a:xfrm>
            <a:off x="214200" y="3000240"/>
            <a:ext cx="4768920" cy="29289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5005440" y="267804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роследит за временем работы, предупредит ребенка о том, что скоро ему нужно будет отдохнуть и приостановит работу компьютера, когда заданное вами время исте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берМама поддерживает следующие возмож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граничение по суммарному времени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перерывов в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ддержка разрешенных интервалов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нтерн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зможность запрета игр/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36360" y="122400"/>
            <a:ext cx="876636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000" y="1341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ться с друзьями, семьей, коллег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ть доступ к информации и развлечени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ься, встречаться с людьми и узнавать нов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5219640" y="4724280"/>
            <a:ext cx="32083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375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75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75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бъект 6"/>
          <p:cNvSpPr/>
          <p:nvPr/>
        </p:nvSpPr>
        <p:spPr>
          <a:xfrm>
            <a:off x="-14400" y="1484280"/>
            <a:ext cx="896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b3ed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72.540006637573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38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" autoRev="1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508720" y="4486320"/>
            <a:ext cx="3457440" cy="237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560" y="333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является прекрасным источником для новых знаний, помогает в учебе, занимает досуг. Но в то же время,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ит в себе много опасностей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нужно поговорить с деть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ить, что могут возникать различные неприятные ситуации и то, как из них лучшим образом выходить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, что безопасность ваших детей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%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ависит от 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52280" y="208080"/>
            <a:ext cx="8759880" cy="1412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0" y="1413000"/>
            <a:ext cx="65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2d050"/>
                </a:solidFill>
                <a:latin typeface="Arial"/>
              </a:rPr>
              <a:t>«О защите детей от информации, причиняющей вред их здоровью и развитию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6588000" y="1839960"/>
            <a:ext cx="24051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-42840" y="457200"/>
            <a:ext cx="916776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920" y="155700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о состояние защищ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тей, при котором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иск, связанный с при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цией, в том чис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пространяемой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рнет, вреда их здоров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ическому, психическ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уховному и нрав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(Федеральный закон от 29.12.2010 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436-ФЗ "О защите детей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информации, причиняющей вред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260c"/>
                </a:solidFill>
                <a:latin typeface="Arial"/>
              </a:rPr>
              <a:t>здоровью и развитию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326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2"/>
          <a:stretch/>
        </p:blipFill>
        <p:spPr>
          <a:xfrm>
            <a:off x="5724360" y="1495440"/>
            <a:ext cx="3095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24000" y="1916280"/>
            <a:ext cx="6840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аже случайный клик по всплывшему баннеру или переход по ссылке может привести на сайт с опасным содержим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900000" y="2462040"/>
            <a:ext cx="135252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664000" y="1773000"/>
            <a:ext cx="64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продаже контрабандных товаров или другой незаконн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 с рекламой табака и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освященные изготовлению взрывчаты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рк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71360" y="231840"/>
            <a:ext cx="877104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223344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340000" y="184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йты, пропагандирующие насилие и нетерп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где продают оружие, наркотики, отравляющие вещества, алког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позволяющие детям принимать участие в азартных играх он-лай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, на которых могут собирать и продавать частную информацию о Ваших детях и Вашей сем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646200" y="262080"/>
            <a:ext cx="7937280" cy="1755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2233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7:01:42Z</dcterms:created>
  <dc:creator>Елена</dc:creator>
  <dc:description/>
  <dc:language>en-US</dc:language>
  <cp:lastModifiedBy>DNA7 X86</cp:lastModifiedBy>
  <dcterms:modified xsi:type="dcterms:W3CDTF">2018-03-12T08:33:32Z</dcterms:modified>
  <cp:revision>2</cp:revision>
  <dc:subject/>
  <dc:title>Слайд 1</dc:title>
</cp:coreProperties>
</file>