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1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CAB-C4FB-4EC5-9372-C6E96D2E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56B-3E34-49A1-95F0-0B01E9C3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0A1-E8BA-4396-9F08-25E642A2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176-6BFA-409E-9A93-0B99D532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B07-93B1-4827-A188-843A313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0A0-6DAA-4D2D-8F59-02D4425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94D-AD76-478D-B5BD-CFCD5B4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CF8-16CC-4DFB-BBCF-6AA11F4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93D-347E-4ADB-9C3E-60EAAFA0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E82-1FC4-42BA-820F-ACAD7C55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5ED-891D-48A1-86AD-8631AF5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54B-710A-4CB0-A465-923ECEF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F0D6-C917-4C92-97F4-99C209389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000000"/>
                </a:solidFill>
                <a:latin typeface="Arial"/>
              </a:rPr>
              <a:t>«Безопасность детей в сети Интернет и интернет – угрозы для ребенка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31489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291960" y="401760"/>
            <a:ext cx="8534520" cy="1622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37636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000" y="731520"/>
            <a:ext cx="8280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9% детей иногда посещают порносайты, еще 9% делают это регуля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8% детей, просматривают страницы о нас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6% детей просматривают страницы с расистским содержи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5% пятилетних детей активно используют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коло 50% детей выходят в Сеть без контро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4,5% детей назначали встречи с незнакомцами через Интернет, 10% из них ходили на встречи в одиночку, а 7% никому не сообщили, что с кем–то встреч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916000" y="2276280"/>
            <a:ext cx="6119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«Киберсуиц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– всего лишь способ избавления от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иберсуицид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согласованные самоубийства. По Интернету подростки и молодые люд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оговариваются о совместном самоубийств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71640" y="1628280"/>
            <a:ext cx="6120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Сайты знакомств, социальные сети, блоги и ч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С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24000" y="1773000"/>
            <a:ext cx="6119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cc00cc"/>
                </a:solidFill>
                <a:uFillTx/>
                <a:latin typeface="Arial"/>
              </a:rPr>
              <a:t>Экстремизм, национализм, фашиз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0000"/>
                </a:solidFill>
                <a:latin typeface="Arial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ru-RU" sz="3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</a:t>
            </a:r>
            <a:r>
              <a:rPr b="1" lang="ru-RU" sz="3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916360" y="2492280"/>
            <a:ext cx="5653080" cy="1373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627280" y="3141720"/>
            <a:ext cx="6335640" cy="94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Оградите ребенка от ненадлежащего веб-содержим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428920" y="3143160"/>
            <a:ext cx="6143760" cy="1373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08960" cy="12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08960" cy="12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0920" y="1218960"/>
            <a:ext cx="864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Power Spy 2008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301944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NAG-0015"/>
          <p:cNvPicPr/>
          <p:nvPr/>
        </p:nvPicPr>
        <p:blipFill>
          <a:blip r:embed="rId2"/>
          <a:stretch/>
        </p:blipFill>
        <p:spPr>
          <a:xfrm>
            <a:off x="324000" y="2739960"/>
            <a:ext cx="4574880" cy="3784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214960" y="292896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грамму удобно использовать, чтобы узнать, чем заняты дети в отсутствие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840" y="1125360"/>
            <a:ext cx="8548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iProtectYou Pr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538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51021c813e17e48872b639aa8a055600"/>
          <p:cNvPicPr/>
          <p:nvPr/>
        </p:nvPicPr>
        <p:blipFill>
          <a:blip r:embed="rId1"/>
          <a:stretch/>
        </p:blipFill>
        <p:spPr>
          <a:xfrm>
            <a:off x="179280" y="2492280"/>
            <a:ext cx="4546800" cy="3600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4932360" y="30002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грамма-фильтр интерн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зволяет родителям ограничивать  по разным параметрам сай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атриваемые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85840" y="1214280"/>
            <a:ext cx="8750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KidsContro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479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SNAG-0014"/>
          <p:cNvPicPr/>
          <p:nvPr/>
        </p:nvPicPr>
        <p:blipFill>
          <a:blip r:embed="rId1"/>
          <a:stretch/>
        </p:blipFill>
        <p:spPr>
          <a:xfrm>
            <a:off x="108000" y="2565360"/>
            <a:ext cx="5200560" cy="374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786280" y="31431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назначение KidsControl – контроль времени, которое ребенок проводит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182600" y="-19080"/>
            <a:ext cx="7358040" cy="154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560" y="1214280"/>
            <a:ext cx="869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CYBERsitt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240522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NAG-0013"/>
          <p:cNvPicPr/>
          <p:nvPr/>
        </p:nvPicPr>
        <p:blipFill>
          <a:blip r:embed="rId2"/>
          <a:stretch/>
        </p:blipFill>
        <p:spPr>
          <a:xfrm>
            <a:off x="250920" y="3483000"/>
            <a:ext cx="4483080" cy="1166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859280" y="32148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CYBERSitter дает взрослым возможность ограничивать доступ детей к нежелательным ресурсам в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712800" y="-133200"/>
            <a:ext cx="7040520" cy="154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3840" y="1213920"/>
            <a:ext cx="875052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Arial"/>
              </a:rPr>
              <a:t>КиберМама 1.0b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ttp://www.securitylab.ru/software/273998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SNAG-0013"/>
          <p:cNvPicPr/>
          <p:nvPr/>
        </p:nvPicPr>
        <p:blipFill>
          <a:blip r:embed="rId2"/>
          <a:stretch/>
        </p:blipFill>
        <p:spPr>
          <a:xfrm>
            <a:off x="214200" y="3000240"/>
            <a:ext cx="4768920" cy="2928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5005440" y="267804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роследит за временем работы, предупредит ребенка о том, что скоро ему нужно будет отдохнуть и приостановит работу компьютера, когда заданное вами время исте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оддерживает следующие возмож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граничение по суммарному времени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перерывов в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разрешенных интервалов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нтерн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гр/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36360" y="122400"/>
            <a:ext cx="8766360" cy="155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ться с друзьями, семьей, коллег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ть доступ к информации и развлечения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ься, встречаться с людьми и узнавать нов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5219640" y="4724280"/>
            <a:ext cx="32083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375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75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75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75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бъект 6"/>
          <p:cNvSpPr/>
          <p:nvPr/>
        </p:nvSpPr>
        <p:spPr>
          <a:xfrm>
            <a:off x="-14400" y="1484280"/>
            <a:ext cx="896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b3ed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72.540006637573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38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" autoRev="1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5508720" y="4486320"/>
            <a:ext cx="3457440" cy="237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560" y="333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-42840" y="457200"/>
            <a:ext cx="9167760" cy="1749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155700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(Федеральный закон от 29.12.2010 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436-ФЗ "О защите детей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информации, причиняющей вред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здоровью и развитию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326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2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664000" y="1773000"/>
            <a:ext cx="64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продаже контрабандных товаров или другой незакон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размещающие изображения порнографического или иного неприемлемого сексуального контента, к которым дети могут легко получить досту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 с рекламой табака и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изготовлению взрывчаты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рк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223344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340000" y="1844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силие и нетерп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где продают оружие, наркотики, отравляющие вещества, алког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позволяющие детям принимать участие в азартных играх он-ла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на которых могут собирать и продавать частную информацию о Ваших детях и Вашей сем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646200" y="262080"/>
            <a:ext cx="7937280" cy="1755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2233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7:01:42Z</dcterms:created>
  <dc:creator>Елена</dc:creator>
  <dc:description/>
  <dc:language>en-US</dc:language>
  <cp:lastModifiedBy>DNA7 X86</cp:lastModifiedBy>
  <dcterms:modified xsi:type="dcterms:W3CDTF">2018-03-12T08:33:32Z</dcterms:modified>
  <cp:revision>2</cp:revision>
  <dc:subject/>
  <dc:title>Слайд 1</dc:title>
</cp:coreProperties>
</file>