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DCB-BE3A-4B31-A300-60B21FCA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6FA-B38E-4DC6-82C2-9DA4643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C59-0157-44CA-B0BC-DAA35E52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D2E-A7BA-45EE-B156-10F4F738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2F73-7253-4ACE-9144-04A68E7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3A8-A86F-44FC-9A81-C42A0E95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521D-EEF9-4240-ACC6-9139042A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B4EA-CC9E-4B2C-8BC4-A4753FFD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F6F-1DBA-4E03-AF9D-A14C1E5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A19-22BF-49CB-9B7B-53959D72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127-F2F6-49BB-9CA6-736E8A8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DD4-5CC4-4A9F-B07A-CD57E766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6926-4F99-423D-8E9C-2D04C8C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FA05-6EE0-4CED-B4E7-AC9DAA9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65D-7A03-4FFD-90FC-3E51BE3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AA2-A4B1-42E7-B8D7-2C9949E3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8EFF-011E-418A-82A9-BAD8621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E2F8-00AF-4D61-9066-41891818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79F4-95A7-44D8-AFF0-C1E38E92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4615-B5DA-4585-9630-F495172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C407-6C60-41E9-B3D1-CD68F02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B17C-741F-4F35-A6F2-F768578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020-7AF5-45CA-8820-AAD4F4D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EF91-A7F7-4A64-B55D-97888E0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3A92-D2E6-44BB-86EB-761FFA92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4127-5127-4FE4-A374-1145BCEE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A128-43C7-49DD-99A9-9C5E085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8F37-DFC7-4C55-8CAC-1A45EAE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E1CC-FA49-49FE-B87F-1C9F31E2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964B-861A-4F55-BE17-C2BEF52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A45F-30E6-4942-9720-8356F625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E6B5-DB2A-405B-86C9-D7C687D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37CC-0D1F-4B8C-A4EC-D9964BC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33C-02DB-4B0F-A74B-079684B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55C6-922F-47B4-BB1B-439DDD19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EC98-3E4F-49A9-ABC9-5B937935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5A7C-9FC3-45D3-B5E7-4D05DC7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3854-48B7-4BFA-A0D4-3996826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D348-9966-4353-BAC4-D1FE675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53B7-6591-4B3C-B31C-4C87A13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5988-D90F-412F-8DDD-5200E2A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6DA6-0CCC-4CE4-A6E7-CAE6C3EB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E289-FEB5-428E-B8EA-CBC966D7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648-D712-4090-87A8-82C968D8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4D0-3979-48B8-83B4-A490015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95C-3A70-4EF1-9925-320C8D33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294-6B39-4A28-A5BB-A45A5E5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260-B7D6-4D6C-9CEC-7C1FBE4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f9fd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f9f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12F-4C78-4765-B12B-35FAA4904BE9}" type="slidenum"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6d9f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F7D5-7FB5-41D2-8C84-2470660B646F}" type="slidenum"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6d9f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41D-D737-4ADA-BD72-02760BE3B5DB}" type="slidenum"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f9fd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f9fd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7849-FADB-4E79-8280-5D8706E5BDBA}" type="slidenum"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197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0040" y="571680"/>
          <a:ext cx="7929720" cy="570204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«Особенный» ребенок в  группе.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Совместная работа педагогов и родителей по воспитанию, обучению и социальной интеграции».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олнила: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Лямина Е.Ю.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Группы для детей с ЗПР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17-2018 г.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4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71680" y="571680"/>
          <a:ext cx="8001000" cy="4937040"/>
        </p:xfrm>
        <a:graphic>
          <a:graphicData uri="http://schemas.openxmlformats.org/drawingml/2006/table">
            <a:tbl>
              <a:tblPr/>
              <a:tblGrid>
                <a:gridCol w="1857240"/>
                <a:gridCol w="614376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Наглядно-информационное направление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Ознакомление родителей с условиями, содержанием и методами воспитания детей в условиях дошкольного учрежден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Для пропаганды педагогических знаний применяются, как традиционные, так и нетрадиционные формы взаимодействия, в том числе использование информационных компьютерных технологий, обеспечивающих продуктивное общение. Атмосфера творческой совместной деятельности предоставляет возможность родителям стать непосредственными участниками жизни группы и ДО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8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571680" y="357120"/>
            <a:ext cx="76435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8760" y="785880"/>
          <a:ext cx="8286480" cy="5616360"/>
        </p:xfrm>
        <a:graphic>
          <a:graphicData uri="http://schemas.openxmlformats.org/drawingml/2006/table">
            <a:tbl>
              <a:tblPr/>
              <a:tblGrid>
                <a:gridCol w="2643120"/>
                <a:gridCol w="4572000"/>
                <a:gridCol w="10713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этап - подготовительны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сентябрь-октябрь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плана  реализации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Разработать содержание этапов проведения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одбор и изучение  методической литературы  для реализации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.Антипина Г. А. Новые формы работы с родителями в современном ДОУ . 2011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.Борисова Н. П. Детский сад и родители. Поиск активных форм взаимодействия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.Евдокимова Н. В. Детский сад и семья: методика работы с родителями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Елисеева Т. П. Детский сад и семья: современные формы взаимодействия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. Михайлова-Свирская Л.В. Работа с родителями. 2015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ентябрь 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бор тем консультаций  и о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формление сборника консультаций для педагогов и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Паспорт нашей группы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Адаптация детей к условиям ДОУ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Семья и детский сад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адержка психического развития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Возрастные особенности детей с ЗПР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Что должны знать и  уметь наши дети», 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Как провести выходной день с ребенком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начение игры в жизни ребенка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  <a:ea typeface="Calibri"/>
                        </a:rPr>
                        <a:t>Роль семьи и семейных ценностей в социализации дет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  <a:ea typeface="Calibri"/>
                        </a:rPr>
                        <a:t>дошкольного возраста»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53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6"/>
          <p:cNvSpPr/>
          <p:nvPr/>
        </p:nvSpPr>
        <p:spPr>
          <a:xfrm>
            <a:off x="571680" y="357120"/>
            <a:ext cx="76435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28760" y="785880"/>
          <a:ext cx="8286480" cy="4591080"/>
        </p:xfrm>
        <a:graphic>
          <a:graphicData uri="http://schemas.openxmlformats.org/drawingml/2006/table">
            <a:tbl>
              <a:tblPr/>
              <a:tblGrid>
                <a:gridCol w="2643120"/>
                <a:gridCol w="4572000"/>
                <a:gridCol w="1071360"/>
              </a:tblGrid>
              <a:tr h="714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этап - подготовительны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сентябрь-октябрь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анкет для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ыявление  уровня компетенции родителей в вопросах  воспитания и развития ребенка, возрастных особенностей детей,  анализ эффективности работы  педагогов  с родителями в процессе организации коррекционно-развивающей деятельности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плана проведения  и содержания мероприяти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мероприятий для  родителей: семинар, мастер-класс, родительские собрания, консультации с целью активизировать и обогатить образовательные умения родителей, объединить усилия детского сада и семьи в вопросах развития ребенк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оздание и разработка сайта в социальной сети, использование электронной почт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ивлечение родителей к совместному общению, общению друг с другом, ознакомление родителей с жизнью детей в детском саду, систематический и быстрый обмен информаци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Фотопрезентация на сайте для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накомство  родителей с детским садом, с группой».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58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28760" y="714240"/>
          <a:ext cx="8358120" cy="5410440"/>
        </p:xfrm>
        <a:graphic>
          <a:graphicData uri="http://schemas.openxmlformats.org/drawingml/2006/table">
            <a:tbl>
              <a:tblPr/>
              <a:tblGrid>
                <a:gridCol w="2714400"/>
                <a:gridCol w="454356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- основно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формление родительских уголков: домашние задания для работы с детьм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енды педагогической пропаганды, выставка  педагогической литератур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Активизация  родительского интереса к  обучению и развитию детей, повышение педагогической  грамотности родител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 -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Дополнительные задания для детей на дом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крепить детско-родительские отношения, закрепление знаний по темам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опроса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Воспитание детей в семье» , Воспитание и обучение детей в коррекционной группе»,  «Досуговые мероприятия в детском саду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одительское собрание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«Семья и детский сад – единое образовательное пространство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Консультация музыкального руководителя для родителей «Роль родителей при подготовке и участии в  совместных детско-родительских праздничных мероприятиях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витие музыкальных и творческих способностей в процессе различных видов музыкальной деятельности , способствовать общему развитию детей средствами музык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родительского собра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Консультация дефектолога для родителей «Пособия для развития мелкой моторики своими рука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влечение родителей в организацию развивающей среды для ребёнка в домашних условиях своими рукам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родительского собра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тавка совместных поделок  родителей и детей «Дары осен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61" name="Прямоугольник 6"/>
          <p:cNvSpPr/>
          <p:nvPr/>
        </p:nvSpPr>
        <p:spPr>
          <a:xfrm>
            <a:off x="294300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64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785880"/>
          <a:ext cx="8358120" cy="5049720"/>
        </p:xfrm>
        <a:graphic>
          <a:graphicData uri="http://schemas.openxmlformats.org/drawingml/2006/table">
            <a:tbl>
              <a:tblPr/>
              <a:tblGrid>
                <a:gridCol w="2571480"/>
                <a:gridCol w="468648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– основной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овместная подготовка и  проведение детско-родительских мероприятиях (Праздники: «Новогодняя сказка»,  «Мамин день»,  «Прощание с детским садом»)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алаживание эмоционального контакта, вовлечение родителей в творческий процесс, организация совместной деятельности детей, родителей и педагогов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тавка газет «Спортивный портрет нашей семьи» в рамках конкурс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актикум  дефектолога для родителей «Применение кинезиологических упражнений  в работе с деть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Знакомство с  кинезиологическими упражнениями, их цель, задачи, оформление комплекса кинезиологических упражнений.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«День добрых дел» - посильная помощь родителей в группе и на участке детского сад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рганизация совместного труда  родителей и педагогов, сплочение коллектива родител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мере необходимости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актикум воспитателя для родителей «Пластилинография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знакомить с одним из способов развития у детей  мелкой моторики, художественно–творческих способност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товыставка  «Игра в жизни ребенка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ивлечение родителей к совместной игровой деятельности с детьми, к  участию в жизнедеятельности групп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7" name="Прямоугольник 12"/>
          <p:cNvSpPr/>
          <p:nvPr/>
        </p:nvSpPr>
        <p:spPr>
          <a:xfrm>
            <a:off x="301428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70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28760" y="785880"/>
          <a:ext cx="8358120" cy="3292560"/>
        </p:xfrm>
        <a:graphic>
          <a:graphicData uri="http://schemas.openxmlformats.org/drawingml/2006/table">
            <a:tbl>
              <a:tblPr/>
              <a:tblGrid>
                <a:gridCol w="2571480"/>
                <a:gridCol w="468648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- основно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мини-занятий (ребенок + родитель + педагог),   методические консультации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ключение родителей в коррекционный процесс как полноправных, активных, творческих и компетентных партнёров, способных, наравне с педагогами, оказывать эффективную помощь своему ребенку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консультаций для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сещение 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ездных спектаклей, кукольных театров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иобщение дошкольников к миру искусства,  раскрытие творческого потенциала ребенка, агитация родителей к посещению массовых мероприятий вне 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астие в конкурсах  рисунков и поделок «Пожарная безопасность»,  «Новогодняя игрушка», « 8 марта»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12"/>
          <p:cNvSpPr/>
          <p:nvPr/>
        </p:nvSpPr>
        <p:spPr>
          <a:xfrm>
            <a:off x="301428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76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500040" y="35712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71680" y="1000080"/>
          <a:ext cx="8072280" cy="4510080"/>
        </p:xfrm>
        <a:graphic>
          <a:graphicData uri="http://schemas.openxmlformats.org/drawingml/2006/table">
            <a:tbl>
              <a:tblPr/>
              <a:tblGrid>
                <a:gridCol w="2571480"/>
                <a:gridCol w="4643640"/>
                <a:gridCol w="857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этап – заключительный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апрель-май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ирование родителей  по окончании реализации проекта с целью определения эффективности  проведенной работ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Удовлетворенность родителей совместной работой с педагога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Эффективность информационно-просветительской работы в группе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формление презентации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готовить презентацию  по проекту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 - 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зготовление  родителями театральной атрибутики в домашних условиях (магнитный, теневой, пальчиковый театры)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ивизация  родительского интереса  к развитию детей, к взаимодействию с детским садом, пополнение знаний по театрализованной деятельности в детском саду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-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Круглый стол  «Развивающие игрушки в жизни ребенка. Любимая игра, игрушка моего ребенка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знакомить родителей со значением игры в жизни ребенка. Приобщить родителей к совместной игровой деятельности с детьм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аграждение родителей за активное участие в жизни групп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лагодарности и грамот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9" name="Прямоугольник 6"/>
          <p:cNvSpPr/>
          <p:nvPr/>
        </p:nvSpPr>
        <p:spPr>
          <a:xfrm>
            <a:off x="3014280" y="5000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8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500040" y="357120"/>
            <a:ext cx="8001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1680" y="1000080"/>
          <a:ext cx="8072280" cy="40467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дукты проекта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ланирование по работе с родителями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ы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апки-передвижк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борник консультаций  для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елк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енгазет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ект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зентаци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айт группы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изиборд «Домик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Театральная атрибутик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87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571680"/>
          <a:ext cx="8001000" cy="5838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заимодействие родителей и детского сада редко возникает сразу. Это длительный процесс, долгий и кропотливый труд, требующий терпеливого, неуклонного следования выбранной цел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 результате совместной работы создана доверительная атмосфера в группе, которая помогает сотрудничеству. Родители стали более коммуникабельными, организованными и инициативными. Все вышеперечисленные мероприятия помогли вовлечь родителей в педагогический процесс,  наладить систематическую работу с детьми в домашних условиях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Родители стали проявлять интерес к жизни группы, к результатам и продуктам детской деятельности, родители посещают родительские собрания, активно участвуют в мероприятиях группы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9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94" name="Picture 2" descr="C:\Documents and Settings\Admin\Рабочий стол\ПРОЕКТ\4TJGpyszmEI.jpg"/>
          <p:cNvPicPr/>
          <p:nvPr/>
        </p:nvPicPr>
        <p:blipFill>
          <a:blip r:embed="rId2"/>
          <a:stretch/>
        </p:blipFill>
        <p:spPr>
          <a:xfrm>
            <a:off x="3500280" y="4071960"/>
            <a:ext cx="20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Documents and Settings\Admin\Рабочий стол\ПРОЕКТ\4TJGpyszmEI.jpg"/>
          <p:cNvPicPr/>
          <p:nvPr/>
        </p:nvPicPr>
        <p:blipFill>
          <a:blip r:embed="rId3"/>
          <a:stretch/>
        </p:blipFill>
        <p:spPr>
          <a:xfrm>
            <a:off x="6143760" y="4286160"/>
            <a:ext cx="2481120" cy="2014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\Рабочий стол\ПРОЕКТ\4TJGpyszmEI.jpg"/>
          <p:cNvPicPr/>
          <p:nvPr/>
        </p:nvPicPr>
        <p:blipFill>
          <a:blip r:embed="rId4"/>
          <a:stretch/>
        </p:blipFill>
        <p:spPr>
          <a:xfrm>
            <a:off x="5643720" y="642960"/>
            <a:ext cx="2820960" cy="1928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Admin\Рабочий стол\ПРОЕКТ\4TJGpyszmEI.jpg"/>
          <p:cNvPicPr/>
          <p:nvPr/>
        </p:nvPicPr>
        <p:blipFill>
          <a:blip r:embed="rId5"/>
          <a:stretch/>
        </p:blipFill>
        <p:spPr>
          <a:xfrm>
            <a:off x="642960" y="50004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C:\Documents and Settings\Admin\Рабочий стол\ПРОЕКТ\_hoZgCWyVWg.jpg"/>
          <p:cNvPicPr/>
          <p:nvPr/>
        </p:nvPicPr>
        <p:blipFill>
          <a:blip r:embed="rId6"/>
          <a:stretch/>
        </p:blipFill>
        <p:spPr>
          <a:xfrm>
            <a:off x="3429000" y="785880"/>
            <a:ext cx="2133720" cy="3025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4" descr="C:\Documents and Settings\Admin\Рабочий стол\ПРОЕКТ\_hoZgCWyVWg.jpg"/>
          <p:cNvPicPr/>
          <p:nvPr/>
        </p:nvPicPr>
        <p:blipFill>
          <a:blip r:embed="rId7"/>
          <a:stretch/>
        </p:blipFill>
        <p:spPr>
          <a:xfrm>
            <a:off x="642960" y="4286160"/>
            <a:ext cx="24289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03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040" y="571680"/>
          <a:ext cx="8215200" cy="5668920"/>
        </p:xfrm>
        <a:graphic>
          <a:graphicData uri="http://schemas.openxmlformats.org/drawingml/2006/table">
            <a:tbl>
              <a:tblPr/>
              <a:tblGrid>
                <a:gridCol w="2000160"/>
                <a:gridCol w="6215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 проекта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влечение родителей в образовательный процесс ДО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Задачи проекта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ивлечь родителей к активному участию в деятельности ДОУ через организацию интересных форм работы с педагогами, совместные детско-родительские мероприят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ивизировать и обогатить воспитательные и образовательные умения родителей посредством бесед, консультаций, информационных буклетов, практикумов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ъединить усилия детского сада и семьи в вопросах развития ребенк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6262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еспечить родителей специальной литературой и дидактическими материалами для занятий с детьм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доставить родителям возможность общаться друг с другом, делиться опытом, семейными традициям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30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04" name="Picture 2" descr="C:\Documents and Settings\Admin\Рабочий стол\ПРОЕКТ\4TJGpyszmEI.jpg"/>
          <p:cNvPicPr/>
          <p:nvPr/>
        </p:nvPicPr>
        <p:blipFill>
          <a:blip r:embed="rId2"/>
          <a:stretch/>
        </p:blipFill>
        <p:spPr>
          <a:xfrm>
            <a:off x="6215040" y="714240"/>
            <a:ext cx="2238480" cy="2984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Admin\Рабочий стол\ПРОЕКТ\4TJGpyszmEI.jpg"/>
          <p:cNvPicPr/>
          <p:nvPr/>
        </p:nvPicPr>
        <p:blipFill>
          <a:blip r:embed="rId3"/>
          <a:stretch/>
        </p:blipFill>
        <p:spPr>
          <a:xfrm>
            <a:off x="500040" y="43578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C:\Documents and Settings\Admin\Рабочий стол\ПРОЕКТ\_hoZgCWyVWg.jpg"/>
          <p:cNvPicPr/>
          <p:nvPr/>
        </p:nvPicPr>
        <p:blipFill>
          <a:blip r:embed="rId4"/>
          <a:stretch/>
        </p:blipFill>
        <p:spPr>
          <a:xfrm>
            <a:off x="3143160" y="2428920"/>
            <a:ext cx="2610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309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00040" y="785880"/>
          <a:ext cx="8001000" cy="402264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пасибо за внимание!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09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71680" y="571680"/>
          <a:ext cx="7929360" cy="2754000"/>
        </p:xfrm>
        <a:graphic>
          <a:graphicData uri="http://schemas.openxmlformats.org/drawingml/2006/table">
            <a:tbl>
              <a:tblPr/>
              <a:tblGrid>
                <a:gridCol w="792936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уальность темы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дной из важнейших задач коррекционной работы с детьми, имеющими задержку психического развития, является привлечение родителей к активному сотрудничеству с целью акцентирования внимания на воспитании, развитии, обучении, социализации ребенка и формировании его личностных качеств, так как только в процессе совместной деятельности детского сада и семьи удается максимально помочь ребенк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15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1680" y="571680"/>
          <a:ext cx="7929360" cy="4265280"/>
        </p:xfrm>
        <a:graphic>
          <a:graphicData uri="http://schemas.openxmlformats.org/drawingml/2006/table">
            <a:tbl>
              <a:tblPr/>
              <a:tblGrid>
                <a:gridCol w="2201760"/>
                <a:gridCol w="5727600"/>
              </a:tblGrid>
              <a:tr h="74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нформационная карта проекта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астники проекта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итель-дефектолог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спитатели группы 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узыкальный руководитель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одители, дети группы «Звездочки»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содержанию – интегративный (включает ребенка и его родителей)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продолжительности – долгосрочны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оки работы: в течение учебного года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2017— май 2018)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21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1680" y="571680"/>
          <a:ext cx="8001000" cy="40287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Использование разнообразных форм работы даст определённые результаты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и из «наблюдателей» превратятся в активных участников встреч и помощников  педагога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Семьи получат практическую помощь в виде индивидуальных и групповых консультаций, мастер-класса и семинар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Повысится педагогическая грамотность родителей и профессиональная компетенция педагогов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ями проводится систематическая работа по развитию ребенка в домашних условиях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r>
                        <a:rPr b="0" lang="en-US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осознают, что вовлечение их в педагогическую деятельность, заинтересованное участие в воспитательно-образовательном процессе необходимо для развития их собственного ребенк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26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6"/>
          <p:cNvSpPr/>
          <p:nvPr/>
        </p:nvSpPr>
        <p:spPr>
          <a:xfrm>
            <a:off x="500040" y="571680"/>
            <a:ext cx="800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правления работы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родителями детей с ЗПР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680" y="1643040"/>
          <a:ext cx="8072280" cy="2468520"/>
        </p:xfrm>
        <a:graphic>
          <a:graphicData uri="http://schemas.openxmlformats.org/drawingml/2006/table">
            <a:tbl>
              <a:tblPr/>
              <a:tblGrid>
                <a:gridCol w="2000160"/>
                <a:gridCol w="60721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. Информационно-аналитическ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явление интересов, потребностей, запросов родителей, уровня их педагогической грамотност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просы, анкетирование, индивидуальные беседы и консультаци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31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00040" y="571680"/>
            <a:ext cx="8001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71680" y="642960"/>
          <a:ext cx="8001000" cy="3565440"/>
        </p:xfrm>
        <a:graphic>
          <a:graphicData uri="http://schemas.openxmlformats.org/drawingml/2006/table">
            <a:tbl>
              <a:tblPr/>
              <a:tblGrid>
                <a:gridCol w="1928520"/>
                <a:gridCol w="6072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. Познавательн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знакомление родителей с возрастными и психологическими особенностями детей дошкольного возраста с ЗПР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ирование у родителей практических  навыков воспитания и обучения дете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стер-класс, семинар-практикум, родительские собрания, педагогические журналы и газеты,  обучающие видеоролики, развивающие игры и пособ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36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42960" y="571680"/>
          <a:ext cx="7929720" cy="2817720"/>
        </p:xfrm>
        <a:graphic>
          <a:graphicData uri="http://schemas.openxmlformats.org/drawingml/2006/table">
            <a:tbl>
              <a:tblPr/>
              <a:tblGrid>
                <a:gridCol w="1928880"/>
                <a:gridCol w="6000840"/>
              </a:tblGrid>
              <a:tr h="70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.Досугов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становление эмоционального контакта между педагогами, родителями и детьм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овместные праздники, чаепитие, выпуски семейных газет, выставки работ родителей и детей,</a:t>
                      </a: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конкурсов среди совместных работ родителей и детей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0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571680" y="571680"/>
          <a:ext cx="8001000" cy="4114800"/>
        </p:xfrm>
        <a:graphic>
          <a:graphicData uri="http://schemas.openxmlformats.org/drawingml/2006/table">
            <a:tbl>
              <a:tblPr/>
              <a:tblGrid>
                <a:gridCol w="1857240"/>
                <a:gridCol w="614376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Наглядно-информационное направление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знакомление родителей с условиями, содержанием, формами и методами воспитания и обучения детей в условиях дошкольного учреждения. Формирование у родителей знаний о воспитании, развитии и социализации дете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уклеты, памятки, оформление стендов, папок-передвижек  в родительских уголках, ссылки и статьи на сайте группы в социальной сети,</a:t>
                      </a: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уск стенгазет, использование видеозаписей наблюдений за ребенком в процессе его деятельност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3T07:14:56Z</dcterms:created>
  <dc:creator>yura</dc:creator>
  <dc:description/>
  <dc:language>en-US</dc:language>
  <cp:lastModifiedBy>User</cp:lastModifiedBy>
  <dcterms:modified xsi:type="dcterms:W3CDTF">2019-02-28T12:45:23Z</dcterms:modified>
  <cp:revision>276</cp:revision>
  <dc:subject/>
  <dc:title>Слайд 1</dc:title>
</cp:coreProperties>
</file>