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A2A-73DF-49C2-8565-DC065EAB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5FC-0B4E-41F6-B361-A57816E1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41B-1176-40BB-8CD3-AEFCD39F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CE3-65F0-4EC5-962F-BC150ABA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53AA-5086-4971-A9CF-FE4A3B0A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BD81-53B8-461E-99BD-233E5DB8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90E9-43A2-48E3-B1F2-D0F9A45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07BD-6068-4A80-865D-7268C6A6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D34D-52B2-4826-A102-8AADF80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68E2-4F78-4D39-8BE7-6D9B53D4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6C12-A527-4084-A772-0416CE9B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881-8093-43D4-AD31-C6B366D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CC18-DA74-42E5-96CA-EE67BCA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9F93-5296-4FDA-94BE-F31E697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0A5C-09E9-47BB-972B-F83A4030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7BD-5DD7-46DF-9F53-1C6BAAA0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952-2AD2-4A70-A2BA-D449FAE8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038B-D176-4D90-A7D1-8C72AECD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2703-D1D1-4217-9397-24D85A3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82D5-4500-41CC-B4B3-04AB6122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8E7A-48E4-4E6E-AFB4-BEBCFFB7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F11B-D5FB-4C1D-8F35-B29D6B91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ECA-0BE3-4F3A-9ED6-5F32D123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ACAD-C809-400C-A0BF-C0CB8C8A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CE8E-FA5B-46D2-98A8-CB0AF4BF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6EDD-9E37-4DC6-B816-EFC7400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0645-6054-4FD9-9E2B-F42C054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FDE7-CAE0-4A2E-950C-2547DFAF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0BD43-6321-4C2F-BAE8-C68859CF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8EAF-CA86-4720-AE5D-BC5E3CCF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169A-46CD-4EB0-B601-02CE81CA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F870-A50F-4FED-B33C-300B7BB9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60A8-A9A7-49BA-9F7F-F9FD9A3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D6C-29DB-453F-9242-5DB00599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D287C-666E-480C-88A0-DF989644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DF4E3-CE96-41C0-A071-ED375B2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24C6-8ABF-4DD1-812E-84CA67F2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F514-7CDE-45FC-A611-F4B9C675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0176-1FD2-4F6F-8D42-E6174B6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F002-10AE-4EF4-97EA-8C62611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D269-67F2-4FCE-B15C-0DEFE6DE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C3CC-74A5-482A-ADCC-4BF0465E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569F-1E13-4AAA-AE4F-74B84281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72C-34D1-4F85-9271-B22DFD8F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7AE-3875-45FA-A9BB-1DCE3107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37B-AF82-48A9-8994-A503978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BCF-72C4-4205-82A5-5D9B3AF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5D7-1D3F-4CA8-A84C-9E80414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f9fd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f9f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41D-8F2C-4938-9CF6-1A47CBE3E9C4}" type="slidenum"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6d9f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D329-6357-4BE9-A7AF-EE3C9E3300D2}" type="slidenum"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6d9f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6d9f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dcfe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8F53-3E38-4B9B-AE6F-D80D8D6F3640}" type="slidenum">
              <a:rPr b="0" lang="ru-RU" sz="1200" spc="-1" strike="noStrike">
                <a:solidFill>
                  <a:srgbClr val="bdcfe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f9fd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f9fd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6262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98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229B-A02D-413C-BFAF-EBA78686AE4F}" type="slidenum">
              <a:rPr b="0" lang="ru-RU" sz="1200" spc="-1" strike="noStrike">
                <a:solidFill>
                  <a:srgbClr val="6a98c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197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00040" y="571680"/>
          <a:ext cx="7929720" cy="570204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 u="sng">
                          <a:solidFill>
                            <a:srgbClr val="262626"/>
                          </a:solidFill>
                          <a:uFillTx/>
                          <a:latin typeface="Times New Roman"/>
                          <a:ea typeface="Times New Roman"/>
                        </a:rPr>
                        <a:t>«Особенный» ребенок в  группе.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 u="sng">
                          <a:solidFill>
                            <a:srgbClr val="262626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400" spc="-1" strike="noStrike" u="sng">
                          <a:solidFill>
                            <a:srgbClr val="262626"/>
                          </a:solidFill>
                          <a:uFillTx/>
                          <a:latin typeface="Times New Roman"/>
                          <a:ea typeface="Times New Roman"/>
                        </a:rPr>
                        <a:t>Совместная работа педагогов и родителей по воспитанию, обучению и социальной интеграции».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5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полнила: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Лямина Е.Ю.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Группы для детей с ЗПР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017-2018 г.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44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71680" y="571680"/>
          <a:ext cx="8001000" cy="4937040"/>
        </p:xfrm>
        <a:graphic>
          <a:graphicData uri="http://schemas.openxmlformats.org/drawingml/2006/table">
            <a:tbl>
              <a:tblPr/>
              <a:tblGrid>
                <a:gridCol w="1857240"/>
                <a:gridCol w="614376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.Наглядно-информационное направление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Ознакомление родителей с условиями, содержанием и методами воспитания детей в условиях дошкольного учреждения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Для пропаганды педагогических знаний применяются, как традиционные, так и нетрадиционные формы взаимодействия, в том числе использование информационных компьютерных технологий, обеспечивающих продуктивное общение. Атмосфера творческой совместной деятельности предоставляет возможность родителям стать непосредственными участниками жизни группы и ДОУ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48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6"/>
          <p:cNvSpPr/>
          <p:nvPr/>
        </p:nvSpPr>
        <p:spPr>
          <a:xfrm>
            <a:off x="571680" y="357120"/>
            <a:ext cx="76435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28760" y="785880"/>
          <a:ext cx="8286480" cy="5616360"/>
        </p:xfrm>
        <a:graphic>
          <a:graphicData uri="http://schemas.openxmlformats.org/drawingml/2006/table">
            <a:tbl>
              <a:tblPr/>
              <a:tblGrid>
                <a:gridCol w="2643120"/>
                <a:gridCol w="4572000"/>
                <a:gridCol w="10713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этап - подготовительны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сентябрь-октябрь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работка плана  реализации проект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Разработать содержание этапов проведения проект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одбор и изучение  методической литературы  для реализации проект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.Антипина Г. А. Новые формы работы с родителями в современном ДОУ . 2011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.Борисова Н. П. Детский сад и родители. Поиск активных форм взаимодействия. 2007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.Евдокимова Н. В. Детский сад и семья: методика работы с родителями. 2007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.Елисеева Т. П. Детский сад и семья: современные формы взаимодействия. 2007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. Михайлова-Свирская Л.В. Работа с родителями. 2015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Сентябрь 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дбор тем консультаций  и о</a:t>
                      </a: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формление сборника консультаций для педагогов и родителей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Паспорт нашей группы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Адаптация детей к условиям ДОУ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Семья и детский сад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Задержка психического развития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Возрастные особенности детей с ЗПР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Что должны знать и  уметь наши дети», 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Как провести выходной день с ребенком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Значение игры в жизни ребенка»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onstantia"/>
                          <a:ea typeface="Calibri"/>
                        </a:rPr>
                        <a:t>Роль семьи и семейных ценностей в социализации дет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onstantia"/>
                          <a:ea typeface="Calibri"/>
                        </a:rPr>
                        <a:t>дошкольного возраста»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53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6"/>
          <p:cNvSpPr/>
          <p:nvPr/>
        </p:nvSpPr>
        <p:spPr>
          <a:xfrm>
            <a:off x="571680" y="357120"/>
            <a:ext cx="76435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28760" y="785880"/>
          <a:ext cx="8286480" cy="4591080"/>
        </p:xfrm>
        <a:graphic>
          <a:graphicData uri="http://schemas.openxmlformats.org/drawingml/2006/table">
            <a:tbl>
              <a:tblPr/>
              <a:tblGrid>
                <a:gridCol w="2643120"/>
                <a:gridCol w="4572000"/>
                <a:gridCol w="1071360"/>
              </a:tblGrid>
              <a:tr h="714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этап - подготовительны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сентябрь-октябрь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работка анкет для родител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Выявление  уровня компетенции родителей в вопросах  воспитания и развития ребенка, возрастных особенностей детей,  анализ эффективности работы  педагогов  с родителями в процессе организации коррекционно-развивающей деятельности.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работка плана проведения  и содержания мероприяти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мероприятий для  родителей: семинар, мастер-класс, родительские собрания, консультации с целью активизировать и обогатить образовательные умения родителей, объединить усилия детского сада и семьи в вопросах развития ребенк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Создание и разработка сайта в социальной сети, использование электронной почт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ривлечение родителей к совместному общению, общению друг с другом, ознакомление родителей с жизнью детей в детском саду, систематический и быстрый обмен информаци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Фотопрезентация на сайте для родителей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«Знакомство  родителей с детским садом, с группой».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58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28760" y="714240"/>
          <a:ext cx="8358120" cy="5410440"/>
        </p:xfrm>
        <a:graphic>
          <a:graphicData uri="http://schemas.openxmlformats.org/drawingml/2006/table">
            <a:tbl>
              <a:tblPr/>
              <a:tblGrid>
                <a:gridCol w="2714400"/>
                <a:gridCol w="4543560"/>
                <a:gridCol w="1100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этап - основно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ноябрь-март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формление родительских уголков: домашние задания для работы с детьм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тенды педагогической пропаганды, выставка  педагогической литератур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Активизация  родительского интереса к  обучению и развитию детей, повышение педагогической  грамотности родител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оябрь -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Дополнительные задания для детей на дом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крепить детско-родительские отношения, закрепление знаний по темам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опроса родител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а «Воспитание детей в семье» , Воспитание и обучение детей в коррекционной группе»,  «Досуговые мероприятия в детском саду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одительское собрание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«Семья и детский сад – единое образовательное пространство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Консультация музыкального руководителя для родителей «Роль родителей при подготовке и участии в  совместных детско-родительских праздничных мероприятиях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азвитие музыкальных и творческих способностей в процессе различных видов музыкальной деятельности , способствовать общему развитию детей средствами музыки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рамках родительского собра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Консультация дефектолога для родителей «Пособия для развития мелкой моторики своими рукам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овлечение родителей в организацию развивающей среды для ребёнка в домашних условиях своими руками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рамках родительского собра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тавка совместных поделок  родителей и детей «Дары осен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огащение детско-родительских отношений, вовлечение родителей в образовательный процесс  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61" name="Прямоугольник 6"/>
          <p:cNvSpPr/>
          <p:nvPr/>
        </p:nvSpPr>
        <p:spPr>
          <a:xfrm>
            <a:off x="2943000" y="357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64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785880"/>
          <a:ext cx="8358120" cy="5049720"/>
        </p:xfrm>
        <a:graphic>
          <a:graphicData uri="http://schemas.openxmlformats.org/drawingml/2006/table">
            <a:tbl>
              <a:tblPr/>
              <a:tblGrid>
                <a:gridCol w="2571480"/>
                <a:gridCol w="4686480"/>
                <a:gridCol w="1100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этап – основной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ноябрь-март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овместная подготовка и  проведение детско-родительских мероприятиях (Праздники: «Новогодняя сказка»,  «Мамин день»,  «Прощание с детским садом»)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алаживание эмоционального контакта, вовлечение родителей в творческий процесс, организация совместной деятельности детей, родителей и педагогов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соответствии с графиком проведе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тавка газет «Спортивный портрет нашей семьи» в рамках конкурс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огащение детско-родительских отношений, вовлечение родителей в образовательный процесс  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актикум  дефектолога для родителей «Применение кинезиологических упражнений  в работе с детьм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Знакомство с  кинезиологическими упражнениями, их цель, задачи, оформление комплекса кинезиологических упражнений.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«День добрых дел» - посильная помощь родителей в группе и на участке детского сад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рганизация совместного труда  родителей и педагогов, сплочение коллектива родител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 мере необходимости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рактикум воспитателя для родителей «Пластилинография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знакомить с одним из способов развития у детей  мелкой моторики, художественно–творческих способностей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Январь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товыставка  «Игра в жизни ребенка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Привлечение родителей к совместной игровой деятельности с детьми, к  участию в жизнедеятельности групп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7" name="Прямоугольник 12"/>
          <p:cNvSpPr/>
          <p:nvPr/>
        </p:nvSpPr>
        <p:spPr>
          <a:xfrm>
            <a:off x="3014280" y="357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70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28760" y="785880"/>
          <a:ext cx="8358120" cy="3292560"/>
        </p:xfrm>
        <a:graphic>
          <a:graphicData uri="http://schemas.openxmlformats.org/drawingml/2006/table">
            <a:tbl>
              <a:tblPr/>
              <a:tblGrid>
                <a:gridCol w="2571480"/>
                <a:gridCol w="4686480"/>
                <a:gridCol w="1100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этап - основной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ноябрь-март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мини-занятий (ребенок + родитель + педагог),   методические консультации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ключение родителей в коррекционный процесс как полноправных, активных, творческих и компетентных партнёров, способных, наравне с педагогами, оказывать эффективную помощь своему ребенку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рамках консультаций для родителе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сещение </a:t>
                      </a:r>
                      <a:r>
                        <a:rPr b="0" lang="en-US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ездных спектаклей, кукольных театров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иобщение дошкольников к миру искусства,  раскрытие творческого потенциала ребенка, агитация родителей к посещению массовых мероприятий вне 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соответствии с графиком проведе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астие в конкурсах  рисунков и поделок «Пожарная безопасность»,  «Новогодняя игрушка», « 8 марта»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огащение детско-родительских отношений, вовлечение родителей в образовательный процесс  детского сада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 соответствии с графиком проведения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3" name="Прямоугольник 12"/>
          <p:cNvSpPr/>
          <p:nvPr/>
        </p:nvSpPr>
        <p:spPr>
          <a:xfrm>
            <a:off x="3014280" y="357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76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500040" y="357120"/>
            <a:ext cx="800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71680" y="1000080"/>
          <a:ext cx="8072280" cy="4510080"/>
        </p:xfrm>
        <a:graphic>
          <a:graphicData uri="http://schemas.openxmlformats.org/drawingml/2006/table">
            <a:tbl>
              <a:tblPr/>
              <a:tblGrid>
                <a:gridCol w="2571480"/>
                <a:gridCol w="4643640"/>
                <a:gridCol w="85716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 этап – заключительный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апрель-май)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ирование родителей  по окончании реализации проекта с целью определения эффективности  проведенной работы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а «Удовлетворенность родителей совместной работой с педагогами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а «Эффективность информационно-просветительской работы в группе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формление презентации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дготовить презентацию  по проекту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прель - 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Изготовление  родителями театральной атрибутики в домашних условиях (магнитный, теневой, пальчиковый театры)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ктивизация  родительского интереса  к развитию детей, к взаимодействию с детским садом, пополнение знаний по театрализованной деятельности в детском саду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прель-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Круглый стол  «Развивающие игрушки в жизни ребенка. Любимая игра, игрушка моего ребенка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знакомить родителей со значением игры в жизни ребенка. Приобщить родителей к совместной игровой деятельности с детьми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аграждение родителей за активное участие в жизни группы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Благодарности и грамоты.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9" name="Прямоугольник 6"/>
          <p:cNvSpPr/>
          <p:nvPr/>
        </p:nvSpPr>
        <p:spPr>
          <a:xfrm>
            <a:off x="3014280" y="5000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тапы проведения проекта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82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6"/>
          <p:cNvSpPr/>
          <p:nvPr/>
        </p:nvSpPr>
        <p:spPr>
          <a:xfrm>
            <a:off x="500040" y="357120"/>
            <a:ext cx="8001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1680" y="1000080"/>
          <a:ext cx="8072280" cy="40467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дукты проекта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ланирование по работе с родителями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нкеты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апки-передвижк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борник консультаций  для родителей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делк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тенгазеты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ект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зентации,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айт группы 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Бизиборд «Домик»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Театральная атрибутика</a:t>
                      </a:r>
                      <a:endParaRPr b="0" lang="en-US" sz="12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87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500040" y="92880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1680" y="571680"/>
          <a:ext cx="8001000" cy="58384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Взаимодействие родителей и детского сада редко возникает сразу. Это длительный процесс, долгий и кропотливый труд, требующий терпеливого, неуклонного следования выбранной цели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В результате совместной работы создана доверительная атмосфера в группе, которая помогает сотрудничеству. Родители стали более коммуникабельными, организованными и инициативными. Все вышеперечисленные мероприятия помогли вовлечь родителей в педагогический процесс,  наладить систематическую работу с детьми в домашних условиях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onstantia"/>
                        </a:rPr>
                        <a:t>Родители стали проявлять интерес к жизни группы, к результатам и продуктам детской деятельности, родители посещают родительские собрания, активно участвуют в мероприятиях группы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92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94" name="Picture 2" descr="C:\Documents and Settings\Admin\Рабочий стол\ПРОЕКТ\4TJGpyszmEI.jpg"/>
          <p:cNvPicPr/>
          <p:nvPr/>
        </p:nvPicPr>
        <p:blipFill>
          <a:blip r:embed="rId2"/>
          <a:stretch/>
        </p:blipFill>
        <p:spPr>
          <a:xfrm>
            <a:off x="3500280" y="4071960"/>
            <a:ext cx="20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Documents and Settings\Admin\Рабочий стол\ПРОЕКТ\4TJGpyszmEI.jpg"/>
          <p:cNvPicPr/>
          <p:nvPr/>
        </p:nvPicPr>
        <p:blipFill>
          <a:blip r:embed="rId3"/>
          <a:stretch/>
        </p:blipFill>
        <p:spPr>
          <a:xfrm>
            <a:off x="6143760" y="4286160"/>
            <a:ext cx="2481120" cy="2014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Documents and Settings\Admin\Рабочий стол\ПРОЕКТ\4TJGpyszmEI.jpg"/>
          <p:cNvPicPr/>
          <p:nvPr/>
        </p:nvPicPr>
        <p:blipFill>
          <a:blip r:embed="rId4"/>
          <a:stretch/>
        </p:blipFill>
        <p:spPr>
          <a:xfrm>
            <a:off x="5643720" y="642960"/>
            <a:ext cx="2820960" cy="1928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Documents and Settings\Admin\Рабочий стол\ПРОЕКТ\4TJGpyszmEI.jpg"/>
          <p:cNvPicPr/>
          <p:nvPr/>
        </p:nvPicPr>
        <p:blipFill>
          <a:blip r:embed="rId5"/>
          <a:stretch/>
        </p:blipFill>
        <p:spPr>
          <a:xfrm>
            <a:off x="642960" y="500040"/>
            <a:ext cx="2500200" cy="2071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4" descr="C:\Documents and Settings\Admin\Рабочий стол\ПРОЕКТ\_hoZgCWyVWg.jpg"/>
          <p:cNvPicPr/>
          <p:nvPr/>
        </p:nvPicPr>
        <p:blipFill>
          <a:blip r:embed="rId6"/>
          <a:stretch/>
        </p:blipFill>
        <p:spPr>
          <a:xfrm>
            <a:off x="3429000" y="785880"/>
            <a:ext cx="2133720" cy="3025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4" descr="C:\Documents and Settings\Admin\Рабочий стол\ПРОЕКТ\_hoZgCWyVWg.jpg"/>
          <p:cNvPicPr/>
          <p:nvPr/>
        </p:nvPicPr>
        <p:blipFill>
          <a:blip r:embed="rId7"/>
          <a:stretch/>
        </p:blipFill>
        <p:spPr>
          <a:xfrm>
            <a:off x="642960" y="4286160"/>
            <a:ext cx="24289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03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00040" y="571680"/>
          <a:ext cx="8215200" cy="5668920"/>
        </p:xfrm>
        <a:graphic>
          <a:graphicData uri="http://schemas.openxmlformats.org/drawingml/2006/table">
            <a:tbl>
              <a:tblPr/>
              <a:tblGrid>
                <a:gridCol w="2000160"/>
                <a:gridCol w="6215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 проекта: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овлечение родителей в образовательный процесс ДОУ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Задачи проекта: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ивлечь родителей к активному участию в деятельности ДОУ через организацию интересных форм работы с педагогами, совместные детско-родительские мероприятия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ктивизировать и обогатить воспитательные и образовательные умения родителей посредством бесед, консультаций, информационных буклетов, практикумов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ъединить усилия детского сада и семьи в вопросах развития ребенка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6262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беспечить родителей специальной литературой и дидактическими материалами для занятий с детьм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доставить родителям возможность общаться друг с другом, делиться опытом, семейными традициям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302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6"/>
          <p:cNvSpPr/>
          <p:nvPr/>
        </p:nvSpPr>
        <p:spPr>
          <a:xfrm>
            <a:off x="500040" y="35712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04" name="Picture 2" descr="C:\Documents and Settings\Admin\Рабочий стол\ПРОЕКТ\4TJGpyszmEI.jpg"/>
          <p:cNvPicPr/>
          <p:nvPr/>
        </p:nvPicPr>
        <p:blipFill>
          <a:blip r:embed="rId2"/>
          <a:stretch/>
        </p:blipFill>
        <p:spPr>
          <a:xfrm>
            <a:off x="6215040" y="714240"/>
            <a:ext cx="2238480" cy="2984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Admin\Рабочий стол\ПРОЕКТ\4TJGpyszmEI.jpg"/>
          <p:cNvPicPr/>
          <p:nvPr/>
        </p:nvPicPr>
        <p:blipFill>
          <a:blip r:embed="rId3"/>
          <a:stretch/>
        </p:blipFill>
        <p:spPr>
          <a:xfrm>
            <a:off x="500040" y="435780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4" descr="C:\Documents and Settings\Admin\Рабочий стол\ПРОЕКТ\_hoZgCWyVWg.jpg"/>
          <p:cNvPicPr/>
          <p:nvPr/>
        </p:nvPicPr>
        <p:blipFill>
          <a:blip r:embed="rId4"/>
          <a:stretch/>
        </p:blipFill>
        <p:spPr>
          <a:xfrm>
            <a:off x="3143160" y="2428920"/>
            <a:ext cx="2610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309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6"/>
          <p:cNvSpPr/>
          <p:nvPr/>
        </p:nvSpPr>
        <p:spPr>
          <a:xfrm>
            <a:off x="500040" y="92880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00040" y="785880"/>
          <a:ext cx="8001000" cy="402264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пасибо за внимание!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09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71680" y="571680"/>
          <a:ext cx="7929360" cy="2754000"/>
        </p:xfrm>
        <a:graphic>
          <a:graphicData uri="http://schemas.openxmlformats.org/drawingml/2006/table">
            <a:tbl>
              <a:tblPr/>
              <a:tblGrid>
                <a:gridCol w="792936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Актуальность темы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дной из важнейших задач коррекционной работы с детьми, имеющими задержку психического развития, является привлечение родителей к активному сотрудничеству с целью акцентирования внимания на воспитании, развитии, обучении, социализации ребенка и формировании его личностных качеств, так как только в процессе совместной деятельности детского сада и семьи удается максимально помочь ребенку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15" name="Рисунок 6" descr="56defa94b6639.jpg"/>
          <p:cNvPicPr/>
          <p:nvPr/>
        </p:nvPicPr>
        <p:blipFill>
          <a:blip r:embed="rId1"/>
          <a:stretch/>
        </p:blipFill>
        <p:spPr>
          <a:xfrm>
            <a:off x="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357120" y="44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71680" y="645840"/>
            <a:ext cx="79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1680" y="571680"/>
          <a:ext cx="7929360" cy="4265280"/>
        </p:xfrm>
        <a:graphic>
          <a:graphicData uri="http://schemas.openxmlformats.org/drawingml/2006/table">
            <a:tbl>
              <a:tblPr/>
              <a:tblGrid>
                <a:gridCol w="2201760"/>
                <a:gridCol w="5727600"/>
              </a:tblGrid>
              <a:tr h="74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Информационная карта проекта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астники проекта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читель-дефектолог,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оспитатели группы ,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узыкальный руководитель,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одители, дети группы «Звездочки»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Тип проекта</a:t>
                      </a: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 содержанию – интегративный (включает ребенка и его родителей)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о продолжительности – долгосрочный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роки работы: в течение учебного года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ентябрь 2017— май 2018)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21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6"/>
          <p:cNvSpPr/>
          <p:nvPr/>
        </p:nvSpPr>
        <p:spPr>
          <a:xfrm>
            <a:off x="500040" y="92880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1680" y="571680"/>
          <a:ext cx="8001000" cy="40287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Использование разнообразных форм работы даст определённые результаты: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одители из «наблюдателей» превратятся в активных участников встреч и помощников  педагога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Семьи получат практическую помощь в виде индивидуальных и групповых консультаций, мастер-класса и семинара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Повысится педагогическая грамотность родителей и профессиональная компетенция педагогов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одителями проводится систематическая работа по развитию ребенка в домашних условиях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r>
                        <a:rPr b="0" lang="en-US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осознают, что вовлечение их в педагогическую деятельность, заинтересованное участие в воспитательно-образовательном процессе необходимо для развития их собственного ребенка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26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6"/>
          <p:cNvSpPr/>
          <p:nvPr/>
        </p:nvSpPr>
        <p:spPr>
          <a:xfrm>
            <a:off x="500040" y="571680"/>
            <a:ext cx="8001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правления работы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родителями детей с ЗПР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680" y="1643040"/>
          <a:ext cx="8072280" cy="2468520"/>
        </p:xfrm>
        <a:graphic>
          <a:graphicData uri="http://schemas.openxmlformats.org/drawingml/2006/table">
            <a:tbl>
              <a:tblPr/>
              <a:tblGrid>
                <a:gridCol w="2000160"/>
                <a:gridCol w="60721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. Информационно-аналитическое направление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явление интересов, потребностей, запросов родителей, уровня их педагогической грамотности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просы, анкетирование, индивидуальные беседы и консультаци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31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500040" y="571680"/>
            <a:ext cx="8001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71680" y="642960"/>
          <a:ext cx="8001000" cy="3565440"/>
        </p:xfrm>
        <a:graphic>
          <a:graphicData uri="http://schemas.openxmlformats.org/drawingml/2006/table">
            <a:tbl>
              <a:tblPr/>
              <a:tblGrid>
                <a:gridCol w="1928520"/>
                <a:gridCol w="60724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. Познавательное направление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знакомление родителей с возрастными и психологическими особенностями детей дошкольного возраста с ЗПР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ирование у родителей практических  навыков воспитания и обучения детей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Мастер-класс, семинар-практикум, родительские собрания, педагогические журналы и газеты,  обучающие видеоролики, развивающие игры и пособия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36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42960" y="571680"/>
          <a:ext cx="7929720" cy="2817720"/>
        </p:xfrm>
        <a:graphic>
          <a:graphicData uri="http://schemas.openxmlformats.org/drawingml/2006/table">
            <a:tbl>
              <a:tblPr/>
              <a:tblGrid>
                <a:gridCol w="1928880"/>
                <a:gridCol w="6000840"/>
              </a:tblGrid>
              <a:tr h="70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.Досуговое направление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Установление эмоционального контакта между педагогами, родителями и детьми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овместные праздники, чаепитие, выпуски семейных газет, выставки работ родителей и детей,</a:t>
                      </a: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оведение конкурсов среди совместных работ родителей и детей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abc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262626"/>
              </a:solidFill>
              <a:latin typeface="Constantia"/>
            </a:endParaRPr>
          </a:p>
        </p:txBody>
      </p:sp>
      <p:pic>
        <p:nvPicPr>
          <p:cNvPr id="240" name="Рисунок 6" descr="56defa94b6639.jp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571680" y="571680"/>
          <a:ext cx="8001000" cy="4114800"/>
        </p:xfrm>
        <a:graphic>
          <a:graphicData uri="http://schemas.openxmlformats.org/drawingml/2006/table">
            <a:tbl>
              <a:tblPr/>
              <a:tblGrid>
                <a:gridCol w="1857240"/>
                <a:gridCol w="614376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.Наглядно-информационное направление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18720">
                      <a:solidFill>
                        <a:srgbClr val="262626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Цель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Ознакомление родителей с условиями, содержанием, формами и методами воспитания и обучения детей в условиях дошкольного учреждения. Формирование у родителей знаний о воспитании, развитии и социализации детей.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1872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ормы проведения: 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Буклеты, памятки, оформление стендов, папок-передвижек  в родительских уголках, ссылки и статьи на сайте группы в социальной сети,</a:t>
                      </a: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пуск стенгазет, использование видеозаписей наблюдений за ребенком в процессе его деятельности.</a:t>
                      </a: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626"/>
                      </a:solidFill>
                    </a:lnL>
                    <a:lnR w="5760">
                      <a:solidFill>
                        <a:srgbClr val="262626"/>
                      </a:solidFill>
                    </a:lnR>
                    <a:lnT w="5760">
                      <a:solidFill>
                        <a:srgbClr val="262626"/>
                      </a:solidFill>
                    </a:lnT>
                    <a:lnB w="5760">
                      <a:solidFill>
                        <a:srgbClr val="26262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3T07:14:56Z</dcterms:created>
  <dc:creator>yura</dc:creator>
  <dc:description/>
  <dc:language>en-US</dc:language>
  <cp:lastModifiedBy>User</cp:lastModifiedBy>
  <dcterms:modified xsi:type="dcterms:W3CDTF">2019-02-28T12:45:23Z</dcterms:modified>
  <cp:revision>276</cp:revision>
  <dc:subject/>
  <dc:title>Слайд 1</dc:title>
</cp:coreProperties>
</file>