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78B-832C-4380-9174-4752F958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01D-A24E-4455-8792-2B38F2C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4E7-5CED-456E-9358-A7CD6ED9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B48-C33E-451C-BAEC-FC4466A6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448-7808-4EA5-B409-ED1DF842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E14-DC88-4414-8708-98A195E0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E84-4EFF-4DB6-8A6F-31961BEC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BFE-0095-4228-99BF-7AA54F02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AAD-57EE-4BF9-94E6-03EBD55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704-9C4D-479C-B694-0B396969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E3D-0FBA-436C-90D8-18F8A01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7FF-80C0-424E-B1A6-90216E5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99DD-B77C-4F14-B49F-48041DF16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48600" y="2362320"/>
            <a:ext cx="70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оль логических опор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конспектов (ЛО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в обучении географ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10560" y="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0" y="0"/>
            <a:ext cx="6858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038480" y="152280"/>
            <a:ext cx="914400" cy="6400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040280" y="30492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963960" y="312408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040280" y="58514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 rot="5400000">
            <a:off x="3202560" y="1899360"/>
            <a:ext cx="23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ушевой д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бразова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 rot="5400000">
            <a:off x="3200400" y="4566960"/>
            <a:ext cx="268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р.прод.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Эколог.безоп-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ступность и т.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31120" y="3049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Разв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489640" y="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Разви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 flipV="1">
            <a:off x="3886200" y="2286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105520" y="495288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962880" y="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2287800" y="4096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8171280" y="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0" y="838080"/>
            <a:ext cx="3809880" cy="177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«Большая семерка» стран   За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ША, Япония, ФРГ,  Франция, Великобритания, Италия, 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0" y="2895480"/>
            <a:ext cx="3809880" cy="1618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Менее крупные страны зап.Европ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Швейцария, Австрия, Бельгия, Нидерланды, скандин.стр. , Люксембур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0" y="4724280"/>
            <a:ext cx="3809880" cy="177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Страны «переселенческого капитализм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минионы Великобрита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трия, Новая Зеландия, ЮАР, Изра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5334120" y="533520"/>
            <a:ext cx="38098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Ключевые стра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Индия, Мексика, Брази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5105520" y="1295280"/>
            <a:ext cx="40384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ВП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&gt;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1000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суэ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Чили, Уругва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5181480" y="2133720"/>
            <a:ext cx="3962520" cy="131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)Сингапур, Тайвань, Гонконг, Республика Корея   2)Малайзия, Таиланд, Индонезия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5181480" y="3581280"/>
            <a:ext cx="3962520" cy="131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ефтеэкспортирующ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Юго-Западная Азия, Северная Африка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5181480" y="4724280"/>
            <a:ext cx="3505320" cy="100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ВП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&lt;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1000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 (отстающие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аны Африки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5181480" y="5597640"/>
            <a:ext cx="3962520" cy="12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аименее развитые     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(«четвертый мир»  ВВП=300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гладеш, Непал, Афганистан и др.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1547640" y="1341360"/>
            <a:ext cx="6337440" cy="5327640"/>
          </a:xfrm>
          <a:prstGeom prst="flowChartMerg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2916360" y="3789360"/>
            <a:ext cx="36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589440" y="3619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1835280" y="1916280"/>
            <a:ext cx="5689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4140360" y="5589720"/>
            <a:ext cx="115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3496320" y="3141720"/>
            <a:ext cx="28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484164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4716360" y="1700280"/>
            <a:ext cx="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4716360" y="1628640"/>
            <a:ext cx="865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4859280" y="1989000"/>
            <a:ext cx="647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788000" y="220500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4788000" y="177336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loud"/>
          <p:cNvSpPr/>
          <p:nvPr/>
        </p:nvSpPr>
        <p:spPr>
          <a:xfrm>
            <a:off x="6443640" y="189000"/>
            <a:ext cx="1513080" cy="792000"/>
          </a:xfrm>
          <a:custGeom>
            <a:avLst/>
            <a:gdLst>
              <a:gd name="textAreaLeft" fmla="*/ 208440 w 1513080"/>
              <a:gd name="textAreaRight" fmla="*/ 1197000 w 1513080"/>
              <a:gd name="textAreaTop" fmla="*/ 119520 h 792000"/>
              <a:gd name="textAreaBottom" fmla="*/ 635760 h 79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6735600" y="3333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665964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H="1">
            <a:off x="4284720" y="76500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H="1">
            <a:off x="4572000" y="981000"/>
            <a:ext cx="1944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 flipH="1">
            <a:off x="5076720" y="112536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902200" y="153180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-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loud"/>
          <p:cNvSpPr/>
          <p:nvPr/>
        </p:nvSpPr>
        <p:spPr>
          <a:xfrm>
            <a:off x="6012000" y="2492280"/>
            <a:ext cx="579240" cy="38916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9160"/>
              <a:gd name="textAreaBottom" fmla="*/ 312480 h 389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2"/>
          <p:cNvSpPr/>
          <p:nvPr/>
        </p:nvSpPr>
        <p:spPr>
          <a:xfrm>
            <a:off x="6012000" y="2492280"/>
            <a:ext cx="647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3"/>
          <p:cNvSpPr/>
          <p:nvPr/>
        </p:nvSpPr>
        <p:spPr>
          <a:xfrm flipV="1">
            <a:off x="6012000" y="2492280"/>
            <a:ext cx="576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4"/>
          <p:cNvSpPr/>
          <p:nvPr/>
        </p:nvSpPr>
        <p:spPr>
          <a:xfrm>
            <a:off x="6443640" y="220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627440" y="4390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-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6"/>
          <p:cNvSpPr/>
          <p:nvPr/>
        </p:nvSpPr>
        <p:spPr>
          <a:xfrm flipH="1" flipV="1">
            <a:off x="5435640" y="5516280"/>
            <a:ext cx="503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7"/>
          <p:cNvSpPr/>
          <p:nvPr/>
        </p:nvSpPr>
        <p:spPr>
          <a:xfrm flipH="1" flipV="1">
            <a:off x="5580000" y="5229360"/>
            <a:ext cx="503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8"/>
          <p:cNvSpPr/>
          <p:nvPr/>
        </p:nvSpPr>
        <p:spPr>
          <a:xfrm flipH="1" flipV="1">
            <a:off x="5651280" y="4941360"/>
            <a:ext cx="5029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4932360" y="5229360"/>
            <a:ext cx="579600" cy="215640"/>
          </a:xfrm>
          <a:custGeom>
            <a:avLst/>
            <a:gdLst>
              <a:gd name="textAreaLeft" fmla="*/ 79920 w 579600"/>
              <a:gd name="textAreaRight" fmla="*/ 458640 w 57960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5219640" y="501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1"/>
          <p:cNvSpPr/>
          <p:nvPr/>
        </p:nvSpPr>
        <p:spPr>
          <a:xfrm flipH="1">
            <a:off x="5003640" y="5300640"/>
            <a:ext cx="14472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 flipH="1">
            <a:off x="514800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 flipH="1">
            <a:off x="529236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5292720" y="2852640"/>
            <a:ext cx="574560" cy="3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5364000" y="2924280"/>
            <a:ext cx="432000" cy="2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5435640" y="2997360"/>
            <a:ext cx="216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7"/>
          <p:cNvSpPr/>
          <p:nvPr/>
        </p:nvSpPr>
        <p:spPr>
          <a:xfrm>
            <a:off x="3855960" y="27813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8"/>
          <p:cNvSpPr/>
          <p:nvPr/>
        </p:nvSpPr>
        <p:spPr>
          <a:xfrm flipH="1" flipV="1">
            <a:off x="3850920" y="5589720"/>
            <a:ext cx="360360" cy="5745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9"/>
          <p:cNvSpPr/>
          <p:nvPr/>
        </p:nvSpPr>
        <p:spPr>
          <a:xfrm flipH="1" flipV="1">
            <a:off x="3348000" y="4581000"/>
            <a:ext cx="503280" cy="86364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0"/>
          <p:cNvSpPr/>
          <p:nvPr/>
        </p:nvSpPr>
        <p:spPr>
          <a:xfrm flipV="1">
            <a:off x="4140360" y="6308280"/>
            <a:ext cx="21564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1"/>
          <p:cNvSpPr/>
          <p:nvPr/>
        </p:nvSpPr>
        <p:spPr>
          <a:xfrm flipH="1">
            <a:off x="1331640" y="1413000"/>
            <a:ext cx="215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H="1">
            <a:off x="1186920" y="836640"/>
            <a:ext cx="287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 rot="20978400">
            <a:off x="1281240" y="333540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 rot="17063400">
            <a:off x="683640" y="162900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ана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5"/>
          <p:cNvSpPr/>
          <p:nvPr/>
        </p:nvSpPr>
        <p:spPr>
          <a:xfrm rot="3736800">
            <a:off x="2640240" y="49309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енгель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5866920" y="4941720"/>
            <a:ext cx="505080" cy="792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7"/>
          <p:cNvSpPr/>
          <p:nvPr/>
        </p:nvSpPr>
        <p:spPr>
          <a:xfrm flipH="1">
            <a:off x="5219640" y="5805360"/>
            <a:ext cx="504720" cy="792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796000" y="5373720"/>
            <a:ext cx="504720" cy="7920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"/>
          <p:cNvSpPr/>
          <p:nvPr/>
        </p:nvSpPr>
        <p:spPr>
          <a:xfrm>
            <a:off x="4788000" y="3789360"/>
            <a:ext cx="579240" cy="38880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0"/>
          <p:cNvSpPr/>
          <p:nvPr/>
        </p:nvSpPr>
        <p:spPr>
          <a:xfrm flipH="1">
            <a:off x="4787640" y="4076640"/>
            <a:ext cx="14436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1"/>
          <p:cNvSpPr/>
          <p:nvPr/>
        </p:nvSpPr>
        <p:spPr>
          <a:xfrm flipH="1">
            <a:off x="4858920" y="4149720"/>
            <a:ext cx="14436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2"/>
          <p:cNvSpPr/>
          <p:nvPr/>
        </p:nvSpPr>
        <p:spPr>
          <a:xfrm flipH="1">
            <a:off x="5076720" y="4149720"/>
            <a:ext cx="14472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3"/>
          <p:cNvSpPr/>
          <p:nvPr/>
        </p:nvSpPr>
        <p:spPr>
          <a:xfrm flipH="1">
            <a:off x="5435280" y="371628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loud"/>
          <p:cNvSpPr/>
          <p:nvPr/>
        </p:nvSpPr>
        <p:spPr>
          <a:xfrm>
            <a:off x="2124000" y="1557360"/>
            <a:ext cx="579600" cy="388800"/>
          </a:xfrm>
          <a:custGeom>
            <a:avLst/>
            <a:gdLst>
              <a:gd name="textAreaLeft" fmla="*/ 79920 w 579600"/>
              <a:gd name="textAreaRight" fmla="*/ 458640 w 57960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5"/>
          <p:cNvSpPr/>
          <p:nvPr/>
        </p:nvSpPr>
        <p:spPr>
          <a:xfrm>
            <a:off x="2195640" y="1557360"/>
            <a:ext cx="5760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6"/>
          <p:cNvSpPr/>
          <p:nvPr/>
        </p:nvSpPr>
        <p:spPr>
          <a:xfrm flipV="1">
            <a:off x="2124000" y="1484280"/>
            <a:ext cx="576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7"/>
          <p:cNvSpPr/>
          <p:nvPr/>
        </p:nvSpPr>
        <p:spPr>
          <a:xfrm rot="3670200">
            <a:off x="3292920" y="46335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ми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58"/>
          <p:cNvSpPr/>
          <p:nvPr/>
        </p:nvSpPr>
        <p:spPr>
          <a:xfrm rot="18223800">
            <a:off x="274536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59"/>
          <p:cNvSpPr/>
          <p:nvPr/>
        </p:nvSpPr>
        <p:spPr>
          <a:xfrm rot="18223800">
            <a:off x="3105720" y="2878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60"/>
          <p:cNvSpPr/>
          <p:nvPr/>
        </p:nvSpPr>
        <p:spPr>
          <a:xfrm rot="18223800">
            <a:off x="346428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1"/>
          <p:cNvSpPr/>
          <p:nvPr/>
        </p:nvSpPr>
        <p:spPr>
          <a:xfrm flipV="1" rot="16200000">
            <a:off x="4138920" y="465300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2"/>
          <p:cNvSpPr/>
          <p:nvPr/>
        </p:nvSpPr>
        <p:spPr>
          <a:xfrm flipV="1" rot="16200000">
            <a:off x="4499280" y="479736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3"/>
          <p:cNvSpPr/>
          <p:nvPr/>
        </p:nvSpPr>
        <p:spPr>
          <a:xfrm flipV="1" rot="16200000">
            <a:off x="4354920" y="494028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4"/>
          <p:cNvSpPr/>
          <p:nvPr/>
        </p:nvSpPr>
        <p:spPr>
          <a:xfrm>
            <a:off x="0" y="4508640"/>
            <a:ext cx="2771640" cy="23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5"/>
          <p:cNvSpPr/>
          <p:nvPr/>
        </p:nvSpPr>
        <p:spPr>
          <a:xfrm>
            <a:off x="1025280" y="539280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6"/>
          <p:cNvSpPr/>
          <p:nvPr/>
        </p:nvSpPr>
        <p:spPr>
          <a:xfrm flipV="1">
            <a:off x="1258920" y="51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7"/>
          <p:cNvSpPr/>
          <p:nvPr/>
        </p:nvSpPr>
        <p:spPr>
          <a:xfrm flipH="1">
            <a:off x="755640" y="558792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8"/>
          <p:cNvSpPr/>
          <p:nvPr/>
        </p:nvSpPr>
        <p:spPr>
          <a:xfrm flipH="1">
            <a:off x="971280" y="5734080"/>
            <a:ext cx="2142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1547640" y="558972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0"/>
          <p:cNvSpPr/>
          <p:nvPr/>
        </p:nvSpPr>
        <p:spPr>
          <a:xfrm>
            <a:off x="1332000" y="573408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1"/>
          <p:cNvSpPr/>
          <p:nvPr/>
        </p:nvSpPr>
        <p:spPr>
          <a:xfrm>
            <a:off x="900720" y="48434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2"/>
          <p:cNvSpPr/>
          <p:nvPr/>
        </p:nvSpPr>
        <p:spPr>
          <a:xfrm>
            <a:off x="1818000" y="529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3"/>
          <p:cNvSpPr/>
          <p:nvPr/>
        </p:nvSpPr>
        <p:spPr>
          <a:xfrm>
            <a:off x="470160" y="5373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4"/>
          <p:cNvSpPr/>
          <p:nvPr/>
        </p:nvSpPr>
        <p:spPr>
          <a:xfrm>
            <a:off x="539640" y="6165720"/>
            <a:ext cx="57636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5"/>
          <p:cNvSpPr/>
          <p:nvPr/>
        </p:nvSpPr>
        <p:spPr>
          <a:xfrm>
            <a:off x="684360" y="6237360"/>
            <a:ext cx="287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6"/>
          <p:cNvSpPr/>
          <p:nvPr/>
        </p:nvSpPr>
        <p:spPr>
          <a:xfrm>
            <a:off x="755640" y="6308640"/>
            <a:ext cx="14436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7"/>
          <p:cNvSpPr/>
          <p:nvPr/>
        </p:nvSpPr>
        <p:spPr>
          <a:xfrm flipH="1">
            <a:off x="1547640" y="6021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8"/>
          <p:cNvSpPr/>
          <p:nvPr/>
        </p:nvSpPr>
        <p:spPr>
          <a:xfrm>
            <a:off x="1763640" y="6021360"/>
            <a:ext cx="2872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79"/>
          <p:cNvSpPr/>
          <p:nvPr/>
        </p:nvSpPr>
        <p:spPr>
          <a:xfrm rot="9480000">
            <a:off x="1692000" y="602136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22160" y="-152280"/>
            <a:ext cx="530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ографическое по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сской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2916360" y="1989000"/>
            <a:ext cx="3384360" cy="3529080"/>
          </a:xfrm>
          <a:prstGeom prst="parallelogram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6227640" y="206064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6012000" y="2997360"/>
            <a:ext cx="1077840" cy="39528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5867280" y="371628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5724360" y="436572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5580000" y="5157720"/>
            <a:ext cx="1077840" cy="39528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 rot="16912200">
            <a:off x="4716720" y="35870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льски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 flipH="1">
            <a:off x="3132000" y="1989000"/>
            <a:ext cx="64800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 rot="17079600">
            <a:off x="2153520" y="29696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иц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3"/>
          <p:cNvSpPr/>
          <p:nvPr/>
        </p:nvSpPr>
        <p:spPr>
          <a:xfrm>
            <a:off x="2124000" y="5229360"/>
            <a:ext cx="790560" cy="865080"/>
          </a:xfrm>
          <a:custGeom>
            <a:avLst/>
            <a:gdLst>
              <a:gd name="textAreaLeft" fmla="*/ 0 w 790560"/>
              <a:gd name="textAreaRight" fmla="*/ 790920 w 7905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992240" y="5465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 rot="17723400">
            <a:off x="2234520" y="45896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778200" y="155736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3924720" y="141300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3778200" y="105264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3994560" y="8366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енцево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>
            <a:off x="3924360" y="551664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1"/>
          <p:cNvSpPr/>
          <p:nvPr/>
        </p:nvSpPr>
        <p:spPr>
          <a:xfrm flipH="1">
            <a:off x="4067280" y="1989000"/>
            <a:ext cx="1009440" cy="352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"/>
          <p:cNvSpPr/>
          <p:nvPr/>
        </p:nvSpPr>
        <p:spPr>
          <a:xfrm rot="17134800">
            <a:off x="3709800" y="34304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>
            <a:off x="3492360" y="2997360"/>
            <a:ext cx="251964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 rot="190200">
            <a:off x="3781800" y="25650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25"/>
          <p:cNvSpPr/>
          <p:nvPr/>
        </p:nvSpPr>
        <p:spPr>
          <a:xfrm rot="8113800">
            <a:off x="3924000" y="836640"/>
            <a:ext cx="1789200" cy="21304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130480"/>
              <a:gd name="textAreaBottom" fmla="*/ 2130840 h 2130480"/>
            </a:gdLst>
            <a:ahLst/>
            <a:rect l="textAreaLeft" t="textAreaTop" r="textAreaRight" b="textAreaBottom"/>
            <a:pathLst>
              <a:path fill="none" w="21092" h="21582">
                <a:moveTo>
                  <a:pt x="878" y="-1"/>
                </a:moveTo>
                <a:cubicBezTo>
                  <a:pt x="10676" y="398"/>
                  <a:pt x="18976" y="7347"/>
                  <a:pt x="21091" y="16923"/>
                </a:cubicBezTo>
              </a:path>
              <a:path stroke="0" w="21092" h="21582">
                <a:moveTo>
                  <a:pt x="878" y="-1"/>
                </a:moveTo>
                <a:cubicBezTo>
                  <a:pt x="10676" y="398"/>
                  <a:pt x="18976" y="7347"/>
                  <a:pt x="21091" y="16923"/>
                </a:cubicBezTo>
                <a:lnTo>
                  <a:pt x="0" y="2158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4553280" y="215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1694160" y="162864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1044720" y="501336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3657600" y="1295280"/>
            <a:ext cx="2666880" cy="13716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367360" y="380880"/>
            <a:ext cx="59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Расселение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 flipH="1">
            <a:off x="2971440" y="182880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6324480" y="1752480"/>
            <a:ext cx="5335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3657600" y="1676520"/>
            <a:ext cx="2666880" cy="83808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657600" y="2514600"/>
            <a:ext cx="26668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5334120" y="2514600"/>
            <a:ext cx="990360" cy="152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860520" y="1447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Зона Сев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28240" y="160020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Основная з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1144080" y="1878120"/>
            <a:ext cx="17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7316280" y="1752480"/>
            <a:ext cx="17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748080" y="235116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8 млн.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638760" y="220968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,5 млн.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366840" y="29354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Старое осв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378360" y="33559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50 ч/к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628240" y="2819520"/>
            <a:ext cx="35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редото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жнейши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5894280" y="4343400"/>
            <a:ext cx="3250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. выбороч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чагов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око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сурсных баз, р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нспортных пу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303120" y="3962520"/>
            <a:ext cx="40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ого крупных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родских аглом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5789520" y="3733920"/>
            <a:ext cx="27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0,9 ч/к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4648320" y="2666880"/>
            <a:ext cx="0" cy="2210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3430440" y="51055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идная з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3490560" y="5599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2820240" y="5562720"/>
            <a:ext cx="30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сушливые р-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/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cc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041000" y="838080"/>
            <a:ext cx="113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4572000" y="1523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057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инцип 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4495680" y="28195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375560" y="3886200"/>
            <a:ext cx="68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ворческие работы,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4"/>
          <p:cNvGraphicFramePr/>
          <p:nvPr/>
        </p:nvGraphicFramePr>
        <p:xfrm>
          <a:off x="0" y="0"/>
          <a:ext cx="4830840" cy="362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308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5"/>
          <p:cNvGraphicFramePr/>
          <p:nvPr/>
        </p:nvGraphicFramePr>
        <p:xfrm>
          <a:off x="0" y="3200400"/>
          <a:ext cx="4876920" cy="3657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724280" y="3102120"/>
          <a:ext cx="4419720" cy="37558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102120"/>
                    <a:ext cx="441972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7"/>
          <p:cNvGraphicFramePr/>
          <p:nvPr/>
        </p:nvGraphicFramePr>
        <p:xfrm>
          <a:off x="4800600" y="0"/>
          <a:ext cx="4343400" cy="31240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0"/>
                    <a:ext cx="4343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cc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041000" y="22860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"/>
          <p:cNvSpPr/>
          <p:nvPr/>
        </p:nvSpPr>
        <p:spPr>
          <a:xfrm>
            <a:off x="4572000" y="762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5486400" y="18288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906200" y="1219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631200" y="1219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3429000" y="1066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2880" y="1981080"/>
            <a:ext cx="544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профессион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тва в предметн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я времени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й охват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5600880" y="2057400"/>
            <a:ext cx="354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е зат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и на подгот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ро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888720" y="15228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440" y="2057400"/>
            <a:ext cx="5447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ет память, лог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ление, 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ки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изация само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ует развитию жел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умения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интерес к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ет глубокие зна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тизир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ение индивиду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4572000" y="762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429000" y="1066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ч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1906200" y="1219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6631200" y="1219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3"/>
          <p:cNvSpPr/>
          <p:nvPr/>
        </p:nvSpPr>
        <p:spPr>
          <a:xfrm>
            <a:off x="5486400" y="18288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833040" y="1828800"/>
            <a:ext cx="53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итетность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921960" y="2514600"/>
            <a:ext cx="44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е с увлеч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003680" y="3276720"/>
            <a:ext cx="49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   ↔       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4343400" y="12193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2745000" y="32004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22680" y="2514600"/>
            <a:ext cx="49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любы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006920" y="3276720"/>
            <a:ext cx="44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коренное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114800" y="12952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992960" y="380880"/>
            <a:ext cx="14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855360" y="1828800"/>
            <a:ext cx="7820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тру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крупными бло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й стереотип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манизм (все дети талантли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ье без прин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фликтность учеб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↔вос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4114800" y="12952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78320" y="380880"/>
            <a:ext cx="28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инц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13120" y="685800"/>
            <a:ext cx="89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орный сигнал –ассоциативный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знак, слово, схема, рисунок и т.п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еняющий некое смысловое значени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1981080"/>
            <a:ext cx="225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03520" y="2962440"/>
            <a:ext cx="63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638720" y="27464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Monotype Corsiva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1684440" y="3465360"/>
            <a:ext cx="50472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612800" y="3610080"/>
            <a:ext cx="5050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1612800" y="3754440"/>
            <a:ext cx="5050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398240" y="3754440"/>
            <a:ext cx="5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3962520" y="2438280"/>
            <a:ext cx="2590560" cy="2133720"/>
          </a:xfrm>
          <a:prstGeom prst="ellipse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5041800" y="3157560"/>
            <a:ext cx="1800" cy="85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5041800" y="3013200"/>
            <a:ext cx="730440" cy="5490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5402160" y="3086280"/>
            <a:ext cx="180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319040" y="5041800"/>
            <a:ext cx="1865520" cy="11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1600200" y="5334120"/>
            <a:ext cx="1306440" cy="63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905120" y="5486400"/>
            <a:ext cx="745920" cy="2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5135400" y="4929120"/>
            <a:ext cx="576360" cy="136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 flipH="1">
            <a:off x="4487400" y="5000760"/>
            <a:ext cx="64764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4630680" y="5648400"/>
            <a:ext cx="12254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 rot="17409600">
            <a:off x="4601160" y="4999680"/>
            <a:ext cx="573120" cy="936360"/>
          </a:xfrm>
          <a:custGeom>
            <a:avLst/>
            <a:gdLst>
              <a:gd name="textAreaLeft" fmla="*/ 0 w 573120"/>
              <a:gd name="textAreaRight" fmla="*/ 573480 w 573120"/>
              <a:gd name="textAreaTop" fmla="*/ 0 h 936360"/>
              <a:gd name="textAreaBottom" fmla="*/ 334440 h 936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6996240" y="463536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7240320" y="51055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1960" y="3048120"/>
            <a:ext cx="27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плат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4267800" y="3124080"/>
            <a:ext cx="22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992520" y="502920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656160" y="4952880"/>
            <a:ext cx="29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тмосф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рку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6581520" y="4876920"/>
            <a:ext cx="25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аванны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редколес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6320" y="2133720"/>
            <a:ext cx="8984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орный конспект – система опорных сигналов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аткого условного конспек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яющего собой нагляд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рукцию, замещающего систему фак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нятий, идей как взаимосвязанных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й части учеб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5720" y="22860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И размещены не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4267080" y="609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822040" y="10666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тон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19320" y="1905120"/>
            <a:ext cx="701028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2286000"/>
            <a:ext cx="380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8080" y="1905120"/>
            <a:ext cx="34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080" y="4800600"/>
            <a:ext cx="34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447920" y="198108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981080" y="2819520"/>
            <a:ext cx="351000" cy="936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1549080" y="2286000"/>
            <a:ext cx="774720" cy="1037880"/>
            <a:chOff x="1549080" y="2286000"/>
            <a:chExt cx="774720" cy="1037880"/>
          </a:xfrm>
        </p:grpSpPr>
        <p:sp>
          <p:nvSpPr>
            <p:cNvPr id="99" name="Text Box 12"/>
            <p:cNvSpPr/>
            <p:nvPr/>
          </p:nvSpPr>
          <p:spPr>
            <a:xfrm>
              <a:off x="1549080" y="2332080"/>
              <a:ext cx="45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3366"/>
                  </a:solidFill>
                  <a:latin typeface="Monotype Corsiva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1823760" y="2743200"/>
              <a:ext cx="4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66"/>
                  </a:solidFill>
                  <a:latin typeface="Arial"/>
                </a:rPr>
                <a:t>+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194040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3366"/>
                  </a:solidFill>
                  <a:latin typeface="Monotype Corsiva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1969200" y="2743200"/>
              <a:ext cx="295200" cy="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16"/>
          <p:cNvSpPr/>
          <p:nvPr/>
        </p:nvSpPr>
        <p:spPr>
          <a:xfrm>
            <a:off x="2514600" y="2590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3124080" y="2438280"/>
            <a:ext cx="38124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124080" y="2438280"/>
            <a:ext cx="0" cy="5335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3200400" y="2514600"/>
            <a:ext cx="228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200400" y="2590920"/>
            <a:ext cx="228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1"/>
          <p:cNvGrpSpPr/>
          <p:nvPr/>
        </p:nvGrpSpPr>
        <p:grpSpPr>
          <a:xfrm>
            <a:off x="1219320" y="3962520"/>
            <a:ext cx="7010280" cy="761760"/>
            <a:chOff x="1219320" y="3962520"/>
            <a:chExt cx="7010280" cy="761760"/>
          </a:xfrm>
        </p:grpSpPr>
        <p:sp>
          <p:nvSpPr>
            <p:cNvPr id="109" name="Line 22"/>
            <p:cNvSpPr/>
            <p:nvPr/>
          </p:nvSpPr>
          <p:spPr>
            <a:xfrm>
              <a:off x="1219320" y="47242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3"/>
            <p:cNvSpPr/>
            <p:nvPr/>
          </p:nvSpPr>
          <p:spPr>
            <a:xfrm>
              <a:off x="1905120" y="396252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"/>
            <p:cNvSpPr/>
            <p:nvPr/>
          </p:nvSpPr>
          <p:spPr>
            <a:xfrm>
              <a:off x="2971800" y="396252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419112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510552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609588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28"/>
          <p:cNvSpPr/>
          <p:nvPr/>
        </p:nvSpPr>
        <p:spPr>
          <a:xfrm rot="16704600">
            <a:off x="437040" y="36043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 rot="16704600">
            <a:off x="7107840" y="37911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ь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0"/>
          <p:cNvGrpSpPr/>
          <p:nvPr/>
        </p:nvGrpSpPr>
        <p:grpSpPr>
          <a:xfrm>
            <a:off x="6781680" y="2057400"/>
            <a:ext cx="1269360" cy="642600"/>
            <a:chOff x="6781680" y="2057400"/>
            <a:chExt cx="1269360" cy="642600"/>
          </a:xfrm>
        </p:grpSpPr>
        <p:sp>
          <p:nvSpPr>
            <p:cNvPr id="118" name="Freeform 31"/>
            <p:cNvSpPr/>
            <p:nvPr/>
          </p:nvSpPr>
          <p:spPr>
            <a:xfrm>
              <a:off x="6781680" y="2057400"/>
              <a:ext cx="1219320" cy="457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68" h="288">
                  <a:moveTo>
                    <a:pt x="0" y="288"/>
                  </a:moveTo>
                  <a:lnTo>
                    <a:pt x="288" y="288"/>
                  </a:lnTo>
                  <a:lnTo>
                    <a:pt x="528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2"/>
            <p:cNvSpPr/>
            <p:nvPr/>
          </p:nvSpPr>
          <p:spPr>
            <a:xfrm>
              <a:off x="7467840" y="2057400"/>
              <a:ext cx="58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3"/>
          <p:cNvSpPr/>
          <p:nvPr/>
        </p:nvSpPr>
        <p:spPr>
          <a:xfrm>
            <a:off x="5253840" y="19810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гматическ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4"/>
          <p:cNvSpPr/>
          <p:nvPr/>
        </p:nvSpPr>
        <p:spPr>
          <a:xfrm>
            <a:off x="4800600" y="2514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5014800" y="2449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4263120" y="2819520"/>
            <a:ext cx="38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.мет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инляндия, Норв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340160" y="3200400"/>
            <a:ext cx="31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ь!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ьш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-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-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8"/>
          <p:cNvSpPr/>
          <p:nvPr/>
        </p:nvSpPr>
        <p:spPr>
          <a:xfrm>
            <a:off x="1523880" y="548640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0" h="480">
                <a:moveTo>
                  <a:pt x="0" y="480"/>
                </a:moveTo>
                <a:lnTo>
                  <a:pt x="192" y="48"/>
                </a:lnTo>
                <a:lnTo>
                  <a:pt x="384" y="480"/>
                </a:lnTo>
                <a:lnTo>
                  <a:pt x="288" y="240"/>
                </a:lnTo>
                <a:lnTo>
                  <a:pt x="480" y="0"/>
                </a:lnTo>
                <a:lnTo>
                  <a:pt x="720" y="48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2439360" y="502920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уд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861720" y="4888080"/>
            <a:ext cx="34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ая территори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н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1"/>
          <p:cNvGrpSpPr/>
          <p:nvPr/>
        </p:nvGrpSpPr>
        <p:grpSpPr>
          <a:xfrm>
            <a:off x="3298320" y="5562360"/>
            <a:ext cx="718200" cy="734040"/>
            <a:chOff x="3298320" y="5562360"/>
            <a:chExt cx="718200" cy="734040"/>
          </a:xfrm>
        </p:grpSpPr>
        <p:sp>
          <p:nvSpPr>
            <p:cNvPr id="129" name="AutoShape 42"/>
            <p:cNvSpPr/>
            <p:nvPr/>
          </p:nvSpPr>
          <p:spPr>
            <a:xfrm flipV="1">
              <a:off x="3733920" y="5562000"/>
              <a:ext cx="228600" cy="304920"/>
            </a:xfrm>
            <a:custGeom>
              <a:avLst/>
              <a:gdLst>
                <a:gd name="textAreaLeft" fmla="*/ 47520 w 228600"/>
                <a:gd name="textAreaRight" fmla="*/ 181080 w 22860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3"/>
            <p:cNvSpPr/>
            <p:nvPr/>
          </p:nvSpPr>
          <p:spPr>
            <a:xfrm flipV="1">
              <a:off x="3352680" y="5562000"/>
              <a:ext cx="228600" cy="304920"/>
            </a:xfrm>
            <a:custGeom>
              <a:avLst/>
              <a:gdLst>
                <a:gd name="textAreaLeft" fmla="*/ 47520 w 228600"/>
                <a:gd name="textAreaRight" fmla="*/ 181080 w 22860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44"/>
            <p:cNvSpPr/>
            <p:nvPr/>
          </p:nvSpPr>
          <p:spPr>
            <a:xfrm rot="7144800">
              <a:off x="3466800" y="5676480"/>
              <a:ext cx="380880" cy="6098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45"/>
          <p:cNvSpPr/>
          <p:nvPr/>
        </p:nvSpPr>
        <p:spPr>
          <a:xfrm>
            <a:off x="4114080" y="5562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Румы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6"/>
          <p:cNvSpPr/>
          <p:nvPr/>
        </p:nvSpPr>
        <p:spPr>
          <a:xfrm flipH="1">
            <a:off x="3504960" y="61722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7"/>
          <p:cNvGrpSpPr/>
          <p:nvPr/>
        </p:nvGrpSpPr>
        <p:grpSpPr>
          <a:xfrm>
            <a:off x="3504960" y="6172200"/>
            <a:ext cx="228960" cy="228600"/>
            <a:chOff x="3504960" y="6172200"/>
            <a:chExt cx="228960" cy="228600"/>
          </a:xfrm>
        </p:grpSpPr>
        <p:sp>
          <p:nvSpPr>
            <p:cNvPr id="135" name="Rectangle 48"/>
            <p:cNvSpPr/>
            <p:nvPr/>
          </p:nvSpPr>
          <p:spPr>
            <a:xfrm>
              <a:off x="35053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9"/>
            <p:cNvSpPr/>
            <p:nvPr/>
          </p:nvSpPr>
          <p:spPr>
            <a:xfrm flipH="1">
              <a:off x="3581280" y="62485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 flipH="1">
              <a:off x="3504960" y="61722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51"/>
          <p:cNvSpPr/>
          <p:nvPr/>
        </p:nvSpPr>
        <p:spPr>
          <a:xfrm>
            <a:off x="3810240" y="60958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Бо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2"/>
          <p:cNvSpPr/>
          <p:nvPr/>
        </p:nvSpPr>
        <p:spPr>
          <a:xfrm>
            <a:off x="5337720" y="60958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изкое ка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3"/>
          <p:cNvSpPr/>
          <p:nvPr/>
        </p:nvSpPr>
        <p:spPr>
          <a:xfrm flipV="1">
            <a:off x="685800" y="1065960"/>
            <a:ext cx="228600" cy="381240"/>
          </a:xfrm>
          <a:custGeom>
            <a:avLst/>
            <a:gdLst>
              <a:gd name="textAreaLeft" fmla="*/ 47520 w 228600"/>
              <a:gd name="textAreaRight" fmla="*/ 181080 w 2286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4"/>
          <p:cNvSpPr/>
          <p:nvPr/>
        </p:nvSpPr>
        <p:spPr>
          <a:xfrm flipV="1">
            <a:off x="990720" y="1065960"/>
            <a:ext cx="228600" cy="381240"/>
          </a:xfrm>
          <a:custGeom>
            <a:avLst/>
            <a:gdLst>
              <a:gd name="textAreaLeft" fmla="*/ 47520 w 228600"/>
              <a:gd name="textAreaRight" fmla="*/ 181080 w 2286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5"/>
          <p:cNvSpPr/>
          <p:nvPr/>
        </p:nvSpPr>
        <p:spPr>
          <a:xfrm>
            <a:off x="4320" y="14479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оморский 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 2"/>
          <p:cNvSpPr/>
          <p:nvPr/>
        </p:nvSpPr>
        <p:spPr>
          <a:xfrm>
            <a:off x="395280" y="4365720"/>
            <a:ext cx="720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3528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1116000" y="4653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1763640" y="659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1332000" y="4292640"/>
            <a:ext cx="36036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1692360" y="4292640"/>
            <a:ext cx="21564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1763640" y="4365360"/>
            <a:ext cx="144360" cy="21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908000" y="4365720"/>
            <a:ext cx="21600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2050920" y="4437000"/>
            <a:ext cx="144720" cy="21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2195640" y="4437000"/>
            <a:ext cx="215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 flipV="1">
            <a:off x="1258920" y="4292280"/>
            <a:ext cx="647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 flipV="1">
            <a:off x="1476360" y="4436640"/>
            <a:ext cx="57636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1619280" y="4508640"/>
            <a:ext cx="57636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V="1">
            <a:off x="1835280" y="4581360"/>
            <a:ext cx="504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1334160" y="51354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1692360" y="5445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1116000" y="5661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 . М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1187280" y="6021360"/>
            <a:ext cx="287640" cy="1443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476360" y="595008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«АНТА»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МЕД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1" descr="больш"/>
          <p:cNvPicPr/>
          <p:nvPr/>
        </p:nvPicPr>
        <p:blipFill>
          <a:blip r:embed="rId1"/>
          <a:stretch/>
        </p:blipFill>
        <p:spPr>
          <a:xfrm>
            <a:off x="2484360" y="450864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163" name="Line 22"/>
          <p:cNvSpPr/>
          <p:nvPr/>
        </p:nvSpPr>
        <p:spPr>
          <a:xfrm flipV="1">
            <a:off x="3203640" y="3933720"/>
            <a:ext cx="0" cy="790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3708360" y="4292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H="1">
            <a:off x="3779640" y="4292640"/>
            <a:ext cx="21564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780000" y="4581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3708360" y="4581360"/>
            <a:ext cx="2872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9640" y="436572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8"/>
          <p:cNvSpPr/>
          <p:nvPr/>
        </p:nvSpPr>
        <p:spPr>
          <a:xfrm>
            <a:off x="4211640" y="4437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9"/>
          <p:cNvSpPr/>
          <p:nvPr/>
        </p:nvSpPr>
        <p:spPr>
          <a:xfrm>
            <a:off x="4716360" y="4221000"/>
            <a:ext cx="719280" cy="64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0"/>
          <p:cNvSpPr/>
          <p:nvPr/>
        </p:nvSpPr>
        <p:spPr>
          <a:xfrm>
            <a:off x="543564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1"/>
          <p:cNvSpPr/>
          <p:nvPr/>
        </p:nvSpPr>
        <p:spPr>
          <a:xfrm>
            <a:off x="28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5651640" y="4292640"/>
            <a:ext cx="1873080" cy="36036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16" h="326">
                <a:moveTo>
                  <a:pt x="0" y="8"/>
                </a:moveTo>
                <a:cubicBezTo>
                  <a:pt x="68" y="167"/>
                  <a:pt x="136" y="326"/>
                  <a:pt x="227" y="326"/>
                </a:cubicBezTo>
                <a:cubicBezTo>
                  <a:pt x="318" y="326"/>
                  <a:pt x="446" y="16"/>
                  <a:pt x="544" y="8"/>
                </a:cubicBezTo>
                <a:cubicBezTo>
                  <a:pt x="642" y="0"/>
                  <a:pt x="771" y="235"/>
                  <a:pt x="816" y="2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5579640" y="3789360"/>
            <a:ext cx="118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Оринок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Амазо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Ла-Плат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>
            <a:off x="6443640" y="4581360"/>
            <a:ext cx="1224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Гвиан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Бразиль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7525440" y="450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.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6"/>
          <p:cNvSpPr/>
          <p:nvPr/>
        </p:nvSpPr>
        <p:spPr>
          <a:xfrm>
            <a:off x="8028000" y="4076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8028000" y="4076640"/>
            <a:ext cx="431640" cy="50472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254">
                <a:moveTo>
                  <a:pt x="3600" y="0"/>
                </a:moveTo>
                <a:arcTo wR="3600" hR="3600" stAng="16200000" swAng="-5400000"/>
                <a:lnTo>
                  <a:pt x="0" y="21654"/>
                </a:lnTo>
                <a:arcTo wR="3600" hR="3600" stAng="10800000" swAng="-5400000"/>
                <a:lnTo>
                  <a:pt x="18000" y="25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8101080" y="4221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8101080" y="4292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0"/>
          <p:cNvSpPr/>
          <p:nvPr/>
        </p:nvSpPr>
        <p:spPr>
          <a:xfrm>
            <a:off x="8101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1"/>
          <p:cNvSpPr/>
          <p:nvPr/>
        </p:nvSpPr>
        <p:spPr>
          <a:xfrm>
            <a:off x="8604360" y="4149720"/>
            <a:ext cx="360360" cy="358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8028000" y="458136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Удобен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Земледел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ещения д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троитель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3"/>
          <p:cNvSpPr/>
          <p:nvPr/>
        </p:nvSpPr>
        <p:spPr>
          <a:xfrm>
            <a:off x="6443640" y="5084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6228720" y="5445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5796000" y="587700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6"/>
          <p:cNvSpPr/>
          <p:nvPr/>
        </p:nvSpPr>
        <p:spPr>
          <a:xfrm>
            <a:off x="6012000" y="5877000"/>
            <a:ext cx="21564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7"/>
          <p:cNvSpPr/>
          <p:nvPr/>
        </p:nvSpPr>
        <p:spPr>
          <a:xfrm flipH="1" rot="5400000">
            <a:off x="6371640" y="58766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8"/>
          <p:cNvSpPr/>
          <p:nvPr/>
        </p:nvSpPr>
        <p:spPr>
          <a:xfrm rot="16200000">
            <a:off x="6516720" y="58766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9"/>
          <p:cNvSpPr/>
          <p:nvPr/>
        </p:nvSpPr>
        <p:spPr>
          <a:xfrm flipV="1">
            <a:off x="6877080" y="5805360"/>
            <a:ext cx="142920" cy="216000"/>
          </a:xfrm>
          <a:custGeom>
            <a:avLst/>
            <a:gdLst>
              <a:gd name="textAreaLeft" fmla="*/ 29520 w 142920"/>
              <a:gd name="textAreaRight" fmla="*/ 113400 w 142920"/>
              <a:gd name="textAreaTop" fmla="*/ 45000 h 216000"/>
              <a:gd name="textAreaBottom" fmla="*/ 171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0"/>
          <p:cNvSpPr/>
          <p:nvPr/>
        </p:nvSpPr>
        <p:spPr>
          <a:xfrm flipV="1">
            <a:off x="7093080" y="5805360"/>
            <a:ext cx="142920" cy="216000"/>
          </a:xfrm>
          <a:custGeom>
            <a:avLst/>
            <a:gdLst>
              <a:gd name="textAreaLeft" fmla="*/ 29520 w 142920"/>
              <a:gd name="textAreaRight" fmla="*/ 113400 w 142920"/>
              <a:gd name="textAreaTop" fmla="*/ 45000 h 216000"/>
              <a:gd name="textAreaBottom" fmla="*/ 171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1"/>
          <p:cNvSpPr/>
          <p:nvPr/>
        </p:nvSpPr>
        <p:spPr>
          <a:xfrm>
            <a:off x="7308720" y="5734080"/>
            <a:ext cx="360360" cy="288720"/>
          </a:xfrm>
          <a:custGeom>
            <a:avLst/>
            <a:gdLst>
              <a:gd name="textAreaLeft" fmla="*/ 82080 w 360360"/>
              <a:gd name="textAreaRight" fmla="*/ 278280 w 360360"/>
              <a:gd name="textAreaTop" fmla="*/ 65880 h 288720"/>
              <a:gd name="textAreaBottom" fmla="*/ 22284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7451640" y="58053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3" descr="2 часы"/>
          <p:cNvPicPr/>
          <p:nvPr/>
        </p:nvPicPr>
        <p:blipFill>
          <a:blip r:embed="rId2"/>
          <a:stretch/>
        </p:blipFill>
        <p:spPr>
          <a:xfrm>
            <a:off x="2340000" y="404640"/>
            <a:ext cx="3456000" cy="2159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4"/>
          <p:cNvSpPr/>
          <p:nvPr/>
        </p:nvSpPr>
        <p:spPr>
          <a:xfrm>
            <a:off x="5613480" y="1341360"/>
            <a:ext cx="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5796000" y="1484280"/>
            <a:ext cx="2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5942160" y="1628640"/>
            <a:ext cx="34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6084720" y="19890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6084720" y="19162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5940360" y="1916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 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0"/>
          <p:cNvSpPr/>
          <p:nvPr/>
        </p:nvSpPr>
        <p:spPr>
          <a:xfrm>
            <a:off x="4716360" y="9079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1"/>
          <p:cNvSpPr/>
          <p:nvPr/>
        </p:nvSpPr>
        <p:spPr>
          <a:xfrm>
            <a:off x="500364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2"/>
          <p:cNvSpPr/>
          <p:nvPr/>
        </p:nvSpPr>
        <p:spPr>
          <a:xfrm>
            <a:off x="4859280" y="177336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3"/>
          <p:cNvSpPr/>
          <p:nvPr/>
        </p:nvSpPr>
        <p:spPr>
          <a:xfrm>
            <a:off x="6012000" y="9079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4"/>
          <p:cNvSpPr/>
          <p:nvPr/>
        </p:nvSpPr>
        <p:spPr>
          <a:xfrm>
            <a:off x="3564000" y="2349360"/>
            <a:ext cx="1512720" cy="1366920"/>
          </a:xfrm>
          <a:prstGeom prst="flowChartMerg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oor"/>
          <p:cNvSpPr/>
          <p:nvPr/>
        </p:nvSpPr>
        <p:spPr>
          <a:xfrm>
            <a:off x="3708360" y="2421000"/>
            <a:ext cx="92160" cy="144360"/>
          </a:xfrm>
          <a:custGeom>
            <a:avLst/>
            <a:gdLst>
              <a:gd name="textAreaLeft" fmla="*/ 11160 w 92160"/>
              <a:gd name="textAreaRight" fmla="*/ 57240 w 9216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or"/>
          <p:cNvSpPr/>
          <p:nvPr/>
        </p:nvSpPr>
        <p:spPr>
          <a:xfrm>
            <a:off x="3780000" y="2492280"/>
            <a:ext cx="164880" cy="14472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720"/>
              <a:gd name="textAreaBottom" fmla="*/ 135000 h 1447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or"/>
          <p:cNvSpPr/>
          <p:nvPr/>
        </p:nvSpPr>
        <p:spPr>
          <a:xfrm>
            <a:off x="3780000" y="263700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oor"/>
          <p:cNvSpPr/>
          <p:nvPr/>
        </p:nvSpPr>
        <p:spPr>
          <a:xfrm>
            <a:off x="3924360" y="270828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or"/>
          <p:cNvSpPr/>
          <p:nvPr/>
        </p:nvSpPr>
        <p:spPr>
          <a:xfrm>
            <a:off x="3995640" y="2924280"/>
            <a:ext cx="165240" cy="144360"/>
          </a:xfrm>
          <a:custGeom>
            <a:avLst/>
            <a:gdLst>
              <a:gd name="textAreaLeft" fmla="*/ 20160 w 165240"/>
              <a:gd name="textAreaRight" fmla="*/ 102600 w 16524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oor"/>
          <p:cNvSpPr/>
          <p:nvPr/>
        </p:nvSpPr>
        <p:spPr>
          <a:xfrm>
            <a:off x="3995640" y="2997360"/>
            <a:ext cx="165240" cy="144360"/>
          </a:xfrm>
          <a:custGeom>
            <a:avLst/>
            <a:gdLst>
              <a:gd name="textAreaLeft" fmla="*/ 20160 w 165240"/>
              <a:gd name="textAreaRight" fmla="*/ 102600 w 16524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oor"/>
          <p:cNvSpPr/>
          <p:nvPr/>
        </p:nvSpPr>
        <p:spPr>
          <a:xfrm>
            <a:off x="4140360" y="314172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oor"/>
          <p:cNvSpPr/>
          <p:nvPr/>
        </p:nvSpPr>
        <p:spPr>
          <a:xfrm>
            <a:off x="4140360" y="328464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3"/>
          <p:cNvSpPr/>
          <p:nvPr/>
        </p:nvSpPr>
        <p:spPr>
          <a:xfrm>
            <a:off x="4284720" y="2492280"/>
            <a:ext cx="0" cy="649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4"/>
          <p:cNvSpPr/>
          <p:nvPr/>
        </p:nvSpPr>
        <p:spPr>
          <a:xfrm>
            <a:off x="4284720" y="2492280"/>
            <a:ext cx="431640" cy="36036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4427640" y="2637000"/>
            <a:ext cx="21564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4427640" y="2708280"/>
            <a:ext cx="215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7"/>
          <p:cNvSpPr/>
          <p:nvPr/>
        </p:nvSpPr>
        <p:spPr>
          <a:xfrm>
            <a:off x="4427640" y="2781360"/>
            <a:ext cx="215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8"/>
          <p:cNvSpPr/>
          <p:nvPr/>
        </p:nvSpPr>
        <p:spPr>
          <a:xfrm>
            <a:off x="6012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9"/>
          <p:cNvSpPr/>
          <p:nvPr/>
        </p:nvSpPr>
        <p:spPr>
          <a:xfrm>
            <a:off x="6012000" y="2205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0"/>
          <p:cNvSpPr/>
          <p:nvPr/>
        </p:nvSpPr>
        <p:spPr>
          <a:xfrm flipH="1">
            <a:off x="4788000" y="2924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1"/>
          <p:cNvSpPr/>
          <p:nvPr/>
        </p:nvSpPr>
        <p:spPr>
          <a:xfrm>
            <a:off x="2556000" y="1484280"/>
            <a:ext cx="504720" cy="792360"/>
          </a:xfrm>
          <a:prstGeom prst="flowChartTerminator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or"/>
          <p:cNvSpPr/>
          <p:nvPr/>
        </p:nvSpPr>
        <p:spPr>
          <a:xfrm>
            <a:off x="2627280" y="1700280"/>
            <a:ext cx="216000" cy="144360"/>
          </a:xfrm>
          <a:custGeom>
            <a:avLst/>
            <a:gdLst>
              <a:gd name="textAreaLeft" fmla="*/ 26640 w 216000"/>
              <a:gd name="textAreaRight" fmla="*/ 133920 w 21600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oor"/>
          <p:cNvSpPr/>
          <p:nvPr/>
        </p:nvSpPr>
        <p:spPr>
          <a:xfrm>
            <a:off x="2843280" y="1700280"/>
            <a:ext cx="216000" cy="144360"/>
          </a:xfrm>
          <a:custGeom>
            <a:avLst/>
            <a:gdLst>
              <a:gd name="textAreaLeft" fmla="*/ 26640 w 216000"/>
              <a:gd name="textAreaRight" fmla="*/ 133920 w 21600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4"/>
          <p:cNvSpPr/>
          <p:nvPr/>
        </p:nvSpPr>
        <p:spPr>
          <a:xfrm flipH="1">
            <a:off x="2842920" y="9079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5"/>
          <p:cNvSpPr/>
          <p:nvPr/>
        </p:nvSpPr>
        <p:spPr>
          <a:xfrm>
            <a:off x="2843280" y="907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6"/>
          <p:cNvSpPr/>
          <p:nvPr/>
        </p:nvSpPr>
        <p:spPr>
          <a:xfrm>
            <a:off x="2843280" y="2276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7"/>
          <p:cNvSpPr/>
          <p:nvPr/>
        </p:nvSpPr>
        <p:spPr>
          <a:xfrm>
            <a:off x="2843280" y="306864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8"/>
          <p:cNvSpPr/>
          <p:nvPr/>
        </p:nvSpPr>
        <p:spPr>
          <a:xfrm>
            <a:off x="3780000" y="306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9"/>
          <p:cNvSpPr/>
          <p:nvPr/>
        </p:nvSpPr>
        <p:spPr>
          <a:xfrm>
            <a:off x="485928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0"/>
          <p:cNvSpPr/>
          <p:nvPr/>
        </p:nvSpPr>
        <p:spPr>
          <a:xfrm>
            <a:off x="4932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1"/>
          <p:cNvSpPr/>
          <p:nvPr/>
        </p:nvSpPr>
        <p:spPr>
          <a:xfrm flipH="1">
            <a:off x="493200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2"/>
          <p:cNvSpPr/>
          <p:nvPr/>
        </p:nvSpPr>
        <p:spPr>
          <a:xfrm>
            <a:off x="2700360" y="0"/>
            <a:ext cx="36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Рельеф и полезные ископа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3"/>
          <p:cNvSpPr/>
          <p:nvPr/>
        </p:nvSpPr>
        <p:spPr>
          <a:xfrm>
            <a:off x="1454400" y="38592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! 6960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4"/>
          <p:cNvSpPr/>
          <p:nvPr/>
        </p:nvSpPr>
        <p:spPr>
          <a:xfrm>
            <a:off x="3203640" y="4581360"/>
            <a:ext cx="216000" cy="432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5"/>
          <p:cNvSpPr/>
          <p:nvPr/>
        </p:nvSpPr>
        <p:spPr>
          <a:xfrm>
            <a:off x="29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6"/>
          <p:cNvSpPr/>
          <p:nvPr/>
        </p:nvSpPr>
        <p:spPr>
          <a:xfrm>
            <a:off x="2843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7"/>
          <p:cNvSpPr/>
          <p:nvPr/>
        </p:nvSpPr>
        <p:spPr>
          <a:xfrm flipH="1">
            <a:off x="2626920" y="4581360"/>
            <a:ext cx="289080" cy="432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8"/>
          <p:cNvSpPr/>
          <p:nvPr/>
        </p:nvSpPr>
        <p:spPr>
          <a:xfrm>
            <a:off x="2916360" y="4508640"/>
            <a:ext cx="287280" cy="14436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Группа 1"/>
          <p:cNvGrpSpPr/>
          <p:nvPr/>
        </p:nvGrpSpPr>
        <p:grpSpPr>
          <a:xfrm>
            <a:off x="285840" y="1428840"/>
            <a:ext cx="1212840" cy="1500120"/>
            <a:chOff x="285840" y="1428840"/>
            <a:chExt cx="1212840" cy="1500120"/>
          </a:xfrm>
        </p:grpSpPr>
        <p:sp>
          <p:nvSpPr>
            <p:cNvPr id="241" name="Line 33"/>
            <p:cNvSpPr/>
            <p:nvPr/>
          </p:nvSpPr>
          <p:spPr>
            <a:xfrm>
              <a:off x="285840" y="1574640"/>
              <a:ext cx="0" cy="13543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4"/>
            <p:cNvSpPr/>
            <p:nvPr/>
          </p:nvSpPr>
          <p:spPr>
            <a:xfrm>
              <a:off x="303840" y="1428840"/>
              <a:ext cx="1194840" cy="99756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428400" y="171432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8"/>
            <p:cNvSpPr/>
            <p:nvPr/>
          </p:nvSpPr>
          <p:spPr>
            <a:xfrm>
              <a:off x="428400" y="200016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9"/>
            <p:cNvSpPr/>
            <p:nvPr/>
          </p:nvSpPr>
          <p:spPr>
            <a:xfrm>
              <a:off x="474120" y="228636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6"/>
          <p:cNvGrpSpPr/>
          <p:nvPr/>
        </p:nvGrpSpPr>
        <p:grpSpPr>
          <a:xfrm>
            <a:off x="2714760" y="1428840"/>
            <a:ext cx="1212840" cy="1500120"/>
            <a:chOff x="2714760" y="1428840"/>
            <a:chExt cx="1212840" cy="1500120"/>
          </a:xfrm>
        </p:grpSpPr>
        <p:grpSp>
          <p:nvGrpSpPr>
            <p:cNvPr id="247" name="Группа 15"/>
            <p:cNvGrpSpPr/>
            <p:nvPr/>
          </p:nvGrpSpPr>
          <p:grpSpPr>
            <a:xfrm>
              <a:off x="2714760" y="1428840"/>
              <a:ext cx="1212840" cy="1500120"/>
              <a:chOff x="2714760" y="1428840"/>
              <a:chExt cx="1212840" cy="1500120"/>
            </a:xfrm>
          </p:grpSpPr>
          <p:sp>
            <p:nvSpPr>
              <p:cNvPr id="248" name="Line 33"/>
              <p:cNvSpPr/>
              <p:nvPr/>
            </p:nvSpPr>
            <p:spPr>
              <a:xfrm>
                <a:off x="2714760" y="1574640"/>
                <a:ext cx="0" cy="1354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4"/>
              <p:cNvSpPr/>
              <p:nvPr/>
            </p:nvSpPr>
            <p:spPr>
              <a:xfrm>
                <a:off x="2732760" y="1428840"/>
                <a:ext cx="1194840" cy="997560"/>
              </a:xfrm>
              <a:prstGeom prst="flowChartAlternateProcess">
                <a:avLst/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36"/>
              <p:cNvSpPr/>
              <p:nvPr/>
            </p:nvSpPr>
            <p:spPr>
              <a:xfrm>
                <a:off x="2777040" y="150408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42"/>
            <p:cNvSpPr/>
            <p:nvPr/>
          </p:nvSpPr>
          <p:spPr>
            <a:xfrm>
              <a:off x="2857320" y="1785960"/>
              <a:ext cx="857160" cy="341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62" h="590">
                  <a:moveTo>
                    <a:pt x="0" y="590"/>
                  </a:moveTo>
                  <a:lnTo>
                    <a:pt x="182" y="272"/>
                  </a:lnTo>
                  <a:lnTo>
                    <a:pt x="363" y="590"/>
                  </a:lnTo>
                  <a:lnTo>
                    <a:pt x="227" y="318"/>
                  </a:lnTo>
                  <a:lnTo>
                    <a:pt x="363" y="136"/>
                  </a:lnTo>
                  <a:lnTo>
                    <a:pt x="590" y="544"/>
                  </a:lnTo>
                  <a:lnTo>
                    <a:pt x="409" y="227"/>
                  </a:lnTo>
                  <a:lnTo>
                    <a:pt x="545" y="0"/>
                  </a:lnTo>
                  <a:lnTo>
                    <a:pt x="862" y="499"/>
                  </a:lnTo>
                </a:path>
              </a:pathLst>
            </a:custGeom>
            <a:solidFill>
              <a:srgbClr val="cc66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Полилиния 24"/>
          <p:cNvSpPr/>
          <p:nvPr/>
        </p:nvSpPr>
        <p:spPr>
          <a:xfrm>
            <a:off x="1714680" y="1643040"/>
            <a:ext cx="807840" cy="1050840"/>
          </a:xfrm>
          <a:custGeom>
            <a:avLst/>
            <a:gdLst/>
            <a:ahLst/>
            <a:rect l="l" t="t" r="r" b="b"/>
            <a:pathLst>
              <a:path w="807720" h="1051560">
                <a:moveTo>
                  <a:pt x="0" y="0"/>
                </a:moveTo>
                <a:lnTo>
                  <a:pt x="807720" y="396240"/>
                </a:lnTo>
                <a:lnTo>
                  <a:pt x="121920" y="10515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99"/>
          <p:cNvGrpSpPr/>
          <p:nvPr/>
        </p:nvGrpSpPr>
        <p:grpSpPr>
          <a:xfrm>
            <a:off x="0" y="3357720"/>
            <a:ext cx="1254240" cy="1617840"/>
            <a:chOff x="0" y="3357720"/>
            <a:chExt cx="1254240" cy="1617840"/>
          </a:xfrm>
        </p:grpSpPr>
        <p:sp>
          <p:nvSpPr>
            <p:cNvPr id="254" name="Line 19"/>
            <p:cNvSpPr/>
            <p:nvPr/>
          </p:nvSpPr>
          <p:spPr>
            <a:xfrm>
              <a:off x="593640" y="4170960"/>
              <a:ext cx="33372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98"/>
            <p:cNvGrpSpPr/>
            <p:nvPr/>
          </p:nvGrpSpPr>
          <p:grpSpPr>
            <a:xfrm>
              <a:off x="0" y="3357720"/>
              <a:ext cx="1254240" cy="1617840"/>
              <a:chOff x="0" y="3357720"/>
              <a:chExt cx="1254240" cy="1617840"/>
            </a:xfrm>
          </p:grpSpPr>
          <p:sp>
            <p:nvSpPr>
              <p:cNvPr id="256" name="Text Box 17"/>
              <p:cNvSpPr/>
              <p:nvPr/>
            </p:nvSpPr>
            <p:spPr>
              <a:xfrm>
                <a:off x="593640" y="3727080"/>
                <a:ext cx="29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0033"/>
                    </a:solidFill>
                    <a:latin typeface="Monotype Corsiva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Group 97"/>
              <p:cNvGrpSpPr/>
              <p:nvPr/>
            </p:nvGrpSpPr>
            <p:grpSpPr>
              <a:xfrm>
                <a:off x="0" y="3357720"/>
                <a:ext cx="1254240" cy="1617840"/>
                <a:chOff x="0" y="3357720"/>
                <a:chExt cx="1254240" cy="1617840"/>
              </a:xfrm>
            </p:grpSpPr>
            <p:sp>
              <p:nvSpPr>
                <p:cNvPr id="258" name="Line 18"/>
                <p:cNvSpPr/>
                <p:nvPr/>
              </p:nvSpPr>
              <p:spPr>
                <a:xfrm>
                  <a:off x="593640" y="4096800"/>
                  <a:ext cx="334080" cy="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15"/>
                <p:cNvSpPr/>
                <p:nvPr/>
              </p:nvSpPr>
              <p:spPr>
                <a:xfrm>
                  <a:off x="0" y="3357720"/>
                  <a:ext cx="1254240" cy="161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0" spc="-1" strike="noStrike">
                      <a:solidFill>
                        <a:srgbClr val="990033"/>
                      </a:solidFill>
                      <a:latin typeface="Monotype Corsiva"/>
                    </a:rPr>
                    <a:t>Д</a:t>
                  </a:r>
                  <a:endParaRPr b="0" lang="en-US" sz="10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Text Box 16"/>
                <p:cNvSpPr/>
                <p:nvPr/>
              </p:nvSpPr>
              <p:spPr>
                <a:xfrm>
                  <a:off x="148320" y="3801240"/>
                  <a:ext cx="37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990033"/>
                      </a:solidFill>
                      <a:latin typeface="Monotype Corsiva"/>
                    </a:rPr>
                    <a:t>д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21"/>
                <p:cNvSpPr/>
                <p:nvPr/>
              </p:nvSpPr>
              <p:spPr>
                <a:xfrm>
                  <a:off x="445320" y="4096800"/>
                  <a:ext cx="7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33"/>
                      </a:solidFill>
                      <a:latin typeface="Arial"/>
                    </a:rPr>
                    <a:t>+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262" name="Прямая со стрелкой 35"/>
          <p:cNvCxnSpPr/>
          <p:nvPr/>
        </p:nvCxnSpPr>
        <p:spPr>
          <a:xfrm>
            <a:off x="1213920" y="4142880"/>
            <a:ext cx="1018440" cy="118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3" name="Freeform 42"/>
          <p:cNvSpPr/>
          <p:nvPr/>
        </p:nvSpPr>
        <p:spPr>
          <a:xfrm>
            <a:off x="2357280" y="3714840"/>
            <a:ext cx="1357560" cy="642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862" h="590">
                <a:moveTo>
                  <a:pt x="0" y="590"/>
                </a:moveTo>
                <a:lnTo>
                  <a:pt x="182" y="272"/>
                </a:lnTo>
                <a:lnTo>
                  <a:pt x="363" y="590"/>
                </a:lnTo>
                <a:lnTo>
                  <a:pt x="227" y="318"/>
                </a:lnTo>
                <a:lnTo>
                  <a:pt x="363" y="136"/>
                </a:lnTo>
                <a:lnTo>
                  <a:pt x="590" y="544"/>
                </a:lnTo>
                <a:lnTo>
                  <a:pt x="409" y="227"/>
                </a:lnTo>
                <a:lnTo>
                  <a:pt x="545" y="0"/>
                </a:lnTo>
                <a:lnTo>
                  <a:pt x="862" y="499"/>
                </a:lnTo>
              </a:path>
            </a:pathLst>
          </a:custGeom>
          <a:solidFill>
            <a:srgbClr val="cc66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37"/>
          <p:cNvCxnSpPr/>
          <p:nvPr/>
        </p:nvCxnSpPr>
        <p:spPr>
          <a:xfrm>
            <a:off x="3714480" y="4142880"/>
            <a:ext cx="857880" cy="2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5" name="TextBox 39"/>
          <p:cNvSpPr/>
          <p:nvPr/>
        </p:nvSpPr>
        <p:spPr>
          <a:xfrm>
            <a:off x="4496040" y="357192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ели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фрикан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зл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Прямая со стрелкой 41"/>
          <p:cNvCxnSpPr/>
          <p:nvPr/>
        </p:nvCxnSpPr>
        <p:spPr>
          <a:xfrm flipH="1">
            <a:off x="713520" y="2714760"/>
            <a:ext cx="252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Прямая со стрелкой 42"/>
          <p:cNvCxnSpPr/>
          <p:nvPr/>
        </p:nvCxnSpPr>
        <p:spPr>
          <a:xfrm flipV="1">
            <a:off x="857160" y="856440"/>
            <a:ext cx="8640" cy="5007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68" name="Прямая со стрелкой 44"/>
          <p:cNvCxnSpPr/>
          <p:nvPr/>
        </p:nvCxnSpPr>
        <p:spPr>
          <a:xfrm>
            <a:off x="4071960" y="2071800"/>
            <a:ext cx="643320" cy="21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9" name="TextBox 47"/>
          <p:cNvSpPr/>
          <p:nvPr/>
        </p:nvSpPr>
        <p:spPr>
          <a:xfrm>
            <a:off x="358200" y="285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8"/>
          <p:cNvSpPr/>
          <p:nvPr/>
        </p:nvSpPr>
        <p:spPr>
          <a:xfrm>
            <a:off x="4773600" y="178596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Соединительная линия уступом 53"/>
          <p:cNvCxnSpPr/>
          <p:nvPr/>
        </p:nvCxnSpPr>
        <p:spPr>
          <a:xfrm flipH="1" rot="16200000">
            <a:off x="6249960" y="2892960"/>
            <a:ext cx="3000960" cy="786600"/>
          </a:xfrm>
          <a:prstGeom prst="bentConnector3">
            <a:avLst>
              <a:gd name="adj1" fmla="val 49994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2" name="TextBox 54"/>
          <p:cNvSpPr/>
          <p:nvPr/>
        </p:nvSpPr>
        <p:spPr>
          <a:xfrm>
            <a:off x="7236720" y="4929120"/>
            <a:ext cx="165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-133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падин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т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гипет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5"/>
          <p:cNvSpPr/>
          <p:nvPr/>
        </p:nvSpPr>
        <p:spPr>
          <a:xfrm>
            <a:off x="6112800" y="0"/>
            <a:ext cx="284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89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ул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лиманджа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нз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авая фигурная скобка 58"/>
          <p:cNvSpPr/>
          <p:nvPr/>
        </p:nvSpPr>
        <p:spPr>
          <a:xfrm rot="5400000">
            <a:off x="3322080" y="1964160"/>
            <a:ext cx="428400" cy="650088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6500880"/>
              <a:gd name="textAreaBottom" fmla="*/ 6489720 h 65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"/>
                  <a:pt x="10800" y="119"/>
                </a:cubicBezTo>
                <a:lnTo>
                  <a:pt x="10800" y="10681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60"/>
                  <a:pt x="10800" y="10919"/>
                </a:cubicBezTo>
                <a:lnTo>
                  <a:pt x="10800" y="21481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0"/>
          <p:cNvSpPr/>
          <p:nvPr/>
        </p:nvSpPr>
        <p:spPr>
          <a:xfrm>
            <a:off x="408960" y="5533920"/>
            <a:ext cx="166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.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Прямая со стрелкой 61"/>
          <p:cNvCxnSpPr/>
          <p:nvPr/>
        </p:nvCxnSpPr>
        <p:spPr>
          <a:xfrm>
            <a:off x="2356920" y="6071760"/>
            <a:ext cx="2644200" cy="2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grpSp>
        <p:nvGrpSpPr>
          <p:cNvPr id="277" name="Группа 15"/>
          <p:cNvGrpSpPr/>
          <p:nvPr/>
        </p:nvGrpSpPr>
        <p:grpSpPr>
          <a:xfrm>
            <a:off x="5429160" y="5572080"/>
            <a:ext cx="606600" cy="1071360"/>
            <a:chOff x="5429160" y="5572080"/>
            <a:chExt cx="606600" cy="1071360"/>
          </a:xfrm>
        </p:grpSpPr>
        <p:sp>
          <p:nvSpPr>
            <p:cNvPr id="278" name="Line 33"/>
            <p:cNvSpPr/>
            <p:nvPr/>
          </p:nvSpPr>
          <p:spPr>
            <a:xfrm>
              <a:off x="5429160" y="5676120"/>
              <a:ext cx="0" cy="96732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34"/>
            <p:cNvSpPr/>
            <p:nvPr/>
          </p:nvSpPr>
          <p:spPr>
            <a:xfrm>
              <a:off x="5438160" y="5572080"/>
              <a:ext cx="597600" cy="712800"/>
            </a:xfrm>
            <a:prstGeom prst="flowChartAlternateProcess">
              <a:avLst/>
            </a:prstGeom>
            <a:solidFill>
              <a:srgbClr val="ffffff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70"/>
          <p:cNvSpPr/>
          <p:nvPr/>
        </p:nvSpPr>
        <p:spPr>
          <a:xfrm>
            <a:off x="2842920" y="5572080"/>
            <a:ext cx="17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 Андреевна</dc:creator>
  <dc:description/>
  <dc:language>en-US</dc:language>
  <cp:lastModifiedBy>тарас</cp:lastModifiedBy>
  <dcterms:modified xsi:type="dcterms:W3CDTF">2018-12-03T14:54:2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