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259-F96B-4E7E-9370-26344010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20D-E253-4EDA-8319-84E144B4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86F-9E07-4F50-9D74-FDCE1082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0A3-B806-45F9-A6A3-5A64CB42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581-47BC-49C5-8FE7-525E8F3A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80C-3544-4ACE-85F6-381D2DDE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0F2-E155-4E1F-AEE3-F36CC1EE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E6C-352B-4946-A9BC-9B640AF5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58C-D786-4C92-8DEB-1F603AB6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298-E79B-44E5-B565-25BF63EB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802-EF34-4303-A88F-61BEDC77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F04-64C9-40AE-955B-09516B31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1869-FD6D-4141-B266-9005E5877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comic"/>
              </a:rPr>
              <a:t>Восстание декабристов 1825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943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реальной жизни получилось совсем инач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86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152280" y="48769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январе началось следствие. Всего по делу проходило 579 человек. Причём следственные комиссии создали во многих полках. Виновными признали 289 человек. Из них 173 человека осудили. Самое жестокое наказание получили 5 заговорщиков: Павел Пестель, Кондратий Рылеев, Сергей Муравьёв-Апостол, Михаил Бестужев-Рюмин и Пётр Каховский. Суд приговорил их к смертной казни четвертованием. Но затем это жуткое наказание было заменено повеш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ледствия восстания 1825 год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23920" y="1066320"/>
            <a:ext cx="4419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очи 14 декабря с волнением было покончено. Многие из активистов восстания были убиты. Сама же Сенатская площадь была усеяна трупами. Государственные архивы предоставляют следующие данные о погибших в тот день с обеих сто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лов –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ицеров штаба –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ицеры разных чинов –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лейбгвардии – 2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ых солдат – 3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щин –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 –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ых людей – 9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й сложности погибло 1270 человек пришедших поглазеть на восст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8005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"/>
              </a:rPr>
              <a:t>Историческое значение движения декабри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age129"/>
          <p:cNvPicPr/>
          <p:nvPr/>
        </p:nvPicPr>
        <p:blipFill>
          <a:blip r:embed="rId1"/>
          <a:stretch/>
        </p:blipFill>
        <p:spPr>
          <a:xfrm>
            <a:off x="304920" y="1219320"/>
            <a:ext cx="2971800" cy="28368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33560" y="1143000"/>
            <a:ext cx="5181480" cy="556272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"/>
              </a:rPr>
              <a:t>Первая открытая попытка дворянских революционеров изменить систему правления в России и отменить крепостное прав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"/>
              </a:rPr>
              <a:t>Выступление декабристов показало обществу наличие глубоких социальных противоречий и необходимость рефор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"/>
              </a:rPr>
              <a:t>Декабристы показали пример бескорыстного служения Отечеству и готовность нести лишения ради блага страны и ее нар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04920" y="4191120"/>
            <a:ext cx="3124080" cy="1677960"/>
          </a:xfrm>
          <a:prstGeom prst="rect">
            <a:avLst/>
          </a:prstGeom>
          <a:solidFill>
            <a:srgbClr val="dddddd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"/>
              </a:rPr>
              <a:t>Мемориальная дос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"/>
              </a:rPr>
              <a:t>на месте казни декабрис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omic"/>
              </a:rPr>
              <a:t>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§ 9(п.2,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р/т №3 стр.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comic"/>
              </a:rPr>
              <a:t>План изучения нового материала: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1.Династический кризи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2. Восстание декабрис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3.Историческое значение и последствия восст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Декабристы  -  кто они – преступники или герои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Kab-30\Рабочий стол\img4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1676160" cy="208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010280" y="4267080"/>
            <a:ext cx="1400400" cy="19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28600" y="1219320"/>
            <a:ext cx="1990800" cy="199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4114800" y="4572000"/>
            <a:ext cx="159084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5"/>
          <a:stretch/>
        </p:blipFill>
        <p:spPr>
          <a:xfrm>
            <a:off x="7238880" y="1600200"/>
            <a:ext cx="1524240" cy="1876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decabristi.jpg"/>
          <p:cNvPicPr/>
          <p:nvPr/>
        </p:nvPicPr>
        <p:blipFill>
          <a:blip r:embed="rId6"/>
          <a:stretch/>
        </p:blipFill>
        <p:spPr>
          <a:xfrm>
            <a:off x="2971800" y="137160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380880" y="228600"/>
            <a:ext cx="81536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екабр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228600" y="3200400"/>
            <a:ext cx="1981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Труб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762120" y="6324480"/>
            <a:ext cx="1676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Г.Ках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4114800" y="6324480"/>
            <a:ext cx="16002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Пес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7010280" y="61722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Ры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7238880" y="3429000"/>
            <a:ext cx="15242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Мурав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2971800" y="3581280"/>
            <a:ext cx="3352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и тайного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5943600"/>
          </a:xfrm>
          <a:prstGeom prst="rect">
            <a:avLst/>
          </a:prstGeom>
          <a:solidFill>
            <a:srgbClr val="dddddd"/>
          </a:solidFill>
          <a:ln w="7632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omic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1) уничтожить прежние формы правл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2) ликвидировать крепостное право, рекрутчин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3) объявить свободу слова, печати, занятий, вероисповед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4) передать власть Временному правительству до всенародного решения о новой форме 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Kab-30\Рабочий стол\28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Kab-30\Рабочий стол\9.4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Kab-30\Рабочий стол\regnum_picture_1528422065202990_norm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кина</dc:creator>
  <dc:description/>
  <dc:language>en-US</dc:language>
  <cp:lastModifiedBy>Пользователь</cp:lastModifiedBy>
  <dcterms:modified xsi:type="dcterms:W3CDTF">2019-03-13T07:09:2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90000000000010250300207f7000400038000</vt:lpwstr>
  </property>
  <property fmtid="{D5CDD505-2E9C-101B-9397-08002B2CF9AE}" pid="3" name="Version">
    <vt:r8>1</vt:r8>
  </property>
</Properties>
</file>