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E65-F0BF-40EE-8857-EE4C1E74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70D-FB09-4E1A-B4C1-F8EB7D82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16C-FFE2-4E60-A5C2-016EB945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CED-65A8-49F5-A66A-5AAE17C7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38C-6C9C-4952-97E0-35B20CFF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CFA-F604-4A35-B67C-F732C12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17E-AE3C-4EC7-9F27-76E4B36F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CDA-9CFD-4DF1-A20A-13C47F0E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0A0-4176-40C1-98E3-A7A3CE63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C4B-2E4D-448F-8EBB-BAB16EF0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DF8-AE7E-430C-9550-3373FD98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AFF-81C0-4D97-A63B-E8DFA10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7F4B-8FC7-43DB-920A-F44827367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omic"/>
              </a:rPr>
              <a:t>Восстание декабристов 1825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943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реальной жизни получилось совсем инач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86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52280" y="4876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нваре началось следствие. Всего по делу проходило 579 человек. Причём следственные комиссии создали во многих полках. Виновными признали 289 человек. Из них 173 человека осудили. Самое жестокое наказание получили 5 заговорщиков: Павел Пестель, Кондратий Рылеев, Сергей Муравьёв-Апостол, Михаил Бестужев-Рюмин и Пётр Каховский. Суд приговорил их к смертной казни четвертованием. Но затем это жуткое наказание было заменено повеш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едствия восстания 1825 го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23920" y="1066320"/>
            <a:ext cx="4419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очи 14 декабря с волнением было покончено. Многие из активистов восстания были убиты. Сама же Сенатская площадь была усеяна трупами. Государственные архивы предоставляют следующие данные о погибших в тот день с обеих сто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лов –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еров штаба –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еры разных чинов –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лейбгвардии – 2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х солдат – 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 –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–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х людей – 9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й сложности погибло 1270 человек пришедших поглазеть на восс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005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"/>
              </a:rPr>
              <a:t>Историческое значение движения декабри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age129"/>
          <p:cNvPicPr/>
          <p:nvPr/>
        </p:nvPicPr>
        <p:blipFill>
          <a:blip r:embed="rId1"/>
          <a:stretch/>
        </p:blipFill>
        <p:spPr>
          <a:xfrm>
            <a:off x="304920" y="1219320"/>
            <a:ext cx="2971800" cy="28368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33560" y="1143000"/>
            <a:ext cx="5181480" cy="556272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"/>
              </a:rPr>
              <a:t>Первая открытая попытка дворянских революционеров изменить систему правления в России и отменить крепостное прав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"/>
              </a:rPr>
              <a:t>Выступление декабристов показало обществу наличие глубоких социальных противоречий и необходимость рефор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"/>
              </a:rPr>
              <a:t>Декабристы показали пример бескорыстного служения Отечеству и готовность нести лишения ради блага страны и ее на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04920" y="4191120"/>
            <a:ext cx="3124080" cy="1677960"/>
          </a:xfrm>
          <a:prstGeom prst="rect">
            <a:avLst/>
          </a:prstGeom>
          <a:solidFill>
            <a:srgbClr val="dddddd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"/>
              </a:rPr>
              <a:t>Мемориальная дос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"/>
              </a:rPr>
              <a:t>на месте казни декабрис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omic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§ 9(п.2,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р/т №3 стр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"/>
              </a:rPr>
              <a:t>План изучения нового материала: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1.Династический криз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2. Восстание декабрис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3.Историческое значение и последствия восс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Декабристы  -  кто они – преступники или геро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Kab-30\Рабочий стол\img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1676160" cy="208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1400400" cy="19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1990800" cy="19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59084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7238880" y="1600200"/>
            <a:ext cx="1524240" cy="1876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decabristi.jpg"/>
          <p:cNvPicPr/>
          <p:nvPr/>
        </p:nvPicPr>
        <p:blipFill>
          <a:blip r:embed="rId6"/>
          <a:stretch/>
        </p:blipFill>
        <p:spPr>
          <a:xfrm>
            <a:off x="2971800" y="13716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380880" y="228600"/>
            <a:ext cx="81536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кабр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228600" y="3200400"/>
            <a:ext cx="1981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Труб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762120" y="6324480"/>
            <a:ext cx="1676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Г.Ках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4114800" y="6324480"/>
            <a:ext cx="16002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Пес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7010280" y="61722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Ры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7238880" y="3429000"/>
            <a:ext cx="15242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Мура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2971800" y="3581280"/>
            <a:ext cx="3352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и тайного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594360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omic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1) уничтожить прежние формы правл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2) ликвидировать крепостное право, рекрутч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3) объявить свободу слова, печати, занятий, вероисповед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) передать власть Временному правительству до всенародного решения о новой форме 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Kab-30\Рабочий стол\28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Kab-30\Рабочий стол\9.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Kab-30\Рабочий стол\regnum_picture_1528422065202990_norm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кина</dc:creator>
  <dc:description/>
  <dc:language>en-US</dc:language>
  <cp:lastModifiedBy>Пользователь</cp:lastModifiedBy>
  <dcterms:modified xsi:type="dcterms:W3CDTF">2019-03-13T07:09:2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90000000000010250300207f7000400038000</vt:lpwstr>
  </property>
  <property fmtid="{D5CDD505-2E9C-101B-9397-08002B2CF9AE}" pid="3" name="Version">
    <vt:r8>1</vt:r8>
  </property>
</Properties>
</file>