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wmf" ContentType="image/x-wmf"/>
  <Override PartName="/ppt/media/image12.png" ContentType="image/png"/>
  <Override PartName="/ppt/media/image7.jpeg" ContentType="image/jpeg"/>
  <Override PartName="/ppt/media/image8.wmf" ContentType="image/x-wmf"/>
  <Override PartName="/ppt/media/image9.jpeg" ContentType="image/jpeg"/>
  <Override PartName="/ppt/media/image11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DA27-04AE-47D3-9F60-E77A1A9B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FDA-6CC6-4054-8D1F-75D8482A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CCE5-EB73-45D8-AC97-C464A197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B27F-B6AB-4006-94FC-B62E237A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6D257-0AAD-416F-A9F7-833EF6EF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8C52F-3435-48DC-AAAD-F5B9DB66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BCE59-1EEE-4DFF-9AB1-6BE7F9E6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401FC-D12F-4788-B68D-AA14C74F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51D81-AA67-42E2-A621-EF6A8BD1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747AD-19C3-4AB4-9FA7-5C9BA95F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BC47A-C377-408A-BBC0-89B01615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A13B-86A1-4A20-A4F0-E0DCA0CA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86627-79A5-4EE5-9EDA-0750D706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CEA4D-6F51-49D1-849E-AF199A8F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25ECB-5003-41BF-B175-BCC439F8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27400-B7C4-409F-8860-00CAD1DF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1E71A-1F30-48BF-89C3-92E692F7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7310B-FD27-4EFC-A66F-70959C34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B82A4-6102-4805-B78F-C069DDE9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CD895-2FF4-4EDF-8903-DCC6C154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7C85E-24C1-4422-8846-A4C4FEBD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13946-CE40-44D3-83AA-43CC657E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1FA3-9E1C-43C5-BD29-23BAB452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F46E3-BF8B-4C0A-A33E-669F8D4C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F7830-1E3E-46A3-A32A-CF75FE68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6C606-C6A7-4E50-AE38-E3344102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D7CB9-5783-42EA-BBD5-A1825DE1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951A0-7120-4241-A1ED-6AF616B1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5F8CF-3D57-4208-A4ED-5E6A99D1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452BA-0061-4BFA-BCD4-0687B79C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F5EA9-6815-4826-BBB7-F27A9ED1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DEA38-1626-40A6-B2EC-C522BC34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A1FD2-8B8D-4526-9D96-5AD76834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343E-270E-4638-83A8-787F24C7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B1412-336E-4283-8D87-83BEBF39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8C69F-F70E-4E83-AB5F-4BC06596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D6C4B-C234-4742-B84A-4286AB1B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7A1F6-570E-4BF8-980D-9FC8D27E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A827A-642E-430F-AD88-BD965A14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DB1F7-EB5A-443A-9C9D-1E01646A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16418-9F4C-4E71-B69D-8DD2D411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F1A68-CA6D-44AF-8FA1-D0F16923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B138E-3B3D-4772-93BA-A664F08D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050D2-32EA-43BF-9DB1-B9966F97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7BF9-3807-47F0-90FE-BB84AE5A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553C4-FC35-479F-BE1A-D8722653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0CB7F-1A2A-436A-9E51-9962DB29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520D7-14B3-4083-BBEC-13FCE36F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D3C97-8D03-4929-8057-FD5E0E6A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22B63-6ABF-4414-BAF1-8E0AD326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CC62D-79D7-4B31-8D6E-22B8F388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84724-5DA1-41E0-B4D8-1B2A7C3D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C77A0-2818-4B56-A677-1BFBB843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76586-C1EB-4BE8-9F16-D8E82EDF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E025D-8470-46A8-AF43-CAD53D53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8872-4710-409C-8497-D91CB432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5EDAA-4240-4C06-BC66-589E8808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04291-70CC-41FC-9A58-604AFF74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5F90F-B47A-495E-83C1-295C69A2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286DC-AD52-4ACB-B2B5-E30DDE7F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289ED-9764-4AE1-B723-7E913D12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2430D-A552-40D3-8CD9-B70A34E2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6B1B2-418F-4A35-8D63-0D5ADB18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531B7-86DC-4D71-BECB-6C5E83FA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1CECC-7E7F-4920-8B5E-087965D8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9E236-5FCB-4B6E-B23F-B153CDCD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6EA5-9ADD-4083-805D-2027E48E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CF72C-46B3-4B9E-82A8-C8AF977E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E0362-AABB-4E75-BDFF-15868F4C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B1DB6-DCEC-47AD-BC15-36DEE0EE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0F7B5-1FAE-4DCE-9BA0-7572F50B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ED296-A63F-4400-B1C9-883874BB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24FC2-68A1-4F61-9417-71003879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50711-0835-4DF8-9403-202322E1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30201-1869-43C8-A208-2FAE8A4B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1D006-8197-4F37-9187-B9838B1F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0E110-DCF5-4B73-9E8D-1C56223C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92B3-5274-4AF3-9F5E-F48C1917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91DE5-8840-4E76-9945-5A0A0DA1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C2DA8-87F4-4E52-BF7B-24BE5652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8447F-435E-4D96-991F-1894771A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307B2-5788-41EE-A27C-B2BA2227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8F985-9547-4A60-9157-D42B8B58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C9BAE-E863-4E1B-944F-389723EE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AAE7D-8BF6-4F93-A2B1-3A231EDF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8ECC1-62CE-4A6E-B6E5-B81D23C7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FC898-1AB3-446C-9B02-04AE182A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F192E-575E-4B72-A9C6-9A2E40C7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3B3A-5E93-40CC-BA16-8B30F8F8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DB124-3295-4EB6-8895-CAAE25DB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F5222-825C-4635-B255-F91253D6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0B254-18A0-4B16-9180-E219FF07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663C3-D55A-45B2-912F-0FC676EE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03ECA-23FE-4CE5-BA3D-65F5E159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42D97-E785-4A90-8103-6E091ACA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06927-7A27-4A2D-8258-97270F88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5A6E-3F15-4619-ACBF-F3F6C3F937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2E76-8910-4861-91CE-CD1A436B357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4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604E-4DCA-41EB-BC39-F8B2D69EF6A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6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D177-3C0F-4271-90D5-E23725CDD1E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06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08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2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465B-E91F-4826-BD90-4173108F06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257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2F69-5408-4CF3-AB36-28D2E459D2A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313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DBF4-D050-4D8E-9B8E-EC045BCFDC3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70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A1A1-E337-46EA-A016-F81F2AC8BE8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Groceries"/>
          <p:cNvPicPr/>
          <p:nvPr/>
        </p:nvPicPr>
        <p:blipFill>
          <a:blip r:embed="rId1"/>
          <a:stretch/>
        </p:blipFill>
        <p:spPr>
          <a:xfrm>
            <a:off x="3240" y="115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057040" y="2349000"/>
            <a:ext cx="5683320" cy="1295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e1"/>
                </a:solidFill>
                <a:latin typeface="Times New Roman"/>
              </a:rPr>
              <a:t>Ваше Высочество Потребитель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651280" y="5589720"/>
            <a:ext cx="3313080" cy="1350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 и обществознания Родиной Л. И. МБОУ «Каштановская С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1"/>
          <p:cNvSpPr/>
          <p:nvPr/>
        </p:nvSpPr>
        <p:spPr>
          <a:xfrm>
            <a:off x="611280" y="115920"/>
            <a:ext cx="8281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6 pennarelli a base dacqu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astrmaler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6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bre tir pens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ppucciono e tappo di sicurezza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cherts kappe sowie endkappe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afety cap and stpper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abbricato in Italia – Made in Italy”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"/>
          <p:cNvSpPr/>
          <p:nvPr/>
        </p:nvSpPr>
        <p:spPr>
          <a:xfrm>
            <a:off x="468360" y="115920"/>
            <a:ext cx="638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Элитный кофе высшего качества с пониженным содержанием кофе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 приготовления: положите в чашку одну чайную ложку кофе, добавьте горячую, но не кипящую в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готовитель – Z. Импортёр –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анить в плотно закрытой банке в сухом прохладном месте. Для того чтобы открыть банку, поверните крышку против часовой стрелк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https://wallbox.ru/wallpapers/main/201217/eda-d051e0cfdd92.jpg"/>
          <p:cNvPicPr/>
          <p:nvPr/>
        </p:nvPicPr>
        <p:blipFill>
          <a:blip r:embed="rId1"/>
          <a:stretch/>
        </p:blipFill>
        <p:spPr>
          <a:xfrm>
            <a:off x="6516720" y="2532240"/>
            <a:ext cx="2627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Прямоугольник 1"/>
          <p:cNvSpPr/>
          <p:nvPr/>
        </p:nvSpPr>
        <p:spPr>
          <a:xfrm>
            <a:off x="108000" y="0"/>
            <a:ext cx="6264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ZX – парфюмерная вода / 3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но в B. Изготовитель – D. Импортёр –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анить п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15….20 С, при низкой влажности воздуха, исключая попадание солнечных лучей.  Срок годности 2 г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ры предосторожности: не распылять вблизи открытого огня. Беречь от детей, избегать попадания  в глаза. Использовать в пищевых целях опасно для жизни и здоровья!»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https://media2.24aul.ru/imgs/57eb764873fce816246f76ce/parfyumernaya-voda-in-bloom-1-8249974.jpg"/>
          <p:cNvPicPr/>
          <p:nvPr/>
        </p:nvPicPr>
        <p:blipFill>
          <a:blip r:embed="rId1"/>
          <a:stretch/>
        </p:blipFill>
        <p:spPr>
          <a:xfrm>
            <a:off x="6451560" y="260280"/>
            <a:ext cx="247824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http://www.salespb.ru/unitsimg/img_1825_55.gif"/>
          <p:cNvPicPr/>
          <p:nvPr/>
        </p:nvPicPr>
        <p:blipFill>
          <a:blip r:embed="rId1"/>
          <a:stretch/>
        </p:blipFill>
        <p:spPr>
          <a:xfrm>
            <a:off x="324000" y="189000"/>
            <a:ext cx="8424720" cy="60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http://www.discover24.info/uploads/posts/2015-10/1445116811_stakan.jpg"/>
          <p:cNvPicPr/>
          <p:nvPr/>
        </p:nvPicPr>
        <p:blipFill>
          <a:blip r:embed="rId1"/>
          <a:stretch/>
        </p:blipFill>
        <p:spPr>
          <a:xfrm>
            <a:off x="324000" y="476280"/>
            <a:ext cx="81356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Грамотный потребител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егда честен с собой и окружающими и соблюдает закон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умно распоряжается имеющимися средствам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егда читает инструкцию и следует е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храняет товарные, кассовые чеки. Гарантийные талоны и квитанц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ъявляет только обоснованные претенз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ttp://images.myshared.ru/9/951541/slide_2.jpg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640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Потребитель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 гражданин, имеющий намерение заказать или приобрести либо заказывающий, приобретающий или использующий товары (работы, услуги) исключительно для личных, семейных, домашних и иных нужд, не связанных с осуществлением предпринимательской дея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4" descr="photo2"/>
          <p:cNvPicPr/>
          <p:nvPr/>
        </p:nvPicPr>
        <p:blipFill>
          <a:blip r:embed="rId1"/>
          <a:stretch/>
        </p:blipFill>
        <p:spPr>
          <a:xfrm>
            <a:off x="5651640" y="189000"/>
            <a:ext cx="3279600" cy="32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785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https://znanio.ru/static/files/cache/b9/f0/b9f03859a1f8598d5f0f4d5bb839e926.jpg"/>
          <p:cNvPicPr/>
          <p:nvPr/>
        </p:nvPicPr>
        <p:blipFill>
          <a:blip r:embed="rId1"/>
          <a:stretch/>
        </p:blipFill>
        <p:spPr>
          <a:xfrm>
            <a:off x="250920" y="115920"/>
            <a:ext cx="87138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209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Основные права потребителей, закрепленные Законом РФ «О защите прав потребителей»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На просвещение в области защиты своих пра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На надлежащее качество това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На безопасность това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а информац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На возмещение морального вре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На судебную защи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На государственную, общественную защи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20,-52)"/>
                                      </p:to>
                                    </p:se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20,-52)"/>
                                      </p:to>
                                    </p:set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" descr="https://i.ytimg.com/vi/qTfr2db3E2M/maxresdefault.jpg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7:51:03Z</dcterms:created>
  <dc:creator>BARHAN0073</dc:creator>
  <dc:description/>
  <dc:language>en-US</dc:language>
  <cp:lastModifiedBy>ПК</cp:lastModifiedBy>
  <dcterms:modified xsi:type="dcterms:W3CDTF">2018-03-14T21:19:01Z</dcterms:modified>
  <cp:revision>24</cp:revision>
  <dc:subject/>
  <dc:title>Потребитель</dc:title>
</cp:coreProperties>
</file>