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EC6-A538-4FD1-AA8D-2A74DCB3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B10-76F1-46A1-B69A-CE99C6C2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4FC-16C3-468A-BF73-412CE92C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CCD-8927-4A93-B2B0-84E84ECD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3355-2920-4CF3-BF43-0AFAB457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72991-F607-4DE7-8E40-1C5BBAB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F2608-E63A-4C39-89D2-8D0E5E0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6CC8-AB1E-486C-B75C-948BEA5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F570-2EBA-4B2F-83BA-2812DFC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52F45-E617-4201-918D-2056568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8901-48A8-45FA-ABF8-3DAF830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705-F30C-4C47-A716-170887A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24169-0EA5-4CED-9300-DF4FCF4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24B35-4EC6-4866-90E1-22DF1E3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202D-80F0-494C-B026-9286E84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BE59-90FF-40DC-8C1D-181FBBA9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5B5B6-A6AD-4A26-BB3F-3E27501E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D438-A674-4772-832A-96E5DB7D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DC66-79AE-4444-B873-9514A51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CB76-9604-4147-B182-E3AA3AD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7785-2DAE-4E62-8AED-AD70F80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852F-0AB1-4961-AF31-2D1A747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E77-D6DE-4617-BC13-3E5F27A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B80F-80C2-4851-BEC5-A30745A2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AF02-9975-4ACF-B6BD-00681DD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A99C-8427-42B3-AB01-6F0CBBC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A4DC-769B-4655-AF26-58AF707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83B7-0EFA-4A8B-B74E-2D2E49CE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BD9C-0315-45FF-BBD1-2D910441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E377-B28F-40CE-9283-BC9CAF14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D28B-909D-48E7-9593-0F37EC45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2E88-88C4-428F-AB50-19C39B1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E58D-9E2F-4AFE-94C2-1D33A9B6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F07-AFFA-42B4-97A4-81D987C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8CE9-FFB8-4F4D-9737-406B0A3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7075-5B8F-4352-99AC-E1D9E714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42798-6691-4832-98E0-945A211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5E7B-0808-4FB6-8402-DD9EE80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0043-8E7E-40BD-8363-08CB33D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1C09-DF09-4B76-AB29-9433DBA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16C9-FC56-47E5-B8E0-0526BFFC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BFF7-65A0-42B6-9C49-45E06A12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D259-8EFB-4C9C-ACBE-5E2B2D50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0AD3-BEE1-4EA0-8BAF-FD6E597B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E13-178B-46B1-BB71-9EBF635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1B7D-7494-4914-BF09-14218190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0A4F4-8EE6-4F55-A1D2-5EEAA3D5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0619-571F-490E-8E93-9061E8B8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7F97-544E-47BD-BBCE-8188E78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F3BA-C8A6-4049-A5DC-5BC10B67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EA01-123B-4586-9CCE-0C66F7A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01A18-7FE7-4D4B-8DE1-2B93090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000A-F6CD-4DEB-B53E-92BAFAE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8DA8-08F6-4102-B1A1-DBF0612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8D25-A1B0-46DF-8ADF-682E2988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9BD-DFF0-47EB-A67A-388F564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72EE-CED6-4182-8DFD-E3037607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7C1B0-45ED-4D84-A326-1C021352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E98B1-5406-4A02-8ADF-52C347B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62F1-4215-4D50-B7A1-C140185C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E3B4-DDBB-4204-81A7-6C02694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149A-54EC-47AD-96B2-6C37FA9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38FE0-4E8E-4220-BE49-0AF20D76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6C62-D4D7-4A21-990B-20D8CC8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FA1CC-1A06-47C7-A0CB-22B4319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E9B4-E84B-4231-9E97-15BCC0F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1CE-47FD-4709-AB36-25CB615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25960-FA33-40D3-92BE-9345AC75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922B-90E1-43EC-8614-7B3FF325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5242-E201-4187-BAEB-ED7827F7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EF65-AF03-47E8-92A6-07D5A802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5C3A-57FE-40FE-8C77-F93E7AD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ABB0-CB81-4E6F-821B-48BFE8F1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BE30-220D-4E63-B9D4-12F3B76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CFE3-2BF6-4BD7-B6E3-129601B8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D4BB3-080D-44E6-A2D9-4CD6C7D0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F743-BCB7-4251-A398-8F53C33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BD7-822D-448D-9AE8-0E2535D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99FA-9508-4B55-AFE1-D2A07EB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09E4-43B5-4C6E-9E59-6616D6E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F69E-ABC5-465C-A8BB-40672513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E6F69-957B-491D-9358-E50B101E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DE623-3474-4646-9D48-8CEE08C5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836E-E2FC-48AD-8026-510E13CB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2AC04-9342-4F36-8686-5A6FF4B0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A8FA-85BC-475F-B302-4C504126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4AFE-AA4D-48C2-8F39-643DD8F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B951-DAD0-47B6-9C9B-DCB5AC42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ABE-B6CE-4DFA-9AC5-6D0BA1A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EBD1C-05DD-48DE-A8FE-6801CFA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4C11-57E4-4A2C-95C4-717288D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5994-5A86-4C44-B29D-71442DC1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8338-FCEF-48F8-95BF-1C9C5C0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667D-62CE-4716-84F3-5704E24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9214-E180-4E3A-A13B-0C335AE3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CDE1E-D1EE-486F-897B-9FA058BC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3F5-BB9C-4186-BCFA-0C0673AA04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EEBF-9925-438B-AC8E-9C74752199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8EF-1F23-4953-8808-B54DBC4A7D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F1B-DC52-48FC-8DB7-A295E61369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B6D8-1E5B-4BCC-9827-AA182658C5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6D71-69DD-4DE5-9095-0930967C52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1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616-CD20-44AB-B4AF-14C9054A73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EAE0-4F41-4DE7-A755-FF2897062D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Groceries"/>
          <p:cNvPicPr/>
          <p:nvPr/>
        </p:nvPicPr>
        <p:blipFill>
          <a:blip r:embed="rId1"/>
          <a:stretch/>
        </p:blipFill>
        <p:spPr>
          <a:xfrm>
            <a:off x="324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57040" y="2349000"/>
            <a:ext cx="5683320" cy="1295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1"/>
                </a:solidFill>
                <a:latin typeface="Times New Roman"/>
              </a:rPr>
              <a:t>Ваше Высочество Потребитель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651280" y="5589720"/>
            <a:ext cx="3313080" cy="1350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и обществознания Родиной Л. И. МБОУ «Каштан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611280" y="115920"/>
            <a:ext cx="8281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 pennarelli a base dacq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strmal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6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bre tir pe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ppucciono e tappo di sicurezza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cherts kappe sowie endkappe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fety cap and stppe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bbricato in Italia – Made in Italy”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68360" y="115920"/>
            <a:ext cx="638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Элитный кофе высшего качества с пониженным содержанием кофе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приготовления: положите в чашку одну чайную ложку кофе, добавьте горячую, но не кипящую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итель – Z. Импортёр –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в плотно закрытой банке в сухом прохладном месте. Для того чтобы открыть банку, поверните крышку против часовой стрел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https://wallbox.ru/wallpapers/main/201217/eda-d051e0cfdd92.jpg"/>
          <p:cNvPicPr/>
          <p:nvPr/>
        </p:nvPicPr>
        <p:blipFill>
          <a:blip r:embed="rId1"/>
          <a:stretch/>
        </p:blipFill>
        <p:spPr>
          <a:xfrm>
            <a:off x="6516720" y="2532240"/>
            <a:ext cx="262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108000" y="0"/>
            <a:ext cx="626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ZX – парфюмерная вода / 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но в B. Изготовитель – D. Импортёр –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ь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15….20 С, при низкой влажности воздуха, исключая попадание солнечных лучей.  Срок годности 2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ы предосторожности: не распылять вблизи открытого огня. Беречь от детей, избегать попадания  в глаза. Использовать в пищевых целях опасно для жизни и здоровья!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https://media2.24aul.ru/imgs/57eb764873fce816246f76ce/parfyumernaya-voda-in-bloom-1-8249974.jpg"/>
          <p:cNvPicPr/>
          <p:nvPr/>
        </p:nvPicPr>
        <p:blipFill>
          <a:blip r:embed="rId1"/>
          <a:stretch/>
        </p:blipFill>
        <p:spPr>
          <a:xfrm>
            <a:off x="6451560" y="260280"/>
            <a:ext cx="2478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://www.salespb.ru/unitsimg/img_1825_55.gif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http://www.discover24.info/uploads/posts/2015-10/1445116811_stakan.jpg"/>
          <p:cNvPicPr/>
          <p:nvPr/>
        </p:nvPicPr>
        <p:blipFill>
          <a:blip r:embed="rId1"/>
          <a:stretch/>
        </p:blipFill>
        <p:spPr>
          <a:xfrm>
            <a:off x="324000" y="476280"/>
            <a:ext cx="813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рамотный потребит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естен с собой и окружающими и соблюдает закон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умно распоряжается имеющимися средств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гда читает инструкцию и следует 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храняет товарные, кассовые чеки. Гарантийные талоны и квитан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ъявляет только обоснованные претенз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images.myshared.ru/9/951541/slide_2.jpg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отребител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гражданин, имеющий намерение заказать или приобрести либо заказывающий, приобретающий или использующий товары (работы, услуги) исключительно для личных, семейных, домашних и иных нужд, не связанных с осуществлением предпринимательской дея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photo2"/>
          <p:cNvPicPr/>
          <p:nvPr/>
        </p:nvPicPr>
        <p:blipFill>
          <a:blip r:embed="rId1"/>
          <a:stretch/>
        </p:blipFill>
        <p:spPr>
          <a:xfrm>
            <a:off x="5651640" y="189000"/>
            <a:ext cx="32796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785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znanio.ru/static/files/cache/b9/f0/b9f03859a1f8598d5f0f4d5bb839e926.jpg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новные права потребителей, закрепленные Законом РФ «О защите прав потребителей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а просвещение в области защиты своих пра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а надлежащее качество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На безопасность тов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а информ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На возмещение морального вре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На судеб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На государственную, общественную защи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0,-52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https://i.ytimg.com/vi/qTfr2db3E2M/maxresdefault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51:03Z</dcterms:created>
  <dc:creator>BARHAN0073</dc:creator>
  <dc:description/>
  <dc:language>en-US</dc:language>
  <cp:lastModifiedBy>ПК</cp:lastModifiedBy>
  <dcterms:modified xsi:type="dcterms:W3CDTF">2018-03-14T21:19:01Z</dcterms:modified>
  <cp:revision>24</cp:revision>
  <dc:subject/>
  <dc:title>Потребитель</dc:title>
</cp:coreProperties>
</file>