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wmf" ContentType="image/x-wmf"/>
  <Override PartName="/ppt/media/image12.png" ContentType="image/png"/>
  <Override PartName="/ppt/media/image7.jpeg" ContentType="image/jpeg"/>
  <Override PartName="/ppt/media/image8.wmf" ContentType="image/x-wmf"/>
  <Override PartName="/ppt/media/image9.jpeg" ContentType="image/jpeg"/>
  <Override PartName="/ppt/media/image11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D3B-1C1F-4CF4-A0B2-DCA39AB2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E82-98FD-443D-94CE-EE477BCA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9CC-417D-4068-B995-D432D959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959-E946-4E9A-8BD7-C18938B6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2DA0E-9BF5-4069-A9EC-2DD59CEB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37C97-6564-478E-8559-3C4A7AD7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08CA7-1721-4FC1-B4BB-A38101AC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884A6-FF9E-4AB9-A674-9355E36F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7FA4A-DECD-4E4A-9768-13132610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5777F-5EED-40A9-AC30-1E08ACF8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C42EB-EF83-4C82-B85A-6A1C5394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1DB-0584-4A26-927D-1434EA23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F03D1-BBD5-4830-B690-F055E75C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8B9AA-41B8-4326-B53C-9528E28C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7ADF4-5EE1-49B7-B4B8-6B1853D0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2287C-4F28-45EB-B9CD-F9059CA8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05503-64A0-4875-A70F-E561ACFB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B6A1A-AD32-4014-B6B9-58767072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F4EF8-DE0D-44E8-81C4-9A13D61E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9DA23-63EA-46AA-9FD5-06F8B072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3F99D-4316-477F-B8D5-3A356E41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FF4CA-E0F6-431D-99C6-D6FA45A1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247B-7CD6-4ADC-B105-A6C3C7F4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DD726-4368-48F7-B2DF-26C64471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990CA-454E-444D-ACB5-33C9619B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F7F8-9986-4E68-A5DA-FE920412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0DB7E-7EED-4C51-8610-04515FCA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A5E98-8BAD-4F06-A67F-B80722B2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B4192-2DB4-4902-84DA-AE4EEF0D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0A066-1D40-4DAE-B8E1-CC831E46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CE701-3449-4C1E-A6F2-A3313264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D8CD1-4C80-480C-8E03-76B862FB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7987C-8307-4FC6-B1B8-80F7EA93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90E-702C-410E-A884-CDED1278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6E59A-4B00-4FEE-A01D-010E26F4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8414D-4FA8-4B30-ACB6-EA1FD302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F8512-1FF3-4CB6-9E5E-C242580A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74483-4EB0-45DA-B38F-E3899AE0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5B479-063F-4E37-AC6D-A6602FBF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CBEBE-28BE-4AE3-AE01-B7FE2F6A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D5366-FBE6-4357-AEC2-BAFA5627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27374-430F-4056-B2FA-218B4A20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013D5-D94D-49F0-874D-7BD8418A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2E806-3188-4FC7-B895-F87F93EB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FD4C-C324-4910-A7A8-14063EB6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2F3D4-9524-4E93-8701-8CDEC466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6B12A-6DAC-44B4-9754-307A3506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BB11F-4F9B-4176-B852-2B10F0C2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8872B-249C-4812-A44E-4B0BDC2F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3225D-77F4-46BF-A919-0506B239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F37D3-A6A3-4C80-A1A1-62E20453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D27D0-1B28-493E-A230-E6C53897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D10B3-B07F-485D-97BE-90393519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56007-4FCC-4A0E-8F36-A378C5F1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FC82D-0717-4BE7-9C80-B5B346CC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7592-3D69-4A92-B55E-C57500A9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AE275-AEA6-4FA0-913F-9EDB911F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EB4C7-CB08-4C41-9686-67975562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432FE-6FD5-4C21-9C9C-9B24E60C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19294-3AC6-49DE-9FD7-A33520C1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6D93B-F90B-497E-85A4-3F11CA3D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2AEE0-DB2B-4E38-95A2-15D7395B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619F1-CEEB-450B-ACBE-9594FBFF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E7F07-C596-4733-94A2-1F4F1129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0A000-4725-4786-92D0-C944B970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CBE6C-F506-4427-8CB3-F15680AB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EB22-C588-4758-AA76-695ED8B1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23DBC-5B78-4F52-AE4B-DA534B35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C22FE-2886-4712-AA72-1562FE59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51B8C-2753-478A-9662-B9DA9877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F489C-ECFD-473F-BD7F-12977B5E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305BB-BA7B-44B8-9AEC-58541D1F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B7118-A1AD-44D3-8B94-B8D770C4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FA501-883F-45E9-B7F9-00771BDF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555F9-2CB1-4EDE-BF82-624DB42C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5FF6A-7030-46B2-AE79-46A6FB8F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9E80F-49FD-4628-A176-68AEFC77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F208-744A-44B0-A20D-30DCFD11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6F5F6-0E08-4941-B0A3-1E748AF9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02BAC-ABEE-4D4A-97C4-5C63FFBD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C950C-0B54-4799-BF7B-2D1249D7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6728C-FA6B-487C-BA00-90DDD3BA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5F136-936E-4E86-803E-2EB743A2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417C0-38D9-4DD8-9410-897511C0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A842A-6F70-4666-BA1B-D46C96C0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77F56-89AE-40AB-BDC4-D85F194C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B86E5-848A-4E0D-82ED-AE4F218F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89284-C4B2-446F-9F31-71498D5B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357-1613-4A91-A9A3-50B1234E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2F326-76E9-4379-9850-8285EB88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23BFD-C6E9-4582-9DCC-DAF19E70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3B5DF-FEAF-4A68-AA57-A5172328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5753E-87F1-4FFC-A143-9E7C0889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AFC09-3D71-4D82-A186-7A29B6E0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FC524-F1F9-4844-96D5-3BAAFF15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D9733-CA1D-4980-ABC8-FA165B30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B355-8E71-4584-8491-B11896C17A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9EC5-0B7E-4F1B-BBDD-AF9E4FF621E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4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FDB5-63A9-4180-9207-3919AFA7927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7E77-DD16-4FA1-A68A-47A68EDB50F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0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0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223E-E447-45DF-9FD6-E506201735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257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F297-3CDE-4327-AC94-B7F9106DDFB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13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D124-83FB-4861-8179-36277DEC097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7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95D6-6DFE-4070-BC68-56B0F7E87B0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Groceries"/>
          <p:cNvPicPr/>
          <p:nvPr/>
        </p:nvPicPr>
        <p:blipFill>
          <a:blip r:embed="rId1"/>
          <a:stretch/>
        </p:blipFill>
        <p:spPr>
          <a:xfrm>
            <a:off x="324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057040" y="2349000"/>
            <a:ext cx="5683320" cy="1295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e1"/>
                </a:solidFill>
                <a:latin typeface="Times New Roman"/>
              </a:rPr>
              <a:t>Ваше Высочество Потребитель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651280" y="5589720"/>
            <a:ext cx="3313080" cy="1350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 и обществознания Родиной Л. И. МБОУ «Каштанов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1"/>
          <p:cNvSpPr/>
          <p:nvPr/>
        </p:nvSpPr>
        <p:spPr>
          <a:xfrm>
            <a:off x="611280" y="115920"/>
            <a:ext cx="8281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 pennarelli a base dacqu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astrmaler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6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bre tir pens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ppucciono e tappo di sicurezza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cherts kappe sowie endkappe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afety cap and stpper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abbricato in Italia – Made in Italy”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468360" y="115920"/>
            <a:ext cx="638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Элитный кофе высшего качества с пониженным содержанием кофе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 приготовления: положите в чашку одну чайную ложку кофе, добавьте горячую, но не кипящую в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готовитель – Z. Импортёр –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нить в плотно закрытой банке в сухом прохладном месте. Для того чтобы открыть банку, поверните крышку против часовой стрел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https://wallbox.ru/wallpapers/main/201217/eda-d051e0cfdd92.jpg"/>
          <p:cNvPicPr/>
          <p:nvPr/>
        </p:nvPicPr>
        <p:blipFill>
          <a:blip r:embed="rId1"/>
          <a:stretch/>
        </p:blipFill>
        <p:spPr>
          <a:xfrm>
            <a:off x="6516720" y="2532240"/>
            <a:ext cx="2627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Прямоугольник 1"/>
          <p:cNvSpPr/>
          <p:nvPr/>
        </p:nvSpPr>
        <p:spPr>
          <a:xfrm>
            <a:off x="108000" y="0"/>
            <a:ext cx="6264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ZX – парфюмерная вода / 3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но в B. Изготовитель – D. Импортёр –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нить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15….20 С, при низкой влажности воздуха, исключая попадание солнечных лучей.  Срок годности 2 г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ры предосторожности: не распылять вблизи открытого огня. Беречь от детей, избегать попадания  в глаза. Использовать в пищевых целях опасно для жизни и здоровья!»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https://media2.24aul.ru/imgs/57eb764873fce816246f76ce/parfyumernaya-voda-in-bloom-1-8249974.jpg"/>
          <p:cNvPicPr/>
          <p:nvPr/>
        </p:nvPicPr>
        <p:blipFill>
          <a:blip r:embed="rId1"/>
          <a:stretch/>
        </p:blipFill>
        <p:spPr>
          <a:xfrm>
            <a:off x="6451560" y="260280"/>
            <a:ext cx="247824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http://www.salespb.ru/unitsimg/img_1825_55.gif"/>
          <p:cNvPicPr/>
          <p:nvPr/>
        </p:nvPicPr>
        <p:blipFill>
          <a:blip r:embed="rId1"/>
          <a:stretch/>
        </p:blipFill>
        <p:spPr>
          <a:xfrm>
            <a:off x="324000" y="189000"/>
            <a:ext cx="8424720" cy="60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http://www.discover24.info/uploads/posts/2015-10/1445116811_stakan.jpg"/>
          <p:cNvPicPr/>
          <p:nvPr/>
        </p:nvPicPr>
        <p:blipFill>
          <a:blip r:embed="rId1"/>
          <a:stretch/>
        </p:blipFill>
        <p:spPr>
          <a:xfrm>
            <a:off x="324000" y="476280"/>
            <a:ext cx="81356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Грамотный потребител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егда честен с собой и окружающими и соблюдает закон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умно распоряжается имеющимися средствам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егда читает инструкцию и следует е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храняет товарные, кассовые чеки. Гарантийные талоны и квитанц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ъявляет только обоснованные претенз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images.myshared.ru/9/951541/slide_2.jpg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640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Потребитель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гражданин, имеющий намерение заказать или приобрести либо заказывающий, приобретающий или использующий товары (работы, услуги) исключительно для личных, семейных, домашних и иных нужд, не связанных с осуществлением предпринимательской дея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4" descr="photo2"/>
          <p:cNvPicPr/>
          <p:nvPr/>
        </p:nvPicPr>
        <p:blipFill>
          <a:blip r:embed="rId1"/>
          <a:stretch/>
        </p:blipFill>
        <p:spPr>
          <a:xfrm>
            <a:off x="5651640" y="189000"/>
            <a:ext cx="3279600" cy="32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785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https://znanio.ru/static/files/cache/b9/f0/b9f03859a1f8598d5f0f4d5bb839e926.jpg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209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Основные права потребителей, закрепленные Законом РФ «О защите прав потребителей»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На просвещение в области защиты своих пра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На надлежащее качество това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На безопасность това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а информац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На возмещение морального вре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На судебную защи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На государственную, общественную защи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20,-52)"/>
                                      </p:to>
                                    </p:se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20,-52)"/>
                                      </p:to>
                                    </p:se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" descr="https://i.ytimg.com/vi/qTfr2db3E2M/maxresdefault.jpg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7:51:03Z</dcterms:created>
  <dc:creator>BARHAN0073</dc:creator>
  <dc:description/>
  <dc:language>en-US</dc:language>
  <cp:lastModifiedBy>ПК</cp:lastModifiedBy>
  <dcterms:modified xsi:type="dcterms:W3CDTF">2018-03-14T21:19:01Z</dcterms:modified>
  <cp:revision>24</cp:revision>
  <dc:subject/>
  <dc:title>Потребитель</dc:title>
</cp:coreProperties>
</file>