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F64-7C76-4F87-9EE7-8AFF4163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742-2D73-4655-BAFE-FF672082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81E-1597-4114-8E54-F75AC728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F59-960E-4F04-8A75-2F955C1C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6B5-DBD4-4001-AAE2-972E454D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13C-8001-4824-9611-4F2215C3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8C2-AC7A-4311-A295-285DF0E4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580-D296-41D5-A8A8-04CF3AF1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1B7-4D62-4832-8601-7D3C0152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BB1-3DFD-4215-9F70-73DA3976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791-666F-4243-AE91-3672D272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0F9-06A8-4D59-BC7D-FA584F22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CDF2-9A09-48BC-862B-1E524FC8B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8000" y="279360"/>
            <a:ext cx="90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ролевство Марокк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5"/>
          <p:cNvSpPr/>
          <p:nvPr/>
        </p:nvSpPr>
        <p:spPr>
          <a:xfrm>
            <a:off x="384120" y="1413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108000" y="154152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левство Марокко - государство на северо-западе Африки. С севера омывается Средиземным морем (море Альборан), с запада - Атлантическим океан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4859280" y="37893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лощадь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46 550 км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Население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2 987 206 челов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толица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Марокко - карта страны"/>
          <p:cNvPicPr/>
          <p:nvPr/>
        </p:nvPicPr>
        <p:blipFill>
          <a:blip r:embed="rId2"/>
          <a:stretch/>
        </p:blipFill>
        <p:spPr>
          <a:xfrm>
            <a:off x="299880" y="3124080"/>
            <a:ext cx="45594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марокко флаг и герб"/>
          <p:cNvPicPr/>
          <p:nvPr/>
        </p:nvPicPr>
        <p:blipFill>
          <a:blip r:embed="rId1"/>
          <a:stretch/>
        </p:blipFill>
        <p:spPr>
          <a:xfrm>
            <a:off x="260280" y="1341360"/>
            <a:ext cx="2079720" cy="22179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2627280" y="1341360"/>
            <a:ext cx="6408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ый королевский герб утвержден в 1957 году, 14 августа. Оформлен он в виде декоративного щита, который слева и справа поддерживают 2 мощных льва, стоящих на задних лапах. Основной цвет щита также красный, в середине изображена зеленая пентаграмма, над которой восходит солнце, освещая лучами стилизованные Атласские горы. Герб венчает корона, а внизу располагается надпись на арабском языке из Корана: "Если ты помогаешь Аллаху, он поможет тебе"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4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флаг Марокко"/>
          <p:cNvPicPr/>
          <p:nvPr/>
        </p:nvPicPr>
        <p:blipFill>
          <a:blip r:embed="rId2"/>
          <a:stretch/>
        </p:blipFill>
        <p:spPr>
          <a:xfrm>
            <a:off x="5484960" y="4021200"/>
            <a:ext cx="3295440" cy="2205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20600" y="18900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ый герб и флаг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84240" y="3933720"/>
            <a:ext cx="52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ициальный флаг Марокко представляет собой полотнище прямоугольной формы. Соотношение ширины и длины составляет 2:3 соответственно. Все поле флага залито однородным темно-красным цветом. Посредине полотнища расположена пентаграмма (пятиконечная звезда) зеленого цвета с черным контуром. Звезда условно вписана в круг, диаметр которого равен 1/3 ширины фла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20600" y="18900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ая одежда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179280" y="134136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ой одеждой жителей Марокко является джеляба и кожаные тапочки бабуши. Джеляба представляет собой  длинное закрывающее до пят одеяние с остроконечным капюшоном. Бабуши - кожаные туфли без зад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Картинки по запросу марокканская национальная одежда"/>
          <p:cNvPicPr/>
          <p:nvPr/>
        </p:nvPicPr>
        <p:blipFill>
          <a:blip r:embed="rId1"/>
          <a:stretch/>
        </p:blipFill>
        <p:spPr>
          <a:xfrm>
            <a:off x="4815000" y="1268280"/>
            <a:ext cx="3956040" cy="5310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9920" y="414972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окканский национальный костюм не менял свой внешний вид с шестнадцатого века. Джеляба как для мужчин, так и для женщин шьется по одному лекалу. Отличия состоят в различиях цветовых гамм, вышивок, украшениях и естественно в размер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7"/>
          <p:cNvSpPr/>
          <p:nvPr/>
        </p:nvSpPr>
        <p:spPr>
          <a:xfrm>
            <a:off x="468360" y="3897360"/>
            <a:ext cx="409428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19160" y="189000"/>
            <a:ext cx="89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ньги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2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50920" y="1268280"/>
            <a:ext cx="51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юта Марокко – Марокканский дирхам. Расплачиваться в Марокко можно только национальной валютой, доллары и евро хождения не имеют. В обращении ходят банкноты и монеты – сати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Марокканский дирхам MAD"/>
          <p:cNvPicPr/>
          <p:nvPr/>
        </p:nvPicPr>
        <p:blipFill>
          <a:blip r:embed="rId1"/>
          <a:stretch/>
        </p:blipFill>
        <p:spPr>
          <a:xfrm>
            <a:off x="250920" y="3573360"/>
            <a:ext cx="5416560" cy="269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72360" y="1187280"/>
            <a:ext cx="1955520" cy="2011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5837400" y="3716280"/>
            <a:ext cx="302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окканцы совершенно не бережно относятся к купюрам, не удивляйтесь если вам дадут очень мятые, грязные и рваные деньги в ресторане, в магазине или в так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19160" y="189000"/>
            <a:ext cx="89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есные места Марок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2"/>
          <p:cNvSpPr/>
          <p:nvPr/>
        </p:nvSpPr>
        <p:spPr>
          <a:xfrm>
            <a:off x="395280" y="981000"/>
            <a:ext cx="8353440" cy="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Картинки по запросу Дворец Бахия"/>
          <p:cNvPicPr/>
          <p:nvPr/>
        </p:nvPicPr>
        <p:blipFill>
          <a:blip r:embed="rId1"/>
          <a:stretch/>
        </p:blipFill>
        <p:spPr>
          <a:xfrm>
            <a:off x="295200" y="1268280"/>
            <a:ext cx="3989520" cy="29368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5003640" y="1268280"/>
            <a:ext cx="316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рец Бахия - дворец конца XIX века, расположенный в городе Марракеше. Одна из главных достопримечательностей гор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Картинки по запросу Эль-Бади"/>
          <p:cNvPicPr/>
          <p:nvPr/>
        </p:nvPicPr>
        <p:blipFill>
          <a:blip r:embed="rId2"/>
          <a:stretch/>
        </p:blipFill>
        <p:spPr>
          <a:xfrm>
            <a:off x="4716360" y="4005360"/>
            <a:ext cx="4330800" cy="2701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295200" y="4460760"/>
            <a:ext cx="4276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рец Эль Бади, является одной из главных достопримечательностей Марракеша. Дворец был построен в период, между 1578 и 1603 гг., когда в Марокко правил Ахмад аль-Мансур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11:03:20Z</dcterms:created>
  <dc:creator>Home</dc:creator>
  <dc:description/>
  <dc:language>en-US</dc:language>
  <cp:lastModifiedBy>Home</cp:lastModifiedBy>
  <dcterms:modified xsi:type="dcterms:W3CDTF">2016-10-05T11:35:38Z</dcterms:modified>
  <cp:revision>5</cp:revision>
  <dc:subject/>
  <dc:title>Презентация PowerPoint</dc:title>
</cp:coreProperties>
</file>