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465-8411-4273-8318-EA3C3235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EDB-448D-4B4B-9588-40BFF6A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A52-68BD-4D6C-BC89-95CCD529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F97-B70F-4BA9-A48D-8A772CB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688-ABE7-4248-9A48-E61BAA9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6E0-CE5E-4913-8643-B51082F9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852-AB46-49B3-A028-730F9FB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014-771D-4D03-B5AA-0D5E2D10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797-7239-468B-8865-387FBFF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47-B960-42E9-91EF-96BF4D5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C13-A145-4DE4-9A26-FE81AD9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9DC-ECD8-4C8B-9138-C133E5E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1C84-44A0-490B-90B8-A25E25D22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8000" y="27936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олевство Марок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5"/>
          <p:cNvSpPr/>
          <p:nvPr/>
        </p:nvSpPr>
        <p:spPr>
          <a:xfrm>
            <a:off x="384120" y="1413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8000" y="154152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ство Марокко - государство на северо-западе Африки. С севера омывается Средиземным морем (море Альборан), с запада - Атлантическим океа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859280" y="3789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лощадь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46 550 км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аселение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2 987 206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толица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Марокко - карта страны"/>
          <p:cNvPicPr/>
          <p:nvPr/>
        </p:nvPicPr>
        <p:blipFill>
          <a:blip r:embed="rId2"/>
          <a:stretch/>
        </p:blipFill>
        <p:spPr>
          <a:xfrm>
            <a:off x="299880" y="3124080"/>
            <a:ext cx="45594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арокко флаг и герб"/>
          <p:cNvPicPr/>
          <p:nvPr/>
        </p:nvPicPr>
        <p:blipFill>
          <a:blip r:embed="rId1"/>
          <a:stretch/>
        </p:blipFill>
        <p:spPr>
          <a:xfrm>
            <a:off x="260280" y="1341360"/>
            <a:ext cx="2079720" cy="2217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627280" y="1341360"/>
            <a:ext cx="640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й королевский герб утвержден в 1957 году, 14 августа. Оформлен он в виде декоративного щита, который слева и справа поддерживают 2 мощных льва, стоящих на задних лапах. Основной цвет щита также красный, в середине изображена зеленая пентаграмма, над которой восходит солнце, освещая лучами стилизованные Атласские горы. Герб венчает корона, а внизу располагается надпись на арабском языке из Корана: "Если ты помогаешь Аллаху, он поможет тебе"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флаг Марокко"/>
          <p:cNvPicPr/>
          <p:nvPr/>
        </p:nvPicPr>
        <p:blipFill>
          <a:blip r:embed="rId2"/>
          <a:stretch/>
        </p:blipFill>
        <p:spPr>
          <a:xfrm>
            <a:off x="5484960" y="4021200"/>
            <a:ext cx="3295440" cy="2205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ый герб и флаг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84240" y="3933720"/>
            <a:ext cx="52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флаг Марокко представляет собой полотнище прямоугольной формы. Соотношение ширины и длины составляет 2:3 соответственно. Все поле флага залито однородным темно-красным цветом. Посредине полотнища расположена пентаграмма (пятиконечная звезда) зеленого цвета с черным контуром. Звезда условно вписана в круг, диаметр которого равен 1/3 ширины фла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одежд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79280" y="1341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й одеждой жителей Марокко является джеляба и кожаные тапочки бабуши. Джеляба представляет собой  длинное закрывающее до пят одеяние с остроконечным капюшоном. Бабуши - кожаные туфли без зад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Картинки по запросу марокканская национальная одежда"/>
          <p:cNvPicPr/>
          <p:nvPr/>
        </p:nvPicPr>
        <p:blipFill>
          <a:blip r:embed="rId1"/>
          <a:stretch/>
        </p:blipFill>
        <p:spPr>
          <a:xfrm>
            <a:off x="4815000" y="1268280"/>
            <a:ext cx="3956040" cy="5310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9920" y="41497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ский национальный костюм не менял свой внешний вид с шестнадцатого века. Джеляба как для мужчин, так и для женщин шьется по одному лекалу. Отличия состоят в различиях цветовых гамм, вышивок, украшениях и естественно в размер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7"/>
          <p:cNvSpPr/>
          <p:nvPr/>
        </p:nvSpPr>
        <p:spPr>
          <a:xfrm>
            <a:off x="468360" y="3897360"/>
            <a:ext cx="409428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ьги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0920" y="1268280"/>
            <a:ext cx="51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а Марокко – Марокканский дирхам. Расплачиваться в Марокко можно только национальной валютой, доллары и евро хождения не имеют. В обращении ходят банкноты и монеты – сати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Марокканский дирхам MAD"/>
          <p:cNvPicPr/>
          <p:nvPr/>
        </p:nvPicPr>
        <p:blipFill>
          <a:blip r:embed="rId1"/>
          <a:stretch/>
        </p:blipFill>
        <p:spPr>
          <a:xfrm>
            <a:off x="250920" y="3573360"/>
            <a:ext cx="5416560" cy="26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72360" y="1187280"/>
            <a:ext cx="1955520" cy="2011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5837400" y="3716280"/>
            <a:ext cx="302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цы совершенно не бережно относятся к купюрам, не удивляйтесь если вам дадут очень мятые, грязные и рваные деньги в ресторане, в магазине или в так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есные мест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и по запросу Дворец Бахия"/>
          <p:cNvPicPr/>
          <p:nvPr/>
        </p:nvPicPr>
        <p:blipFill>
          <a:blip r:embed="rId1"/>
          <a:stretch/>
        </p:blipFill>
        <p:spPr>
          <a:xfrm>
            <a:off x="295200" y="1268280"/>
            <a:ext cx="3989520" cy="29368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5003640" y="126828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Бахия - дворец конца XIX века, расположенный в городе Марракеше. Одна из главных достопримечательностей го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Картинки по запросу Эль-Бади"/>
          <p:cNvPicPr/>
          <p:nvPr/>
        </p:nvPicPr>
        <p:blipFill>
          <a:blip r:embed="rId2"/>
          <a:stretch/>
        </p:blipFill>
        <p:spPr>
          <a:xfrm>
            <a:off x="4716360" y="4005360"/>
            <a:ext cx="4330800" cy="270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95200" y="4460760"/>
            <a:ext cx="427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Эль Бади, является одной из главных достопримечательностей Марракеша. Дворец был построен в период, между 1578 и 1603 гг., когда в Марокко правил Ахмад аль-Мансур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1:03:20Z</dcterms:created>
  <dc:creator>Home</dc:creator>
  <dc:description/>
  <dc:language>en-US</dc:language>
  <cp:lastModifiedBy>Home</cp:lastModifiedBy>
  <dcterms:modified xsi:type="dcterms:W3CDTF">2016-10-05T11:35:38Z</dcterms:modified>
  <cp:revision>5</cp:revision>
  <dc:subject/>
  <dc:title>Презентация PowerPoint</dc:title>
</cp:coreProperties>
</file>