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FCC-36AE-461E-BE1E-9DE58E90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AB1-AF29-4E2C-9752-BE1F73E2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877-AA49-47E4-96A9-B38AD84F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0EE-2FD9-4E22-8423-43FE710E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878-B577-4FE8-A2F4-BDED9EE9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D4C-4568-4D7F-A938-ABBF2896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1D6-2D14-4630-B902-934E1356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C18-EE8A-45C6-992E-095B0E60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CC0-984F-499D-AF58-10FDA532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DFD-E00A-49C0-B3B8-F8DB45A1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D68-C043-4BE1-A341-8736CFBD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D75-DB21-4233-999C-C5A948F7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10BA-467C-4EA2-90CB-DBA6DEB3E5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8000" y="279360"/>
            <a:ext cx="90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ролевство Марокк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5"/>
          <p:cNvSpPr/>
          <p:nvPr/>
        </p:nvSpPr>
        <p:spPr>
          <a:xfrm>
            <a:off x="384120" y="1413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108000" y="1541520"/>
            <a:ext cx="89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ство Марокко - государство на северо-западе Африки. С севера омывается Средиземным морем (море Альборан), с запада - Атлантическим океан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4859280" y="37893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лощадь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46 550 км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Население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2 987 206 челов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толица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Марокко - карта страны"/>
          <p:cNvPicPr/>
          <p:nvPr/>
        </p:nvPicPr>
        <p:blipFill>
          <a:blip r:embed="rId2"/>
          <a:stretch/>
        </p:blipFill>
        <p:spPr>
          <a:xfrm>
            <a:off x="299880" y="3124080"/>
            <a:ext cx="455940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марокко флаг и герб"/>
          <p:cNvPicPr/>
          <p:nvPr/>
        </p:nvPicPr>
        <p:blipFill>
          <a:blip r:embed="rId1"/>
          <a:stretch/>
        </p:blipFill>
        <p:spPr>
          <a:xfrm>
            <a:off x="260280" y="1341360"/>
            <a:ext cx="2079720" cy="22179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2627280" y="1341360"/>
            <a:ext cx="6408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ый королевский герб утвержден в 1957 году, 14 августа. Оформлен он в виде декоративного щита, который слева и справа поддерживают 2 мощных льва, стоящих на задних лапах. Основной цвет щита также красный, в середине изображена зеленая пентаграмма, над которой восходит солнце, освещая лучами стилизованные Атласские горы. Герб венчает корона, а внизу располагается надпись на арабском языке из Корана: "Если ты помогаешь Аллаху, он поможет тебе"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4"/>
          <p:cNvSpPr/>
          <p:nvPr/>
        </p:nvSpPr>
        <p:spPr>
          <a:xfrm>
            <a:off x="395280" y="981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флаг Марокко"/>
          <p:cNvPicPr/>
          <p:nvPr/>
        </p:nvPicPr>
        <p:blipFill>
          <a:blip r:embed="rId2"/>
          <a:stretch/>
        </p:blipFill>
        <p:spPr>
          <a:xfrm>
            <a:off x="5484960" y="4021200"/>
            <a:ext cx="3295440" cy="2205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120600" y="18900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ый герб и флаг Марок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84240" y="3933720"/>
            <a:ext cx="52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ициальный флаг Марокко представляет собой полотнище прямоугольной формы. Соотношение ширины и длины составляет 2:3 соответственно. Все поле флага залито однородным темно-красным цветом. Посредине полотнища расположена пентаграмма (пятиконечная звезда) зеленого цвета с черным контуром. Звезда условно вписана в круг, диаметр которого равен 1/3 ширины фла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20600" y="18900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ая одежда Марок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"/>
          <p:cNvSpPr/>
          <p:nvPr/>
        </p:nvSpPr>
        <p:spPr>
          <a:xfrm>
            <a:off x="395280" y="981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179280" y="134136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онной одеждой жителей Марокко является джеляба и кожаные тапочки бабуши. Джеляба представляет собой  длинное закрывающее до пят одеяние с остроконечным капюшоном. Бабуши - кожаные туфли без зад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Картинки по запросу марокканская национальная одежда"/>
          <p:cNvPicPr/>
          <p:nvPr/>
        </p:nvPicPr>
        <p:blipFill>
          <a:blip r:embed="rId1"/>
          <a:stretch/>
        </p:blipFill>
        <p:spPr>
          <a:xfrm>
            <a:off x="4815000" y="1268280"/>
            <a:ext cx="3956040" cy="5310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9920" y="414972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окканский национальный костюм не менял свой внешний вид с шестнадцатого века. Джеляба как для мужчин, так и для женщин шьется по одному лекалу. Отличия состоят в различиях цветовых гамм, вышивок, украшениях и естественно в размер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7"/>
          <p:cNvSpPr/>
          <p:nvPr/>
        </p:nvSpPr>
        <p:spPr>
          <a:xfrm>
            <a:off x="468360" y="3897360"/>
            <a:ext cx="409428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19160" y="189000"/>
            <a:ext cx="89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ньги Марок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2"/>
          <p:cNvSpPr/>
          <p:nvPr/>
        </p:nvSpPr>
        <p:spPr>
          <a:xfrm>
            <a:off x="395280" y="981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50920" y="1268280"/>
            <a:ext cx="51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юта Марокко – Марокканский дирхам. Расплачиваться в Марокко можно только национальной валютой, доллары и евро хождения не имеют. В обращении ходят банкноты и монеты – сати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Марокканский дирхам MAD"/>
          <p:cNvPicPr/>
          <p:nvPr/>
        </p:nvPicPr>
        <p:blipFill>
          <a:blip r:embed="rId1"/>
          <a:stretch/>
        </p:blipFill>
        <p:spPr>
          <a:xfrm>
            <a:off x="250920" y="3573360"/>
            <a:ext cx="5416560" cy="269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372360" y="1187280"/>
            <a:ext cx="1955520" cy="2011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5837400" y="3716280"/>
            <a:ext cx="302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окканцы совершенно не бережно относятся к купюрам, не удивляйтесь если вам дадут очень мятые, грязные и рваные деньги в ресторане, в магазине или в так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19160" y="189000"/>
            <a:ext cx="89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есные места Марок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2"/>
          <p:cNvSpPr/>
          <p:nvPr/>
        </p:nvSpPr>
        <p:spPr>
          <a:xfrm>
            <a:off x="395280" y="981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Картинки по запросу Дворец Бахия"/>
          <p:cNvPicPr/>
          <p:nvPr/>
        </p:nvPicPr>
        <p:blipFill>
          <a:blip r:embed="rId1"/>
          <a:stretch/>
        </p:blipFill>
        <p:spPr>
          <a:xfrm>
            <a:off x="295200" y="1268280"/>
            <a:ext cx="3989520" cy="29368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5003640" y="1268280"/>
            <a:ext cx="316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рец Бахия - дворец конца XIX века, расположенный в городе Марракеше. Одна из главных достопримечательностей гор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Картинки по запросу Эль-Бади"/>
          <p:cNvPicPr/>
          <p:nvPr/>
        </p:nvPicPr>
        <p:blipFill>
          <a:blip r:embed="rId2"/>
          <a:stretch/>
        </p:blipFill>
        <p:spPr>
          <a:xfrm>
            <a:off x="4716360" y="4005360"/>
            <a:ext cx="4330800" cy="27018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295200" y="4460760"/>
            <a:ext cx="4276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рец Эль Бади, является одной из главных достопримечательностей Марракеша. Дворец был построен в период, между 1578 и 1603 гг., когда в Марокко правил Ахмад аль-Мансур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11:03:20Z</dcterms:created>
  <dc:creator>Home</dc:creator>
  <dc:description/>
  <dc:language>en-US</dc:language>
  <cp:lastModifiedBy>Home</cp:lastModifiedBy>
  <dcterms:modified xsi:type="dcterms:W3CDTF">2016-10-05T11:35:38Z</dcterms:modified>
  <cp:revision>5</cp:revision>
  <dc:subject/>
  <dc:title>Презентация PowerPoint</dc:title>
</cp:coreProperties>
</file>